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7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3.jpeg" ContentType="image/jpeg"/>
  <Override PartName="/ppt/media/image36.png" ContentType="image/png"/>
  <Override PartName="/ppt/media/image9.jpeg" ContentType="image/jpeg"/>
  <Override PartName="/ppt/media/image3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67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9.jpeg" ContentType="image/jpeg"/>
  <Override PartName="/ppt/media/image24.jpeg" ContentType="image/jpeg"/>
  <Override PartName="/ppt/media/image22.png" ContentType="image/png"/>
  <Override PartName="/ppt/media/image15.png" ContentType="image/png"/>
  <Override PartName="/ppt/media/image49.png" ContentType="image/png"/>
  <Override PartName="/ppt/media/image23.jpeg" ContentType="image/jpeg"/>
  <Override PartName="/ppt/media/image78.jpeg" ContentType="image/jpeg"/>
  <Override PartName="/ppt/media/image16.jpeg" ContentType="image/jpeg"/>
  <Override PartName="/ppt/media/image64.jpeg" ContentType="image/jpeg"/>
  <Override PartName="/ppt/media/image70.png" ContentType="image/png"/>
  <Override PartName="/ppt/media/image7.jpeg" ContentType="image/jpeg"/>
  <Override PartName="/ppt/media/image59.png" ContentType="image/png"/>
  <Override PartName="/ppt/media/image66.jpeg" ContentType="image/jpeg"/>
  <Override PartName="/ppt/media/image76.png" ContentType="image/png"/>
  <Override PartName="/ppt/media/image30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71.jpeg" ContentType="image/jpeg"/>
  <Override PartName="/ppt/media/image69.jpeg" ContentType="image/jpeg"/>
  <Override PartName="/ppt/media/image17.jpeg" ContentType="image/jpeg"/>
  <Override PartName="/ppt/media/image63.png" ContentType="image/png"/>
  <Override PartName="/ppt/media/image62.jpeg" ContentType="image/jpeg"/>
  <Override PartName="/ppt/media/image77.png" ContentType="image/png"/>
  <Override PartName="/ppt/media/image40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61.png" ContentType="image/png"/>
  <Override PartName="/ppt/media/image50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28.jpeg" ContentType="image/jpeg"/>
  <Override PartName="/ppt/media/image74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340-E4E7-4BDF-B671-4CD2F82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8A4-522F-45C7-B096-EABFAEDB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D08-B20E-4F78-B0B9-C8201B84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C6E-AA01-4CAC-895A-39E2127B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5F4-4BA3-43DD-9118-BD1D7DF5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DCF-EA26-4FBB-B01C-513E467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0B31-B9C8-4BE5-B055-C2D4E10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485D-9561-4090-BA5E-6722D444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62B-BA20-4423-9520-D6CF6E3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23C-7ACF-426D-A686-DFB437A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BA51-28A7-4E92-A78E-8762524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507-3E98-4BA7-9B7A-8C15298E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088F-A829-4869-80D8-486B101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9577-4125-49A6-8ADC-9FBC4D5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76E5-05EE-4622-AC30-8E8600A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B63-A80A-42F2-BBC2-E2B737B9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44B-31C0-4275-86DB-8C5633DB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C10F-ED6D-4E74-9D9C-1A08A4D9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DB8F-4844-4A6F-BBF9-1CF8E292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80AE-FFF1-4373-8857-DB71DD9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B940-AEF8-43D9-97E1-A5CF2F9A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E054-991C-4F3E-8EBF-5AC8EF9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C1F-7537-4A09-8632-037302E6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D804-6399-4BE2-8C59-3A68EB4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EBDC-E01A-42C7-9209-24CB904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3802-8B2E-4825-8A24-5572756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B641-650D-4AAF-B517-1A4120C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4047-FA3D-4D7D-A7D2-B93C1A26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C591-B192-4540-ACE0-7FD4BAD7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7008-549A-4F70-B4F8-F530FA54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FBF9-384B-417B-A698-8A0F8910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85F0-8457-4DFD-80F9-499EDFF6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4CBD-C87D-4397-A556-4B0F9FD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BF1-3750-48BF-AE1C-2632985C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9785-5D33-4ABB-855A-93FF686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3918-5E2F-4154-9028-4073AEB1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6222-2C56-4A42-A189-B36988C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E906-8E28-4955-B38A-D78A33C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97B7-C7C0-4C8A-A05F-C6BADA4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E375B-B7FB-439E-BD7D-2F6C60D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4AE7-A5FB-45C8-A0ED-5562E24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92A3-51C2-470C-BBF1-247A1486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52B7-9CE8-489C-8528-261B35B6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DB56-6801-4BF0-AD55-78A5D133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7BB-DFAE-4F35-9765-EA490E5B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C27B-255A-4AEA-8D32-CD8A91E8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0EC2-B91E-4861-8B17-A3C0919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9895-C22A-46B2-9F99-90C82BD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9B48-CF9E-4DE7-9676-876B7390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30C1-B76C-4B56-BA26-CB410A6F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0EA8-AC10-478A-9C55-68683CE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83B8-0692-4680-A39C-D2EBEB1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7561-1592-42E9-9595-95EF4A2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02F1-9AE8-4B13-80CE-3A4CB89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96F9-E936-49B0-9C83-1E14D033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076-EAA2-4C1F-B993-B12C17A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1D624-56D6-4B05-A3FF-1A54E5F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88A6-3589-42C8-903B-597948FB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5D7C-3F88-44FF-B499-CAAA1F69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DA3C2-7AF6-411C-9516-D8403AE8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32CA-A077-4279-AE7E-1CAB02D2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86964-767C-4880-96E6-B96F392C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B67BA-850B-4BFF-9844-1293CD68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41E89-E80D-4E38-B840-5D265C8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F25B-C2E8-4278-B4B9-77B9383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D82E-53E7-466C-A494-73B65C7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FA9-265E-4C54-BC3C-19F5A132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D9FF-1C6A-46F5-AC66-173EC8FE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EF832-F574-4722-ACF5-12904422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A8FB-6E3B-4B45-BD64-6F9EBD30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FE7B-4F16-4137-9E6B-6ED52FF3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A562-C1A9-4802-89B1-549F13E5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E88D-B24A-4665-9141-BE7BEB9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1A63-772F-445B-929C-8D35BB44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4293E-2859-4AAF-AFB6-3E6D4D5D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387CB-86B1-4CC1-9F3F-B03EE9E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90DA5-9C6C-40AF-83E8-4C8FB88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0B3-AB84-4159-867F-AA36F38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7153-9D1A-44AB-8227-5437662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4007F-53D3-4AC6-97B4-DECCE01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1B42-5B04-4126-8C13-3A6A931E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6DAA-05AF-4E93-A023-444443FD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A747-F6F2-4882-AB52-9FFDF3ED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A77-947F-43D8-929B-6C6DF3B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D4C-4236-4D1B-8333-7068F0B9BE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A81-1DFA-4F47-8445-178DAC5A814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52D-A1E4-476B-8FE2-D20536E921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0DA-47D8-40A5-8A91-0B2E384A99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9592-7D39-49C4-B229-CF368A4ABC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819-EEF8-4813-B1F1-B8B90CDFD6B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530-8895-45DE-990A-C5956735A9A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27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hyperlink" Target="http://wikipedia.ru/" TargetMode="External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42880" y="92160"/>
            <a:ext cx="8058240" cy="21812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42880" y="2139840"/>
            <a:ext cx="8058240" cy="22924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3"/>
          <p:cNvSpPr/>
          <p:nvPr/>
        </p:nvSpPr>
        <p:spPr>
          <a:xfrm>
            <a:off x="2714760" y="4500720"/>
            <a:ext cx="6429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втор: Матюхин Дмитр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к 3 кла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уководитель: Малютина Г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14-2015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ч.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Users\виндовс\Desktop\п2.jpg"/>
          <p:cNvPicPr/>
          <p:nvPr/>
        </p:nvPicPr>
        <p:blipFill>
          <a:blip r:embed="rId4"/>
          <a:stretch/>
        </p:blipFill>
        <p:spPr>
          <a:xfrm>
            <a:off x="1166760" y="2023920"/>
            <a:ext cx="67183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виндовс\Desktop\п3.jpg"/>
          <p:cNvPicPr/>
          <p:nvPr/>
        </p:nvPicPr>
        <p:blipFill>
          <a:blip r:embed="rId3"/>
          <a:stretch/>
        </p:blipFill>
        <p:spPr>
          <a:xfrm>
            <a:off x="1763640" y="1852560"/>
            <a:ext cx="547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виндовс\Desktop\п4.jpg"/>
          <p:cNvPicPr/>
          <p:nvPr/>
        </p:nvPicPr>
        <p:blipFill>
          <a:blip r:embed="rId4"/>
          <a:stretch/>
        </p:blipFill>
        <p:spPr>
          <a:xfrm>
            <a:off x="1258920" y="1773360"/>
            <a:ext cx="6626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виндовс\Desktop\п5.jpg"/>
          <p:cNvPicPr/>
          <p:nvPr/>
        </p:nvPicPr>
        <p:blipFill>
          <a:blip r:embed="rId4"/>
          <a:stretch/>
        </p:blipFill>
        <p:spPr>
          <a:xfrm>
            <a:off x="1908000" y="1830240"/>
            <a:ext cx="503100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виндовс\Desktop\п6.jpg"/>
          <p:cNvPicPr/>
          <p:nvPr/>
        </p:nvPicPr>
        <p:blipFill>
          <a:blip r:embed="rId4"/>
          <a:stretch/>
        </p:blipFill>
        <p:spPr>
          <a:xfrm>
            <a:off x="1816200" y="2048040"/>
            <a:ext cx="578016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виндовс\Desktop\п7.jpg"/>
          <p:cNvPicPr/>
          <p:nvPr/>
        </p:nvPicPr>
        <p:blipFill>
          <a:blip r:embed="rId4"/>
          <a:stretch/>
        </p:blipFill>
        <p:spPr>
          <a:xfrm>
            <a:off x="1835280" y="1916280"/>
            <a:ext cx="511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виндовс\Desktop\пирамида2.jpg"/>
          <p:cNvPicPr/>
          <p:nvPr/>
        </p:nvPicPr>
        <p:blipFill>
          <a:blip r:embed="rId4"/>
          <a:stretch/>
        </p:blipFill>
        <p:spPr>
          <a:xfrm>
            <a:off x="1908000" y="1773360"/>
            <a:ext cx="4967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69800" y="268200"/>
            <a:ext cx="8217000" cy="1395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виндовс\Desktop\п8.jpg"/>
          <p:cNvPicPr/>
          <p:nvPr/>
        </p:nvPicPr>
        <p:blipFill>
          <a:blip r:embed="rId4"/>
          <a:stretch/>
        </p:blipFill>
        <p:spPr>
          <a:xfrm>
            <a:off x="2124000" y="1844640"/>
            <a:ext cx="5013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:\Users\виндовс\Desktop\подкова1.jpg"/>
          <p:cNvPicPr/>
          <p:nvPr/>
        </p:nvPicPr>
        <p:blipFill>
          <a:blip r:embed="rId2"/>
          <a:stretch/>
        </p:blipFill>
        <p:spPr>
          <a:xfrm>
            <a:off x="1908000" y="138600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виндовс\Desktop\жел.jpg"/>
          <p:cNvPicPr/>
          <p:nvPr/>
        </p:nvPicPr>
        <p:blipFill>
          <a:blip r:embed="rId4"/>
          <a:stretch/>
        </p:blipFill>
        <p:spPr>
          <a:xfrm>
            <a:off x="1403280" y="1778040"/>
            <a:ext cx="62866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алисманы, амулеты и обереги 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pic>
        <p:nvPicPr>
          <p:cNvPr id="305" name="Picture 2" descr="C:\Users\Елена Петровна\Pictures\2011-01-31\375.JPG"/>
          <p:cNvPicPr/>
          <p:nvPr/>
        </p:nvPicPr>
        <p:blipFill>
          <a:blip r:embed="rId1"/>
          <a:stretch/>
        </p:blipFill>
        <p:spPr>
          <a:xfrm>
            <a:off x="0" y="476280"/>
            <a:ext cx="1622520" cy="1765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Елена Петровна\Pictures\2011-01-31\376.JPG"/>
          <p:cNvPicPr/>
          <p:nvPr/>
        </p:nvPicPr>
        <p:blipFill>
          <a:blip r:embed="rId2"/>
          <a:stretch/>
        </p:blipFill>
        <p:spPr>
          <a:xfrm>
            <a:off x="2714760" y="1928880"/>
            <a:ext cx="1857240" cy="1500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C:\Users\Елена Петровна\Pictures\2011-01-31\378.JPG"/>
          <p:cNvPicPr/>
          <p:nvPr/>
        </p:nvPicPr>
        <p:blipFill>
          <a:blip r:embed="rId3"/>
          <a:stretch/>
        </p:blipFill>
        <p:spPr>
          <a:xfrm>
            <a:off x="468360" y="4687920"/>
            <a:ext cx="1882800" cy="1846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C:\Users\Елена Петровна\Pictures\2011-01-31\379.JPG"/>
          <p:cNvPicPr/>
          <p:nvPr/>
        </p:nvPicPr>
        <p:blipFill>
          <a:blip r:embed="rId4"/>
          <a:stretch/>
        </p:blipFill>
        <p:spPr>
          <a:xfrm>
            <a:off x="6248520" y="1009800"/>
            <a:ext cx="2714400" cy="1684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Елена Петровна\Pictures\2011-01-31\383.JPG"/>
          <p:cNvPicPr/>
          <p:nvPr/>
        </p:nvPicPr>
        <p:blipFill>
          <a:blip r:embed="rId5"/>
          <a:stretch/>
        </p:blipFill>
        <p:spPr>
          <a:xfrm>
            <a:off x="6012000" y="4871880"/>
            <a:ext cx="2428560" cy="1662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Users\виндовс\Desktop\амулет1.jpg"/>
          <p:cNvPicPr/>
          <p:nvPr/>
        </p:nvPicPr>
        <p:blipFill>
          <a:blip r:embed="rId6"/>
          <a:stretch/>
        </p:blipFill>
        <p:spPr>
          <a:xfrm>
            <a:off x="250920" y="2544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:\Users\виндовс\Desktop\амулет2.jpg"/>
          <p:cNvPicPr/>
          <p:nvPr/>
        </p:nvPicPr>
        <p:blipFill>
          <a:blip r:embed="rId7"/>
          <a:stretch/>
        </p:blipFill>
        <p:spPr>
          <a:xfrm>
            <a:off x="3059280" y="42260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C:\Users\виндовс\Desktop\амулет3.jpg"/>
          <p:cNvPicPr/>
          <p:nvPr/>
        </p:nvPicPr>
        <p:blipFill>
          <a:blip r:embed="rId8"/>
          <a:stretch/>
        </p:blipFill>
        <p:spPr>
          <a:xfrm>
            <a:off x="5680080" y="2782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виндовс\Desktop\зол.jpg"/>
          <p:cNvPicPr/>
          <p:nvPr/>
        </p:nvPicPr>
        <p:blipFill>
          <a:blip r:embed="rId4"/>
          <a:stretch/>
        </p:blipFill>
        <p:spPr>
          <a:xfrm>
            <a:off x="2062080" y="1773360"/>
            <a:ext cx="4594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C:\Users\виндовс\Desktop\сер.jpg"/>
          <p:cNvPicPr/>
          <p:nvPr/>
        </p:nvPicPr>
        <p:blipFill>
          <a:blip r:embed="rId4"/>
          <a:stretch/>
        </p:blipFill>
        <p:spPr>
          <a:xfrm>
            <a:off x="1619280" y="1700280"/>
            <a:ext cx="5545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C:\Users\виндовс\Desktop\дер.jpg"/>
          <p:cNvPicPr/>
          <p:nvPr/>
        </p:nvPicPr>
        <p:blipFill>
          <a:blip r:embed="rId4"/>
          <a:stretch/>
        </p:blipFill>
        <p:spPr>
          <a:xfrm>
            <a:off x="1873080" y="1628640"/>
            <a:ext cx="56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Users\виндовс\Desktop\фар.jpg"/>
          <p:cNvPicPr/>
          <p:nvPr/>
        </p:nvPicPr>
        <p:blipFill>
          <a:blip r:embed="rId4"/>
          <a:stretch/>
        </p:blipFill>
        <p:spPr>
          <a:xfrm>
            <a:off x="1692360" y="1647720"/>
            <a:ext cx="56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виндовс\Desktop\с б к.jpg"/>
          <p:cNvPicPr/>
          <p:nvPr/>
        </p:nvPicPr>
        <p:blipFill>
          <a:blip r:embed="rId4"/>
          <a:stretch/>
        </p:blipFill>
        <p:spPr>
          <a:xfrm>
            <a:off x="1403280" y="1701720"/>
            <a:ext cx="6427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96200" cy="1628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виндовс\Desktop\с мон.jpg"/>
          <p:cNvPicPr/>
          <p:nvPr/>
        </p:nvPicPr>
        <p:blipFill>
          <a:blip r:embed="rId4"/>
          <a:stretch/>
        </p:blipFill>
        <p:spPr>
          <a:xfrm>
            <a:off x="82440" y="1839960"/>
            <a:ext cx="89884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виндовс\Desktop\сер.jpg"/>
          <p:cNvPicPr/>
          <p:nvPr/>
        </p:nvPicPr>
        <p:blipFill>
          <a:blip r:embed="rId4"/>
          <a:stretch/>
        </p:blipFill>
        <p:spPr>
          <a:xfrm>
            <a:off x="1619280" y="1700280"/>
            <a:ext cx="5545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виндовс\Desktop\подкова.jpg"/>
          <p:cNvPicPr/>
          <p:nvPr/>
        </p:nvPicPr>
        <p:blipFill>
          <a:blip r:embed="rId4"/>
          <a:stretch/>
        </p:blipFill>
        <p:spPr>
          <a:xfrm>
            <a:off x="1979640" y="14572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b9caa5"/>
              </a:solidFill>
              <a:latin typeface="Century Gothic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виндовс\Desktop\на счастье.jpg"/>
          <p:cNvPicPr/>
          <p:nvPr/>
        </p:nvPicPr>
        <p:blipFill>
          <a:blip r:embed="rId3"/>
          <a:stretch/>
        </p:blipFill>
        <p:spPr>
          <a:xfrm>
            <a:off x="1187280" y="11160"/>
            <a:ext cx="67694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28240" cy="234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2349000"/>
            <a:ext cx="403848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Чтобы было здоровье, счастье и доход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Защита от плохого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омощь в дела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осто понравился амулет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У меня нет амулет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2205000"/>
            <a:ext cx="40384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5 человек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11 человек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3 человек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2 человек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5 человек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7"/>
          <p:cNvSpPr/>
          <p:nvPr/>
        </p:nvSpPr>
        <p:spPr>
          <a:xfrm>
            <a:off x="250920" y="1058400"/>
            <a:ext cx="8424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 моего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знать, чем отличаются друг от друга обереги и амул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 узнать какие амулеты и обереги используют современные люди, чтобы защитить свое имущество и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9"/>
          <p:cNvSpPr/>
          <p:nvPr/>
        </p:nvSpPr>
        <p:spPr>
          <a:xfrm>
            <a:off x="2392200" y="395280"/>
            <a:ext cx="49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лисманы и обереги  моего клас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8" descr="C:\Users\виндовс\Desktop\IMG_2518.JPG"/>
          <p:cNvPicPr/>
          <p:nvPr/>
        </p:nvPicPr>
        <p:blipFill>
          <a:blip r:embed="rId1"/>
          <a:stretch/>
        </p:blipFill>
        <p:spPr>
          <a:xfrm>
            <a:off x="0" y="154152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C:\Users\виндовс\Desktop\IMG_2523.JPG"/>
          <p:cNvPicPr/>
          <p:nvPr/>
        </p:nvPicPr>
        <p:blipFill>
          <a:blip r:embed="rId2"/>
          <a:stretch/>
        </p:blipFill>
        <p:spPr>
          <a:xfrm>
            <a:off x="6181560" y="1541520"/>
            <a:ext cx="2976840" cy="2341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C:\Users\виндовс\Desktop\IMG_2521.JPG"/>
          <p:cNvPicPr/>
          <p:nvPr/>
        </p:nvPicPr>
        <p:blipFill>
          <a:blip r:embed="rId3"/>
          <a:stretch/>
        </p:blipFill>
        <p:spPr>
          <a:xfrm>
            <a:off x="3065400" y="1563840"/>
            <a:ext cx="3090960" cy="2319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" descr="C:\Users\виндовс\Desktop\IMG_2520.JPG"/>
          <p:cNvPicPr/>
          <p:nvPr/>
        </p:nvPicPr>
        <p:blipFill>
          <a:blip r:embed="rId4"/>
          <a:stretch/>
        </p:blipFill>
        <p:spPr>
          <a:xfrm>
            <a:off x="711360" y="4086360"/>
            <a:ext cx="3362040" cy="2522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C:\Users\виндовс\Desktop\IMG_2519.JPG"/>
          <p:cNvPicPr/>
          <p:nvPr/>
        </p:nvPicPr>
        <p:blipFill>
          <a:blip r:embed="rId5"/>
          <a:stretch/>
        </p:blipFill>
        <p:spPr>
          <a:xfrm>
            <a:off x="4886280" y="4086360"/>
            <a:ext cx="33624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3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197000"/>
            <a:ext cx="4038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аким образом, многие современные люди продолжают окружать себя амулетами, талисманами и оберегами и верить в то, что они приносят удачу. Однако, некоторые скептически относятся к эти чудодейственным вещицам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48320" y="162864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 мой взгляд, главное – это вера, что все будет хорошо, а обереги просто психологически закрепляют в человеке эту веру. Я думаю, что в некоторых оберегах есть какая-то защитная энерг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8" name="Picture 6" descr="C:\Users\виндовс\Desktop\крестик.jpg"/>
          <p:cNvPicPr/>
          <p:nvPr/>
        </p:nvPicPr>
        <p:blipFill>
          <a:blip r:embed="rId2"/>
          <a:stretch/>
        </p:blipFill>
        <p:spPr>
          <a:xfrm>
            <a:off x="3240" y="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C:\Users\виндовс\Desktop\подкова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Большая энциклопедия знаний/ Пер. с немецкого Л.С. Беловой, Е.В. Черныш.- М.: Эксмо, 2010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Толковый словарь русского языка/ С.И. Ожегов. – М.:ООО «Издательство Оникс»: ООО «Издательство «Мир и образование», 2010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e58b6"/>
                </a:solidFill>
                <a:uFillTx/>
                <a:latin typeface="Century Gothic"/>
                <a:hlinkClick r:id="rId2"/>
              </a:rPr>
              <a:t>http://wikipedia.r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цопрос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b9caa5"/>
              </a:solidFill>
              <a:latin typeface="Century Gothic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C:\Users\виндовс\Desktop\д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24000" y="13392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ЕРЕ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a10893cacc2f"/>
          <p:cNvPicPr/>
          <p:nvPr/>
        </p:nvPicPr>
        <p:blipFill>
          <a:blip r:embed="rId1"/>
          <a:stretch/>
        </p:blipFill>
        <p:spPr>
          <a:xfrm>
            <a:off x="428760" y="785880"/>
            <a:ext cx="2936880" cy="3286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:\Users\Елена Петровна\Pictures\2011-01-31\387.JPG"/>
          <p:cNvPicPr/>
          <p:nvPr/>
        </p:nvPicPr>
        <p:blipFill>
          <a:blip r:embed="rId2"/>
          <a:stretch/>
        </p:blipFill>
        <p:spPr>
          <a:xfrm>
            <a:off x="3929040" y="785880"/>
            <a:ext cx="2681280" cy="328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:\Users\Елена Петровна\Pictures\2011-01-31\388.JPG"/>
          <p:cNvPicPr/>
          <p:nvPr/>
        </p:nvPicPr>
        <p:blipFill>
          <a:blip r:embed="rId3"/>
          <a:stretch/>
        </p:blipFill>
        <p:spPr>
          <a:xfrm>
            <a:off x="2000160" y="4500720"/>
            <a:ext cx="2857680" cy="2071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C:\Users\Елена Петровна\Pictures\2011-01-31\389.JPG"/>
          <p:cNvPicPr/>
          <p:nvPr/>
        </p:nvPicPr>
        <p:blipFill>
          <a:blip r:embed="rId4"/>
          <a:stretch/>
        </p:blipFill>
        <p:spPr>
          <a:xfrm>
            <a:off x="6357960" y="3948120"/>
            <a:ext cx="2500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0920" y="-181440"/>
            <a:ext cx="8773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Анх — символ ведёт своё происхождение из наиболее древних времён. Известен как Египетский иероглиф, а также наиболее значимый символ древних египтян. Также известен как «Ключ жизни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»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i-main-pic" descr="Картинка 1 из 9123"/>
          <p:cNvPicPr/>
          <p:nvPr/>
        </p:nvPicPr>
        <p:blipFill>
          <a:blip r:embed="rId1"/>
          <a:stretch/>
        </p:blipFill>
        <p:spPr>
          <a:xfrm>
            <a:off x="824040" y="2924280"/>
            <a:ext cx="1726920" cy="3457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Шамаиль. Аят 'Аль-Курси'"/>
          <p:cNvPicPr/>
          <p:nvPr/>
        </p:nvPicPr>
        <p:blipFill>
          <a:blip r:embed="rId2"/>
          <a:stretch/>
        </p:blipFill>
        <p:spPr>
          <a:xfrm>
            <a:off x="3419640" y="3365640"/>
            <a:ext cx="1904760" cy="2809800"/>
          </a:xfrm>
          <a:prstGeom prst="rect">
            <a:avLst/>
          </a:prstGeom>
          <a:ln w="0">
            <a:noFill/>
          </a:ln>
        </p:spPr>
      </p:pic>
      <p:pic>
        <p:nvPicPr>
          <p:cNvPr id="324" name="ipb-attach-img-355226-0-05376000 1290601243" descr="Attached Image: 5_2_04.jpg"/>
          <p:cNvPicPr/>
          <p:nvPr/>
        </p:nvPicPr>
        <p:blipFill>
          <a:blip r:embed="rId3"/>
          <a:stretch/>
        </p:blipFill>
        <p:spPr>
          <a:xfrm>
            <a:off x="5929200" y="3645000"/>
            <a:ext cx="2635200" cy="230508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1"/>
          <p:cNvSpPr/>
          <p:nvPr/>
        </p:nvSpPr>
        <p:spPr>
          <a:xfrm>
            <a:off x="2050920" y="1822320"/>
            <a:ext cx="47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АМУЛ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1042920" y="26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95280" y="49442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Rectangle 1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09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11280" y="620640"/>
            <a:ext cx="77119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14" descr="Амулет от сглаза"/>
          <p:cNvPicPr/>
          <p:nvPr/>
        </p:nvPicPr>
        <p:blipFill>
          <a:blip r:embed="rId2"/>
          <a:stretch/>
        </p:blipFill>
        <p:spPr>
          <a:xfrm>
            <a:off x="1135080" y="1341360"/>
            <a:ext cx="2381400" cy="3000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3 лапая жаба.jpg"/>
          <p:cNvPicPr/>
          <p:nvPr/>
        </p:nvPicPr>
        <p:blipFill>
          <a:blip r:embed="rId3"/>
          <a:stretch/>
        </p:blipFill>
        <p:spPr>
          <a:xfrm>
            <a:off x="1403280" y="4508640"/>
            <a:ext cx="3095640" cy="2089080"/>
          </a:xfrm>
          <a:prstGeom prst="rect">
            <a:avLst/>
          </a:prstGeom>
          <a:ln w="0">
            <a:noFill/>
          </a:ln>
        </p:spPr>
      </p:pic>
      <p:pic>
        <p:nvPicPr>
          <p:cNvPr id="332" name="big-picture" descr="Подарок: Хотэй. Статуетка бога счастья, общения, веселья и благополучия."/>
          <p:cNvPicPr/>
          <p:nvPr/>
        </p:nvPicPr>
        <p:blipFill>
          <a:blip r:embed="rId4"/>
          <a:stretch/>
        </p:blipFill>
        <p:spPr>
          <a:xfrm>
            <a:off x="4678200" y="1341360"/>
            <a:ext cx="2378160" cy="2708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27590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92040" y="213480"/>
            <a:ext cx="875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 встречающихся ныне оберегов широко распространены: подкова, пирамидка,  различного рода ладанки, нательный крест, камни, кольца, медальоны, платки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C:\Users\виндовс\Desktop\пирамида2.jpg"/>
          <p:cNvPicPr/>
          <p:nvPr/>
        </p:nvPicPr>
        <p:blipFill>
          <a:blip r:embed="rId1"/>
          <a:stretch/>
        </p:blipFill>
        <p:spPr>
          <a:xfrm>
            <a:off x="2655720" y="2174760"/>
            <a:ext cx="1700280" cy="1698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Users\виндовс\Desktop\подкова.jpg"/>
          <p:cNvPicPr/>
          <p:nvPr/>
        </p:nvPicPr>
        <p:blipFill>
          <a:blip r:embed="rId2"/>
          <a:stretch/>
        </p:blipFill>
        <p:spPr>
          <a:xfrm>
            <a:off x="324000" y="213372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Users\виндовс\Desktop\ладанка1.jpg"/>
          <p:cNvPicPr/>
          <p:nvPr/>
        </p:nvPicPr>
        <p:blipFill>
          <a:blip r:embed="rId3"/>
          <a:stretch/>
        </p:blipFill>
        <p:spPr>
          <a:xfrm>
            <a:off x="4767120" y="2217600"/>
            <a:ext cx="1657440" cy="1656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Users\виндовс\Desktop\ладанка2.jpg"/>
          <p:cNvPicPr/>
          <p:nvPr/>
        </p:nvPicPr>
        <p:blipFill>
          <a:blip r:embed="rId4"/>
          <a:stretch/>
        </p:blipFill>
        <p:spPr>
          <a:xfrm>
            <a:off x="6848640" y="2205000"/>
            <a:ext cx="1668240" cy="1668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Users\виндовс\Desktop\крестик.jpg"/>
          <p:cNvPicPr/>
          <p:nvPr/>
        </p:nvPicPr>
        <p:blipFill>
          <a:blip r:embed="rId5"/>
          <a:stretch/>
        </p:blipFill>
        <p:spPr>
          <a:xfrm>
            <a:off x="368280" y="4229280"/>
            <a:ext cx="1824120" cy="1823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C:\Users\виндовс\Desktop\драг камни.jpg"/>
          <p:cNvPicPr/>
          <p:nvPr/>
        </p:nvPicPr>
        <p:blipFill>
          <a:blip r:embed="rId6"/>
          <a:stretch/>
        </p:blipFill>
        <p:spPr>
          <a:xfrm>
            <a:off x="2406600" y="4338720"/>
            <a:ext cx="1844640" cy="1714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C:\Users\виндовс\Desktop\кольца.jpg"/>
          <p:cNvPicPr/>
          <p:nvPr/>
        </p:nvPicPr>
        <p:blipFill>
          <a:blip r:embed="rId7"/>
          <a:stretch/>
        </p:blipFill>
        <p:spPr>
          <a:xfrm>
            <a:off x="4538520" y="4243320"/>
            <a:ext cx="1886040" cy="1760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C:\Users\виндовс\Desktop\медальон.jpg"/>
          <p:cNvPicPr/>
          <p:nvPr/>
        </p:nvPicPr>
        <p:blipFill>
          <a:blip r:embed="rId8"/>
          <a:stretch/>
        </p:blipFill>
        <p:spPr>
          <a:xfrm>
            <a:off x="6848640" y="4287960"/>
            <a:ext cx="19270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виндовс\Desktop\пирамида.jpg"/>
          <p:cNvPicPr/>
          <p:nvPr/>
        </p:nvPicPr>
        <p:blipFill>
          <a:blip r:embed="rId2"/>
          <a:stretch/>
        </p:blipFill>
        <p:spPr>
          <a:xfrm>
            <a:off x="2173320" y="1893960"/>
            <a:ext cx="4846680" cy="4848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5720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648320" y="17226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виндовс\Desktop\п1.jpg"/>
          <p:cNvPicPr/>
          <p:nvPr/>
        </p:nvPicPr>
        <p:blipFill>
          <a:blip r:embed="rId4"/>
          <a:stretch/>
        </p:blipFill>
        <p:spPr>
          <a:xfrm>
            <a:off x="1116000" y="1844640"/>
            <a:ext cx="73008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5:21:24Z</dcterms:created>
  <dc:creator>Ильнар Сибгатуллин</dc:creator>
  <dc:description/>
  <dc:language>en-US</dc:language>
  <cp:lastModifiedBy>виндовс</cp:lastModifiedBy>
  <dcterms:modified xsi:type="dcterms:W3CDTF">2015-02-27T06:59:10Z</dcterms:modified>
  <cp:revision>54</cp:revision>
  <dc:subject/>
  <dc:title>Дипломная работа на тему: Оценка кадрового потенциала …</dc:title>
</cp:coreProperties>
</file>