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675-5543-4B95-A4F7-0EF5D7375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201-8C90-46E6-A823-371135E320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7EC-BECD-430D-8EC2-8D92EED6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848-912D-4BA6-B386-AE41A686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C33-3AD5-4E6A-AAA1-7E5EF2E5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D1C-E829-4C78-9797-CAF66BB1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2688-1B57-49EB-BB1C-D10E531A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011-F292-4AD0-A6CE-EE7DCAD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D98F-D544-4EA1-8917-813C34A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FFB9-A4B6-4999-AA1F-2D3C2D4E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63D2-6834-41C4-8A7C-87D6E43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5B8C-0102-40B1-8D05-BCCE567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A141-0854-4FA9-B0F2-6A24274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9A8-97EF-484C-81DA-301D064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FAF-8DEA-452F-9ECF-2F8DB9E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60B2-BC1B-4E71-800A-8D5E13E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3C7F-515E-49E9-9E43-EAE72A6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E04A-41F2-4BBE-9478-0591DE31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4757-E1B2-487F-86B0-6182EB4F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AFD-EF0F-40CB-B2E6-080CC17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365-D71D-4E47-97E4-38AEE72F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563-B453-4235-B5AC-4B20347F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F56-5B16-4F95-A391-C0D18F50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140-16D8-48CD-8CF9-A79650B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BF7-42D1-4D6B-A692-9191B53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367-0AFE-4DA5-950E-ED8D6A4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784-081D-4166-972E-307066CCAE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CA9-1B77-4A9C-A572-129BABFA88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in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111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539640" y="0"/>
            <a:ext cx="820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обожженные сороковыми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священная война.mp3" descr=""/>
          <p:cNvPicPr/>
          <p:nvPr/>
        </p:nvPicPr>
        <p:blipFill>
          <a:blip r:embed="rId4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Лев Лещенко - Священная война (mp3ostrov.com).mp3" descr=""/>
          <p:cNvPicPr/>
          <p:nvPr/>
        </p:nvPicPr>
        <p:blipFill>
          <a:blip r:embed="rId5"/>
          <a:stretch/>
        </p:blipFill>
        <p:spPr>
          <a:xfrm>
            <a:off x="8991720" y="6724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573520" y="333000"/>
            <a:ext cx="35701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Мама моя, мамочка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е гладь меня и не плачь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album20"/>
          <p:cNvPicPr/>
          <p:nvPr/>
        </p:nvPicPr>
        <p:blipFill>
          <a:blip r:embed="rId1"/>
          <a:stretch/>
        </p:blipFill>
        <p:spPr>
          <a:xfrm>
            <a:off x="468360" y="333360"/>
            <a:ext cx="4032360" cy="6524640"/>
          </a:xfrm>
          <a:prstGeom prst="rect">
            <a:avLst/>
          </a:prstGeom>
          <a:ln w="0">
            <a:noFill/>
          </a:ln>
        </p:spPr>
      </p:pic>
      <p:pic>
        <p:nvPicPr>
          <p:cNvPr id="124" name="журавли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Марк Бернес - журавли бернес (mp3ostrov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Россия моя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271294952373267"/>
          <p:cNvPicPr/>
          <p:nvPr/>
        </p:nvPicPr>
        <p:blipFill>
          <a:blip r:embed="rId1"/>
          <a:srcRect l="2847" t="2166" r="2847" b="2166"/>
          <a:stretch/>
        </p:blipFill>
        <p:spPr>
          <a:xfrm>
            <a:off x="250920" y="1052640"/>
            <a:ext cx="4681440" cy="580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Не надо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Не гладь мен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И не плачь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икогда их не забыть России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6" descr="1958"/>
          <p:cNvPicPr/>
          <p:nvPr/>
        </p:nvPicPr>
        <p:blipFill>
          <a:blip r:embed="rId1"/>
          <a:stretch/>
        </p:blipFill>
        <p:spPr>
          <a:xfrm>
            <a:off x="755640" y="1413000"/>
            <a:ext cx="7704000" cy="5184720"/>
          </a:xfrm>
          <a:prstGeom prst="rect">
            <a:avLst/>
          </a:prstGeom>
          <a:ln w="0">
            <a:noFill/>
          </a:ln>
        </p:spPr>
      </p:pic>
      <p:pic>
        <p:nvPicPr>
          <p:cNvPr id="131" name="Калаш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Неизвестный_исполнитель-Звук_автоматной_очереди_для_вм(muzico.ru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291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 вот ты какая, а мы-то представить тебя не могли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5" descr="1115"/>
          <p:cNvPicPr/>
          <p:nvPr/>
        </p:nvPicPr>
        <p:blipFill>
          <a:blip r:embed="rId1"/>
          <a:stretch/>
        </p:blipFill>
        <p:spPr>
          <a:xfrm>
            <a:off x="1258920" y="1773360"/>
            <a:ext cx="7058160" cy="4895640"/>
          </a:xfrm>
          <a:prstGeom prst="rect">
            <a:avLst/>
          </a:prstGeom>
          <a:ln w="0">
            <a:noFill/>
          </a:ln>
        </p:spPr>
      </p:pic>
      <p:pic>
        <p:nvPicPr>
          <p:cNvPr id="135" name="день победы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день поб.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жглась на небе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яркая звезда в тот майский день, когда пришла Победа…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5" descr="9006013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9006020"/>
          <p:cNvPicPr/>
          <p:nvPr/>
        </p:nvPicPr>
        <p:blipFill>
          <a:blip r:embed="rId2"/>
          <a:stretch/>
        </p:blipFill>
        <p:spPr>
          <a:xfrm>
            <a:off x="3348000" y="1268280"/>
            <a:ext cx="565308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беда в сердце каждого живет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5" descr="9006021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одина-мать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Я проходил,скрипя зубами, мимо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1503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горестной, по русской, по родимо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5134"/>
          <p:cNvPicPr/>
          <p:nvPr/>
        </p:nvPicPr>
        <p:blipFill>
          <a:blip r:embed="rId1"/>
          <a:stretch/>
        </p:blipFill>
        <p:spPr>
          <a:xfrm>
            <a:off x="468360" y="145728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ве погибнуть ты нам обещала, Родин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1763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ронтовое письмо, не молчи, расскажи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2781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5256360"/>
          </a:xfrm>
          <a:prstGeom prst="rect">
            <a:avLst/>
          </a:prstGeom>
          <a:ln w="0">
            <a:noFill/>
          </a:ln>
        </p:spPr>
      </p:pic>
      <p:pic>
        <p:nvPicPr>
          <p:cNvPr id="112" name="темная ночь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Иосиф Кобзон - Темная ночь (mp3ostrov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84993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то будет, я знаю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9006006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661000"/>
          </a:xfrm>
          <a:prstGeom prst="rect">
            <a:avLst/>
          </a:prstGeom>
          <a:ln w="0">
            <a:noFill/>
          </a:ln>
        </p:spPr>
      </p:pic>
      <p:pic>
        <p:nvPicPr>
          <p:cNvPr id="116" name="ave_maria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Аве Мария (mp3ostrov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ы не горюй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1952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на поседела в разлуке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5" descr="0000169933-preview"/>
          <p:cNvPicPr/>
          <p:nvPr/>
        </p:nvPicPr>
        <p:blipFill>
          <a:blip r:embed="rId1"/>
          <a:srcRect l="2559" t="3125" r="2559" b="12500"/>
          <a:stretch/>
        </p:blipFill>
        <p:spPr>
          <a:xfrm>
            <a:off x="826920" y="1268280"/>
            <a:ext cx="763272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08:39Z</dcterms:created>
  <dc:creator>NewUser</dc:creator>
  <dc:description/>
  <dc:language>en-US</dc:language>
  <cp:lastModifiedBy>Наташа</cp:lastModifiedBy>
  <dcterms:modified xsi:type="dcterms:W3CDTF">2015-03-20T16:28:07Z</dcterms:modified>
  <cp:revision>16</cp:revision>
  <dc:subject/>
  <dc:title>Слайд 1</dc:title>
</cp:coreProperties>
</file>