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CC8-19E1-471A-B1F5-A4106EFA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2D7-A731-4779-A477-2D6EA38E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A78-AC65-480E-A8E9-091C5069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4CF-45A8-4858-9558-7E5A109D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EC9-F7C3-4877-959F-411B520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534-5309-4182-AE55-D4B3EFB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282-B645-48D7-B5E2-0FE932E3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C15-87A5-47F3-AF1E-830C6113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AFC-441F-4983-B08D-18DC9DB5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66F-2DF0-4EAD-94FC-6D6638B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277-2DF0-4D45-AE1F-D0B8FA1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909-D650-4B7B-A7C2-4B7900A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C460-1F2B-402D-A09E-9095A8047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360" y="1197000"/>
            <a:ext cx="4167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тон Павлович Чехов родился в г. Таганроге 17 (29)января 1860г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Documents and Settings\Елена Станкович\My Documents\My Pictures\128937_image_large.jpg"/>
          <p:cNvPicPr/>
          <p:nvPr/>
        </p:nvPicPr>
        <p:blipFill>
          <a:blip r:embed="rId2"/>
          <a:stretch/>
        </p:blipFill>
        <p:spPr>
          <a:xfrm>
            <a:off x="444600" y="928800"/>
            <a:ext cx="392436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80000" y="76500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189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50133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 ученик 5 класса МОУ «СОШ с.Кутьино» Новопольцев Никит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714480" y="285840"/>
            <a:ext cx="4971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олько через три года (в 1879 году) Антон Павлович после окончания гимназии  переехал в Москву и сразу поступил на медицинский факультет Московского университета. Во время учебы в университете, Антон Чехов активно сотрудничает с московскими журналами, в которых печатаются его короткие рассказы. Окончив университет, в 1884 году Чехов отправляется работать уездным врачом в город Воскресенс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Елена Станкович\My Documents\My Pictures\chehov_10.jpg"/>
          <p:cNvPicPr/>
          <p:nvPr/>
        </p:nvPicPr>
        <p:blipFill>
          <a:blip r:embed="rId2"/>
          <a:stretch/>
        </p:blipFill>
        <p:spPr>
          <a:xfrm>
            <a:off x="285840" y="78588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357360" y="285480"/>
            <a:ext cx="5329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 1890 году Антон Павлович отправляется   в Сибирь, а затем едет на остров Сахалин - место ссылки осужденных на каторгу. Его путешествия дают писателю большой материал для литературных  произведений. На Сахалине Антон Павлович принимает активное участие в переписи населения, собирает материал о жизни местного населения и каторжников. После возвращения с Сахалина он издаёт книгу "Остров Сахалин", которая привлекает на Сахалин не только русских, но и иностранных исследовате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Елена Станкович\My Documents\My Pictures\1000496866.jpg"/>
          <p:cNvPicPr/>
          <p:nvPr/>
        </p:nvPicPr>
        <p:blipFill>
          <a:blip r:embed="rId2"/>
          <a:stretch/>
        </p:blipFill>
        <p:spPr>
          <a:xfrm>
            <a:off x="336600" y="785880"/>
            <a:ext cx="32544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исатель всегда мечтал жить в деревне, и в 1892 году он покупает имение в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Мелихов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Вместе с ним в усадьбу переехали мать, отец, сестра Маша и младший брат Михаил. Усадьба находилась в запущенном состоянии. И семья занялась приятными хлопотами по обустройству нового дома. Отец  Антона Павловича с удовольствием занимался садом, а мать вела домашнее хозяйство. Сестра Мария  в свободное от работы время ( а работала она  учительницей в московской гимназии) занималась огородом. Чехов работает врачом, обслуживая 25 деревень, а в Мелихово на свои средства открывает медицинский пункт - амбулатор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Елена Станкович\My Documents\My Pictures\ambulatoriya.jpg"/>
          <p:cNvPicPr/>
          <p:nvPr/>
        </p:nvPicPr>
        <p:blipFill>
          <a:blip r:embed="rId2"/>
          <a:stretch/>
        </p:blipFill>
        <p:spPr>
          <a:xfrm>
            <a:off x="684360" y="549360"/>
            <a:ext cx="7699320" cy="5773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428720" y="285480"/>
            <a:ext cx="42577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Жить в деревне Чехову очень нравилось. Дом всегда был полон гостей, одним из которых был художник Левитан. В это время Чехов - уже довольно известный писатель. В  театрах по всей России ставятся спектакли по его пьесам.  А в 1895 году Антон Павлович посещает Ясную поляну и знакомится со Львом Николаевичем Толсты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Елена Станкович\My Documents\My Pictures\index_6348.jpg"/>
          <p:cNvPicPr/>
          <p:nvPr/>
        </p:nvPicPr>
        <p:blipFill>
          <a:blip r:embed="rId2"/>
          <a:stretch/>
        </p:blipFill>
        <p:spPr>
          <a:xfrm>
            <a:off x="357120" y="285840"/>
            <a:ext cx="39020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428720" y="500040"/>
            <a:ext cx="42577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99 году он продаёт имение в Мелихово и  вместе с матерью и сестрой переезжает в Ялту, где продолжает свою общественную деятельность. Чехов избирается в члены попечительского совета женской гимназии, участвует в строительстве школы в Мухолатке, работает в Попечительстве о приезжих больны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Елена Станкович\My Documents\My Pictures\dom_nuzei_chehova.jpg"/>
          <p:cNvPicPr/>
          <p:nvPr/>
        </p:nvPicPr>
        <p:blipFill>
          <a:blip r:embed="rId2"/>
          <a:stretch/>
        </p:blipFill>
        <p:spPr>
          <a:xfrm>
            <a:off x="285840" y="928800"/>
            <a:ext cx="392904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99680" y="428760"/>
            <a:ext cx="8186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абое здоровье писателя было  подорвано поездкой на Сахалин. В 1897 году у Чехова  обостряется туберкулёз, и врачи настоятельно советуют ему сменить климат.  Сначала писатель живёт в Ницце, потом в Париже, а затем едет в Ялту. В это же самое время в Мелихово умирает его отец. Писатель очень скучает по своему имению, но болезнь не позволяет ему постоянно жить в любимой усадьб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Елена Станкович\My Documents\My Pictures\090c9b3e13e6c9039b811a0aede92f9c.jpg"/>
          <p:cNvPicPr/>
          <p:nvPr/>
        </p:nvPicPr>
        <p:blipFill>
          <a:blip r:embed="rId2"/>
          <a:stretch/>
        </p:blipFill>
        <p:spPr>
          <a:xfrm>
            <a:off x="324000" y="189000"/>
            <a:ext cx="4591080" cy="492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Елена Станкович\My Documents\My Pictures\chehov_53.jpg"/>
          <p:cNvPicPr/>
          <p:nvPr/>
        </p:nvPicPr>
        <p:blipFill>
          <a:blip r:embed="rId3"/>
          <a:stretch/>
        </p:blipFill>
        <p:spPr>
          <a:xfrm>
            <a:off x="4932360" y="260280"/>
            <a:ext cx="3936960" cy="5929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439920" y="585792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УЗЕЙ ЧЕХОВА В МЕЛИХ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14800" y="356760"/>
            <a:ext cx="5472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три года после свадьбы ( в 1904 году) из-за усилившейся болезни Чехов вместе с женой уезжает на знаменитый курорт в Германии - Баденвейлер.  Вернуться на родину писателю не удалось. 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 июля 1904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 сконч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Елена Станкович\My Documents\My Pictures\27031-0.jpg"/>
          <p:cNvPicPr/>
          <p:nvPr/>
        </p:nvPicPr>
        <p:blipFill>
          <a:blip r:embed="rId2"/>
          <a:stretch/>
        </p:blipFill>
        <p:spPr>
          <a:xfrm>
            <a:off x="235080" y="1285920"/>
            <a:ext cx="320652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286160" y="785880"/>
            <a:ext cx="4400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ворчество писателя сделало его знаменитым не только на родине. Рассказы Чехова переведены  на все языки, а пьесы поставлены во всех знаменитых театрах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Елена Станкович\My Documents\My Pictures\02182491.jpg"/>
          <p:cNvPicPr/>
          <p:nvPr/>
        </p:nvPicPr>
        <p:blipFill>
          <a:blip r:embed="rId2"/>
          <a:stretch/>
        </p:blipFill>
        <p:spPr>
          <a:xfrm>
            <a:off x="152280" y="608040"/>
            <a:ext cx="3990960" cy="5035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43200" y="500040"/>
            <a:ext cx="5043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ец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авел Егорович Че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был купцом 3-ей гильдии и имел в Таганроге бакалейную лавку. Однако занимался торговлей он без особого рвения, большую часть времени уделяя посещению церковных служб, пению в церковном х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Елена Станкович\My Documents\My Pictures\96729257.jpg"/>
          <p:cNvPicPr/>
          <p:nvPr/>
        </p:nvPicPr>
        <p:blipFill>
          <a:blip r:embed="rId2"/>
          <a:stretch/>
        </p:blipFill>
        <p:spPr>
          <a:xfrm>
            <a:off x="285840" y="1071720"/>
            <a:ext cx="36194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мятники Чехову А. 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Елена Станкович\My Documents\My Pictures\0_1de56_31925652_XL.jpg"/>
          <p:cNvPicPr/>
          <p:nvPr/>
        </p:nvPicPr>
        <p:blipFill>
          <a:blip r:embed="rId2"/>
          <a:stretch/>
        </p:blipFill>
        <p:spPr>
          <a:xfrm>
            <a:off x="182520" y="2143080"/>
            <a:ext cx="4313160" cy="3233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428760" y="58579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. Ис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Documents and Settings\Елена Станкович\My Documents\My Pictures\12.bmp"/>
          <p:cNvPicPr/>
          <p:nvPr/>
        </p:nvPicPr>
        <p:blipFill>
          <a:blip r:embed="rId3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5541480" y="5929200"/>
            <a:ext cx="19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. Томс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Елена Станкович\My Documents\My Pictures\chehov-photo-9.jpg"/>
          <p:cNvPicPr/>
          <p:nvPr/>
        </p:nvPicPr>
        <p:blipFill>
          <a:blip r:embed="rId2"/>
          <a:stretch/>
        </p:blipFill>
        <p:spPr>
          <a:xfrm>
            <a:off x="287280" y="785880"/>
            <a:ext cx="3813120" cy="5097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221120" y="592920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Ял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Documents and Settings\Елена Станкович\My Documents\My Pictures\458441981.jpg"/>
          <p:cNvPicPr/>
          <p:nvPr/>
        </p:nvPicPr>
        <p:blipFill>
          <a:blip r:embed="rId3"/>
          <a:stretch/>
        </p:blipFill>
        <p:spPr>
          <a:xfrm>
            <a:off x="4643280" y="714240"/>
            <a:ext cx="3776760" cy="5026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5207760" y="592920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Таганр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ображение Чехова на монете 1990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онета достоинство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1 руб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Елена Станкович\My Documents\My Pictures\192.jpg"/>
          <p:cNvPicPr/>
          <p:nvPr/>
        </p:nvPicPr>
        <p:blipFill>
          <a:blip r:embed="rId2"/>
          <a:stretch/>
        </p:blipFill>
        <p:spPr>
          <a:xfrm>
            <a:off x="457200" y="191628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ама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аленька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в мире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ниг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"Хамелеон" А.П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ехов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Елена Станкович\My Documents\My Pictures\Chekhov1.jpg"/>
          <p:cNvPicPr/>
          <p:nvPr/>
        </p:nvPicPr>
        <p:blipFill>
          <a:blip r:embed="rId2"/>
          <a:stretch/>
        </p:blipFill>
        <p:spPr>
          <a:xfrm>
            <a:off x="285840" y="2071800"/>
            <a:ext cx="4133880" cy="392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Елена Станкович\My Documents\My Pictures\115_1564.jpg"/>
          <p:cNvPicPr/>
          <p:nvPr/>
        </p:nvPicPr>
        <p:blipFill>
          <a:blip r:embed="rId3"/>
          <a:stretch/>
        </p:blipFill>
        <p:spPr>
          <a:xfrm>
            <a:off x="4619520" y="2286000"/>
            <a:ext cx="426744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071600" y="500040"/>
            <a:ext cx="4614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ама писателя -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Евгения Яковлев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ла очень хорошей хозяйкой, заботившейся о своём муже и детях. Семья была многодетной. И Евгения Яковлевна, в молодости обучавшаяся в частном пансионе благородных девиц, воспитывала в своих детях отзывчивость и сострадание к слабым, любовь к природе  и всему, что их окружал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Елена Станкович\My Documents\My Pictures\262389088.jpg"/>
          <p:cNvPicPr/>
          <p:nvPr/>
        </p:nvPicPr>
        <p:blipFill>
          <a:blip r:embed="rId2"/>
          <a:stretch/>
        </p:blipFill>
        <p:spPr>
          <a:xfrm>
            <a:off x="214200" y="714240"/>
            <a:ext cx="381960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емья Чехов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Елена Станкович\My Documents\My Pictures\chehov-photo-10.jpg"/>
          <p:cNvPicPr/>
          <p:nvPr/>
        </p:nvPicPr>
        <p:blipFill>
          <a:blip r:embed="rId2"/>
          <a:stretch/>
        </p:blipFill>
        <p:spPr>
          <a:xfrm>
            <a:off x="1071720" y="1571760"/>
            <a:ext cx="6649920" cy="495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овсем другим по характеру был отец. Он считал, что дети должны воспитываться в строгости. Сидеть без дела никому не позволялось, и за малейшую провинность к детям применялись телесные наказания. Увлечение отца церковным пением  сказывалось и на детях. Кроме занятий в гимназии, ребятишкам приходилось заменять в лавке часто отсутствовавшего отца. Павел Егорович собрал в греческом монастыре Таганрога церковный хор, в котором пели его сыновья - Александр, Николай и Антон. Вечерами в лавке устраивались репетиции, которые порой затягивались допоздна. А утром ребята должны были просыпаться очень рано, чтобы успеть к утренней служб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43200" y="571320"/>
            <a:ext cx="5043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орговля  в лавке отца  шла не очень прибыльно. Вскоре отец оказался в долгах и разорился. Чтобы избежать преследований кредиторов, семья в 1876 году переехала в Москву. В Таганроге остался один Антон. Он в то время доучивался в гимназии. Жил он в доме своей семьи, который достался новым хозяевам.  В их семье  рос сын, и Антон занимался с ним репетиторством, тем самым оплачивая своё прожива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Елена Станкович\My Documents\My Pictures\mini_Lavka_Chehovyh.jpg"/>
          <p:cNvPicPr/>
          <p:nvPr/>
        </p:nvPicPr>
        <p:blipFill>
          <a:blip r:embed="rId2"/>
          <a:stretch/>
        </p:blipFill>
        <p:spPr>
          <a:xfrm>
            <a:off x="357120" y="1285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7168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имназия, в которой учился будущий писатель,  была старейшим учебным заведением и давала очень хорошее по тем временам образование. Гимназисты, успешно прошедшие обучение, могли без экзаменов поступить в любой университет России и даже поехать учиться за границу. Обучаясь в последних классах гимназии,  Антон Павлович начал издавать юмористические журналы, писать небольшие рассказы и сценки. Здесь появился и его первый литературный псевдоним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"Антоша Чехонте"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Елена Станкович\My Documents\My Pictures\0_9f49_8ce5d848_XL.jpg"/>
          <p:cNvPicPr/>
          <p:nvPr/>
        </p:nvPicPr>
        <p:blipFill>
          <a:blip r:embed="rId2"/>
          <a:stretch/>
        </p:blipFill>
        <p:spPr>
          <a:xfrm>
            <a:off x="1258920" y="1557360"/>
            <a:ext cx="6624720" cy="5149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 Чехова в Таганр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Елена Станкович\My Documents\My Pictures\Chekhov_Birthhouse.jpg"/>
          <p:cNvPicPr/>
          <p:nvPr/>
        </p:nvPicPr>
        <p:blipFill>
          <a:blip r:embed="rId2"/>
          <a:stretch/>
        </p:blipFill>
        <p:spPr>
          <a:xfrm>
            <a:off x="1000080" y="1487520"/>
            <a:ext cx="732312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37:14Z</dcterms:created>
  <dc:creator>Елена Станкович</dc:creator>
  <dc:description/>
  <dc:language>en-US</dc:language>
  <cp:lastModifiedBy>user</cp:lastModifiedBy>
  <dcterms:modified xsi:type="dcterms:W3CDTF">2015-01-18T14:21:43Z</dcterms:modified>
  <cp:revision>10</cp:revision>
  <dc:subject/>
  <dc:title>Антон Павлович Чехов родился в г. Таганроге 17 (29)января 1860г </dc:title>
</cp:coreProperties>
</file>