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7.gif" ContentType="image/gif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5C9-BE3C-4ED6-84AB-37DE5CDF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8D4-22F8-4F66-B1CF-DB531D0B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C39-35B1-4F22-AB79-F35A04E6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C5C-0C85-462E-8EC3-6B6AB564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B0F1-B664-4414-A314-D5308E88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689E-AA38-4460-B201-F798625F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5BD6-42AC-4B81-921C-4B60CCFA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8072-ED12-42FB-B334-23C4E2CD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CFC0-6298-46E9-9A69-54237134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BDA1-C6EF-443E-A272-2161C90F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5A34-7476-4E8E-9248-E4B82CE2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9AA-8F05-43DD-9EB2-E26F7B9D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0CBD-CCEC-4DEE-AAB5-7B879AB7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8E63-F3EA-4730-A974-6B6BFD8B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69E0-F3FF-49DE-A766-2737D405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82B3-6C3E-4096-96EF-2BA834A5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5D43-3EF1-4623-84EA-2EDA9D92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3C7-8858-43B2-AA16-29D7BB19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784-96B8-44F9-A5CF-5AFFB47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717-D479-463D-B43A-AFD4773E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6FB-F7BC-4EF9-A91C-0EE076D3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832-7D99-4841-9D94-04BC7395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2E3-50D8-41A3-8275-4BC7C46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66D-EF65-4498-ADE5-4EFC08F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F990-1131-423B-BECF-866E9C46CA5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1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1F2A-AFAD-4697-BEDD-6730D303E2E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uzikalkairk.ucoz.ru/ckahat/874.jpg" TargetMode="External"/><Relationship Id="rId2" Type="http://schemas.openxmlformats.org/officeDocument/2006/relationships/hyperlink" Target="http://www.e1.ru/fun/photo/view_pic.php/p/59f00e62c5c1bd2fe2beb906d87666ca/view.pic" TargetMode="External"/><Relationship Id="rId3" Type="http://schemas.openxmlformats.org/officeDocument/2006/relationships/hyperlink" Target="http://www.vyatmama.ru/41.jpg" TargetMode="External"/><Relationship Id="rId4" Type="http://schemas.openxmlformats.org/officeDocument/2006/relationships/hyperlink" Target="http://pafoslive.ru/images/product_images/popup_images/9b8ed692-0e8d-11db-ba47-000423c1865b.jpg" TargetMode="External"/><Relationship Id="rId5" Type="http://schemas.openxmlformats.org/officeDocument/2006/relationships/hyperlink" Target="http://covers.cnt.itdelo.com/p/pu/puz/puz74005big.jpg" TargetMode="External"/><Relationship Id="rId6" Type="http://schemas.openxmlformats.org/officeDocument/2006/relationships/hyperlink" Target="http://www.kinotour.ru/media/movies/fullsize/7/7/77862_Zima-V-Prostokvashino_photo2.jpg" TargetMode="External"/><Relationship Id="rId7" Type="http://schemas.openxmlformats.org/officeDocument/2006/relationships/hyperlink" Target="http://www.lenagold.ru/fon/clipart/v/vozd/vozd10.jpg" TargetMode="External"/><Relationship Id="rId8" Type="http://schemas.openxmlformats.org/officeDocument/2006/relationships/hyperlink" Target="http://s16.radikal.ru/i191/0911/70/498322ae77c6.jpg" TargetMode="External"/><Relationship Id="rId9" Type="http://schemas.openxmlformats.org/officeDocument/2006/relationships/hyperlink" Target="http://www.lenagold.ru/fon/clipart/s/sova/sova23.jpg" TargetMode="External"/><Relationship Id="rId10" Type="http://schemas.openxmlformats.org/officeDocument/2006/relationships/hyperlink" Target="http://im6-tub.yandex.net/i?id=48900240-00" TargetMode="External"/><Relationship Id="rId11" Type="http://schemas.openxmlformats.org/officeDocument/2006/relationships/hyperlink" Target="http://www.art-apple.ru/albums/vector-school/school-objects.jpg" TargetMode="External"/><Relationship Id="rId12" Type="http://schemas.openxmlformats.org/officeDocument/2006/relationships/hyperlink" Target="http://www.lenagold.ru/fon/clipart/r/roza/raz/roza87.jpg" TargetMode="External"/><Relationship Id="rId13" Type="http://schemas.openxmlformats.org/officeDocument/2006/relationships/hyperlink" Target="http://www.lenagold.ru/fon/clipart/g/glob/glob16.jpg" TargetMode="External"/><Relationship Id="rId14" Type="http://schemas.openxmlformats.org/officeDocument/2006/relationships/hyperlink" Target="http://www.lenagold.ru/fon/clipart/k/knig/kniga81.jpg" TargetMode="External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enagold.ru/fon/clipart/r/ram/flo/ramk177.jpg" TargetMode="External"/><Relationship Id="rId2" Type="http://schemas.openxmlformats.org/officeDocument/2006/relationships/hyperlink" Target="http://www.lenagold.ru/fon/clipart/l/land/landish25.jpg" TargetMode="External"/><Relationship Id="rId3" Type="http://schemas.openxmlformats.org/officeDocument/2006/relationships/hyperlink" Target="http://www.lenagold.ru/fon/clipart/k/kolok/kolok22.jpg" TargetMode="External"/><Relationship Id="rId4" Type="http://schemas.openxmlformats.org/officeDocument/2006/relationships/hyperlink" Target="http://www.lenagold.ru/fon/clipart/r/rom/romash04.jpg" TargetMode="External"/><Relationship Id="rId5" Type="http://schemas.openxmlformats.org/officeDocument/2006/relationships/hyperlink" Target="http://www.lenagold.ru/fon/clipart/r/roza/kras/roza127.jpg" TargetMode="External"/><Relationship Id="rId6" Type="http://schemas.openxmlformats.org/officeDocument/2006/relationships/hyperlink" Target="http://www.lenagold.ru/fon/clipart/g/grib/grib23.jpg" TargetMode="External"/><Relationship Id="rId7" Type="http://schemas.openxmlformats.org/officeDocument/2006/relationships/hyperlink" Target="http://www.lenagold.ru/fon/clipart/g/grib/grib14.jpg" TargetMode="External"/><Relationship Id="rId8" Type="http://schemas.openxmlformats.org/officeDocument/2006/relationships/hyperlink" Target="http://www.lenagold.ru/fon/clipart/g/grib/grib10.jpg" TargetMode="External"/><Relationship Id="rId9" Type="http://schemas.openxmlformats.org/officeDocument/2006/relationships/hyperlink" Target="http://www.lenagold.ru/fon/clipart/r/ram/rast/ramk64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image" Target="../media/image21.png"/><Relationship Id="rId35" Type="http://schemas.openxmlformats.org/officeDocument/2006/relationships/image" Target="../media/image22.png"/><Relationship Id="rId36" Type="http://schemas.openxmlformats.org/officeDocument/2006/relationships/image" Target="../media/image23.png"/><Relationship Id="rId37" Type="http://schemas.openxmlformats.org/officeDocument/2006/relationships/image" Target="../media/image24.png"/><Relationship Id="rId38" Type="http://schemas.openxmlformats.org/officeDocument/2006/relationships/image" Target="../media/image25.png"/><Relationship Id="rId39" Type="http://schemas.openxmlformats.org/officeDocument/2006/relationships/slide" Target="slide8.xml"/><Relationship Id="rId4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8f6b8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-468360" y="404640"/>
            <a:ext cx="2179800" cy="242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5796000" y="5300640"/>
            <a:ext cx="2625840" cy="21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3"/>
          <a:stretch/>
        </p:blipFill>
        <p:spPr>
          <a:xfrm>
            <a:off x="7596360" y="3716280"/>
            <a:ext cx="1930320" cy="260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611280" y="-387360"/>
            <a:ext cx="27036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5"/>
          <a:stretch/>
        </p:blipFill>
        <p:spPr>
          <a:xfrm rot="20576400">
            <a:off x="539640" y="4436640"/>
            <a:ext cx="1114560" cy="1666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"/>
          <p:cNvPicPr/>
          <p:nvPr/>
        </p:nvPicPr>
        <p:blipFill>
          <a:blip r:embed="rId6"/>
          <a:stretch/>
        </p:blipFill>
        <p:spPr>
          <a:xfrm>
            <a:off x="1763640" y="4941720"/>
            <a:ext cx="1857600" cy="1438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8"/>
          <p:cNvSpPr/>
          <p:nvPr/>
        </p:nvSpPr>
        <p:spPr>
          <a:xfrm>
            <a:off x="1908000" y="1125360"/>
            <a:ext cx="612000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454d4"/>
                </a:solidFill>
                <a:latin typeface="Monotype Corsiva"/>
              </a:rPr>
              <a:t>День Знаний. 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54d4"/>
                </a:solidFill>
                <a:latin typeface="Monotype Corsiva"/>
              </a:rPr>
              <a:t>     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979640" y="3357720"/>
            <a:ext cx="6626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4d4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4d4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5454d4"/>
                </a:solidFill>
                <a:latin typeface="Arial"/>
              </a:rPr>
              <a:t>Сукачева  Евгения Викторо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4d4"/>
                </a:solidFill>
                <a:latin typeface="Arial"/>
              </a:rPr>
              <a:t>учитель начальных классов МОУ СШ № 2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4d4"/>
                </a:solidFill>
                <a:latin typeface="Arial"/>
              </a:rPr>
              <a:t>г. Волгогр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4932360" y="1989000"/>
            <a:ext cx="251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d4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5454d4"/>
                </a:solidFill>
                <a:latin typeface="Monotype Corsiva"/>
              </a:rPr>
              <a:t>1 класс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ramk177"/>
          <p:cNvPicPr/>
          <p:nvPr/>
        </p:nvPicPr>
        <p:blipFill>
          <a:blip r:embed="rId1"/>
          <a:stretch/>
        </p:blipFill>
        <p:spPr>
          <a:xfrm>
            <a:off x="0" y="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ramk177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ramk177"/>
          <p:cNvPicPr/>
          <p:nvPr/>
        </p:nvPicPr>
        <p:blipFill>
          <a:blip r:embed="rId3"/>
          <a:stretch/>
        </p:blipFill>
        <p:spPr>
          <a:xfrm flipH="1" rot="10802400">
            <a:off x="-28440" y="3211200"/>
            <a:ext cx="4527360" cy="3645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ramk177"/>
          <p:cNvPicPr/>
          <p:nvPr/>
        </p:nvPicPr>
        <p:blipFill>
          <a:blip r:embed="rId4"/>
          <a:stretch/>
        </p:blipFill>
        <p:spPr>
          <a:xfrm>
            <a:off x="4427640" y="328464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колокольчики"/>
          <p:cNvPicPr/>
          <p:nvPr/>
        </p:nvPicPr>
        <p:blipFill>
          <a:blip r:embed="rId5"/>
          <a:stretch/>
        </p:blipFill>
        <p:spPr>
          <a:xfrm>
            <a:off x="1476360" y="2997360"/>
            <a:ext cx="2295720" cy="243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ландыши"/>
          <p:cNvPicPr/>
          <p:nvPr/>
        </p:nvPicPr>
        <p:blipFill>
          <a:blip r:embed="rId6"/>
          <a:stretch/>
        </p:blipFill>
        <p:spPr>
          <a:xfrm>
            <a:off x="1908000" y="765000"/>
            <a:ext cx="1905120" cy="201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роза"/>
          <p:cNvPicPr/>
          <p:nvPr/>
        </p:nvPicPr>
        <p:blipFill>
          <a:blip r:embed="rId7"/>
          <a:stretch/>
        </p:blipFill>
        <p:spPr>
          <a:xfrm>
            <a:off x="5219640" y="836640"/>
            <a:ext cx="2176560" cy="2305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ромашки"/>
          <p:cNvPicPr/>
          <p:nvPr/>
        </p:nvPicPr>
        <p:blipFill>
          <a:blip r:embed="rId8"/>
          <a:stretch/>
        </p:blipFill>
        <p:spPr>
          <a:xfrm>
            <a:off x="4572000" y="3284640"/>
            <a:ext cx="2521080" cy="20397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>
            <a:hlinkClick r:id="" action="ppaction://hlinkshowjump?jump=nextslide"/>
          </p:cNvPr>
          <p:cNvSpPr/>
          <p:nvPr/>
        </p:nvSpPr>
        <p:spPr>
          <a:xfrm>
            <a:off x="7524720" y="5734080"/>
            <a:ext cx="754200" cy="549360"/>
          </a:xfrm>
          <a:custGeom>
            <a:avLst/>
            <a:gdLst>
              <a:gd name="textAreaLeft" fmla="*/ 35280 w 754200"/>
              <a:gd name="textAreaRight" fmla="*/ 718920 w 7542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649" h="21600">
                <a:moveTo>
                  <a:pt x="0" y="0"/>
                </a:moveTo>
                <a:lnTo>
                  <a:pt x="29649" y="0"/>
                </a:lnTo>
                <a:lnTo>
                  <a:pt x="29649" y="21600"/>
                </a:lnTo>
                <a:lnTo>
                  <a:pt x="0" y="21600"/>
                </a:lnTo>
                <a:close/>
              </a:path>
              <a:path fill="lightenLess" w="29649" h="21600">
                <a:moveTo>
                  <a:pt x="0" y="0"/>
                </a:moveTo>
                <a:lnTo>
                  <a:pt x="29649" y="0"/>
                </a:lnTo>
                <a:lnTo>
                  <a:pt x="28249" y="1400"/>
                </a:lnTo>
                <a:lnTo>
                  <a:pt x="1400" y="1400"/>
                </a:lnTo>
                <a:close/>
              </a:path>
              <a:path fill="darken" w="29649" h="21600">
                <a:moveTo>
                  <a:pt x="29649" y="0"/>
                </a:moveTo>
                <a:lnTo>
                  <a:pt x="29649" y="21600"/>
                </a:lnTo>
                <a:lnTo>
                  <a:pt x="28249" y="20200"/>
                </a:lnTo>
                <a:lnTo>
                  <a:pt x="28249" y="1400"/>
                </a:lnTo>
                <a:close/>
              </a:path>
              <a:path fill="darkenLess" w="29649" h="21600">
                <a:moveTo>
                  <a:pt x="29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49" y="20200"/>
                </a:lnTo>
                <a:close/>
              </a:path>
              <a:path fill="lighten" w="29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49" h="21600">
                <a:moveTo>
                  <a:pt x="7818" y="3794"/>
                </a:moveTo>
                <a:lnTo>
                  <a:pt x="21831" y="10800"/>
                </a:lnTo>
                <a:lnTo>
                  <a:pt x="7818" y="17806"/>
                </a:lnTo>
                <a:close/>
              </a:path>
            </a:pathLst>
          </a:custGeom>
          <a:solidFill>
            <a:srgbClr val="89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3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8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250" autoRev="1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5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25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8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ramk31"/>
          <p:cNvPicPr/>
          <p:nvPr/>
        </p:nvPicPr>
        <p:blipFill>
          <a:blip r:embed="rId1"/>
          <a:stretch/>
        </p:blipFill>
        <p:spPr>
          <a:xfrm>
            <a:off x="4427640" y="3213000"/>
            <a:ext cx="4716360" cy="364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ramk31"/>
          <p:cNvPicPr/>
          <p:nvPr/>
        </p:nvPicPr>
        <p:blipFill>
          <a:blip r:embed="rId2"/>
          <a:stretch/>
        </p:blipFill>
        <p:spPr>
          <a:xfrm>
            <a:off x="0" y="0"/>
            <a:ext cx="4500720" cy="3213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ramk31"/>
          <p:cNvPicPr/>
          <p:nvPr/>
        </p:nvPicPr>
        <p:blipFill>
          <a:blip r:embed="rId3"/>
          <a:stretch/>
        </p:blipFill>
        <p:spPr>
          <a:xfrm>
            <a:off x="0" y="321300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ramk31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лошадь"/>
          <p:cNvPicPr/>
          <p:nvPr/>
        </p:nvPicPr>
        <p:blipFill>
          <a:blip r:embed="rId5"/>
          <a:stretch/>
        </p:blipFill>
        <p:spPr>
          <a:xfrm>
            <a:off x="5003640" y="692280"/>
            <a:ext cx="2722680" cy="2881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зебра"/>
          <p:cNvPicPr/>
          <p:nvPr/>
        </p:nvPicPr>
        <p:blipFill>
          <a:blip r:embed="rId6"/>
          <a:stretch/>
        </p:blipFill>
        <p:spPr>
          <a:xfrm>
            <a:off x="1332000" y="3141720"/>
            <a:ext cx="2736720" cy="246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7"/>
          <a:stretch/>
        </p:blipFill>
        <p:spPr>
          <a:xfrm>
            <a:off x="1908000" y="1268280"/>
            <a:ext cx="1791000" cy="1514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8"/>
          <a:stretch/>
        </p:blipFill>
        <p:spPr>
          <a:xfrm>
            <a:off x="5940360" y="3429000"/>
            <a:ext cx="173844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11">
            <a:hlinkClick r:id="" action="ppaction://hlinkshowjump?jump=nextslide"/>
          </p:cNvPr>
          <p:cNvSpPr/>
          <p:nvPr/>
        </p:nvSpPr>
        <p:spPr>
          <a:xfrm>
            <a:off x="5724360" y="5805360"/>
            <a:ext cx="754200" cy="549360"/>
          </a:xfrm>
          <a:custGeom>
            <a:avLst/>
            <a:gdLst>
              <a:gd name="textAreaLeft" fmla="*/ 35280 w 754200"/>
              <a:gd name="textAreaRight" fmla="*/ 718920 w 7542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649" h="21600">
                <a:moveTo>
                  <a:pt x="0" y="0"/>
                </a:moveTo>
                <a:lnTo>
                  <a:pt x="29649" y="0"/>
                </a:lnTo>
                <a:lnTo>
                  <a:pt x="29649" y="21600"/>
                </a:lnTo>
                <a:lnTo>
                  <a:pt x="0" y="21600"/>
                </a:lnTo>
                <a:close/>
              </a:path>
              <a:path fill="lightenLess" w="29649" h="21600">
                <a:moveTo>
                  <a:pt x="0" y="0"/>
                </a:moveTo>
                <a:lnTo>
                  <a:pt x="29649" y="0"/>
                </a:lnTo>
                <a:lnTo>
                  <a:pt x="28249" y="1400"/>
                </a:lnTo>
                <a:lnTo>
                  <a:pt x="1400" y="1400"/>
                </a:lnTo>
                <a:close/>
              </a:path>
              <a:path fill="darken" w="29649" h="21600">
                <a:moveTo>
                  <a:pt x="29649" y="0"/>
                </a:moveTo>
                <a:lnTo>
                  <a:pt x="29649" y="21600"/>
                </a:lnTo>
                <a:lnTo>
                  <a:pt x="28249" y="20200"/>
                </a:lnTo>
                <a:lnTo>
                  <a:pt x="28249" y="1400"/>
                </a:lnTo>
                <a:close/>
              </a:path>
              <a:path fill="darkenLess" w="29649" h="21600">
                <a:moveTo>
                  <a:pt x="29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49" y="20200"/>
                </a:lnTo>
                <a:close/>
              </a:path>
              <a:path fill="lighten" w="29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49" h="21600">
                <a:moveTo>
                  <a:pt x="7818" y="3794"/>
                </a:moveTo>
                <a:lnTo>
                  <a:pt x="21831" y="10800"/>
                </a:lnTo>
                <a:lnTo>
                  <a:pt x="7818" y="17806"/>
                </a:lnTo>
                <a:close/>
              </a:path>
            </a:pathLst>
          </a:custGeom>
          <a:solidFill>
            <a:srgbClr val="89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6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2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74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80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fdbf"/>
            </a:gs>
            <a:gs pos="50000">
              <a:srgbClr val="bbf3a7"/>
            </a:gs>
            <a:gs pos="100000">
              <a:srgbClr val="fcfd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6"/>
          <p:cNvSpPr txBox="1"/>
          <p:nvPr/>
        </p:nvSpPr>
        <p:spPr>
          <a:xfrm>
            <a:off x="684360" y="1197000"/>
            <a:ext cx="784836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, ребята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18003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7"/>
            </a:gs>
            <a:gs pos="50000">
              <a:srgbClr val="8fff8f"/>
            </a:gs>
            <a:gs pos="100000">
              <a:srgbClr val="ffff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250920" y="14842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muzikalkairk.ucoz.ru/ckahat/874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Машенька и медвед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79280" y="3716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e1.ru/fun/photo/view_pic.php/p/59f00e62c5c1bd2fe2beb906d87666ca/view.pic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- по щучьему велению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50920" y="1844640"/>
            <a:ext cx="59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vyatmama.ru/41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Гуси-лебед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7928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://pafoslive.ru/images/product_images/popup_images/9b8ed692-0e8d-11db-ba47-000423c1865b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Львенок и Черепах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50920" y="21337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http://covers.cnt.itdelo.com/p/pu/puz/puz74005big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Бременские музыка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250920" y="24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http://www.kinotour.ru/media/movies/fullsize/7/7/77862_Zima-V-Prostokvashino_photo2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Простоквашин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179280" y="544500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http://www.lenagold.ru/fon/clipart/v/vozd/vozd10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уголок шар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179280" y="5877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тихотворение «Первый раз в первый класс»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тьяна Бок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179280" y="5084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http://s16.radikal.ru/i191/0911/70/498322ae77c6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сказочный фо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179280" y="3141720"/>
            <a:ext cx="70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http://www.lenagold.ru/fon/clipart/s/sova/sova23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с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2700360" y="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спользуемые источн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250920" y="620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http://im6-tub.yandex.net/i?id=48900240-00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– фон на втором слайд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250920" y="62388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http://www.art-apple.ru/albums/vector-school/school-objects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школьные принадлеж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250920" y="333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http://www.lenagold.ru/fon/clipart/r/roza/raz/roza87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цветочная виньет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250920" y="907920"/>
            <a:ext cx="69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http://www.lenagold.ru/fon/clipart/g/glob/glob16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глобу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250920" y="119700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http://www.lenagold.ru/fon/clipart/k/knig/kniga81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книг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fdbf"/>
            </a:gs>
            <a:gs pos="50000">
              <a:srgbClr val="a1ef85"/>
            </a:gs>
            <a:gs pos="100000">
              <a:srgbClr val="fcfd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50920" y="404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lenagold.ru/fon/clipart/r/ram/flo/ramk177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рам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250920" y="69228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lenagold.ru/fon/clipart/l/land/landish25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ландыш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50920" y="9810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lenagold.ru/fon/clipart/k/kolok/kolok22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полевые колокольч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50920" y="2205000"/>
            <a:ext cx="70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://www.lenagold.ru/fon/clipart/r/rom/romash04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ромаш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50920" y="2924280"/>
            <a:ext cx="72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http://www.lenagold.ru/fon/clipart/r/roza/kras/roza127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роз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250920" y="328464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http://www.lenagold.ru/fon/clipart/g/grib/grib23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 подосинов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 flipV="1" rot="10800000">
            <a:off x="250920" y="3644640"/>
            <a:ext cx="667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http://www.lenagold.ru/fon/clipart/g/grib/grib14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белый гри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50920" y="4365720"/>
            <a:ext cx="85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http://www.lenagold.ru/fon/clipart/g/grib/grib10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подберезов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50920" y="256536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ttp://www.lenagold.ru/fon/clipart/s/svin/svin51.jp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 flipV="1" rot="10800000">
            <a:off x="250560" y="4651920"/>
            <a:ext cx="79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http://www.lenagold.ru/fon/clipart/r/ram/rast/ramk64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рамка из листье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 flipV="1" rot="10800000">
            <a:off x="249120" y="1340280"/>
            <a:ext cx="63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ttp://www.lenagold.ru/fon/clipart/z/zebr/zebra12.jpg -зеб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 flipV="1" rot="10800000">
            <a:off x="250920" y="5012280"/>
            <a:ext cx="69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ttp://www.lenagold.ru/fon/clipart/l/losh/losh48.jpg - лошад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 flipV="1" rot="10783800">
            <a:off x="248760" y="5371560"/>
            <a:ext cx="88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ttp://www.lenagold.ru/fon/clipart/r/ram/uzor/ramk31.jpg - рамка с узор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250920" y="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ttp://www.lenagold.ru/fon/clipart/r/ram/uzor/ramk20.jpg - рамка с узор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250920" y="1773360"/>
            <a:ext cx="69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ttp://www.lenagold.ru/fon/clipart/s/svin/svin51.jpg - свин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250920" y="4005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ttp://z1.foto.rambler.ru/public/mlv96/7/os18014/os18014-web.jpg - козлено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250920" y="5805360"/>
            <a:ext cx="88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гадки взяты из книги «Занимательное Азбуковедение» составитель В.В.Волина Москва «Просвещение»1991г., а такж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.И.Тарабарина, Н.В. Елкина «И учеба, и игра: математика» Ярославль 2001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50c66d7a437b827fbc260695fcf93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"/>
          <p:cNvPicPr/>
          <p:nvPr/>
        </p:nvPicPr>
        <p:blipFill>
          <a:blip r:embed="rId1"/>
          <a:stretch/>
        </p:blipFill>
        <p:spPr>
          <a:xfrm flipH="1" rot="10795200">
            <a:off x="-2880" y="-1440"/>
            <a:ext cx="2052720" cy="189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86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3"/>
          <a:stretch/>
        </p:blipFill>
        <p:spPr>
          <a:xfrm>
            <a:off x="6588000" y="4532400"/>
            <a:ext cx="2556000" cy="232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4"/>
          <a:stretch/>
        </p:blipFill>
        <p:spPr>
          <a:xfrm>
            <a:off x="0" y="4602240"/>
            <a:ext cx="2479680" cy="2255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4"/>
          <p:cNvSpPr/>
          <p:nvPr/>
        </p:nvSpPr>
        <p:spPr>
          <a:xfrm>
            <a:off x="2268360" y="260280"/>
            <a:ext cx="518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от осень на двор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тицы к югу полет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начит, время детво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Книжки складывать в портф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 первый раз заходят в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ервоклашки- новосёл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торвать не могут гла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т просторной светлой школ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се за парты. Вот тетрад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зяли в руки ручки смело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Хватит бегать и играть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ы займёмся взрослым делом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усть нас спросят у доски 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сем мы с гордостью ответи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Ы ТЕПЕРЬ УЧЕНИК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НЕ МАЛЕНЬКИЕ ДЕТИ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1476360" y="1916280"/>
            <a:ext cx="6624720" cy="1728720"/>
          </a:xfrm>
          <a:prstGeom prst="rect">
            <a:avLst/>
          </a:prstGeom>
          <a:solidFill>
            <a:srgbClr val="ffff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Знаешь ли ты сказки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ebe"/>
            </a:gs>
            <a:gs pos="50000">
              <a:srgbClr val="a3ffa3"/>
            </a:gs>
            <a:gs pos="100000">
              <a:srgbClr val="fffe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3073680" cy="204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3348000" y="981000"/>
            <a:ext cx="199404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Picture 10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2808360" cy="20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12" descr=""/>
          <p:cNvPicPr/>
          <p:nvPr/>
        </p:nvPicPr>
        <p:blipFill>
          <a:blip r:embed="rId4"/>
          <a:stretch/>
        </p:blipFill>
        <p:spPr>
          <a:xfrm>
            <a:off x="6443640" y="4797360"/>
            <a:ext cx="1800360" cy="16858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4"/>
          <p:cNvSpPr/>
          <p:nvPr/>
        </p:nvSpPr>
        <p:spPr>
          <a:xfrm>
            <a:off x="3664080" y="4149720"/>
            <a:ext cx="181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1979640" y="260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a008"/>
                </a:solidFill>
                <a:latin typeface="Arial"/>
              </a:rPr>
              <a:t>Русские народные сказ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395280" y="59500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a008"/>
                </a:solidFill>
                <a:latin typeface="Arial"/>
              </a:rPr>
              <a:t>Гуси-лебе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395280" y="5373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a008"/>
                </a:solidFill>
                <a:latin typeface="Arial"/>
              </a:rPr>
              <a:t>По щучьему велени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395280" y="4724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a008"/>
                </a:solidFill>
                <a:latin typeface="Arial"/>
              </a:rPr>
              <a:t>Машенька и медвед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3214 C 0.02986 -0.04116 0.03281 -0.04093 0.03871 -0.04486 C 0.05486 -0.05572 0.07343 -0.05919 0.09114 -0.06382 C 0.09774 -0.0696 0.10295 -0.07538 0.11024 -0.07861 C 0.1151 -0.08509 0.11944 -0.08555 0.12448 -0.09133 C 0.12621 -0.09318 0.12725 -0.09619 0.12916 -0.09757 C 0.13212 -0.09966 0.13871 -0.10174 0.13871 -0.10174 C 0.14548 -0.11145 0.15104 -0.12185 0.15937 -0.12925 C 0.16041 -0.13133 0.16111 -0.13387 0.1625 -0.13572 C 0.16823 -0.14335 0.17951 -0.14266 0.18316 -0.1526 E">
                                      <p:cBhvr>
                                        <p:cTn id="11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04 -0.00509 C 0.14132 -0.01272 0.15694 -0.01827 0.17326 -0.02196 C 0.18125 -0.02381 0.18906 -0.02474 0.19705 -0.02613 C 0.20156 -0.02682 0.21059 -0.03029 0.21059 -0.03006 C 0.22048 -0.03861 0.23142 -0.04347 0.24288 -0.0474 C 0.25521 -0.05665 0.26927 -0.05896 0.2835 -0.0622 C 0.33177 -0.09156 0.38229 -0.10728 0.43611 -0.11283 C 0.44635 -0.11699 0.44028 -0.11491 0.45816 -0.11907 C 0.46128 -0.12 0.46823 -0.12139 0.46823 -0.12116 C 0.48802 -0.12069 0.52778 -0.11907 0.52778 -0.11884 E">
                                      <p:cBhvr>
                                        <p:cTn id="1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4335E-006 C -0.00052 -0.02174 -0.00034 -0.03584 -0.00382 -0.05272 C -0.00469 -0.06127 -0.0059 -0.06682 -0.00764 -0.07399 C -0.0085 -0.08763 -0.00885 -0.0844 -0.01076 -0.09503 C -0.01232 -0.10474 -0.01319 -0.11515 -0.0151 -0.12463 C -0.01632 -0.13804 -0.01857 -0.1496 -0.02014 -0.16278 C -0.02031 -0.16763 -0.02031 -0.17295 -0.02066 -0.17757 C -0.021 -0.18081 -0.02205 -0.18289 -0.02257 -0.1859 C -0.02396 -0.19376 -0.02448 -0.20324 -0.02569 -0.21133 C -0.02743 -0.2363 -0.02725 -0.25226 -0.02639 -0.28116 C -0.02621 -0.28555 -0.02517 -0.28948 -0.02517 -0.29388 C -0.02517 -0.29942 -0.02517 -0.3052 -0.02517 -0.31052 E">
                                      <p:cBhvr>
                                        <p:cTn id="2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ed5"/>
            </a:gs>
            <a:gs pos="50000">
              <a:srgbClr val="a3ffa3"/>
            </a:gs>
            <a:gs pos="100000">
              <a:srgbClr val="fffed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41272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372360" y="765000"/>
            <a:ext cx="2236680" cy="32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2987640" y="1052640"/>
            <a:ext cx="3025800" cy="204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9" descr=""/>
          <p:cNvPicPr/>
          <p:nvPr/>
        </p:nvPicPr>
        <p:blipFill>
          <a:blip r:embed="rId4"/>
          <a:stretch/>
        </p:blipFill>
        <p:spPr>
          <a:xfrm>
            <a:off x="7488360" y="5084640"/>
            <a:ext cx="1655640" cy="1490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250920" y="3284640"/>
            <a:ext cx="230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79280" y="4724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a008"/>
                </a:solidFill>
                <a:latin typeface="Arial"/>
              </a:rPr>
              <a:t>Простоквашино</a:t>
            </a:r>
            <a:r>
              <a:rPr b="1" lang="ru-RU" sz="3200" spc="-1" strike="noStrike">
                <a:solidFill>
                  <a:srgbClr val="46a0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79280" y="5445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a008"/>
                </a:solidFill>
                <a:latin typeface="Arial"/>
              </a:rPr>
              <a:t>Бременские музыкан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179280" y="6165720"/>
            <a:ext cx="468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a008"/>
                </a:solidFill>
                <a:latin typeface="Arial"/>
              </a:rPr>
              <a:t>Львёнок и черепах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2340000" y="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a008"/>
                </a:solidFill>
                <a:latin typeface="Arial"/>
              </a:rPr>
              <a:t>Авторские сказк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5076720" y="49417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c2b4"/>
                </a:solidFill>
                <a:latin typeface="Arial"/>
              </a:rPr>
              <a:t>Э. Успенск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5076720" y="54468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c2b4"/>
                </a:solidFill>
                <a:latin typeface="Arial"/>
              </a:rPr>
              <a:t>Братья Грим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5076720" y="6165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c2b4"/>
                </a:solidFill>
                <a:latin typeface="Arial"/>
              </a:rPr>
              <a:t>Сергей Козл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6 -0.02798 C 0.125 -0.03792 0.13351 -0.04809 0.1415 -0.05549 C 0.14445 -0.05826 0.14809 -0.06011 0.15052 -0.06381 C 0.15261 -0.06682 0.15487 -0.07098 0.15782 -0.07237 C 0.16059 -0.07376 0.16372 -0.07376 0.16667 -0.07445 C 0.22014 -0.1237 0.35226 -0.09526 0.375 -0.09549 C 0.38438 -0.09826 0.39289 -0.10404 0.40174 -0.10821 C 0.4099 -0.11214 0.41875 -0.11191 0.42674 -0.11676 C 0.43177 -0.11977 0.43681 -0.12393 0.44167 -0.1274 C 0.44636 -0.13087 0.44827 -0.13526 0.45348 -0.1378 C 0.4573 -0.14335 0.46077 -0.14844 0.46528 -0.1526 C 0.46719 -0.15422 0.46945 -0.15491 0.47136 -0.15699 C 0.47448 -0.16069 0.48021 -0.16948 0.48021 -0.16925 C 0.48177 -0.17641 0.48108 -0.17618 0.48455 -0.1822 C 0.48542 -0.18381 0.48698 -0.18474 0.4875 -0.18659 C 0.4882 -0.18913 0.4875 -0.19214 0.4875 -0.19491 E">
                                      <p:cBhvr>
                                        <p:cTn id="3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42 -0.05781 C 0.05382 -0.07145 0.0467 -0.08231 0.03889 -0.09226 C 0.03299 -0.09966 0.03212 -0.10937 0.02622 -0.11653 C 0.02257 -0.13087 0.025 -0.12509 0.01997 -0.1348 C 0.01424 -0.1644 0.02326 -0.12046 0.01511 -0.15075 C 0.01007 -0.16971 0.01094 -0.19145 0.00399 -0.20948 C -0.00312 -0.22775 0.00504 -0.20185 -0.00226 -0.22359 C -0.0033 -0.22659 -0.00434 -0.23283 -0.00555 -0.23584 C -0.00746 -0.24 -0.0118 -0.24301 -0.0118 -0.24809 C -0.0118 -0.26359 -0.0118 -0.27908 -0.0118 -0.29434 E">
                                      <p:cBhvr>
                                        <p:cTn id="4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16 0.01435 C -0.14184 0.01203 -0.14601 0.00856 -0.15035 0.00671 C -0.16198 0.00185 -0.17535 -0.00209 -0.18733 -0.00602 C -0.20105 -0.01968 -0.2191 -0.02431 -0.23525 -0.0331 C -0.2375 -0.03426 -0.23993 -0.03611 -0.24219 -0.03797 C -0.2448 -0.04028 -0.24688 -0.04375 -0.24966 -0.04537 C -0.26146 -0.05255 -0.25712 -0.04167 -0.2698 -0.05278 C -0.27969 -0.06135 -0.28907 -0.06389 -0.29914 -0.07037 C -0.31823 -0.08264 -0.30747 -0.07778 -0.32084 -0.08264 C -0.33768 -0.09746 -0.31077 -0.07361 -0.33768 -0.09491 C -0.35452 -0.10787 -0.34167 -0.10278 -0.35764 -0.10718 C -0.3724 -0.12014 -0.38855 -0.12685 -0.40556 -0.1338 C -0.41389 -0.14167 -0.4224 -0.14861 -0.43125 -0.15394 C -0.4349 -0.15625 -0.44254 -0.1588 -0.44254 -0.15857 C -0.45122 -0.1676 -0.46059 -0.17408 -0.47118 -0.17894 C -0.47778 -0.18125 -0.48299 -0.18889 -0.48959 -0.19098 C -0.51059 -0.19815 -0.48611 -0.18773 -0.51007 -0.19861 C -0.51198 -0.19931 -0.5158 -0.20093 -0.5158 -0.2007 C -0.52223 -0.20579 -0.51893 -0.20579 -0.52379 -0.20579 E">
                                      <p:cBhvr>
                                        <p:cTn id="46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2 -0.04093 C -0.0658 -0.04231 -0.06841 -0.04416 -0.07118 -0.04509 C -0.07483 -0.04624 -0.07882 -0.04578 -0.08229 -0.0474 C -0.08664 -0.04948 -0.0941 -0.06104 -0.09653 -0.06428 C -0.10886 -0.0807 -0.10278 -0.07399 -0.11719 -0.0874 C -0.12275 -0.09249 -0.12795 -0.09665 -0.13316 -0.1022 C -0.13611 -0.1052 -0.14254 -0.11075 -0.14254 -0.11052 C -0.14601 -0.12301 -0.14184 -0.11168 -0.14896 -0.12139 C -0.15539 -0.12994 -0.15209 -0.13619 -0.16164 -0.14451 C -0.16545 -0.15977 -0.16789 -0.17919 -0.18073 -0.18474 C -0.18264 -0.1926 -0.1816 -0.1889 -0.18386 -0.19538 E">
                                      <p:cBhvr>
                                        <p:cTn id="51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1 -0.03422 C 0.0349 -0.05063 0.03716 -0.06844 0.04688 -0.08069 C 0.04896 -0.08924 0.05157 -0.09341 0.05625 -0.09988 C 0.05816 -0.10682 0.06042 -0.11144 0.06424 -0.11676 C 0.06476 -0.11884 0.0658 -0.123 0.0658 -0.123 E">
                                      <p:cBhvr>
                                        <p:cTn id="5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62428E-006 C 0.01354 -0.00531 0.02743 -0.00462 0.04097 -0.00878 C 0.0467 -0.01341 0.05261 -0.01757 0.05764 -0.02358 C 0.05972 -0.02635 0.06094 -0.03005 0.0632 -0.03237 C 0.06424 -0.03329 0.07604 -0.03838 0.07622 -0.03838 C 0.08542 -0.04393 0.09514 -0.04924 0.10399 -0.05549 C 0.11337 -0.06242 0.12014 -0.0726 0.13004 -0.0763 C 0.13941 -0.08624 0.14931 -0.09132 0.16007 -0.09687 C 0.16441 -0.09895 0.16858 -0.10335 0.17309 -0.10589 C 0.18368 -0.11653 0.17448 -0.1089 0.1934 -0.11445 C 0.20972 -0.11907 0.22396 -0.13572 0.23993 -0.1408 C 0.24965 -0.15121 0.25851 -0.15745 0.26962 -0.16161 C 0.28403 -0.17641 0.2658 -0.15884 0.28264 -0.17017 C 0.29063 -0.17526 0.28629 -0.17502 0.29202 -0.18219 C 0.29636 -0.18705 0.30504 -0.1963 0.30504 -0.19606 C 0.30799 -0.22867 0.30695 -0.20994 0.30695 -0.25202 E">
                                      <p:cBhvr>
                                        <p:cTn id="6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7"/>
            </a:gs>
            <a:gs pos="50000">
              <a:srgbClr val="a3ffa3"/>
            </a:gs>
            <a:gs pos="100000">
              <a:srgbClr val="ffff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5"/>
          <p:cNvSpPr/>
          <p:nvPr/>
        </p:nvSpPr>
        <p:spPr>
          <a:xfrm>
            <a:off x="2987640" y="83664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492360" y="83664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995640" y="83664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500720" y="83664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003640" y="83664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5508720" y="83664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6012000" y="83664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1547640" y="227664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050920" y="227664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2556000" y="227664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3059280" y="227664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AutoShape 17"/>
          <p:cNvSpPr/>
          <p:nvPr/>
        </p:nvSpPr>
        <p:spPr>
          <a:xfrm>
            <a:off x="3564000" y="227664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AutoShape 18"/>
          <p:cNvSpPr/>
          <p:nvPr/>
        </p:nvSpPr>
        <p:spPr>
          <a:xfrm>
            <a:off x="1332000" y="299736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19"/>
          <p:cNvSpPr/>
          <p:nvPr/>
        </p:nvSpPr>
        <p:spPr>
          <a:xfrm>
            <a:off x="1835280" y="299736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20"/>
          <p:cNvSpPr/>
          <p:nvPr/>
        </p:nvSpPr>
        <p:spPr>
          <a:xfrm>
            <a:off x="2340000" y="299736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AutoShape 21"/>
          <p:cNvSpPr/>
          <p:nvPr/>
        </p:nvSpPr>
        <p:spPr>
          <a:xfrm>
            <a:off x="4067280" y="227664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5eff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AutoShape 22"/>
          <p:cNvSpPr/>
          <p:nvPr/>
        </p:nvSpPr>
        <p:spPr>
          <a:xfrm>
            <a:off x="2843280" y="299736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AutoShape 23"/>
          <p:cNvSpPr/>
          <p:nvPr/>
        </p:nvSpPr>
        <p:spPr>
          <a:xfrm>
            <a:off x="6516720" y="83664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AutoShape 24"/>
          <p:cNvSpPr/>
          <p:nvPr/>
        </p:nvSpPr>
        <p:spPr>
          <a:xfrm>
            <a:off x="3348000" y="299736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AutoShape 25"/>
          <p:cNvSpPr/>
          <p:nvPr/>
        </p:nvSpPr>
        <p:spPr>
          <a:xfrm>
            <a:off x="4572000" y="2276640"/>
            <a:ext cx="720720" cy="718920"/>
          </a:xfrm>
          <a:prstGeom prst="cube">
            <a:avLst>
              <a:gd name="adj" fmla="val 250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AutoShape 26"/>
          <p:cNvSpPr/>
          <p:nvPr/>
        </p:nvSpPr>
        <p:spPr>
          <a:xfrm>
            <a:off x="2268360" y="1557360"/>
            <a:ext cx="721080" cy="719280"/>
          </a:xfrm>
          <a:prstGeom prst="cube">
            <a:avLst>
              <a:gd name="adj" fmla="val 250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5eff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AutoShape 27"/>
          <p:cNvSpPr/>
          <p:nvPr/>
        </p:nvSpPr>
        <p:spPr>
          <a:xfrm>
            <a:off x="2771640" y="155736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AutoShape 28"/>
          <p:cNvSpPr/>
          <p:nvPr/>
        </p:nvSpPr>
        <p:spPr>
          <a:xfrm>
            <a:off x="3276720" y="155736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AutoShape 29"/>
          <p:cNvSpPr/>
          <p:nvPr/>
        </p:nvSpPr>
        <p:spPr>
          <a:xfrm>
            <a:off x="3780000" y="155736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AutoShape 30"/>
          <p:cNvSpPr/>
          <p:nvPr/>
        </p:nvSpPr>
        <p:spPr>
          <a:xfrm>
            <a:off x="4284720" y="155736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AutoShape 31"/>
          <p:cNvSpPr/>
          <p:nvPr/>
        </p:nvSpPr>
        <p:spPr>
          <a:xfrm>
            <a:off x="4788000" y="155736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AutoShape 32"/>
          <p:cNvSpPr/>
          <p:nvPr/>
        </p:nvSpPr>
        <p:spPr>
          <a:xfrm>
            <a:off x="1692360" y="371628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5e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AutoShape 33"/>
          <p:cNvSpPr/>
          <p:nvPr/>
        </p:nvSpPr>
        <p:spPr>
          <a:xfrm>
            <a:off x="2195640" y="371628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AutoShape 34"/>
          <p:cNvSpPr/>
          <p:nvPr/>
        </p:nvSpPr>
        <p:spPr>
          <a:xfrm>
            <a:off x="2700360" y="371628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AutoShape 35"/>
          <p:cNvSpPr/>
          <p:nvPr/>
        </p:nvSpPr>
        <p:spPr>
          <a:xfrm>
            <a:off x="3203640" y="371628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AutoShape 36"/>
          <p:cNvSpPr/>
          <p:nvPr/>
        </p:nvSpPr>
        <p:spPr>
          <a:xfrm>
            <a:off x="3708360" y="371628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AutoShape 37"/>
          <p:cNvSpPr/>
          <p:nvPr/>
        </p:nvSpPr>
        <p:spPr>
          <a:xfrm>
            <a:off x="4211640" y="371628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38"/>
          <p:cNvSpPr/>
          <p:nvPr/>
        </p:nvSpPr>
        <p:spPr>
          <a:xfrm>
            <a:off x="4716360" y="3716280"/>
            <a:ext cx="720720" cy="719280"/>
          </a:xfrm>
          <a:prstGeom prst="cube">
            <a:avLst>
              <a:gd name="adj" fmla="val 250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eff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AutoShape 47"/>
          <p:cNvSpPr/>
          <p:nvPr/>
        </p:nvSpPr>
        <p:spPr>
          <a:xfrm>
            <a:off x="1692360" y="1557360"/>
            <a:ext cx="503280" cy="576360"/>
          </a:xfrm>
          <a:custGeom>
            <a:avLst/>
            <a:gdLst>
              <a:gd name="textAreaLeft" fmla="*/ 114840 w 503280"/>
              <a:gd name="textAreaRight" fmla="*/ 388440 w 5032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AutoShape 48"/>
          <p:cNvSpPr/>
          <p:nvPr/>
        </p:nvSpPr>
        <p:spPr>
          <a:xfrm>
            <a:off x="2411280" y="907920"/>
            <a:ext cx="503280" cy="576360"/>
          </a:xfrm>
          <a:custGeom>
            <a:avLst/>
            <a:gdLst>
              <a:gd name="textAreaLeft" fmla="*/ 114840 w 503280"/>
              <a:gd name="textAreaRight" fmla="*/ 388440 w 5032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971640" y="2349360"/>
            <a:ext cx="503280" cy="576360"/>
          </a:xfrm>
          <a:custGeom>
            <a:avLst/>
            <a:gdLst>
              <a:gd name="textAreaLeft" fmla="*/ 114840 w 503280"/>
              <a:gd name="textAreaRight" fmla="*/ 388440 w 5032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AutoShape 50"/>
          <p:cNvSpPr/>
          <p:nvPr/>
        </p:nvSpPr>
        <p:spPr>
          <a:xfrm>
            <a:off x="755640" y="3141720"/>
            <a:ext cx="503280" cy="576360"/>
          </a:xfrm>
          <a:custGeom>
            <a:avLst/>
            <a:gdLst>
              <a:gd name="textAreaLeft" fmla="*/ 114840 w 503280"/>
              <a:gd name="textAreaRight" fmla="*/ 388440 w 5032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AutoShape 51"/>
          <p:cNvSpPr/>
          <p:nvPr/>
        </p:nvSpPr>
        <p:spPr>
          <a:xfrm>
            <a:off x="1042920" y="3860640"/>
            <a:ext cx="503280" cy="576360"/>
          </a:xfrm>
          <a:custGeom>
            <a:avLst/>
            <a:gdLst>
              <a:gd name="textAreaLeft" fmla="*/ 114840 w 503280"/>
              <a:gd name="textAreaRight" fmla="*/ 388440 w 5032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AutoShape 52"/>
          <p:cNvSpPr/>
          <p:nvPr/>
        </p:nvSpPr>
        <p:spPr>
          <a:xfrm>
            <a:off x="1403280" y="4437000"/>
            <a:ext cx="6769080" cy="2421000"/>
          </a:xfrm>
          <a:prstGeom prst="horizontalScroll">
            <a:avLst>
              <a:gd name="adj" fmla="val 12500"/>
            </a:avLst>
          </a:prstGeom>
          <a:solidFill>
            <a:srgbClr val="53de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 жёлтый, чёрный, красный, синий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 начинкой твёрдой в середине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 с острым ножиком дружу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 что хочу, изображ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59" descr=""/>
          <p:cNvPicPr/>
          <p:nvPr/>
        </p:nvPicPr>
        <p:blipFill>
          <a:blip r:embed="rId34"/>
          <a:stretch/>
        </p:blipFill>
        <p:spPr>
          <a:xfrm rot="2413200">
            <a:off x="6026040" y="3193920"/>
            <a:ext cx="1059120" cy="1378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1" descr=""/>
          <p:cNvPicPr/>
          <p:nvPr/>
        </p:nvPicPr>
        <p:blipFill>
          <a:blip r:embed="rId35"/>
          <a:stretch/>
        </p:blipFill>
        <p:spPr>
          <a:xfrm rot="20157000">
            <a:off x="5724360" y="1699920"/>
            <a:ext cx="854280" cy="527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2" descr=""/>
          <p:cNvPicPr/>
          <p:nvPr/>
        </p:nvPicPr>
        <p:blipFill>
          <a:blip r:embed="rId36"/>
          <a:stretch/>
        </p:blipFill>
        <p:spPr>
          <a:xfrm rot="2256600">
            <a:off x="6012000" y="2565000"/>
            <a:ext cx="241200" cy="1406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3" descr=""/>
          <p:cNvPicPr/>
          <p:nvPr/>
        </p:nvPicPr>
        <p:blipFill>
          <a:blip r:embed="rId37"/>
          <a:stretch/>
        </p:blipFill>
        <p:spPr>
          <a:xfrm rot="18765000">
            <a:off x="5575320" y="2425680"/>
            <a:ext cx="1440000" cy="277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6" descr=""/>
          <p:cNvPicPr/>
          <p:nvPr/>
        </p:nvPicPr>
        <p:blipFill>
          <a:blip r:embed="rId38"/>
          <a:stretch/>
        </p:blipFill>
        <p:spPr>
          <a:xfrm rot="2310000">
            <a:off x="7914960" y="247680"/>
            <a:ext cx="177840" cy="13795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67"/>
          <p:cNvSpPr/>
          <p:nvPr/>
        </p:nvSpPr>
        <p:spPr>
          <a:xfrm>
            <a:off x="1403280" y="4437000"/>
            <a:ext cx="6769080" cy="2421000"/>
          </a:xfrm>
          <a:prstGeom prst="horizontalScroll">
            <a:avLst>
              <a:gd name="adj" fmla="val 12500"/>
            </a:avLst>
          </a:prstGeom>
          <a:solidFill>
            <a:srgbClr val="69e2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ему работу дашь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ря трудился карандаш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AutoShape 68"/>
          <p:cNvSpPr/>
          <p:nvPr/>
        </p:nvSpPr>
        <p:spPr>
          <a:xfrm>
            <a:off x="1403280" y="4437000"/>
            <a:ext cx="6769080" cy="2421000"/>
          </a:xfrm>
          <a:prstGeom prst="horizontalScroll">
            <a:avLst>
              <a:gd name="adj" fmla="val 12500"/>
            </a:avLst>
          </a:prstGeom>
          <a:solidFill>
            <a:srgbClr val="69e2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 люблю прямот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 – сама пряма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делать ровную черт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ем я помога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69"/>
          <p:cNvSpPr/>
          <p:nvPr/>
        </p:nvSpPr>
        <p:spPr>
          <a:xfrm>
            <a:off x="1403280" y="4437000"/>
            <a:ext cx="6769080" cy="2421000"/>
          </a:xfrm>
          <a:prstGeom prst="horizontalScroll">
            <a:avLst>
              <a:gd name="adj" fmla="val 12500"/>
            </a:avLst>
          </a:prstGeom>
          <a:solidFill>
            <a:srgbClr val="69e2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льной конёк по белому полю бегает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 собой чёрные следы оставляе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AutoShape 70"/>
          <p:cNvSpPr/>
          <p:nvPr/>
        </p:nvSpPr>
        <p:spPr>
          <a:xfrm>
            <a:off x="1403280" y="4437000"/>
            <a:ext cx="6767640" cy="2421000"/>
          </a:xfrm>
          <a:prstGeom prst="horizontalScroll">
            <a:avLst>
              <a:gd name="adj" fmla="val 12500"/>
            </a:avLst>
          </a:prstGeom>
          <a:solidFill>
            <a:srgbClr val="69e2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 я в клетку, то в линей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писать по мне сумей-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жешь и нарисов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я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AutoShape 75"/>
          <p:cNvSpPr/>
          <p:nvPr/>
        </p:nvSpPr>
        <p:spPr>
          <a:xfrm>
            <a:off x="1476360" y="4437000"/>
            <a:ext cx="6769080" cy="2421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WordArt 77"/>
          <p:cNvSpPr txBox="1"/>
          <p:nvPr/>
        </p:nvSpPr>
        <p:spPr>
          <a:xfrm>
            <a:off x="2195640" y="4941720"/>
            <a:ext cx="54720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бные вещи</a:t>
            </a:r>
            <a:endParaRPr b="1" lang="en-US" sz="6000" spc="1" strike="noStrike">
              <a:ln w="936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AutoShape 78">
            <a:hlinkClick r:id="rId39" action="ppaction://hlinksldjump"/>
          </p:cNvPr>
          <p:cNvSpPr/>
          <p:nvPr/>
        </p:nvSpPr>
        <p:spPr>
          <a:xfrm>
            <a:off x="8244000" y="6165720"/>
            <a:ext cx="753840" cy="549360"/>
          </a:xfrm>
          <a:custGeom>
            <a:avLst/>
            <a:gdLst>
              <a:gd name="textAreaLeft" fmla="*/ 35280 w 753840"/>
              <a:gd name="textAreaRight" fmla="*/ 718560 w 7538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635" h="21600">
                <a:moveTo>
                  <a:pt x="0" y="0"/>
                </a:moveTo>
                <a:lnTo>
                  <a:pt x="29635" y="0"/>
                </a:lnTo>
                <a:lnTo>
                  <a:pt x="29635" y="21600"/>
                </a:lnTo>
                <a:lnTo>
                  <a:pt x="0" y="21600"/>
                </a:lnTo>
                <a:close/>
              </a:path>
              <a:path fill="lightenLess" w="29635" h="21600">
                <a:moveTo>
                  <a:pt x="0" y="0"/>
                </a:moveTo>
                <a:lnTo>
                  <a:pt x="29635" y="0"/>
                </a:lnTo>
                <a:lnTo>
                  <a:pt x="28235" y="1400"/>
                </a:lnTo>
                <a:lnTo>
                  <a:pt x="1400" y="1400"/>
                </a:lnTo>
                <a:close/>
              </a:path>
              <a:path fill="darken" w="29635" h="21600">
                <a:moveTo>
                  <a:pt x="29635" y="0"/>
                </a:moveTo>
                <a:lnTo>
                  <a:pt x="29635" y="21600"/>
                </a:lnTo>
                <a:lnTo>
                  <a:pt x="28235" y="20200"/>
                </a:lnTo>
                <a:lnTo>
                  <a:pt x="28235" y="1400"/>
                </a:lnTo>
                <a:close/>
              </a:path>
              <a:path fill="darkenLess" w="29635" h="21600">
                <a:moveTo>
                  <a:pt x="2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35" y="20200"/>
                </a:lnTo>
                <a:close/>
              </a:path>
              <a:path fill="lighten" w="2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35" h="21600">
                <a:moveTo>
                  <a:pt x="7811" y="3794"/>
                </a:moveTo>
                <a:lnTo>
                  <a:pt x="21824" y="10800"/>
                </a:lnTo>
                <a:lnTo>
                  <a:pt x="7811" y="17806"/>
                </a:lnTo>
                <a:close/>
              </a:path>
            </a:pathLst>
          </a:custGeom>
          <a:solidFill>
            <a:srgbClr val="89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060"/>
                                      </p:to>
                                    </p:animClr>
                                    <p:set>
                                      <p:cBhvr>
                                        <p:cTn id="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14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14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14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14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4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060"/>
                                      </p:to>
                                    </p:animClr>
                                    <p:set>
                                      <p:cBhvr>
                                        <p:cTn id="1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060"/>
                                      </p:to>
                                    </p:animClr>
                                    <p:set>
                                      <p:cBhvr>
                                        <p:cTn id="2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3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3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060"/>
                                      </p:to>
                                    </p:animClr>
                                    <p:set>
                                      <p:cBhvr>
                                        <p:cTn id="3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060"/>
                                      </p:to>
                                    </p:animClr>
                                    <p:set>
                                      <p:cBhvr>
                                        <p:cTn id="4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4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4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539640" y="1916280"/>
            <a:ext cx="806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 лишний предмет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5" name="Picture 3" descr="рамка"/>
          <p:cNvPicPr/>
          <p:nvPr/>
        </p:nvPicPr>
        <p:blipFill>
          <a:blip r:embed="rId1"/>
          <a:stretch/>
        </p:blipFill>
        <p:spPr>
          <a:xfrm>
            <a:off x="5508720" y="3749760"/>
            <a:ext cx="3635280" cy="3108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рамка"/>
          <p:cNvPicPr/>
          <p:nvPr/>
        </p:nvPicPr>
        <p:blipFill>
          <a:blip r:embed="rId2"/>
          <a:stretch/>
        </p:blipFill>
        <p:spPr>
          <a:xfrm>
            <a:off x="0" y="0"/>
            <a:ext cx="349236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рамка с листья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подберезовики"/>
          <p:cNvPicPr/>
          <p:nvPr/>
        </p:nvPicPr>
        <p:blipFill>
          <a:blip r:embed="rId2"/>
          <a:stretch/>
        </p:blipFill>
        <p:spPr>
          <a:xfrm>
            <a:off x="5148360" y="836640"/>
            <a:ext cx="215892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подосиновики"/>
          <p:cNvPicPr/>
          <p:nvPr/>
        </p:nvPicPr>
        <p:blipFill>
          <a:blip r:embed="rId3"/>
          <a:stretch/>
        </p:blipFill>
        <p:spPr>
          <a:xfrm>
            <a:off x="4788000" y="3716280"/>
            <a:ext cx="2158920" cy="228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4"/>
          <a:stretch/>
        </p:blipFill>
        <p:spPr>
          <a:xfrm>
            <a:off x="1908000" y="3789360"/>
            <a:ext cx="1932120" cy="22334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7">
            <a:hlinkClick r:id="" action="ppaction://hlinkshowjump?jump=nextslide"/>
          </p:cNvPr>
          <p:cNvSpPr/>
          <p:nvPr/>
        </p:nvSpPr>
        <p:spPr>
          <a:xfrm>
            <a:off x="7885080" y="6093000"/>
            <a:ext cx="790560" cy="549000"/>
          </a:xfrm>
          <a:custGeom>
            <a:avLst/>
            <a:gdLst>
              <a:gd name="textAreaLeft" fmla="*/ 35280 w 790560"/>
              <a:gd name="textAreaRight" fmla="*/ 755280 w 79056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31098" h="21600">
                <a:moveTo>
                  <a:pt x="0" y="0"/>
                </a:moveTo>
                <a:lnTo>
                  <a:pt x="31098" y="0"/>
                </a:lnTo>
                <a:lnTo>
                  <a:pt x="31098" y="21600"/>
                </a:lnTo>
                <a:lnTo>
                  <a:pt x="0" y="21600"/>
                </a:lnTo>
                <a:close/>
              </a:path>
              <a:path fill="lightenLess" w="31098" h="21600">
                <a:moveTo>
                  <a:pt x="0" y="0"/>
                </a:moveTo>
                <a:lnTo>
                  <a:pt x="31098" y="0"/>
                </a:lnTo>
                <a:lnTo>
                  <a:pt x="29698" y="1400"/>
                </a:lnTo>
                <a:lnTo>
                  <a:pt x="1400" y="1400"/>
                </a:lnTo>
                <a:close/>
              </a:path>
              <a:path fill="darken" w="31098" h="21600">
                <a:moveTo>
                  <a:pt x="31098" y="0"/>
                </a:moveTo>
                <a:lnTo>
                  <a:pt x="31098" y="21600"/>
                </a:lnTo>
                <a:lnTo>
                  <a:pt x="29698" y="20200"/>
                </a:lnTo>
                <a:lnTo>
                  <a:pt x="29698" y="1400"/>
                </a:lnTo>
                <a:close/>
              </a:path>
              <a:path fill="darkenLess" w="31098" h="21600">
                <a:moveTo>
                  <a:pt x="31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98" y="20200"/>
                </a:lnTo>
                <a:close/>
              </a:path>
              <a:path fill="lighten" w="31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98" h="21600">
                <a:moveTo>
                  <a:pt x="8542" y="3794"/>
                </a:moveTo>
                <a:lnTo>
                  <a:pt x="22555" y="10800"/>
                </a:lnTo>
                <a:lnTo>
                  <a:pt x="8542" y="17806"/>
                </a:lnTo>
                <a:close/>
              </a:path>
            </a:pathLst>
          </a:custGeom>
          <a:solidFill>
            <a:srgbClr val="89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11" descr=""/>
          <p:cNvPicPr/>
          <p:nvPr/>
        </p:nvPicPr>
        <p:blipFill>
          <a:blip r:embed="rId5"/>
          <a:stretch/>
        </p:blipFill>
        <p:spPr>
          <a:xfrm>
            <a:off x="1979640" y="1197000"/>
            <a:ext cx="1206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15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27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0:56:46Z</dcterms:created>
  <dc:creator>User</dc:creator>
  <dc:description/>
  <dc:language>en-US</dc:language>
  <cp:lastModifiedBy>Пользователь</cp:lastModifiedBy>
  <dcterms:modified xsi:type="dcterms:W3CDTF">2015-03-20T16:11:14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