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D21-1409-4D20-811F-7957C4AC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488-15F9-44E6-9707-24063A8D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550-A248-467E-9E59-DB93E693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6F3-4CE1-499E-8449-01D5AA95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A21-8665-45E8-BF05-554691E9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1DF-ED6D-469A-A642-756D0B50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2CF-B2B0-4265-B932-9A19BDC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E02-5267-43E1-A9DD-5E74B8E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73C-BEC0-49DB-840F-8EBA56F5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EF3-967A-49F8-A917-7CC9893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1F5-15AC-44D5-9F98-AF30F79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E81-A5F2-4F11-AE1E-8DA37C4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721-4D5D-408F-AD10-1C83FADAF3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if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сять советов родителям школьник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здано: учителем английского языка МБОУ СОШ №2 г. Городца Нижегородской об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инцовой В.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8443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. Не считайте зазорным попросить учителя: спрашивать ребенка только тогда, когда он сам вызывается, не показывать всем его ошибки, не подчеркивать неудачи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9680" y="3714840"/>
            <a:ext cx="818676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арайтесь найти контакт с учителем, ведь ребенку нужна помощь и поддержка с обеих сторон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543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8. Работайте только на «положительном подкреплении»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680" y="1857240"/>
            <a:ext cx="81151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При неудачах подбодрите, поддержите, а любой, даже самый маленький успех подчеркните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Самое важное при оказании помощи ребенку — это вознаграждение за его труд, причем не только на словах. Если этого не делать, ребенок, начиная работать, может подумать: «Нет смысла стараться, никто не заметит моих успехов». Вознаграждение обязательно: это может быть совместная прогулка, поход в зоопарк, в театр…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9. Детям со школьными проблемами необходим размеренный и четкий режим дня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до не забывать: такие дети обычно беспокойны, несобранны, а значит, соблюдать режим им совсем не просто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ли ребенок с трудом встает, не дергайте его, не торопите, не подгоняйте лишний раз: лучше поставьте будильник на полчаса раньше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3" descr="http://i.u-mama.ru/files/i/img/news/s_70.jpg"/>
          <p:cNvPicPr/>
          <p:nvPr/>
        </p:nvPicPr>
        <p:blipFill>
          <a:blip r:embed="rId1"/>
          <a:stretch/>
        </p:blipFill>
        <p:spPr>
          <a:xfrm>
            <a:off x="735804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854388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0. Своевременность и правильность принятых мер значительно повышает шансы на успех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9680" y="2143080"/>
            <a:ext cx="81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этому, если у вас есть возможность, обязательно проконсультируйте ребенка у специалистов (врачей, логопедов, психоневрологов, педагогов). И выполняйте все рекомендации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if.ru/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атьяна Корчагина    психоло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ак разобраться в школьных проблемах? Они так многообразны, что порой это трудно сделать даже специалисту. Еще сложнее — учителю. Часто не хватает терпения и понимания родителям. Но больше всего страдает от них ребенок!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то же могут сделать родители, если школьные трудности все же появились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Рисунок 3" descr="http://i.u-mama.ru/files/i/img/news/s_67.jpg"/>
          <p:cNvPicPr/>
          <p:nvPr/>
        </p:nvPicPr>
        <p:blipFill>
          <a:blip r:embed="rId1"/>
          <a:stretch/>
        </p:blipFill>
        <p:spPr>
          <a:xfrm>
            <a:off x="5500800" y="4143240"/>
            <a:ext cx="2762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Не рассматривайте возникшие школьные трудности как личную трагедию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999800"/>
            <a:ext cx="8115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 отчаивайтесь и, главное, старайтесь не показать своего огорчения и недовольства. Помните: ваша главная задача — помочь ребенку. Поэтому принимайте и любите его таким, какой он есть, тогда и ему будет легче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Настройтесь и приготовьтесь к тому, что вам предстоит длительная совместная работа с ребенком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2857320"/>
            <a:ext cx="8400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мните: одному ему не справиться со своими проблемами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http://i.u-mama.ru/files/i/img/news/s_68.jpg"/>
          <p:cNvPicPr/>
          <p:nvPr/>
        </p:nvPicPr>
        <p:blipFill>
          <a:blip r:embed="rId1"/>
          <a:stretch/>
        </p:blipFill>
        <p:spPr>
          <a:xfrm>
            <a:off x="6000840" y="3929040"/>
            <a:ext cx="2071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3. Ваша главная помощь: поддерживать его уверенность в своих силах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400" y="2214360"/>
            <a:ext cx="82580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арайтесь снять с него чувство напряжения и вины за неудачи. Если вы заняты своими делами и урываете минутку, чтобы спросить, как дела или отругать, — это не помощь, а основа для возникновения новых проблем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. Забудьте сакраментальную фразу: «Что ты сегодня получил?»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 требуйте от ребенка немедленного рассказа о своих школьных делах, особенно если он расстроен или огорчен. Оставьте его в покое, он расскажет вам все, если будет уверен в вашей поддержке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5. Не обсуждайте проблемы ребенка с учителем в его присутстви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0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учше сделать это без него. Никогда не корите, не ругайте ребенка, если рядом его одноклассники или друзья. Не стоит подчеркивать успехи других детей, восхищаться им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. Интересоваться выполнением домашних заданий следует только тогда, когда вы постоянно помогаете ему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714760"/>
            <a:ext cx="83296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7:39:26Z</dcterms:created>
  <dc:creator>Пользователь</dc:creator>
  <dc:description/>
  <dc:language>en-US</dc:language>
  <cp:lastModifiedBy>Пользователь</cp:lastModifiedBy>
  <dcterms:modified xsi:type="dcterms:W3CDTF">2015-03-20T19:14:17Z</dcterms:modified>
  <cp:revision>10</cp:revision>
  <dc:subject/>
  <dc:title>Десять советов родителям школьников </dc:title>
</cp:coreProperties>
</file>