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gif" ContentType="image/gif"/>
  <Override PartName="/ppt/media/image8.gif" ContentType="image/gif"/>
  <Override PartName="/ppt/media/image7.gif" ContentType="image/gif"/>
  <Override PartName="/ppt/media/image5.jpeg" ContentType="image/jpeg"/>
  <Override PartName="/ppt/media/image26.jpeg" ContentType="image/jpeg"/>
  <Override PartName="/ppt/media/image6.jpeg" ContentType="image/jpeg"/>
  <Override PartName="/ppt/media/image10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5.png" ContentType="image/png"/>
  <Override PartName="/ppt/media/image2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png" ContentType="image/png"/>
  <Override PartName="/ppt/media/image17.gif" ContentType="image/gif"/>
  <Override PartName="/ppt/media/image21.png" ContentType="image/png"/>
  <Override PartName="/ppt/media/image19.png" ContentType="image/png"/>
  <Override PartName="/ppt/media/image16.gif" ContentType="image/gif"/>
  <Override PartName="/ppt/media/image14.jpeg" ContentType="image/jpeg"/>
  <Override PartName="/ppt/media/image20.png" ContentType="image/png"/>
  <Override PartName="/ppt/media/image15.gif" ContentType="image/gif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ABD1-2F2E-4B1F-A3CF-0EE332F2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5C32-94F3-4BF9-BD6F-517BFEC5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079-9C31-44E2-B819-85A7EC2D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38C-D32A-488B-AD65-12B695D3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D60DF-9C09-4CB1-A9B2-AF8E5EE2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A9F74-99D1-4FC7-B05E-89921D98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5E1EF-B741-44F5-A044-7CE14BBE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54C20-2635-433F-BB4D-D90C6593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B13D5-3980-48E2-BE09-CD931210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B976B-D34F-4F39-8833-D7000A01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4E737-58C4-4796-BB9C-63294309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9626-3B3F-4A1D-8F7B-31EB98EE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2050B-BD57-4DF2-BB2C-E64E1995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89D9A-E30B-4832-AD12-5F1AD293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05111-CD54-4C10-9693-47122C0A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0E44F-3B6E-4D0D-9503-CA8F4119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70225-66B3-4BDA-8212-A421B940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027-C5FB-4A75-AD92-A67653F1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24F-F788-49D8-823A-C1991358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FCA9-137A-4DAC-88D2-3B65DFFD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9DAB-7D0E-4BCA-AED7-06043021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29FE-755E-47B6-8B62-EFF63056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DB1-CEFD-4611-BD12-39BC7995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9B91-0B65-43A0-B6A1-5175ACEC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6EC5-AAB4-4D7E-A876-51E95E90F2D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79D1-8C0A-49D2-B53D-5DF64CE90C1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«Чтобы выжить»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3429000"/>
            <a:ext cx="6224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гра  для учащихся  по теме: «Безопасность и  защита человека в опасных и чрезвычайных ситуациях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ставила Данилова С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рвая медицинская помощ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50920" y="1557360"/>
            <a:ext cx="4753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ервая медицинская помощь 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простейшие срочные и необходимые меры для спасения жизни человека и предупреждения осложнений до прибытия скорой помощ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экстремальных условиях может возникнуть ситуация, когда только ты сможешь оказать первую медицинскую помощь себе или пострадавшему товарищ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9" descr="j0182792"/>
          <p:cNvPicPr/>
          <p:nvPr/>
        </p:nvPicPr>
        <p:blipFill>
          <a:blip r:embed="rId1"/>
          <a:stretch/>
        </p:blipFill>
        <p:spPr>
          <a:xfrm>
            <a:off x="324000" y="2205000"/>
            <a:ext cx="29574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3. «Помоги пострадавшему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ерво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анде спасателей необходимо оказать медицинскую помощь при ссадинах или порез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тор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оманде спасателей – при пищевом отравле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ретье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анде – оказать первую помощь при ожо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8" descr="j0182812"/>
          <p:cNvPicPr/>
          <p:nvPr/>
        </p:nvPicPr>
        <p:blipFill>
          <a:blip r:embed="rId1"/>
          <a:stretch/>
        </p:blipFill>
        <p:spPr>
          <a:xfrm>
            <a:off x="4788000" y="1628640"/>
            <a:ext cx="3657600" cy="2444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j0337259"/>
          <p:cNvPicPr/>
          <p:nvPr/>
        </p:nvPicPr>
        <p:blipFill>
          <a:blip r:embed="rId2"/>
          <a:stretch/>
        </p:blipFill>
        <p:spPr>
          <a:xfrm>
            <a:off x="5975280" y="3925800"/>
            <a:ext cx="316872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ыберите для каждого случая нужные медикаменты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9" name="Picture 6" descr="PICT0003"/>
          <p:cNvPicPr/>
          <p:nvPr/>
        </p:nvPicPr>
        <p:blipFill>
          <a:blip r:embed="rId1"/>
          <a:stretch/>
        </p:blipFill>
        <p:spPr>
          <a:xfrm>
            <a:off x="0" y="1557360"/>
            <a:ext cx="5796000" cy="49672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24000" y="1599840"/>
            <a:ext cx="3419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и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риллиантовый зелё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зел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дивидуальный перевязочный пак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Й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манганат к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кись водо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лфетки стерильные медицин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голь активирова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ff"/>
                </a:solidFill>
                <a:latin typeface="Arial"/>
              </a:rPr>
              <a:t>Чрезвычайные ситуации на железной дороге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человек в среднем один-два раза в год едет куда-нибудь на поезде. Поезда -достаточно безопасный вид транспорта, но всё же нужно быть готовым к возможным опасным ситуациям, чтобы не растеряться в трудную минуту и действовать прави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6" descr="j0336325"/>
          <p:cNvPicPr/>
          <p:nvPr/>
        </p:nvPicPr>
        <p:blipFill>
          <a:blip r:embed="rId1"/>
          <a:stretch/>
        </p:blipFill>
        <p:spPr>
          <a:xfrm>
            <a:off x="1979640" y="3645000"/>
            <a:ext cx="6480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правочная информац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 из крупных мировых катастроф на железных дорогах случилась 6 июня 1981 года в Индии. В ней погибло 800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7" descr="j0201797"/>
          <p:cNvPicPr/>
          <p:nvPr/>
        </p:nvPicPr>
        <p:blipFill>
          <a:blip r:embed="rId1"/>
          <a:stretch/>
        </p:blipFill>
        <p:spPr>
          <a:xfrm>
            <a:off x="4838760" y="263844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4. «Осторожно, поезд!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340000" y="1268280"/>
            <a:ext cx="680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едставим ситуацию пожара в вагоне поезда. Командам спасателей необходимо расположить приведённые ниже действия в нужной последова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ходи от пожара в передние вагоны, если это не возможно, иди в конец поезда, плотно закрывая за собой все двер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крой окна, чтобы ветер не раздувал плам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сли существует угроза твоей жизни, не пытайся спасать багаж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медленно сообщи проводнику о пожаре, извести пассажиров о случившемся, разбуди спящи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2" descr="j0296919"/>
          <p:cNvPicPr/>
          <p:nvPr/>
        </p:nvPicPr>
        <p:blipFill>
          <a:blip r:embed="rId1"/>
          <a:stretch/>
        </p:blipFill>
        <p:spPr>
          <a:xfrm>
            <a:off x="0" y="1268280"/>
            <a:ext cx="238932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8324 E">
                                      <p:cBhvr>
                                        <p:cTn id="126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8798 E">
                                      <p:cBhvr>
                                        <p:cTn id="130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6786 E">
                                      <p:cBhvr>
                                        <p:cTn id="134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еспечение безопасности дорожного движ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63640" y="1628640"/>
            <a:ext cx="511164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cc"/>
                </a:solidFill>
                <a:latin typeface="Arial"/>
              </a:rPr>
              <a:t>Справочная информ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Современный транспорт – зона повышенной опасности. Под колёсами машин ежегодно в дорожно-транспортных происшествиях погибает в нашей стране около 40000 человек, из них каждый десятый – ребёнок, причём мальчиков погибает больш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Поэтому нужно знать и соблюдать правила дорожного движени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5" descr="j0295169"/>
          <p:cNvPicPr/>
          <p:nvPr/>
        </p:nvPicPr>
        <p:blipFill>
          <a:blip r:embed="rId1"/>
          <a:stretch/>
        </p:blipFill>
        <p:spPr>
          <a:xfrm>
            <a:off x="684360" y="1557360"/>
            <a:ext cx="2192040" cy="2139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BD13659_"/>
          <p:cNvPicPr/>
          <p:nvPr/>
        </p:nvPicPr>
        <p:blipFill>
          <a:blip r:embed="rId2"/>
          <a:stretch/>
        </p:blipFill>
        <p:spPr>
          <a:xfrm>
            <a:off x="324000" y="4149720"/>
            <a:ext cx="3168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5. « Мои друзья – дорожные знаки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5" name="Picture 11" descr="Дети"/>
          <p:cNvPicPr/>
          <p:nvPr/>
        </p:nvPicPr>
        <p:blipFill>
          <a:blip r:embed="rId1"/>
          <a:stretch/>
        </p:blipFill>
        <p:spPr>
          <a:xfrm>
            <a:off x="1042920" y="1628640"/>
            <a:ext cx="2160720" cy="1839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Переход"/>
          <p:cNvPicPr/>
          <p:nvPr/>
        </p:nvPicPr>
        <p:blipFill>
          <a:blip r:embed="rId2"/>
          <a:stretch/>
        </p:blipFill>
        <p:spPr>
          <a:xfrm>
            <a:off x="6012000" y="1628640"/>
            <a:ext cx="2016000" cy="18003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пути из школы домой вам встречается много дорожных знаков. Знаете ли вы, что они обозначаю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ние командам спасателей: у вас имеются названия знаков, правильно сопоставьте их с изображением. Но помните, что на листе имеются и лишние наз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826920" y="364500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5435640" y="350028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ШЕХОДНЫЙ ПЕРЕ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для первой команды спасателе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1" name="Picture 10" descr="Зачёркнутый пешеход"/>
          <p:cNvPicPr/>
          <p:nvPr/>
        </p:nvPicPr>
        <p:blipFill>
          <a:blip r:embed="rId1"/>
          <a:stretch/>
        </p:blipFill>
        <p:spPr>
          <a:xfrm>
            <a:off x="755640" y="2133720"/>
            <a:ext cx="3456000" cy="3095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Синий трамвай"/>
          <p:cNvPicPr/>
          <p:nvPr/>
        </p:nvPicPr>
        <p:blipFill>
          <a:blip r:embed="rId2"/>
          <a:stretch/>
        </p:blipFill>
        <p:spPr>
          <a:xfrm>
            <a:off x="5292720" y="2133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2"/>
          <p:cNvSpPr/>
          <p:nvPr/>
        </p:nvSpPr>
        <p:spPr>
          <a:xfrm>
            <a:off x="1042920" y="532116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24000" y="551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ижение пешеходов запрещ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5435640" y="573408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сто остановки трам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второй команде спасателе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7" name="Picture 7" descr="Велосипед"/>
          <p:cNvPicPr/>
          <p:nvPr/>
        </p:nvPicPr>
        <p:blipFill>
          <a:blip r:embed="rId1"/>
          <a:stretch/>
        </p:blipFill>
        <p:spPr>
          <a:xfrm>
            <a:off x="900000" y="1795320"/>
            <a:ext cx="3167280" cy="2928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Пешеход спускается"/>
          <p:cNvPicPr/>
          <p:nvPr/>
        </p:nvPicPr>
        <p:blipFill>
          <a:blip r:embed="rId2"/>
          <a:stretch/>
        </p:blipFill>
        <p:spPr>
          <a:xfrm>
            <a:off x="5219640" y="1844640"/>
            <a:ext cx="2952720" cy="28796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1042920" y="5229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ижение на велосипедах запрещ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5508720" y="537372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земный пешеходный пере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Опасной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называется ситуация, которая угрожает жизни, здоровью, имуществу человека или природной сред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третьей команде спасателе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2" name="Picture 8" descr="Паровозик"/>
          <p:cNvPicPr/>
          <p:nvPr/>
        </p:nvPicPr>
        <p:blipFill>
          <a:blip r:embed="rId1"/>
          <a:stretch/>
        </p:blipFill>
        <p:spPr>
          <a:xfrm>
            <a:off x="5003640" y="1708200"/>
            <a:ext cx="3600720" cy="3233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Трамвай"/>
          <p:cNvPicPr/>
          <p:nvPr/>
        </p:nvPicPr>
        <p:blipFill>
          <a:blip r:embed="rId2"/>
          <a:stretch/>
        </p:blipFill>
        <p:spPr>
          <a:xfrm>
            <a:off x="611280" y="1709640"/>
            <a:ext cx="3529080" cy="32320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1"/>
          <p:cNvSpPr/>
          <p:nvPr/>
        </p:nvSpPr>
        <p:spPr>
          <a:xfrm>
            <a:off x="826920" y="517680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сечение с трамвайной лини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292720" y="546588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5435640" y="53211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лезнодорожный переезд без шлагбау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Мы заканчиваем  занятие, и желаем нашим спасателям действовать в жизни так же дружно и обдуманно, как в игре. Запомните: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аша безопасность в ваших руках!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8" name="Picture 9" descr="j0178941"/>
          <p:cNvPicPr/>
          <p:nvPr/>
        </p:nvPicPr>
        <p:blipFill>
          <a:blip r:embed="rId1"/>
          <a:stretch/>
        </p:blipFill>
        <p:spPr>
          <a:xfrm>
            <a:off x="2268360" y="3357720"/>
            <a:ext cx="49676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Не проходит и дня, чтобы газеты, радио, телевидение не принесли сообщ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3848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 очередной аварии, катастрофе, стихийном бедствии, преступлении в том или ином городе, либо стран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рористы захватывают заложников, терпят бедствие пароходы и поезда, пешеходы попадают под колёса маш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3" descr="j0185099"/>
          <p:cNvPicPr/>
          <p:nvPr/>
        </p:nvPicPr>
        <p:blipFill>
          <a:blip r:embed="rId1"/>
          <a:stretch/>
        </p:blipFill>
        <p:spPr>
          <a:xfrm>
            <a:off x="4500720" y="2852640"/>
            <a:ext cx="4319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аждый из нас может оказаться в такой непредвиденной ситуац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4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же поможет человеку , оказавшемуся в опасности?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жде всего – ОН СА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годня в нашем кабинете находятся три команды спасателей, которые попробуют найти выход из предложенных  в игре опасных ситуаци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8" descr="j0202218"/>
          <p:cNvPicPr/>
          <p:nvPr/>
        </p:nvPicPr>
        <p:blipFill>
          <a:blip r:embed="rId1"/>
          <a:stretch/>
        </p:blipFill>
        <p:spPr>
          <a:xfrm>
            <a:off x="863640" y="1600200"/>
            <a:ext cx="3225600" cy="2171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j0175432"/>
          <p:cNvPicPr/>
          <p:nvPr/>
        </p:nvPicPr>
        <p:blipFill>
          <a:blip r:embed="rId2"/>
          <a:stretch/>
        </p:blipFill>
        <p:spPr>
          <a:xfrm>
            <a:off x="900000" y="3933720"/>
            <a:ext cx="2232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Единая дежурно-диспетчерская служб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ждом городе страны по инициативе МЧС России создаётся Единая дежурно- диспетчерская служба, которая является составной частью городского управления Единой системы предупреждения  и ликвидации чрезвычайных ситуа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" descr="картинка2"/>
          <p:cNvPicPr/>
          <p:nvPr/>
        </p:nvPicPr>
        <p:blipFill>
          <a:blip r:embed="rId1"/>
          <a:stretch/>
        </p:blipFill>
        <p:spPr>
          <a:xfrm>
            <a:off x="4648320" y="1773360"/>
            <a:ext cx="44956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лужбы экстренной помощ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ть номера телефонов экстренных служб нужно всем, и взрослым, и детя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м известны номера телефонов 01, 02,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как  ещё можно позвонить в Единую городскую службу спасения по стационарному  и мобильному телефон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j0289863"/>
          <p:cNvPicPr/>
          <p:nvPr/>
        </p:nvPicPr>
        <p:blipFill>
          <a:blip r:embed="rId1"/>
          <a:stretch/>
        </p:blipFill>
        <p:spPr>
          <a:xfrm>
            <a:off x="468360" y="1413000"/>
            <a:ext cx="3836880" cy="280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611280" y="5229360"/>
            <a:ext cx="36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95280" y="501336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763640" y="4292640"/>
            <a:ext cx="162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395280" y="429264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1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1. «Просьба о помощи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518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этом задании вы получаете карточку с номером телефона экстренной службы. Командам спасателей необходимо назвать экстренную службу по номеру телефона, позвонить туда и правильно провести разговор с диспетчером служ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j0285096"/>
          <p:cNvPicPr/>
          <p:nvPr/>
        </p:nvPicPr>
        <p:blipFill>
          <a:blip r:embed="rId1"/>
          <a:stretch/>
        </p:blipFill>
        <p:spPr>
          <a:xfrm>
            <a:off x="5940360" y="1989000"/>
            <a:ext cx="2408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ние 2. «Тушим сами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 правильно вызвать пожарную службу, мы знаем. Но бездействовать сами не можем! Что же делать?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5" descr="J0076146"/>
          <p:cNvPicPr/>
          <p:nvPr/>
        </p:nvPicPr>
        <p:blipFill>
          <a:blip r:embed="rId1"/>
          <a:stretch/>
        </p:blipFill>
        <p:spPr>
          <a:xfrm>
            <a:off x="468360" y="4292640"/>
            <a:ext cx="8424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опрос каждой команде спасателей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03280" y="1557000"/>
            <a:ext cx="594036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Чем можно затушить горящие бензин, керосин и другие органические масл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Если на вас загорелась одежда, ваши действ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Что делать, если комната в которой вы находитесь стала заполняться густым едким дым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3" descr="AG00355_"/>
          <p:cNvPicPr/>
          <p:nvPr/>
        </p:nvPicPr>
        <p:blipFill>
          <a:blip r:embed="rId1"/>
          <a:stretch/>
        </p:blipFill>
        <p:spPr>
          <a:xfrm>
            <a:off x="468360" y="1557360"/>
            <a:ext cx="2341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5:41:30Z</dcterms:created>
  <dc:creator>Олег и Лена</dc:creator>
  <dc:description/>
  <dc:language>en-US</dc:language>
  <cp:lastModifiedBy>RePack by SPecialiST</cp:lastModifiedBy>
  <dcterms:modified xsi:type="dcterms:W3CDTF">2015-03-17T01:23:38Z</dcterms:modified>
  <cp:revision>27</cp:revision>
  <dc:subject/>
  <dc:title>«Чтобы выжить»</dc:title>
</cp:coreProperties>
</file>