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AB85-210D-4859-984B-828F2488AA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0078-8467-45C7-BDCA-014DDA61CF0E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C925-E20E-48F1-8BCA-54482FFB6627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AC0D-F43C-4BD7-BBB9-F9252ABA70D6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CFF2-D94D-468E-BC5B-7E4B8258A02E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1465-88D8-48AC-B771-23684F31115D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382A-2F86-4A81-A504-B12FA69EA74D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2648-1F77-40D3-B7B1-DFEE520E843A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727-C6D4-4ED2-BAD0-B820EB65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901-F068-49B0-A937-0CCF0F66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496-2DA5-493C-852C-1C129865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4F1-1D9F-4FCC-8974-97B65421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80E1-381E-4007-BE8D-DBB5224A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E231-B7BD-4EA0-95A8-AE6D181A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85AF-39DA-4F66-AA91-01E29387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E172-F527-4605-B75E-22E14968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1B44-6762-4655-A556-9376B882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E37F-9FBA-44FF-B003-2257D145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4F8A-7300-4BBF-B331-B78925FD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B8D-FC0C-4F65-AEC6-F8C39BBA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827D-CC6E-4348-AA95-D6A86760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2616-E6D4-4B54-B39E-D13D2D2C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55D3-94FC-484E-BE91-1F8D07D7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2CB8-B0E4-4DF8-8267-F0B0F555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29AE-E079-4CB2-AB62-91C26E9E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E8E-29C7-497E-BE13-7C181D7E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3EF-4000-47CF-8E5D-FEA8F30C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D82-897A-4ACB-8CD4-E3BE3164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F4B-6110-4895-AB9D-34A61F11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142-27E0-440A-9C16-421AD060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1BB-6025-4D80-9621-F4C7E273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32F-16E0-45A7-8736-F2AD1404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1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E17F-18F9-49AD-97A7-4715BCF47C1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EB40-ACCE-4C16-87E5-ABB8E1265E4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WordArt 4" descr=""/>
          <p:cNvPicPr/>
          <p:nvPr/>
        </p:nvPicPr>
        <p:blipFill>
          <a:blip r:embed="rId1"/>
          <a:stretch/>
        </p:blipFill>
        <p:spPr>
          <a:xfrm>
            <a:off x="1468440" y="1011240"/>
            <a:ext cx="72486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Verdana"/>
              </a:rPr>
              <a:t>Личностные результаты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240" y="990720"/>
            <a:ext cx="8659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ность и способность к саморазвити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ормированность мотивации к обучению и познани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основ российской гражданской идентичност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знание своей этнической и национальной принадлежност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увства гордости за свою Родину, российский народ и историю России, толерантность и уважение к другим культурам и народа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овление гуманистических и демократических  ориентаций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Номер слайда 6"/>
          <p:cNvSpPr/>
          <p:nvPr/>
        </p:nvSpPr>
        <p:spPr>
          <a:xfrm>
            <a:off x="67057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6EA5-D557-42E1-B596-5E4E6A88D30D}" type="slidenum">
              <a:rPr b="0" lang="ru-RU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Метапредметные результаты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560" y="1066320"/>
            <a:ext cx="8583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умения взаимодействовать с окружающи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воение универсальных учебных действий (познавательных, регулятивных, коммуникативных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пособность принимать и сохранять цели и задачи учебной деятельност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мение планировать, контролировать и оценивать учебные действия, определять наиболее эффективные способы достижения результа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шение общего лингвистического кругозор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владение умением работы с компонентами УМ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Номер слайда 6"/>
          <p:cNvSpPr/>
          <p:nvPr/>
        </p:nvSpPr>
        <p:spPr>
          <a:xfrm>
            <a:off x="67057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075C-0015-4FB1-8887-E4C3246CBA1A}" type="slidenum">
              <a:rPr b="0" lang="ru-RU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Предметные результаты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240" y="1218960"/>
            <a:ext cx="8583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своение в ходе изучения данного учебного предмета опыта, специфического для данной предметной обла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лучение нового знания, его преобразования и примене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лексический, грамматический, фонетический минимум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лучение системы основополагающих элементов научного знания, лежащих в основе современной научной картины мир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Номер слайда 6"/>
          <p:cNvSpPr/>
          <p:nvPr/>
        </p:nvSpPr>
        <p:spPr>
          <a:xfrm>
            <a:off x="67057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6612-97D1-41EF-9695-1796BA2CD3FC}" type="slidenum">
              <a:rPr b="0" lang="ru-RU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тоговая оценка учитывае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140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нность навыков выполнения проектной деятельн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особность решения поставленных задач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основе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енной системы основополагающих элементов научных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н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владения системой знаний, необходимых для обучения н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ледующей ступени общего образова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воения учебными действиями, составляющих основу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я учить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обретенного опыта получения, применения и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2520" indent="-452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образования знан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Номер слайда 4"/>
          <p:cNvSpPr/>
          <p:nvPr/>
        </p:nvSpPr>
        <p:spPr>
          <a:xfrm>
            <a:off x="67057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FCCD-F658-4782-9E25-64246234DAA7}" type="slidenum">
              <a:rPr b="0" lang="ru-RU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523880" y="0"/>
            <a:ext cx="666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ортреты выпускников 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685800" y="914400"/>
            <a:ext cx="7924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любящий свой народ, свой край и свою Родину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уважающий и принимающий ценности семьи и общества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любознательный, активно и заинтересованно познающий  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ир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4. владеющий основами умения учиться, способный к 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организации собственной деятельности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готовый самостоятельно действовать и отвечать за свои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поступки перед семьей и обществом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6. доброжелательный, умеющий слушать и слышать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собеседника, обосновывать  свою позицию, высказывать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свое мнение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7. выполняющий правила здоровог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безопасного для себя и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окружающих образа жизни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Прямоугольник 6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9246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838080" y="609480"/>
            <a:ext cx="75438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Наша новая школа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»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новные направления развития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152280" y="2209680"/>
            <a:ext cx="86868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еход на новые образовательные стандар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звитие системы поддержки талантливых детей      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вершенствование учительского состава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менение школьной инфраструктур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хранение и укрепление здоровья школьнико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    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ширение самостоятельности школ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0" y="0"/>
            <a:ext cx="892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Значительно расширены функции и круг пользователей ФГОС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Впервые при разработке ФГОС выявлялись и  учитывались потребности личности, общества и государств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Изменилась совокупность требовани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Основной  составляющей ФГОС стали  требования к результатам освоения образовательных  программ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Изменилось представление об образовательных результата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Ориентиром содержания образования  стали: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         </a:t>
            </a: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- Фундаментальное ядро содержания общего образовани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         </a:t>
            </a: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- Концепция духовно-нравственного воспитания и развития личности гражданина Росси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Изменились методологические основы системы оценки достижения требований к результатам образовани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Представлены широкие возможности реализации этнокультурной составляющей ФГОС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1919"/>
                </a:solidFill>
                <a:latin typeface="Verdana"/>
              </a:rPr>
              <a:t>Предложена новая структура Базисного учебного плана, в состав которого включена внеурочная деятельност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919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96472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Особенности ФГОС</a:t>
            </a: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Номер слайда 1"/>
          <p:cNvSpPr/>
          <p:nvPr/>
        </p:nvSpPr>
        <p:spPr>
          <a:xfrm>
            <a:off x="67057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B592-228B-4B04-AA8F-062A4B532C64}" type="slidenum">
              <a:rPr b="0" lang="ru-RU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Группа 9"/>
          <p:cNvGrpSpPr/>
          <p:nvPr/>
        </p:nvGrpSpPr>
        <p:grpSpPr>
          <a:xfrm>
            <a:off x="611280" y="6237360"/>
            <a:ext cx="7848360" cy="504720"/>
            <a:chOff x="611280" y="6237360"/>
            <a:chExt cx="7848360" cy="504720"/>
          </a:xfrm>
        </p:grpSpPr>
        <p:sp>
          <p:nvSpPr>
            <p:cNvPr id="182" name="Скругленный прямоугольник 10"/>
            <p:cNvSpPr/>
            <p:nvPr/>
          </p:nvSpPr>
          <p:spPr>
            <a:xfrm>
              <a:off x="611280" y="6237360"/>
              <a:ext cx="7848360" cy="504720"/>
            </a:xfrm>
            <a:prstGeom prst="roundRect">
              <a:avLst>
                <a:gd name="adj" fmla="val 1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3" name="Скругленный прямоугольник 5"/>
            <p:cNvSpPr/>
            <p:nvPr/>
          </p:nvSpPr>
          <p:spPr>
            <a:xfrm>
              <a:off x="919080" y="6308640"/>
              <a:ext cx="7477200" cy="428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ОВОЕ СОДЕРЖАНИЕ ОБЩЕГО ОБРАЗОВАНИЯ</a:t>
              </a:r>
              <a:endParaRPr b="1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4" name="Группа 9"/>
          <p:cNvGrpSpPr/>
          <p:nvPr/>
        </p:nvGrpSpPr>
        <p:grpSpPr>
          <a:xfrm>
            <a:off x="324000" y="2781360"/>
            <a:ext cx="3600360" cy="2016000"/>
            <a:chOff x="324000" y="2781360"/>
            <a:chExt cx="3600360" cy="2016000"/>
          </a:xfrm>
        </p:grpSpPr>
        <p:sp>
          <p:nvSpPr>
            <p:cNvPr id="185" name="Скругленный прямоугольник 10"/>
            <p:cNvSpPr/>
            <p:nvPr/>
          </p:nvSpPr>
          <p:spPr>
            <a:xfrm>
              <a:off x="324000" y="2781360"/>
              <a:ext cx="3557520" cy="1983960"/>
            </a:xfrm>
            <a:prstGeom prst="roundRect">
              <a:avLst>
                <a:gd name="adj" fmla="val 1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Скругленный прямоугольник 5"/>
            <p:cNvSpPr/>
            <p:nvPr/>
          </p:nvSpPr>
          <p:spPr>
            <a:xfrm>
              <a:off x="324000" y="2979720"/>
              <a:ext cx="3600360" cy="1817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4f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47520" bIns="4752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Tahoma"/>
                  <a:ea typeface="Tahoma"/>
                </a:rPr>
                <a:t>ключевые задачи  формирования  универсальных видов учебной деятельности в соответствии с требованиями ФГОС к результатам образования </a:t>
              </a: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87" name="AutoShape 26"/>
          <p:cNvSpPr/>
          <p:nvPr/>
        </p:nvSpPr>
        <p:spPr>
          <a:xfrm>
            <a:off x="4140360" y="1628640"/>
            <a:ext cx="288720" cy="14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8" name="Группа 9"/>
          <p:cNvGrpSpPr/>
          <p:nvPr/>
        </p:nvGrpSpPr>
        <p:grpSpPr>
          <a:xfrm>
            <a:off x="4859280" y="2781360"/>
            <a:ext cx="3780000" cy="2016000"/>
            <a:chOff x="4859280" y="2781360"/>
            <a:chExt cx="3780000" cy="2016000"/>
          </a:xfrm>
        </p:grpSpPr>
        <p:sp>
          <p:nvSpPr>
            <p:cNvPr id="189" name="Скругленный прямоугольник 10"/>
            <p:cNvSpPr/>
            <p:nvPr/>
          </p:nvSpPr>
          <p:spPr>
            <a:xfrm>
              <a:off x="4859280" y="2781360"/>
              <a:ext cx="3772080" cy="1898640"/>
            </a:xfrm>
            <a:prstGeom prst="roundRect">
              <a:avLst>
                <a:gd name="adj" fmla="val 1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Скругленный прямоугольник 5"/>
            <p:cNvSpPr/>
            <p:nvPr/>
          </p:nvSpPr>
          <p:spPr>
            <a:xfrm>
              <a:off x="4935240" y="2989080"/>
              <a:ext cx="3704040" cy="180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4f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91" name="Прямоугольник 34"/>
          <p:cNvSpPr/>
          <p:nvPr/>
        </p:nvSpPr>
        <p:spPr>
          <a:xfrm>
            <a:off x="5076720" y="3141720"/>
            <a:ext cx="33829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система ведущих  научных теорий, основных понятий и методов в областях знаний , представленных в общем образовании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2" name="Группа 9"/>
          <p:cNvGrpSpPr/>
          <p:nvPr/>
        </p:nvGrpSpPr>
        <p:grpSpPr>
          <a:xfrm>
            <a:off x="1619280" y="1844640"/>
            <a:ext cx="5832360" cy="638280"/>
            <a:chOff x="1619280" y="1844640"/>
            <a:chExt cx="5832360" cy="638280"/>
          </a:xfrm>
        </p:grpSpPr>
        <p:sp>
          <p:nvSpPr>
            <p:cNvPr id="193" name="Скругленный прямоугольник 10"/>
            <p:cNvSpPr/>
            <p:nvPr/>
          </p:nvSpPr>
          <p:spPr>
            <a:xfrm>
              <a:off x="1619280" y="1844640"/>
              <a:ext cx="5832360" cy="466200"/>
            </a:xfrm>
            <a:prstGeom prst="roundRect">
              <a:avLst>
                <a:gd name="adj" fmla="val 1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4" name="Скругленный прямоугольник 5"/>
            <p:cNvSpPr/>
            <p:nvPr/>
          </p:nvSpPr>
          <p:spPr>
            <a:xfrm>
              <a:off x="1690560" y="1989000"/>
              <a:ext cx="5573880" cy="493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4f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47520" bIns="475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Tahoma"/>
                  <a:ea typeface="Tahoma"/>
                </a:rPr>
                <a:t> </a:t>
              </a:r>
              <a:r>
                <a:rPr b="0" lang="ru-RU" sz="2000" spc="-1" strike="noStrike">
                  <a:solidFill>
                    <a:srgbClr val="002060"/>
                  </a:solidFill>
                  <a:latin typeface="Tahoma"/>
                  <a:ea typeface="Tahoma"/>
                </a:rPr>
                <a:t>обобщенные требования к результатам</a:t>
              </a:r>
              <a:endParaRPr b="1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95" name="Скругленный прямоугольник 10"/>
          <p:cNvSpPr/>
          <p:nvPr/>
        </p:nvSpPr>
        <p:spPr>
          <a:xfrm>
            <a:off x="1403280" y="907920"/>
            <a:ext cx="5977080" cy="406440"/>
          </a:xfrm>
          <a:prstGeom prst="roundRect">
            <a:avLst>
              <a:gd name="adj" fmla="val 1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Скругленный прямоугольник 5"/>
          <p:cNvSpPr/>
          <p:nvPr/>
        </p:nvSpPr>
        <p:spPr>
          <a:xfrm>
            <a:off x="1828800" y="990720"/>
            <a:ext cx="59342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4f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520" rIns="47520" tIns="47520" bIns="475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запросы семьи, общества и государства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2916360" y="2565360"/>
            <a:ext cx="28728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64000" y="2565360"/>
            <a:ext cx="28908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26"/>
          <p:cNvSpPr/>
          <p:nvPr/>
        </p:nvSpPr>
        <p:spPr>
          <a:xfrm>
            <a:off x="5724360" y="4941720"/>
            <a:ext cx="287640" cy="14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26"/>
          <p:cNvSpPr/>
          <p:nvPr/>
        </p:nvSpPr>
        <p:spPr>
          <a:xfrm>
            <a:off x="3132000" y="4941720"/>
            <a:ext cx="287640" cy="14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Скругленный прямоугольник 10"/>
          <p:cNvSpPr/>
          <p:nvPr/>
        </p:nvSpPr>
        <p:spPr>
          <a:xfrm>
            <a:off x="900000" y="5734080"/>
            <a:ext cx="6696360" cy="358920"/>
          </a:xfrm>
          <a:prstGeom prst="roundRect">
            <a:avLst>
              <a:gd name="adj" fmla="val 1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Скругленный прямоугольник 5"/>
          <p:cNvSpPr/>
          <p:nvPr/>
        </p:nvSpPr>
        <p:spPr>
          <a:xfrm>
            <a:off x="971640" y="5084640"/>
            <a:ext cx="712944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4fc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520" rIns="47520" tIns="47520" bIns="475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Концепция духовно-нравственного развития и воспитания личности гражданина России, фундаментальное ядро содержания общего образования , системно-деятельностный подход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6"/>
          <p:cNvSpPr/>
          <p:nvPr/>
        </p:nvSpPr>
        <p:spPr>
          <a:xfrm>
            <a:off x="4643280" y="6165720"/>
            <a:ext cx="287640" cy="14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7138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Формирование содержания образования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Номер слайда 28"/>
          <p:cNvSpPr/>
          <p:nvPr/>
        </p:nvSpPr>
        <p:spPr>
          <a:xfrm>
            <a:off x="67057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A1E1-828F-4F13-9E82-5C9214395EB0}" type="slidenum">
              <a:rPr b="0" lang="ru-RU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67057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DBA9-8F11-4F7A-8EF0-2B08E06AFC94}" type="slidenum">
              <a:rPr b="0" lang="ru-RU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овая образовательная сред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1357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Эффективность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современного учебно-воспитательного процесса обеспечивается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инновационной  образовательной средой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- системой ресурсов, инструментов и технологий, которые направлены на  достижение результатов освоения основной образовательной программы образовательного учрежд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7487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Требования к информационно-методическим условиям 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600" y="121896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Усилен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требования к обеспечению возможност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спользования современных информационных и коммуникационных технологий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спользование цифровой техник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фотографии, видеофильмов, мультипликации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ормирование и развитие ИКТ-компетентност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средства ИКТ являются наиболее перспективным средством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ализации проектной методики обучения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нтролируемый доступ к образовательным ресурсам и интернету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дистанционное обучение, консультации, ознакомлени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одителей с результатами обучения детей и оценкам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чителя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67057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FC1C-A754-4EE4-888A-955E3CCE8A69}" type="slidenum">
              <a:rPr b="0" lang="ru-RU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7487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неурочная деятельность. 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600" y="609480"/>
            <a:ext cx="864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10181c"/>
                </a:solidFill>
                <a:latin typeface="Verdana"/>
              </a:rPr>
              <a:t>Внеурочная деятельность не входит в предельно допустимую нагрузку и формироваться с учетом пожеланий обучающихся и их родителей (законных представителей),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181c"/>
                </a:solidFill>
                <a:latin typeface="Verdana"/>
              </a:rPr>
              <a:t>организуется по направлениям развития личност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спортивно-оздоровительно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духовно-нравственно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социально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общеинтеллектуально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общекультурно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0181c"/>
                </a:solidFill>
                <a:uFillTx/>
                <a:latin typeface="Verdana"/>
              </a:rPr>
              <a:t>Во внеурочную деятельность могут входить:</a:t>
            </a:r>
            <a:r>
              <a:rPr b="0" lang="ru-RU" sz="1200" spc="-1" strike="noStrike">
                <a:solidFill>
                  <a:srgbClr val="10181c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выполнение домашних заданий (начиная со второго полугодия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индивидуальные занятия учителя с детьми, требующими психолого-педагогической и коррекционной поддержки (в том числе - индивидуальные занятия по постановке устной и письменной речи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индивидуальные и групповые консультации (в том числе - дистанционные) для детей различных категор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экскурс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кружк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сек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круглые стол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конферен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диспут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школьные научные обществ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олимпиад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соревнован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поисковые и научные исследования и т.д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67057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632C-8A95-41F2-B11A-37CB1B1F38B0}" type="slidenum">
              <a:rPr b="0" lang="ru-RU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2" descr=""/>
          <p:cNvPicPr/>
          <p:nvPr/>
        </p:nvPicPr>
        <p:blipFill>
          <a:blip r:embed="rId1"/>
          <a:stretch/>
        </p:blipFill>
        <p:spPr>
          <a:xfrm>
            <a:off x="1749600" y="2389320"/>
            <a:ext cx="655920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a Sharapova</cp:lastModifiedBy>
  <cp:lastPrinted>2012-08-26T16:49:31Z</cp:lastPrinted>
  <dcterms:modified xsi:type="dcterms:W3CDTF">2012-08-26T16:50:5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