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B653-6041-47C2-9D04-B613F21007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A37E-F03C-4ABD-97D4-2EE297AE07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98E-F29B-4B51-9614-C59AE9BD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3C3F-848D-4F1C-BBAC-0B0D2F7A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3BA-9780-4818-8D98-199542C3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C4A-4BC0-4A3E-AB64-F16AC7E4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12A3-6799-4A21-B3C1-183F9D94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5299-4032-45A4-90A9-C5BD5EFA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2365-68D4-49ED-AA57-D35A11FF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E6C4-6136-4B0F-A463-95646428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B029-3ADA-4D38-90FC-DE63D5D2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71EA-1E3F-4256-BD83-0B902435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21AC-F088-468D-85E2-56B84DD0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D8FE-8449-4F53-8F5A-C97E03ED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EC98-8865-4101-AFAA-15E030FC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6114-872C-4C4A-9687-E390DA50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70B9-F69C-4DB4-8267-068CAC5A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944A-1B1F-4957-88E7-7B61C37E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9906-3148-49F9-B11D-3DDE73D6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608-BB19-4F8B-A2EA-3C629357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7E3-AA41-4500-B3B7-4BB3B4EA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7B2-D132-4B28-9729-D4F9B143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2D9C-9787-4D49-8557-19F40E32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E7C-4405-4262-B21B-4EB2ACC1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67CE-73F3-4F6B-96E2-53B2243F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E3E-1CCB-4ECC-9F87-B774879F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7FF1-9DCE-459D-BB87-2115A5B954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CFEA-F588-4994-BAF5-240164B220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openclass.ru/node/310864" TargetMode="External"/><Relationship Id="rId2" Type="http://schemas.openxmlformats.org/officeDocument/2006/relationships/hyperlink" Target="http://www.openclass.ru/node/322875" TargetMode="External"/><Relationship Id="rId3" Type="http://schemas.openxmlformats.org/officeDocument/2006/relationships/hyperlink" Target="http://www.openclass.ru/node/323796" TargetMode="External"/><Relationship Id="rId4" Type="http://schemas.openxmlformats.org/officeDocument/2006/relationships/hyperlink" Target="http://nsportal.ru/user/reset/126592/1354196349/gwiXf9RxBnHGidSJYsz0GBHW9ScyYmUwVGv7gKDQzCc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eferats.allbest.ru/pedagogics/122666.html" TargetMode="External"/><Relationship Id="rId2" Type="http://schemas.openxmlformats.org/officeDocument/2006/relationships/hyperlink" Target="http://referats.allbest.ru/pedagogics/122666.html" TargetMode="External"/><Relationship Id="rId3" Type="http://schemas.openxmlformats.org/officeDocument/2006/relationships/hyperlink" Target="http://www.profkniga.ru/cat/1011.htm" TargetMode="External"/><Relationship Id="rId4" Type="http://schemas.openxmlformats.org/officeDocument/2006/relationships/hyperlink" Target="http://www.lib.tsu.ru/win/produkzija/ekologija/ecol3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285800" y="272520"/>
            <a:ext cx="4714920" cy="637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ьчики звенят сердечно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ют весною соловьи..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ота природы будет вечной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не жалейте для нее своей люб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tangle 3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4308480" cy="6441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2786040" y="1857240"/>
            <a:ext cx="4000680" cy="271476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4929120" y="4071960"/>
            <a:ext cx="3929040" cy="257184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14200"/>
            <a:ext cx="838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и сроки проведения         проекта: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38577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 – 4 неделя августа 2010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ентябрь 2010 г. – 2 неделя июня 2011 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 – 4 недели июня 2011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Картинка 9 из 412"/>
          <p:cNvPicPr/>
          <p:nvPr/>
        </p:nvPicPr>
        <p:blipFill>
          <a:blip r:embed="rId1"/>
          <a:stretch/>
        </p:blipFill>
        <p:spPr>
          <a:xfrm>
            <a:off x="5214960" y="714240"/>
            <a:ext cx="3357720" cy="3000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4214880" y="4000680"/>
            <a:ext cx="377352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213840"/>
            <a:ext cx="8385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аботы по проекту                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5840" y="1143000"/>
          <a:ext cx="8501040" cy="5143680"/>
        </p:xfrm>
        <a:graphic>
          <a:graphicData uri="http://schemas.openxmlformats.org/drawingml/2006/table">
            <a:tbl>
              <a:tblPr/>
              <a:tblGrid>
                <a:gridCol w="495360"/>
                <a:gridCol w="5000400"/>
                <a:gridCol w="1871640"/>
                <a:gridCol w="113364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обрать методическую,  научно-популярную,  публицистическую педагогическ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у,  иллюстративный материал по данной тем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– 4 неделя авгу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уровня развития экологического воспитания дете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2 неделя сентябр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ить родительский уголок в группе с размещением статей, консультаций, рекомендаций по теме проекта. Оформить фотовыставк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– 4  нед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ть с детьми, родителями поисковую деятельность по теме проекта. Вёрстка материалов по теме проекта на личном ПК в цифровом форма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и учебного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http://img11.nnm.ru/8/9/a/7/b/aa3fe6c89d6cc9fc647348bd395.jpg"/>
          <p:cNvPicPr/>
          <p:nvPr/>
        </p:nvPicPr>
        <p:blipFill>
          <a:blip r:embed="rId1"/>
          <a:stretch/>
        </p:blipFill>
        <p:spPr>
          <a:xfrm>
            <a:off x="714240" y="3571920"/>
            <a:ext cx="2143440" cy="30002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" descr="http://linka.alltrades.ru/images/shop_items/56.jpg"/>
          <p:cNvPicPr/>
          <p:nvPr/>
        </p:nvPicPr>
        <p:blipFill>
          <a:blip r:embed="rId2"/>
          <a:stretch/>
        </p:blipFill>
        <p:spPr>
          <a:xfrm>
            <a:off x="3214800" y="3429000"/>
            <a:ext cx="2357280" cy="30718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http://www.newuchebnik.ru/published/publicdata/NEWUCHEBNI/attachments/SC/products_pictures/1028034a8.jpg"/>
          <p:cNvPicPr/>
          <p:nvPr/>
        </p:nvPicPr>
        <p:blipFill>
          <a:blip r:embed="rId3"/>
          <a:stretch/>
        </p:blipFill>
        <p:spPr>
          <a:xfrm>
            <a:off x="6215040" y="214200"/>
            <a:ext cx="2071800" cy="292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714240" y="142920"/>
            <a:ext cx="2070360" cy="3141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5"/>
          <a:stretch/>
        </p:blipFill>
        <p:spPr>
          <a:xfrm>
            <a:off x="3571920" y="214200"/>
            <a:ext cx="2214360" cy="2714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6"/>
          <a:stretch/>
        </p:blipFill>
        <p:spPr>
          <a:xfrm>
            <a:off x="6072120" y="3500280"/>
            <a:ext cx="228600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ие исследования детей с целью выявления уровня развития экологического воспитания и образования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Содержимое 3" descr=""/>
          <p:cNvPicPr/>
          <p:nvPr/>
        </p:nvPicPr>
        <p:blipFill>
          <a:blip r:embed="rId1"/>
          <a:stretch/>
        </p:blipFill>
        <p:spPr>
          <a:xfrm>
            <a:off x="285840" y="2214720"/>
            <a:ext cx="4714920" cy="42861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285840" y="1571760"/>
            <a:ext cx="4786200" cy="57132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ая  диагно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214960" y="1571760"/>
            <a:ext cx="36432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 диагно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нтереса к объектам живой и не живой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овать свое поведение, свои поступки в природе, не причиняя ей вр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экологически-безопасным поведением в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я участвовать в экспериментировании и в исследовании объектов природы, в простейших опы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2786040" y="1285920"/>
            <a:ext cx="3000240" cy="22669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146" name="Picture 10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2071440" cy="35719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147" name="Picture 11" descr=""/>
          <p:cNvPicPr/>
          <p:nvPr/>
        </p:nvPicPr>
        <p:blipFill>
          <a:blip r:embed="rId3"/>
          <a:stretch/>
        </p:blipFill>
        <p:spPr>
          <a:xfrm>
            <a:off x="5857920" y="142920"/>
            <a:ext cx="3105000" cy="23335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148" name="Picture 12" descr=""/>
          <p:cNvPicPr/>
          <p:nvPr/>
        </p:nvPicPr>
        <p:blipFill>
          <a:blip r:embed="rId4"/>
          <a:stretch/>
        </p:blipFill>
        <p:spPr>
          <a:xfrm>
            <a:off x="214200" y="4214880"/>
            <a:ext cx="2880000" cy="24382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149" name="Picture 13" descr=""/>
          <p:cNvPicPr/>
          <p:nvPr/>
        </p:nvPicPr>
        <p:blipFill>
          <a:blip r:embed="rId5"/>
          <a:stretch/>
        </p:blipFill>
        <p:spPr>
          <a:xfrm>
            <a:off x="5429160" y="3857760"/>
            <a:ext cx="3143520" cy="24382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1435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ап основной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71680" y="1301760"/>
          <a:ext cx="8143560" cy="5424480"/>
        </p:xfrm>
        <a:graphic>
          <a:graphicData uri="http://schemas.openxmlformats.org/drawingml/2006/table">
            <a:tbl>
              <a:tblPr/>
              <a:tblGrid>
                <a:gridCol w="620640"/>
                <a:gridCol w="3835440"/>
                <a:gridCol w="2116080"/>
                <a:gridCol w="15714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реализация системы по формированию экологического образования и воспит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. Раб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реализация перспективного плана по экологическому воспитанию детей через ознакомление с природ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работы с родител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сотрудничества с объектами социума: библиотека, шко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Oval 6"/>
          <p:cNvSpPr/>
          <p:nvPr/>
        </p:nvSpPr>
        <p:spPr>
          <a:xfrm>
            <a:off x="3286080" y="2643120"/>
            <a:ext cx="2519280" cy="18003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5724360" y="1052640"/>
            <a:ext cx="2016360" cy="914400"/>
          </a:xfrm>
          <a:prstGeom prst="rect">
            <a:avLst/>
          </a:prstGeom>
          <a:solidFill>
            <a:srgbClr val="e8f0f4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изова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3564000" y="692280"/>
            <a:ext cx="1655640" cy="914400"/>
          </a:xfrm>
          <a:prstGeom prst="rect">
            <a:avLst/>
          </a:prstGeom>
          <a:solidFill>
            <a:srgbClr val="e8f0f4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кружающ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1619280" y="981000"/>
            <a:ext cx="1511280" cy="876240"/>
          </a:xfrm>
          <a:prstGeom prst="rect">
            <a:avLst/>
          </a:prstGeom>
          <a:solidFill>
            <a:srgbClr val="e8f0f4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611280" y="2565360"/>
            <a:ext cx="1944720" cy="1008000"/>
          </a:xfrm>
          <a:prstGeom prst="rect">
            <a:avLst/>
          </a:prstGeom>
          <a:solidFill>
            <a:srgbClr val="e8f0f4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художеств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5292720" y="5445000"/>
            <a:ext cx="1440000" cy="914400"/>
          </a:xfrm>
          <a:prstGeom prst="rect">
            <a:avLst/>
          </a:prstGeom>
          <a:solidFill>
            <a:srgbClr val="e8f0f4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лик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755640" y="4149720"/>
            <a:ext cx="1584360" cy="914400"/>
          </a:xfrm>
          <a:prstGeom prst="rect">
            <a:avLst/>
          </a:prstGeom>
          <a:solidFill>
            <a:srgbClr val="e8f0f4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6804000" y="4149720"/>
            <a:ext cx="1368360" cy="914400"/>
          </a:xfrm>
          <a:prstGeom prst="rect">
            <a:avLst/>
          </a:prstGeom>
          <a:solidFill>
            <a:srgbClr val="e8f0f4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6372360" y="2637000"/>
            <a:ext cx="2232000" cy="914400"/>
          </a:xfrm>
          <a:prstGeom prst="rect">
            <a:avLst/>
          </a:prstGeom>
          <a:solidFill>
            <a:srgbClr val="e8f0f4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5"/>
          <p:cNvSpPr/>
          <p:nvPr/>
        </p:nvSpPr>
        <p:spPr>
          <a:xfrm flipV="1">
            <a:off x="4427640" y="1628280"/>
            <a:ext cx="0" cy="1008360"/>
          </a:xfrm>
          <a:prstGeom prst="line">
            <a:avLst/>
          </a:prstGeom>
          <a:ln w="9360">
            <a:solidFill>
              <a:srgbClr val="009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7"/>
          <p:cNvSpPr/>
          <p:nvPr/>
        </p:nvSpPr>
        <p:spPr>
          <a:xfrm flipH="1">
            <a:off x="3203640" y="4365720"/>
            <a:ext cx="1008000" cy="1008000"/>
          </a:xfrm>
          <a:prstGeom prst="line">
            <a:avLst/>
          </a:prstGeom>
          <a:ln w="9360">
            <a:solidFill>
              <a:srgbClr val="009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8"/>
          <p:cNvSpPr/>
          <p:nvPr/>
        </p:nvSpPr>
        <p:spPr>
          <a:xfrm>
            <a:off x="5219640" y="4365720"/>
            <a:ext cx="720720" cy="1008000"/>
          </a:xfrm>
          <a:prstGeom prst="line">
            <a:avLst/>
          </a:prstGeom>
          <a:ln w="9360">
            <a:solidFill>
              <a:srgbClr val="009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"/>
          <p:cNvSpPr/>
          <p:nvPr/>
        </p:nvSpPr>
        <p:spPr>
          <a:xfrm flipH="1" flipV="1">
            <a:off x="2556000" y="3213000"/>
            <a:ext cx="792000" cy="144720"/>
          </a:xfrm>
          <a:prstGeom prst="line">
            <a:avLst/>
          </a:prstGeom>
          <a:ln w="9360">
            <a:solidFill>
              <a:srgbClr val="009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"/>
          <p:cNvSpPr/>
          <p:nvPr/>
        </p:nvSpPr>
        <p:spPr>
          <a:xfrm flipV="1">
            <a:off x="5867280" y="3213000"/>
            <a:ext cx="505080" cy="216000"/>
          </a:xfrm>
          <a:prstGeom prst="line">
            <a:avLst/>
          </a:prstGeom>
          <a:ln w="9360">
            <a:solidFill>
              <a:srgbClr val="009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"/>
          <p:cNvSpPr/>
          <p:nvPr/>
        </p:nvSpPr>
        <p:spPr>
          <a:xfrm flipH="1" flipV="1">
            <a:off x="2916000" y="1915920"/>
            <a:ext cx="863640" cy="936360"/>
          </a:xfrm>
          <a:prstGeom prst="line">
            <a:avLst/>
          </a:prstGeom>
          <a:ln w="9360">
            <a:solidFill>
              <a:srgbClr val="009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2340000" y="5445000"/>
            <a:ext cx="1944720" cy="987480"/>
          </a:xfrm>
          <a:prstGeom prst="rect">
            <a:avLst/>
          </a:prstGeom>
          <a:solidFill>
            <a:srgbClr val="e8f0f4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ной 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 flipH="1">
            <a:off x="2339640" y="3929040"/>
            <a:ext cx="1089000" cy="652320"/>
          </a:xfrm>
          <a:prstGeom prst="line">
            <a:avLst/>
          </a:prstGeom>
          <a:ln w="9360">
            <a:solidFill>
              <a:srgbClr val="009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5796000" y="3860640"/>
            <a:ext cx="1008000" cy="505080"/>
          </a:xfrm>
          <a:prstGeom prst="line">
            <a:avLst/>
          </a:prstGeom>
          <a:ln w="9360">
            <a:solidFill>
              <a:srgbClr val="009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6"/>
          <p:cNvSpPr/>
          <p:nvPr/>
        </p:nvSpPr>
        <p:spPr>
          <a:xfrm flipV="1">
            <a:off x="5292720" y="1988640"/>
            <a:ext cx="719280" cy="792360"/>
          </a:xfrm>
          <a:prstGeom prst="line">
            <a:avLst/>
          </a:prstGeom>
          <a:ln w="12600">
            <a:solidFill>
              <a:srgbClr val="009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385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ый план по экологическому воспитанию детей через ознакомление с природой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2" name="Содержимое 3" descr="P12-09-12_11.23[1].jpg"/>
          <p:cNvPicPr/>
          <p:nvPr/>
        </p:nvPicPr>
        <p:blipFill>
          <a:blip r:embed="rId1"/>
          <a:stretch/>
        </p:blipFill>
        <p:spPr>
          <a:xfrm>
            <a:off x="214200" y="1000080"/>
            <a:ext cx="2286000" cy="2643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3" name="Picture 13" descr=""/>
          <p:cNvPicPr/>
          <p:nvPr/>
        </p:nvPicPr>
        <p:blipFill>
          <a:blip r:embed="rId2"/>
          <a:stretch/>
        </p:blipFill>
        <p:spPr>
          <a:xfrm>
            <a:off x="6500880" y="1071720"/>
            <a:ext cx="2000160" cy="2643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4" name="Picture 12" descr=""/>
          <p:cNvPicPr/>
          <p:nvPr/>
        </p:nvPicPr>
        <p:blipFill>
          <a:blip r:embed="rId3"/>
          <a:stretch/>
        </p:blipFill>
        <p:spPr>
          <a:xfrm>
            <a:off x="3714840" y="1143000"/>
            <a:ext cx="2071440" cy="2571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5" name="Picture 11" descr=""/>
          <p:cNvPicPr/>
          <p:nvPr/>
        </p:nvPicPr>
        <p:blipFill>
          <a:blip r:embed="rId4"/>
          <a:stretch/>
        </p:blipFill>
        <p:spPr>
          <a:xfrm>
            <a:off x="6215040" y="4143240"/>
            <a:ext cx="2286000" cy="235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6" name="Picture 11" descr=""/>
          <p:cNvPicPr/>
          <p:nvPr/>
        </p:nvPicPr>
        <p:blipFill>
          <a:blip r:embed="rId5"/>
          <a:stretch/>
        </p:blipFill>
        <p:spPr>
          <a:xfrm>
            <a:off x="714240" y="3857760"/>
            <a:ext cx="2143440" cy="2714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7" name="Picture 11" descr=""/>
          <p:cNvPicPr/>
          <p:nvPr/>
        </p:nvPicPr>
        <p:blipFill>
          <a:blip r:embed="rId6"/>
          <a:stretch/>
        </p:blipFill>
        <p:spPr>
          <a:xfrm>
            <a:off x="3643200" y="4000680"/>
            <a:ext cx="2000520" cy="2428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3851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родителями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14200" y="812880"/>
          <a:ext cx="8643960" cy="5759280"/>
        </p:xfrm>
        <a:graphic>
          <a:graphicData uri="http://schemas.openxmlformats.org/drawingml/2006/table">
            <a:tbl>
              <a:tblPr/>
              <a:tblGrid>
                <a:gridCol w="425520"/>
                <a:gridCol w="1303560"/>
                <a:gridCol w="6914880"/>
              </a:tblGrid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фотовыставки «Природа родного кра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ское собрание «Экологическое воспитание дошкольник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ция для родителей «Все мы друзья природы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и изготовление гербар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ция «Труд в природе, его роль в формировании экологической воспитанности дошкольник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лечение «Экологический КВН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ское собр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ция «Ваш ребенок познает мир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ное развлечение «Коляд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ция «Мир природы удивительный и прекрасны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ая выставка детей для родител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ция «Природа вокруг нас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лечение «Волшебница водиц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ческий праздник «Наш дом – Земля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сотрудничества с объектами социума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00040" y="1905120"/>
          <a:ext cx="8345520" cy="4595760"/>
        </p:xfrm>
        <a:graphic>
          <a:graphicData uri="http://schemas.openxmlformats.org/drawingml/2006/table">
            <a:tbl>
              <a:tblPr/>
              <a:tblGrid>
                <a:gridCol w="4173480"/>
                <a:gridCol w="4172040"/>
              </a:tblGrid>
              <a:tr h="15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рода в разные времена года» - экологическое образ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Хитровский филиал Верхнеспасской С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храним родную природу» - экологическое воспит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ая библиот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ше родное село» - патриотическое воспит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й дом куль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293418_689d775e6be217f0f86ae2c7417653a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WordArt 6" descr=""/>
          <p:cNvPicPr/>
          <p:nvPr/>
        </p:nvPicPr>
        <p:blipFill>
          <a:blip r:embed="rId2"/>
          <a:stretch/>
        </p:blipFill>
        <p:spPr>
          <a:xfrm>
            <a:off x="347760" y="201600"/>
            <a:ext cx="5333760" cy="13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–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 этап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00040" y="1428840"/>
          <a:ext cx="8072640" cy="4786200"/>
        </p:xfrm>
        <a:graphic>
          <a:graphicData uri="http://schemas.openxmlformats.org/drawingml/2006/table">
            <a:tbl>
              <a:tblPr/>
              <a:tblGrid>
                <a:gridCol w="739800"/>
                <a:gridCol w="4165560"/>
                <a:gridCol w="1866960"/>
                <a:gridCol w="1300320"/>
              </a:tblGrid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результативности, анкетирование, диагностирование, психолого-педагогические наблю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е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я проекта в виде Экологического празд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ш дом – Земл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ый раб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ение опыта работы по проек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ие исследования детей с целью выявления уровня развития экологического воспитания и образования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Содержимое 4" descr=""/>
          <p:cNvPicPr/>
          <p:nvPr/>
        </p:nvPicPr>
        <p:blipFill>
          <a:blip r:embed="rId1"/>
          <a:stretch/>
        </p:blipFill>
        <p:spPr>
          <a:xfrm>
            <a:off x="838080" y="1930320"/>
            <a:ext cx="3927600" cy="4138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диагнос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Развитие интереса к объектам живой и не живой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Контролировать свое поведение, свои поступки в природе, не причиняя ей вр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Овладение экологически-безопасным поведением в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Желания участвовать в экспериментировании и в исследовании объектов природы, в простейших опы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8512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деятельности по формированию экологического воспитания и образования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8" name="Object 5"/>
          <p:cNvGraphicFramePr/>
          <p:nvPr/>
        </p:nvGraphicFramePr>
        <p:xfrm>
          <a:off x="785880" y="1500120"/>
          <a:ext cx="7858080" cy="507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500120"/>
                    <a:ext cx="785808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й праздник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Наш дом - Земля»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1" name="Picture 14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3163680" cy="26431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1000080" y="4286160"/>
            <a:ext cx="3357720" cy="2381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3"/>
          <a:stretch/>
        </p:blipFill>
        <p:spPr>
          <a:xfrm>
            <a:off x="4643280" y="1428840"/>
            <a:ext cx="3214800" cy="2857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C:\Documents and Settings\user\Рабочий стол\фото\Фото0118.jpg"/>
          <p:cNvPicPr/>
          <p:nvPr/>
        </p:nvPicPr>
        <p:blipFill>
          <a:blip r:embed="rId4"/>
          <a:stretch/>
        </p:blipFill>
        <p:spPr>
          <a:xfrm>
            <a:off x="6072120" y="4000680"/>
            <a:ext cx="2879640" cy="27144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385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я опыт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85840" y="1055520"/>
          <a:ext cx="8643960" cy="5500800"/>
        </p:xfrm>
        <a:graphic>
          <a:graphicData uri="http://schemas.openxmlformats.org/drawingml/2006/table">
            <a:tbl>
              <a:tblPr/>
              <a:tblGrid>
                <a:gridCol w="3043080"/>
                <a:gridCol w="5600880"/>
              </a:tblGrid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методически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енник «День рождения земл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со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ш дом – планет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открытых двер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ое занятие по ознакомлению с окружающим миром «Угадай-ка, кто седая хозяйка…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тевое сообщество «Открытый клас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ция для родителей на тему: «Мир природы удивителен и прекрасен» </a:t>
                      </a:r>
                      <a:r>
                        <a:rPr b="0" lang="ru-RU" sz="1400" spc="-1" strike="noStrike" u="sng">
                          <a:solidFill>
                            <a:srgbClr val="0066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http://www.openclass.ru/node/310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ление детей с природой "Ваш ребенок познает мир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66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http://www.openclass.ru/node/322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66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http://www.openclass.ru/node/3237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сеть работников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 сайт воспитателя детского с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: экологическая тро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66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http://nsportal.ru/user/reset/126592/1354196349/gwiXf9RxBnHGidSJYsz0GBHW9ScyYmUwVGv7gKDQz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по формированию экологического воспитания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41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достаточные условия для организации деятельности ДОУ по экологической направл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ы критерии оценки знаний и умений детей в рамках ознакомления с правилами поведения в приро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участвуют в беседах, наблюдают за живыми объектами, умеют экспериментировать, анализировать, 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ют свои впечатления от общения с природой в рисунках, поделках и других творческих раб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3851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13840" y="121428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достаточные условия для организации деятельности ДОУ по экологической направлен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ы критерии оценки знаний и умений детей в рамках ознакомления с правилами поведения в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"/>
          <p:cNvPicPr/>
          <p:nvPr/>
        </p:nvPicPr>
        <p:blipFill>
          <a:blip r:embed="rId1"/>
          <a:stretch/>
        </p:blipFill>
        <p:spPr>
          <a:xfrm>
            <a:off x="5979960" y="3852720"/>
            <a:ext cx="296892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источники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6439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.Н. Николаева. «Юный эколог». Издательство «Мозаика-синтез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.Н. Кондратьева «Мы» программа экологического образовани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Журнал «дошкольное воспитание» № 6, 200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Журнал «дошкольное воспитание» № 4, 200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Журнал «дошкольное воспитание» № 7, 200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.А. Воронкевич Добро пожаловать в экологию! СПб «Детство-Пресс»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.Г. Саморукова Как знакомить дошкольников с природой М. Просвещение 198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.В. Виноградова Умственное воспитание детей в процессе ознакомления с прир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Н.В. Елкина, О.В. Мариничева «Учим детей наблюдать и рассказывать» Ярославль «Академия развития», 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Н.А. Рыжова Проект «Наше дерево». Москва, 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М.В. Лувич «Детям о природ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  <a:hlinkClick r:id="rId1"/>
              </a:rPr>
              <a:t>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  <a:hlinkClick r:id="rId2"/>
              </a:rPr>
              <a:t>http://referats.allbest.ru/pedagogics/12266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  <a:hlinkClick r:id="rId3"/>
              </a:rPr>
              <a:t> http://www.profkniga.ru/cat/101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  <a:hlinkClick r:id="rId4"/>
              </a:rPr>
              <a:t>http://www.lib.tsu.ru/win/produkzija/ekologija/ecol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5" name="Рисунок 6" descr="http://img-fotki.yandex.ru/get/4514/g-laguna2009.12/0_58b07_8d04d272_XL"/>
          <p:cNvPicPr/>
          <p:nvPr/>
        </p:nvPicPr>
        <p:blipFill>
          <a:blip r:embed="rId1"/>
          <a:stretch/>
        </p:blipFill>
        <p:spPr>
          <a:xfrm>
            <a:off x="1571760" y="1643040"/>
            <a:ext cx="5643360" cy="50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42920"/>
            <a:ext cx="82915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840" y="928440"/>
            <a:ext cx="85010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экологического воспитания стоит в ряду самых актуальных проблем, поэтому необходимо закладывать позитивное отношение к природе, окружающему миру в раннем возрасте. Природа оставляет большой след в душе ребёнка, потому что она своей яркостью, многообразием, динамичностью воздействует на все его чувства. Ребёнок радуется, видя зелёную траву, слушая щебетание птиц или стрекотание кузнечиков, ощущая запах цветов. Общение с природой воспитывает у ребёнка чувство прекрасного. Если взрослые научат дошкольника любоваться природой, - у малыша разовьётся чувство прекрасного, он будет радоваться красоте и глубже познавать окружающий м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28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речия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8760" y="1071360"/>
            <a:ext cx="40003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необходимостью формирования интереса  к окружающему миру дошкольников и недостаточному вниманию со стороны  родителей по   данному    вопросу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необходимостью получения дошкольниками в доступной форме представлений о мире природы и отсутствием достаточных знаний у родителе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38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760" y="1213920"/>
            <a:ext cx="8286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этим возникает  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я  в воспитатель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а с миром природы, мет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иёмов, направленных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дошколь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 интереса 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ему ми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429080" y="3929040"/>
            <a:ext cx="450072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528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214280"/>
            <a:ext cx="3714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бережное отношение к природе посредством расширения представлений об окружающем мире, на основе ближайшего социального, природного окру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4286160" y="2857680"/>
            <a:ext cx="464364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82310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8760" y="1071720"/>
            <a:ext cx="841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детей вести наблюдения за объектами живой и неживой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конкретным способам экспериментирования и исследования объектов прир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проводить простейшие опыты с природными объектами, используя правила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делать выводы, устанавливая причинно-следственные связи между объектами прир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навыки экологически безопасного поведения в природе, выполняя правила безопасного труда в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чувство сопереживания  и желания помочь нуждающимся объектам природы: растениям, насекомым, животным,  птицам, челове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79725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856800"/>
            <a:ext cx="4257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або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разновозрастной груп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воспитан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4429080" y="785880"/>
            <a:ext cx="4476960" cy="3357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285840" y="3929040"/>
            <a:ext cx="40719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е образовательные результаты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6760" y="1357200"/>
            <a:ext cx="8488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у детей представление о необходимости бережного и созидательного отношения к природе через различные виды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навыки культурного поведения в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овать в беседах во время рассматривания предметов, наблюдений за живыми объектами, экспериментировать, анализировать, 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мение передавать свои впечатления от общения с природой в рисунках, поделках и других творческих раб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2:52:41Z</dcterms:created>
  <dc:creator>-</dc:creator>
  <dc:description/>
  <dc:language>en-US</dc:language>
  <cp:lastModifiedBy>user</cp:lastModifiedBy>
  <dcterms:modified xsi:type="dcterms:W3CDTF">2015-03-20T11:15:52Z</dcterms:modified>
  <cp:revision>128</cp:revision>
  <dc:subject/>
  <dc:title>Слайд 1</dc:title>
</cp:coreProperties>
</file>