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8598-9CB1-4F3F-86A0-8644AB16B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48B0-00B1-4EB6-AA8C-30E8EA259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8D1-BA7F-4EB7-94C2-18200B85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20B-EBA0-4BAC-8459-C5E662E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57C-00B5-4D68-959C-C1D4FB9C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DD9-2A15-48A5-828D-2ED31A1D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DD4-263F-43B3-950B-9ED6CBB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882-017D-4633-A268-A063859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2E0-2723-4251-962A-CDA99EB1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274-8C05-4D1E-9ECF-BAA0C1C5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2CC-D206-416E-853F-EACADD2C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6E5-596C-4634-8F09-0BA4F41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805-486D-4F90-AE6D-471DB6FB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756-EEB0-4264-97DE-7ED46EE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2DBE-690D-44F1-9DF4-434DA05E8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am.ru/users/karabanovaty1983" TargetMode="External"/><Relationship Id="rId2" Type="http://schemas.openxmlformats.org/officeDocument/2006/relationships/hyperlink" Target="http://nsportal.ru/karabanova-tatyana-yurev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835280" y="206064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х способностей дет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театра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348000" y="522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банова Татьяна Юрьевна-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«И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1599840"/>
            <a:ext cx="77040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  консультаций и рекомендаций для родителей по развитию творческих способностей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тогов фронтальной и индивидуальной работы  с  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отчёта о проделанной работе и оформление исследовательского 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773000"/>
            <a:ext cx="8074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духовно-богатой личности ребё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творческого потенциала, активной, самостоятельной, эмоционально-отзывчивой, социально-компитентной и развивающей лич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умения выражать своё понимание сюжета игры и характера персонажа (в движении, игр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нравственно-коммуникативных и волевых качеств (общительность, вежливость, доброт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инициативы, сообразительности, самосто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духовно-богатой личности ребенка, как активного участника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желания придумать, рассказать сказку,  историю, сочинить танец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Результатив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ся уровень знаний детей в театрализован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ли уверенно чувствовать себя во время выступ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реда дополнилась разными видами театров, пособиями, рисун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 тесный контакт с родителями. Родители выступают активными участниками, продолжают работу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формиров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х способностей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438280" y="2678040"/>
            <a:ext cx="42674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                  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1928880"/>
            <a:ext cx="784872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аправлен на развитие творческих способностей и  дошкольников средствами театрализованной деятельности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ализует общеобразовательные и воспитательные задачи. Знания, полученные детьми в процессе занятий театрализованной деятельности, носят прочный, устойчивый характер. Обогащается предметно-развивающая среда ДОУ, развивается сотрудничество с педагогами других групп, родителями воспитанников. Участники образовательного процесса готовы к дальнейшему творческому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2920" y="1557360"/>
            <a:ext cx="765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совместно с другими группами "Театральные вечера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программ и технологий, обеспечивающих благоприятные условия для раннего выявления  и развития индивидуальных дарований, задатков, развития творческой подрастающей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театральных постановок на муниципальном уров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о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307188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очка Ря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429160" y="3071880"/>
            <a:ext cx="24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шок и Кур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786120" y="54291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Ша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tretch/>
        </p:blipFill>
        <p:spPr>
          <a:xfrm>
            <a:off x="1643040" y="1571760"/>
            <a:ext cx="2011320" cy="130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5643720" y="1500120"/>
            <a:ext cx="2066760" cy="13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3"/>
          <a:stretch/>
        </p:blipFill>
        <p:spPr>
          <a:xfrm>
            <a:off x="4071960" y="4071960"/>
            <a:ext cx="1463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народное творчество в театрализован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428840" y="3214800"/>
            <a:ext cx="27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ут русский ду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Русью пахнет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5572080" y="32860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Матве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643200" y="5500800"/>
            <a:ext cx="21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саду ли, в огород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1743120" cy="129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5643720" y="1714680"/>
            <a:ext cx="1981080" cy="144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786120" y="4143240"/>
            <a:ext cx="173196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еат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643040" y="3143160"/>
            <a:ext cx="24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ы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000840" y="27860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ны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929040" y="55720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й 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2071800" y="1500120"/>
            <a:ext cx="1536480" cy="11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6215040" y="1571760"/>
            <a:ext cx="1504800" cy="112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071960" y="4000680"/>
            <a:ext cx="18162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1680" y="1499760"/>
            <a:ext cx="7929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ипова Е.А. «Театрализованная деятельность в детском саду» ТЦ        «Сфера», Москва 2006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вицкая О. П. Ум на кончиках пальцев. Веселые пальчиковые игры. Маленькие подсказки для родителей. Москва: «Сова», 200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аханёва М.Д.  «Занятия по театрализованной деятельности в детском саду» ТЦ «Сфера», Москва 2007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Буренина А. Психомоторное развитие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Калинина Г. Давайте устроим театр! Домашний театр как средство         воспитания. – М.: Лепта-Книга, 2007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Анищенкова Е. С. Пальчиковая гимнастика. Пособие для родителей и педагогов. Владимир: «Астрель», 200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Петрова Т.И., Сергеева Е.Л., Петрова Е.С. Театрализованные игры в детском саду. - М.: Школьная пресса, 2000.\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 Интернет-ресурсы: </a:t>
            </a:r>
            <a:r>
              <a:rPr b="0" lang="en-US" sz="2000" spc="-1" strike="noStrike" u="sng">
                <a:solidFill>
                  <a:srgbClr val="953734"/>
                </a:solidFill>
                <a:uFillTx/>
                <a:latin typeface="Times New Roman"/>
                <a:ea typeface="Times New Roman"/>
                <a:hlinkClick r:id="rId1"/>
              </a:rPr>
              <a:t>http://www.maam.ru/users/karabanovaty198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 u="sng">
                <a:solidFill>
                  <a:srgbClr val="953734"/>
                </a:solidFill>
                <a:uFillTx/>
                <a:latin typeface="Times New Roman"/>
                <a:ea typeface="Times New Roman"/>
                <a:hlinkClick r:id="rId2"/>
              </a:rPr>
              <a:t>http://nsportal.ru/karabanova-tatyana-yurev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3203640" y="620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547640" y="141300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деятельность -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 у них развивается творческое воображение, ассоциативное мышление, речь, умение видеть необычные моменты в обыденном,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68000" y="2781000"/>
            <a:ext cx="4535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56440" y="1440360"/>
            <a:ext cx="3183120" cy="444240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indent="358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характер театрализованной деятельности позволяет обогащать опыт сотрудниче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яркости, легкости и быстроте, присущей детскому воображению ребенок может добиваться в своем творчестве оригинальных ре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ции, костюмы открывают перед детьми возможность для создания образа  с помощью цвета, формы, констру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 насыщенное содержательное общение взрослого с ребенком и детей друг с другом создают благоприятные условия для развития у детей умения прислушиваться к  переживания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6"/>
          <p:cNvSpPr/>
          <p:nvPr/>
        </p:nvSpPr>
        <p:spPr>
          <a:xfrm>
            <a:off x="5076720" y="1268280"/>
            <a:ext cx="3529080" cy="478800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4788000"/>
              <a:gd name="textAreaBottom" fmla="*/ 4615920 h 4788000"/>
            </a:gdLst>
            <a:ahLst/>
            <a:rect l="textAreaLeft" t="textAreaTop" r="textAreaRight" b="textAreaBottom"/>
            <a:pathLst>
              <a:path w="21600" h="29305">
                <a:moveTo>
                  <a:pt x="3600" y="0"/>
                </a:moveTo>
                <a:arcTo wR="3600" hR="3600" stAng="16200000" swAng="-5400000"/>
                <a:lnTo>
                  <a:pt x="0" y="25705"/>
                </a:lnTo>
                <a:arcTo wR="3600" hR="3600" stAng="10800000" swAng="-5400000"/>
                <a:lnTo>
                  <a:pt x="18000" y="29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на первый план активных детей. У неактивных детей возникает чувство неуверенности в себе, волнение, страх перед выступл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«навязывают» детям свое видение ро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сами изготавливают атрибуты к спектаклям, тем самым лишая детей возможности проявлять творче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сполняют роль, которую дал им воспитатель, не задумываясь о том, что рядом тоже ребенок и с ним нужно согласовать свои действ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войная стрелка влево/вправо 6"/>
          <p:cNvSpPr/>
          <p:nvPr/>
        </p:nvSpPr>
        <p:spPr>
          <a:xfrm>
            <a:off x="4067280" y="1844640"/>
            <a:ext cx="1081080" cy="216000"/>
          </a:xfrm>
          <a:prstGeom prst="left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войная стрелка влево/вправо 9"/>
          <p:cNvSpPr/>
          <p:nvPr/>
        </p:nvSpPr>
        <p:spPr>
          <a:xfrm>
            <a:off x="4067280" y="2637000"/>
            <a:ext cx="108108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Двойная стрелка влево/вправо 10"/>
          <p:cNvSpPr/>
          <p:nvPr/>
        </p:nvSpPr>
        <p:spPr>
          <a:xfrm>
            <a:off x="4067280" y="3789360"/>
            <a:ext cx="1081080" cy="216000"/>
          </a:xfrm>
          <a:prstGeom prst="left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войная стрелка влево/вправо 11"/>
          <p:cNvSpPr/>
          <p:nvPr/>
        </p:nvSpPr>
        <p:spPr>
          <a:xfrm>
            <a:off x="4067280" y="4724280"/>
            <a:ext cx="1081080" cy="21744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6048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599840"/>
            <a:ext cx="7848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дети знают гораздо больше, чем их сверстники 10−15 лет назад, они быстрее решают логические задачи, но значительно реже восхищаются и удивляются, возмущаются и пережив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чаще дети проявляют равнодушие и чёрствость, их интересы, как правило, ограничены, а игры отличаются однообразностью. Многие дошкольники увлечены компьютерами, и взрослые, зачастую идут на поводу у детей, приобретая компьютерные игры-войны с монстрами, вампирами, не задумываясь о том, какой вред это наносит личностному развитию ребёнка. Как правило, такие дети не умеют занять себя в свободное время и на окружающий мир смотрят без удивления и особого интереса, как потребители, а не твор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5473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560" y="1988640"/>
            <a:ext cx="7705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формирования творческих способностей детей старшего дошкольного возраста средствами театраль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647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и совершенствовать речевые способности  и уме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647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пособность свободно и раскрепощено держаться при выступ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647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навы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647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к импровизации средствами мимики, выразительных движений и инто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647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коллектив единомышленников (родители-педагоги-дети) по организации театрализованной деятельности в образовательном учреждении и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647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1160" indent="647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640" y="1600200"/>
            <a:ext cx="77040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разработке пошаговой модели театрализованной деятельности с детьми 5-6 лет, направленной на развитие у них творческих способностей, строящейся те только на классических, но и современных произведениях и мультфильм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42920" y="1341360"/>
            <a:ext cx="727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GB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литературы по проблем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                                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идактических игр по коррекции речевого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идактических упражнений по развитию коммуникативных способнос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 обеспечение игрового уголк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 гостях у сказк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но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и приемов для развития творческих способностей детей дошкольного возраста через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состояния игровой среды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ой деятельности детей дошкольного возрас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проведение  откры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ого занятия: « Волшебный мир театра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проведение откры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  «Здесь русский дух, тут Русью пахнет…»    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театральных вечерах для детей "В гостях у сказки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методов и приемов содержания работы с детьми и родителей по проблеме исследования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 подбор атрибутов: декораций, масок, кукол и игрушек, костюмов и т.д. для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бесед и консультаций для р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8:35:40Z</dcterms:created>
  <dc:creator>Елена</dc:creator>
  <dc:description/>
  <dc:language>en-US</dc:language>
  <cp:lastModifiedBy>Комп</cp:lastModifiedBy>
  <dcterms:modified xsi:type="dcterms:W3CDTF">2015-03-20T08:41:03Z</dcterms:modified>
  <cp:revision>49</cp:revision>
  <dc:subject/>
  <dc:title>Слайд 1</dc:title>
</cp:coreProperties>
</file>