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dt" idx="64"/>
          </p:nvPr>
        </p:nvSpPr>
        <p:spPr>
          <a:xfrm>
            <a:off x="38462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ftr" idx="65"/>
          </p:nvPr>
        </p:nvSpPr>
        <p:spPr>
          <a:xfrm>
            <a:off x="-36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 type="sldNum" idx="66"/>
          </p:nvPr>
        </p:nvSpPr>
        <p:spPr>
          <a:xfrm>
            <a:off x="384624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D4A30-7033-41D1-B0A4-439F806903E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BACEE-A00F-46DF-84B2-45AE418CED9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F60E4-A7E8-475E-9CA6-806E2363E45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26744-9642-49ED-9331-3AA1D38CD7F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D7810-8923-4919-A9D7-C1AA0DBC2E0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491-3534-454F-8533-7F0830B8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AA9-D9E4-4BF9-B587-9EE539EE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B5F9C-2EA5-4EB6-B401-649415D7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F8E089-4AC6-4EC9-AD59-56DA1708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836791-DC02-403A-BEC3-52D406C1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D349A2-1B84-4CA2-A8D3-35C85108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31FDE0-A589-4AB0-98A4-EA872B2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C56E27-9A9A-44A0-AC16-AEFDF2B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DE6E54-594B-4750-9F57-42E4C474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ABC0C9-1468-424A-90E7-FCA706F8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0521CF-2053-4CFA-8A16-8CA374A4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9E7ED-34CA-4C8A-BE25-3D88256B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506-AF0F-44E1-9B19-6B82295E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F2345-21C5-40F4-898A-5FCB5CFB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03ED5-542F-4253-9EAE-B76263BC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07BC3-9BBA-4D1C-93CB-46C95E9E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65CDD-F90E-43FC-A70D-C4B22106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4670C-98D9-4AB2-8825-D3DA7170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BB906-44FD-4FAD-AAD5-66ACB348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41E0D-A454-49FA-BDC9-07C6C4FE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7E879-CA8E-453D-A2CF-E2C25F96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2C536-16E8-4D4B-95FC-2361CF91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7C4F6-A337-4B79-BFB0-C3B930EE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DAC-C32E-4A5D-80FD-3A0C9F69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4F89E-5B86-48BE-89E6-12E6859F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68D41A-3D0A-4E4A-9470-E13E5323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778530-96A8-4490-8F23-42E5C9FE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AD395A-F5D1-49EB-A774-2058CA89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7C2DAC-0A5B-4334-A822-687F825F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123ABE-243B-4797-BD10-AE6B0F85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0C1579-DA1F-4150-B115-C49E83AF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1E2A01-99E1-4079-BCF5-DE159024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D0FBC4-8C4F-4CF9-A2D4-F1244675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8D3355-175A-4A5D-9F04-22B0B270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6DB6-0938-4C11-81E4-374AF8E2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B35A2A-899D-480E-86D6-0CA3BAF9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C6BE02-0D93-4A13-AAD6-E1E6EB3D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2D321E-47F1-4C3B-A7B1-9FF812AF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24D42-27F6-4D67-9733-BC47D4C1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21AFE-9653-4951-8889-35B6D76A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34BD1-1B94-41C4-9A46-7F3038A0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485E8-EF26-4C48-AF56-CAA4B161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65AA5-B877-4687-8C81-CDC1D993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B7A43-2832-4F70-8788-EADB328C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F402D-B9C9-4002-8F58-1247AD47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45A1-D77C-4216-9517-A7991437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EDB99-EE82-4865-BAAB-3701021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9FC28-D80F-4223-9F4E-917F4BF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FE556-3BE5-41FF-B6B3-11528C98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E945A-6607-44D8-A7F6-A8815E1D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D2622-BFE4-4D36-9424-11BA4387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7C569E-FC32-4B5C-A75E-57E0B41A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28A4C5-7EE7-4956-87C1-37D96D07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DB962C-F6EF-4095-A424-19AE1242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8CEC3C-512E-4CED-A462-06836C25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1E6930-98CE-4C31-93CF-2F3A9B1A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D9EA-958D-4D1A-8271-39EEB16C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DE8119-4A74-4561-8D81-D5E52D36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74E392-888E-4A24-ADE1-BDAD8A4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BFA146-4A8D-4437-BB5A-8E56D89B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65EFFC-3EEF-4763-8CEE-D6698F3B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4898B7-B529-42C6-B6CF-73CFA54D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464A93-2C40-47E5-B9E8-EDBE89CA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B85B04-F2F2-448B-859A-10B48FF6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A3E293-A290-4368-98C2-D51772F4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161B3D-4252-456C-A481-1CE4F479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54FCD4-0894-4345-9A5F-34381C84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F846-C3AE-462B-B1E5-D2D89ABC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A3E3D3-5A63-4082-A67B-876B6BF4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1AD3F3-EE0E-4D63-A297-F5E596F2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14792C-6CDD-4F6B-9D34-10A95CE5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AF0474-53FC-4701-957A-82660B9D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DF372E-666E-4839-A9A7-418EA437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2A57AA-8376-45D3-919B-82455DE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2F732B-A957-4E1F-A8F7-9C585E5B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72D256-B475-44BD-BD67-2964721B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D49061-6D9D-4E98-9F0D-EF31F909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4A0EA4-295F-4279-A7A5-5EF993D6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7CDC-390B-464C-A454-4A53BB11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8E31BD-3640-4619-8A6C-5C803F77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BA41FD-2D16-4AF5-B10C-47CAD02E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C8CD19-8756-401C-BA90-1FCBC235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AB7DE0-F358-413C-9115-91CD29B3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557679-A27D-4248-91E8-60C498A9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369887-D8AB-4E19-A519-4CC10C1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409FA5-74C0-40F4-A962-71CAB2A3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96E89B-81F7-43BE-9051-60E4BE1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AAF04C-5AD2-4ADA-800C-E34A5A36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89E37C-4C94-45A4-990B-669FCFC1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CC54-3B12-4250-89CE-59A52793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A40DD2-A895-497E-B85B-85F82692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54AB2-6F27-44B9-8AF0-0B10AC34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F94D1-837E-4ABF-B45B-653A1077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6B8A1-B530-41DA-B292-5DAD8490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88D08-97AD-46C3-A5B9-A4E7F32D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8246A-39F0-40DA-B992-0C75B4FA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DE619-DEB1-4216-93A9-929FB974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CE366-7E61-427C-950C-CC779D38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AD3E1-EEEC-4B97-8973-202E1FFB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FD914-8615-4B6A-8AAF-5B30B3F2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57A7-1AFA-4754-AE4E-2B29FE5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C2248-55D2-482E-A52B-671CBDAE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C762D-48D9-49A7-BF43-EE7341A7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3BDF82-85D6-442D-A5B2-80340464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7FF7CA-47A7-423F-8EF3-23CF38E0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6085BF-45D7-425C-ADCE-1B0D9AAA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182918-9FA5-4BBE-AD65-4254A368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ADC487-5324-47C8-A8C6-E97F3BA7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9C194D-B504-4458-8078-21603D68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675074-B64B-4449-AB87-50A78D1D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389DCA-CD89-4EF4-922A-7AFE843F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87F-17CE-454C-AC82-419E4112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C0E5-0548-4AD3-A019-8A1965EF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3F1363-6EEB-401C-A45A-2A2CBCC1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D79D6F-98DA-4BB8-8B97-1CF6013A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D3713B-8775-4AE1-A588-5DA76978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9A737F-D766-4F93-A948-D633B2C8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2B0CEE-B637-4C27-8FBA-308D54B7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3CFE3-36C8-4522-9A98-124477AB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FBF67-9455-4983-B8A6-E48EED38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43BA3-355C-43B5-83A4-17C61FD5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788FD-18BA-4EE1-98FA-061D47FA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D5B46-196D-44D6-96B9-EE242DD2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456B-B2AD-48C2-A205-BD1604C1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B24B3-F449-4304-8CFF-52E95C02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9E3C4-5A21-4C7F-8A60-6022BEE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506CB-79D8-4E0D-AAC4-C165D548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D4740-EC4C-401F-9881-2B007809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E9DA9-FFD6-4751-9008-20EA2B81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45E50-911B-4829-9FB3-25B0008F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1390A-A7C9-4AA4-9BD4-0161277E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62915D-7D40-4C8C-83D3-F76108A5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135AC5-1E3D-41F2-B3A7-48191F68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2690E4-EB93-4F99-BDED-723CF16E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320C-C898-4571-8A70-B3D4B623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78425E-A996-404C-8E04-F9A7C006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86B848-7470-4DE9-9F34-2BBECE71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A2993C-894C-47CF-A993-4AE16833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205587-5501-4F37-A2B3-CA313C7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8780DB-09A0-405C-94E3-850758F1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D13D17-B94E-4E8C-BB96-1EDDE6AF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88CCB2-0B39-4964-8DB1-4C5339F9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5394D9-E92E-43D4-A596-A06AB6F6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83C70B-7785-4706-9EF1-73F1CC6C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BCEF0A-301A-4ADA-8950-9AFEF6E8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6F2F-CC4B-4D17-8D45-2F44EC97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747F9C-32EF-4857-A8FA-7EF7B193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0BEBCB-DB03-4391-B7DC-555A434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9A71D2-28F5-4C5A-8E4B-64C18943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A7F773-19A8-4210-9CC3-3BEA8874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1EDB6E-0A4C-4B60-81F9-839ACD36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9A7D0C-5FD5-430F-A120-866572B9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94A4A0-D409-4B78-9606-EF4621F4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388A51-89E7-400F-B646-8EFD7167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73FC44-3B23-43B4-98A2-4CB96E0D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27DC54-BBA1-41B0-92D2-6CAED95B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66B2-9880-4018-9738-E0716FE2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05A61E-8D66-4054-BC5F-E1E79FC0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07D7116-9C81-44E3-90FA-5CCEE97A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C1858FB-611E-48C8-8980-FCFD8F0C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8B8B439-C2CD-4EB1-B38A-136663A4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268336A-FB56-4C82-9CEB-98696D4F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B45247-91F4-434C-B3CD-5255C0AA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2B9838-7D22-41B0-AFA8-F6776625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42591D-DBB2-4D5C-8B6A-5378E586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EDFCDD-D9E6-4BF5-AAEA-FC8A9A0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F71C1CD-0175-4DF4-BB77-D4550B43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4E24-FD07-45E9-A265-37A40221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BA79743-8A2E-4C74-A658-6DD92473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36E0FE7-9E3F-4B3B-A9CE-EF42D519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CFFDDF-B14B-4353-8A28-E40198D5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F07F-48AF-4C08-A5B0-57F44A43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E745-84FA-4265-BCDA-CA07FA9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C7DD-0D35-4CA0-8E7C-E55DB910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815F-E8C0-42AE-ABE6-169C7CB1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147-1D39-4B2E-A61E-FAE8CCF2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EBD0-5D49-4A07-8AA6-7164D0DA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5321B-1D7C-465D-8E99-14132F8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DCA80-8632-4419-B79C-2E9EAF4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8BC03-E599-4DE4-8EEF-75C21B72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83CC-D2CE-4F64-80F3-5B836013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53C3-54FB-4497-A7DC-5675CE92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0780-CAC8-4875-ADC3-1AE8DBA5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64CB-0A90-40CE-8C80-5BDD63E5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D227-D932-42AD-81E2-B2393005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483D-4544-429E-821B-C6A108E9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F88-AE01-4FF3-80A2-523968C5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88CD-2F9E-460D-8B3D-D683F8B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A43B4-56C5-4F92-BC68-2C54DC66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CD2F0-683F-4E33-A59F-A5771172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3331-CB02-450B-B71D-B161851C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8B25-EB45-4CEA-AA1E-C41A57C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2314-6BE8-4902-ADA5-39A6A0C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B36ED-7E76-4C23-B4A9-B06D482C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6A9A3-2D8E-46D2-BBED-AAA307C7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0F024-5665-4994-B734-86D5727B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14F67-5798-4AEC-838A-6DC269E5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7CF-A348-4EB9-90D2-4A0320A8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9D486-8BCC-4BB7-883B-D87FE3AC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6BAA2-168B-46C0-B3BC-7BBD66F2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6D81F-77EC-4F78-9F29-FBA4CCC3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038B4-1A1B-4E1C-99FC-88BFE394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92398-6700-4DF0-8BB8-2D1DC864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457D0-0AE6-49D2-A273-023A8B88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ADF99-1D0D-42F1-BDF2-F7366970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0419F-1565-4911-886C-C831A07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F76DE-4B08-4F24-9C48-31314E07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15C64-E6DA-4C89-A7D8-60534EF0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F84-B79C-4D37-860B-B7F9C6BA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6D1E1-DFA0-4A91-A01A-A619CF99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6FD9-437B-4D24-B76A-7743181F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CF528-8C8D-4771-8FBE-FC15C032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8E2DB-5D81-4FB2-B2B2-CD3A0CF5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7A784-A434-4D68-AFDF-F5F16EE3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9D43-E565-45E5-9BFC-F63C777D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09EF-1870-4D31-82DC-2792A102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C04EF-8BBC-44A8-B395-E25CE09C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EEA39-51C5-4D8D-8B63-7474186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071D2-6912-4D00-9659-105E2B9F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5B8-358F-43FE-8330-F09FC439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7D1F8-5A4B-448A-A63D-DF66244D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70963-F4CB-43DE-B006-C9F7964A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03EEF-530E-4E4B-A9D9-7B7CF508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33F06-0491-4DFE-8BA1-C11ED45E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BE68A-66CE-4E6F-B32A-7AF3710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012AC-159E-44B8-8D86-47C2F99D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AC74F-6681-4F2B-847F-6D9C6FDD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F38D9-4B13-4E16-91D4-D012777E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374AE-E762-45CD-9E47-B26BD953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D2100-48F0-44EE-8795-38470B86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46A-5D2D-4C31-B75F-DF98C63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5E087-D9AA-43FC-BA53-A5893DB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E6D5B-FA56-482F-A777-B23FEA81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2D6CD-BD66-41DE-9F89-83520330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99D04-81EA-48E7-AB77-B482DAB8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82994-7CDA-45AD-81EE-55FBC41C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E60A9-2B25-40A2-ABB7-445A4A89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9A97AF-A80C-4386-B599-FE4DEB02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4E64FE-2923-44E0-9206-F9CE3B1A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3691F-4EE9-4C1E-99FD-B4336358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F604D-FB5A-47C8-8A8D-D951BB26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F51-B11C-4EF2-BF9E-60A82A38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00A87D-D675-4352-A53C-6450AC20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1C91A-997D-4FA8-BB5C-E646B4A7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34D4C7-CF54-46B5-AB5D-FC39E4CD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EEB7B7-89D8-4600-B6D0-37DF858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E60073-DFB3-4763-9C4B-6D8735BB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64D027-C059-4B23-A8A0-F0A9FCC9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923993-38FD-414A-9471-443110B9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6EE772-43DD-4968-BC39-A8381CE5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8DD83A-71D8-4C10-B80E-5692DA05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004683-E7F9-4301-A50F-BD0FF91C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44B965-D323-4E5F-8A22-7D32188259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B25CC1-D695-4F43-AD66-72D309AEAC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BA6678-1FF2-43EA-8EE7-A29BC773F3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EE2D53-BAC4-4BA2-BAFA-241D1C6F1A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6676CF-991B-4334-8696-531B816F19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92EBD6-A449-498A-9F34-6B203EE34A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4CC489-6B77-4FE5-94E0-A4F258644B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6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8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7892E3-1F5F-4E68-8513-617B10DF21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183E77-B419-4F36-90C0-BEF8E4670A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2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3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4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7DF24D-C89B-45AB-83BE-2EA047CD0E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572F99-CAA4-4778-B589-A2F5EF2459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3A9BEA-8AEB-4CDC-8CAC-F412466819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5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sldNum" idx="5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5533D5-AD6C-409E-B6EE-D5FF2331E3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ftr" idx="6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6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1FFF20-4C29-4963-91F6-07BBF7E6BD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ftr" idx="6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EC6379-45C7-4950-8A3D-4B3051A08F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3A3D8D-987D-40DD-B8F5-1D536CE1AD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A58453-FA29-4623-BC5C-6C9CF0A63C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93ED40-650C-47AA-87C8-A1E5658721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FAEEDB-E97F-48EE-9942-A5ADAAC5F3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6A6A62-4A3F-4BA8-98CF-1977A3E288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FD191A-E5A0-4533-A2C5-EAA4FDD8C8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AutoShape 1"/>
          <p:cNvSpPr/>
          <p:nvPr/>
        </p:nvSpPr>
        <p:spPr>
          <a:xfrm>
            <a:off x="611280" y="2349360"/>
            <a:ext cx="7772400" cy="310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3"/>
          <p:cNvSpPr/>
          <p:nvPr/>
        </p:nvSpPr>
        <p:spPr>
          <a:xfrm>
            <a:off x="1000080" y="2000160"/>
            <a:ext cx="7143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Применение граф- схе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при доказательстве теорем и решении зада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геометрия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4"/>
          <p:cNvSpPr/>
          <p:nvPr/>
        </p:nvSpPr>
        <p:spPr>
          <a:xfrm>
            <a:off x="4000680" y="5643720"/>
            <a:ext cx="4071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нджарикова Т.Н. – учитель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4"/>
          <p:cNvSpPr/>
          <p:nvPr/>
        </p:nvSpPr>
        <p:spPr>
          <a:xfrm>
            <a:off x="1143000" y="642960"/>
            <a:ext cx="70722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КОУ «Алцынхутинская СОШ имени Г.О. Рокчинск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AutoShape 1"/>
          <p:cNvSpPr/>
          <p:nvPr/>
        </p:nvSpPr>
        <p:spPr>
          <a:xfrm>
            <a:off x="1511280" y="368280"/>
            <a:ext cx="7307280" cy="898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 u="sng">
                <a:solidFill>
                  <a:srgbClr val="cc0066"/>
                </a:solidFill>
                <a:uFillTx/>
                <a:latin typeface="Lucida Sans Unicode"/>
              </a:rPr>
              <a:t>Первый признак равенства треугольник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6013440" y="1084320"/>
            <a:ext cx="2808360" cy="1616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2"/>
          <a:stretch/>
        </p:blipFill>
        <p:spPr>
          <a:xfrm>
            <a:off x="5818320" y="2760840"/>
            <a:ext cx="3074760" cy="1714320"/>
          </a:xfrm>
          <a:prstGeom prst="rect">
            <a:avLst/>
          </a:prstGeom>
          <a:ln w="0">
            <a:noFill/>
          </a:ln>
        </p:spPr>
      </p:pic>
      <p:sp>
        <p:nvSpPr>
          <p:cNvPr id="1067" name="AutoShape 6"/>
          <p:cNvSpPr/>
          <p:nvPr/>
        </p:nvSpPr>
        <p:spPr>
          <a:xfrm flipV="1">
            <a:off x="6904080" y="2457360"/>
            <a:ext cx="46080" cy="46080"/>
          </a:xfrm>
          <a:prstGeom prst="pie">
            <a:avLst/>
          </a:prstGeom>
          <a:noFill/>
          <a:ln w="76320">
            <a:solidFill>
              <a:srgbClr val="ff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9"/>
          <p:cNvSpPr/>
          <p:nvPr/>
        </p:nvSpPr>
        <p:spPr>
          <a:xfrm>
            <a:off x="6589800" y="3933720"/>
            <a:ext cx="209520" cy="252360"/>
          </a:xfrm>
          <a:prstGeom prst="pie">
            <a:avLst/>
          </a:prstGeom>
          <a:noFill/>
          <a:ln w="76320">
            <a:solidFill>
              <a:srgbClr val="ff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AutoShape 10"/>
          <p:cNvSpPr/>
          <p:nvPr/>
        </p:nvSpPr>
        <p:spPr>
          <a:xfrm>
            <a:off x="179280" y="2133720"/>
            <a:ext cx="5761080" cy="398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стороны и угол между н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треугольника рав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о двум сторонам и уг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ними другого треугольн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такие треугольники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AutoShape 1"/>
          <p:cNvSpPr/>
          <p:nvPr/>
        </p:nvSpPr>
        <p:spPr>
          <a:xfrm>
            <a:off x="1433520" y="523800"/>
            <a:ext cx="3638520" cy="1309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Дано: ∆ABC, ∆A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B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C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AB=A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B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AC=A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C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2"/>
          <p:cNvSpPr/>
          <p:nvPr/>
        </p:nvSpPr>
        <p:spPr>
          <a:xfrm>
            <a:off x="2664000" y="1484280"/>
            <a:ext cx="133164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A = A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3"/>
          <p:cNvSpPr/>
          <p:nvPr/>
        </p:nvSpPr>
        <p:spPr>
          <a:xfrm>
            <a:off x="1349280" y="1989000"/>
            <a:ext cx="378612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Доказать: ∆ABC = ∆A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B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C</a:t>
            </a:r>
            <a:r>
              <a:rPr b="0" lang="ru-RU" sz="20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4"/>
          <p:cNvSpPr/>
          <p:nvPr/>
        </p:nvSpPr>
        <p:spPr>
          <a:xfrm>
            <a:off x="374760" y="2673360"/>
            <a:ext cx="224604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5"/>
          <p:cNvSpPr/>
          <p:nvPr/>
        </p:nvSpPr>
        <p:spPr>
          <a:xfrm>
            <a:off x="395280" y="3176640"/>
            <a:ext cx="5508720" cy="1461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Наложим треугольник АВС на треугольник A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B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C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, так чтобы совместились вершины и стороны равных углов А и А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6"/>
          <p:cNvSpPr/>
          <p:nvPr/>
        </p:nvSpPr>
        <p:spPr>
          <a:xfrm>
            <a:off x="36360" y="4581360"/>
            <a:ext cx="9085320" cy="63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Стороны треугольников АВ и А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В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, АС и А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С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совместятся, так как AB=A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B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АС=А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С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. Значит, точки В и В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, С и С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также совместятс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7"/>
          <p:cNvSpPr/>
          <p:nvPr/>
        </p:nvSpPr>
        <p:spPr>
          <a:xfrm>
            <a:off x="431640" y="5553000"/>
            <a:ext cx="8280720" cy="63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Следовательно, BC = B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C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и ∆ABC полностью совместится с ∆A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B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C</a:t>
            </a:r>
            <a:r>
              <a:rPr b="0" lang="ru-RU" sz="1800" spc="-1" strike="noStrike" baseline="-25000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8"/>
          <p:cNvSpPr/>
          <p:nvPr/>
        </p:nvSpPr>
        <p:spPr>
          <a:xfrm>
            <a:off x="3749760" y="6165720"/>
            <a:ext cx="2349360" cy="363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464646"/>
                </a:solidFill>
                <a:latin typeface="Lucida Sans Unicode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Picture 9" descr=""/>
          <p:cNvPicPr/>
          <p:nvPr/>
        </p:nvPicPr>
        <p:blipFill>
          <a:blip r:embed="rId1"/>
          <a:stretch/>
        </p:blipFill>
        <p:spPr>
          <a:xfrm>
            <a:off x="5796000" y="512640"/>
            <a:ext cx="3066840" cy="33912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0" descr=""/>
          <p:cNvPicPr/>
          <p:nvPr/>
        </p:nvPicPr>
        <p:blipFill>
          <a:blip r:embed="rId2"/>
          <a:stretch/>
        </p:blipFill>
        <p:spPr>
          <a:xfrm>
            <a:off x="5796000" y="512640"/>
            <a:ext cx="3219480" cy="33051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1" descr=""/>
          <p:cNvPicPr/>
          <p:nvPr/>
        </p:nvPicPr>
        <p:blipFill>
          <a:blip r:embed="rId3"/>
          <a:stretch/>
        </p:blipFill>
        <p:spPr>
          <a:xfrm>
            <a:off x="5759280" y="522360"/>
            <a:ext cx="3103560" cy="30859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2" descr=""/>
          <p:cNvPicPr/>
          <p:nvPr/>
        </p:nvPicPr>
        <p:blipFill>
          <a:blip r:embed="rId4"/>
          <a:stretch/>
        </p:blipFill>
        <p:spPr>
          <a:xfrm>
            <a:off x="5796000" y="512640"/>
            <a:ext cx="3114720" cy="30956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3" descr=""/>
          <p:cNvPicPr/>
          <p:nvPr/>
        </p:nvPicPr>
        <p:blipFill>
          <a:blip r:embed="rId5"/>
          <a:stretch/>
        </p:blipFill>
        <p:spPr>
          <a:xfrm>
            <a:off x="5759280" y="512640"/>
            <a:ext cx="3141720" cy="3095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4" descr=""/>
          <p:cNvPicPr/>
          <p:nvPr/>
        </p:nvPicPr>
        <p:blipFill>
          <a:blip r:embed="rId6"/>
          <a:stretch/>
        </p:blipFill>
        <p:spPr>
          <a:xfrm>
            <a:off x="5724360" y="496800"/>
            <a:ext cx="3219480" cy="30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str">
                                      <p:cBhvr additive="repl">
                                        <p:cTn id="7" dur="8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10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8" dur="8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10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14" dur="1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18" dur="1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22" dur="1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26" dur="24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30" dur="1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str">
                                      <p:cBhvr additive="repl">
                                        <p:cTn id="35" dur="80" fill="hold"/>
                                        <p:tgtEl>
                                          <p:spTgt spid="1075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10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36" dur="80" fill="hold"/>
                                        <p:tgtEl>
                                          <p:spTgt spid="1075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10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 fill="hold"/>
                                        <p:tgtEl>
                                          <p:spTgt spid="1075"/>
                                        </p:tgtEl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str">
                                      <p:cBhvr additive="repl">
                                        <p:cTn id="42" dur="80" fill="hold"/>
                                        <p:tgtEl>
                                          <p:spTgt spid="1076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10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str">
                                      <p:cBhvr additive="repl">
                                        <p:cTn id="43" dur="80" fill="hold"/>
                                        <p:tgtEl>
                                          <p:spTgt spid="1076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10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 fill="hold"/>
                                        <p:tgtEl>
                                          <p:spTgt spid="1076"/>
                                        </p:tgtEl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ОВАНИЕ ГРАФ – СХЕМ ПРИ ОБУЧЕНИИ ГЕОМЕТРИ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085" name="Picture 12" descr="http://wwii-soldat.narod.ru/200/IMAGES/Erdniev_P.M.jpg"/>
          <p:cNvPicPr/>
          <p:nvPr/>
        </p:nvPicPr>
        <p:blipFill>
          <a:blip r:embed="rId1"/>
          <a:stretch/>
        </p:blipFill>
        <p:spPr>
          <a:xfrm>
            <a:off x="428760" y="1571760"/>
            <a:ext cx="2643120" cy="3700440"/>
          </a:xfrm>
          <a:prstGeom prst="rect">
            <a:avLst/>
          </a:prstGeom>
          <a:ln w="0">
            <a:noFill/>
          </a:ln>
        </p:spPr>
      </p:pic>
      <p:sp>
        <p:nvSpPr>
          <p:cNvPr id="1086" name="TextBox 4"/>
          <p:cNvSpPr/>
          <p:nvPr/>
        </p:nvSpPr>
        <p:spPr>
          <a:xfrm>
            <a:off x="4786200" y="1357200"/>
            <a:ext cx="3786480" cy="15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Я слышу и я забыв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Я вижу и я запоми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Я делаю и я поним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итайская послов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Прямоугольник 6"/>
          <p:cNvSpPr/>
          <p:nvPr/>
        </p:nvSpPr>
        <p:spPr>
          <a:xfrm>
            <a:off x="2928960" y="3000240"/>
            <a:ext cx="600084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 algn="just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 u="sng">
                <a:solidFill>
                  <a:srgbClr val="675a00"/>
                </a:solidFill>
                <a:uFillTx/>
                <a:latin typeface="Times New Roman"/>
                <a:ea typeface="Times New Roman"/>
              </a:rPr>
              <a:t>«Укрупнение дидактических единиц, </a:t>
            </a:r>
            <a:r>
              <a:rPr b="1" lang="ru-RU" sz="2400" spc="-1" strike="noStrike">
                <a:solidFill>
                  <a:srgbClr val="675a00"/>
                </a:solidFill>
                <a:latin typeface="Times New Roman"/>
                <a:ea typeface="Times New Roman"/>
              </a:rPr>
              <a:t>пишет  академик РАО П. М. Эрдниев- </a:t>
            </a:r>
            <a:br>
              <a:rPr sz="2400"/>
            </a:br>
            <a:r>
              <a:rPr b="1" lang="ru-RU" sz="2400" spc="-1" strike="noStrike" u="sng">
                <a:solidFill>
                  <a:srgbClr val="675a00"/>
                </a:solidFill>
                <a:uFillTx/>
                <a:latin typeface="Times New Roman"/>
                <a:ea typeface="Times New Roman"/>
              </a:rPr>
              <a:t>это путь  повышения  сознательности   усвоения  знаний  посредством разумного   сочетания   логической (словесной) и образной(рисуночной)   подачи  одного и того же содерж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Й ПРИЗНАК РАВЕНСТВА ТРЕУГОЛЬНИКОВ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089" name="Picture 23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2808360" cy="16160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24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3075120" cy="1714680"/>
          </a:xfrm>
          <a:prstGeom prst="rect">
            <a:avLst/>
          </a:prstGeom>
          <a:ln w="0">
            <a:noFill/>
          </a:ln>
        </p:spPr>
      </p:pic>
      <p:sp>
        <p:nvSpPr>
          <p:cNvPr id="1091" name="Прямоугольник 6"/>
          <p:cNvSpPr/>
          <p:nvPr/>
        </p:nvSpPr>
        <p:spPr>
          <a:xfrm>
            <a:off x="1500120" y="3643200"/>
            <a:ext cx="66438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 = А</a:t>
            </a:r>
            <a:r>
              <a:rPr b="1" lang="ru-RU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r>
              <a:rPr b="1" lang="ru-RU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А=А</a:t>
            </a:r>
            <a:r>
              <a:rPr b="1" lang="ru-RU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АС = А</a:t>
            </a:r>
            <a:r>
              <a:rPr b="1" lang="ru-RU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С =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r>
              <a:rPr b="1" lang="ru-RU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рямая соединительная линия 10"/>
          <p:cNvSpPr/>
          <p:nvPr/>
        </p:nvSpPr>
        <p:spPr>
          <a:xfrm flipH="1">
            <a:off x="2355840" y="4145040"/>
            <a:ext cx="1440" cy="7142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Прямая соединительная линия 12"/>
          <p:cNvSpPr/>
          <p:nvPr/>
        </p:nvSpPr>
        <p:spPr>
          <a:xfrm flipH="1">
            <a:off x="7214760" y="4145040"/>
            <a:ext cx="1800" cy="7142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Прямая соединительная линия 14"/>
          <p:cNvSpPr/>
          <p:nvPr/>
        </p:nvSpPr>
        <p:spPr>
          <a:xfrm>
            <a:off x="2357280" y="4857840"/>
            <a:ext cx="200052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Прямая соединительная линия 18"/>
          <p:cNvSpPr/>
          <p:nvPr/>
        </p:nvSpPr>
        <p:spPr>
          <a:xfrm flipH="1" flipV="1">
            <a:off x="4714560" y="4857840"/>
            <a:ext cx="250020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Прямая со стрелкой 20"/>
          <p:cNvCxnSpPr/>
          <p:nvPr/>
        </p:nvCxnSpPr>
        <p:spPr>
          <a:xfrm flipH="1">
            <a:off x="4570200" y="4144680"/>
            <a:ext cx="3600" cy="929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AutoShape 1"/>
          <p:cNvSpPr/>
          <p:nvPr/>
        </p:nvSpPr>
        <p:spPr>
          <a:xfrm>
            <a:off x="287280" y="-142920"/>
            <a:ext cx="8642520" cy="650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&lt;А = &lt;А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В[А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)       А(А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)     АС[А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В = А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                                  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С=А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В (А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)                                      АС (А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(В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)                                           С (С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С (В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∆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ВС (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∆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∆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ВС = 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∆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рямая соединительная линия 29"/>
          <p:cNvSpPr/>
          <p:nvPr/>
        </p:nvSpPr>
        <p:spPr>
          <a:xfrm flipV="1">
            <a:off x="5571360" y="149976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9" name="Прямая со стрелкой 31"/>
          <p:cNvCxnSpPr/>
          <p:nvPr/>
        </p:nvCxnSpPr>
        <p:spPr>
          <a:xfrm flipH="1">
            <a:off x="4570200" y="713880"/>
            <a:ext cx="3600" cy="5007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100" name="Прямая со стрелкой 33"/>
          <p:cNvCxnSpPr/>
          <p:nvPr/>
        </p:nvCxnSpPr>
        <p:spPr>
          <a:xfrm flipH="1">
            <a:off x="3141360" y="1000080"/>
            <a:ext cx="216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101" name="Прямая со стрелкой 37"/>
          <p:cNvCxnSpPr/>
          <p:nvPr/>
        </p:nvCxnSpPr>
        <p:spPr>
          <a:xfrm flipH="1">
            <a:off x="6000480" y="1000080"/>
            <a:ext cx="216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102" name="Прямая соединительная линия 39"/>
          <p:cNvSpPr/>
          <p:nvPr/>
        </p:nvSpPr>
        <p:spPr>
          <a:xfrm>
            <a:off x="3143160" y="1000080"/>
            <a:ext cx="135756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Прямая соединительная линия 41"/>
          <p:cNvSpPr/>
          <p:nvPr/>
        </p:nvSpPr>
        <p:spPr>
          <a:xfrm flipH="1" flipV="1">
            <a:off x="4642920" y="999720"/>
            <a:ext cx="135756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рямая соединительная линия 43"/>
          <p:cNvSpPr/>
          <p:nvPr/>
        </p:nvSpPr>
        <p:spPr>
          <a:xfrm flipH="1">
            <a:off x="4642920" y="714240"/>
            <a:ext cx="1800" cy="2858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рямая соединительная линия 45"/>
          <p:cNvSpPr/>
          <p:nvPr/>
        </p:nvSpPr>
        <p:spPr>
          <a:xfrm flipH="1">
            <a:off x="4498560" y="714240"/>
            <a:ext cx="1800" cy="2858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ая соединительная линия 49"/>
          <p:cNvSpPr/>
          <p:nvPr/>
        </p:nvSpPr>
        <p:spPr>
          <a:xfrm flipH="1">
            <a:off x="1641600" y="2000160"/>
            <a:ext cx="1440" cy="4287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ая соединительная линия 51"/>
          <p:cNvSpPr/>
          <p:nvPr/>
        </p:nvSpPr>
        <p:spPr>
          <a:xfrm flipH="1">
            <a:off x="3141720" y="1643040"/>
            <a:ext cx="1440" cy="785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рямая соединительная линия 53"/>
          <p:cNvSpPr/>
          <p:nvPr/>
        </p:nvSpPr>
        <p:spPr>
          <a:xfrm flipH="1">
            <a:off x="6000840" y="1643040"/>
            <a:ext cx="1440" cy="785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рямая соединительная линия 55"/>
          <p:cNvSpPr/>
          <p:nvPr/>
        </p:nvSpPr>
        <p:spPr>
          <a:xfrm flipH="1">
            <a:off x="7429680" y="1928880"/>
            <a:ext cx="1440" cy="500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Прямая соединительная линия 57"/>
          <p:cNvSpPr/>
          <p:nvPr/>
        </p:nvSpPr>
        <p:spPr>
          <a:xfrm>
            <a:off x="1643040" y="2428920"/>
            <a:ext cx="150012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Прямая соединительная линия 61"/>
          <p:cNvSpPr/>
          <p:nvPr/>
        </p:nvSpPr>
        <p:spPr>
          <a:xfrm>
            <a:off x="6000840" y="2428920"/>
            <a:ext cx="142884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2" name="Прямая со стрелкой 63"/>
          <p:cNvCxnSpPr/>
          <p:nvPr/>
        </p:nvCxnSpPr>
        <p:spPr>
          <a:xfrm flipH="1">
            <a:off x="2355480" y="2428920"/>
            <a:ext cx="216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113" name="Прямая со стрелкой 65"/>
          <p:cNvCxnSpPr/>
          <p:nvPr/>
        </p:nvCxnSpPr>
        <p:spPr>
          <a:xfrm flipH="1">
            <a:off x="6714360" y="2428920"/>
            <a:ext cx="252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114" name="Прямая со стрелкой 67"/>
          <p:cNvCxnSpPr/>
          <p:nvPr/>
        </p:nvCxnSpPr>
        <p:spPr>
          <a:xfrm flipH="1">
            <a:off x="2355480" y="3071880"/>
            <a:ext cx="2160" cy="358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115" name="Прямая со стрелкой 69"/>
          <p:cNvCxnSpPr/>
          <p:nvPr/>
        </p:nvCxnSpPr>
        <p:spPr>
          <a:xfrm flipH="1">
            <a:off x="6714360" y="2999880"/>
            <a:ext cx="2520" cy="429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116" name="Прямая соединительная линия 71"/>
          <p:cNvSpPr/>
          <p:nvPr/>
        </p:nvSpPr>
        <p:spPr>
          <a:xfrm flipH="1">
            <a:off x="2355840" y="3859200"/>
            <a:ext cx="1440" cy="2858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Прямая соединительная линия 73"/>
          <p:cNvSpPr/>
          <p:nvPr/>
        </p:nvSpPr>
        <p:spPr>
          <a:xfrm flipH="1">
            <a:off x="6714720" y="3859200"/>
            <a:ext cx="1800" cy="2858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Прямая соединительная линия 75"/>
          <p:cNvSpPr/>
          <p:nvPr/>
        </p:nvSpPr>
        <p:spPr>
          <a:xfrm>
            <a:off x="2357280" y="4143240"/>
            <a:ext cx="435780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9" name="Прямая со стрелкой 77"/>
          <p:cNvCxnSpPr/>
          <p:nvPr/>
        </p:nvCxnSpPr>
        <p:spPr>
          <a:xfrm flipH="1">
            <a:off x="4570200" y="4145040"/>
            <a:ext cx="360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120" name="Прямая соединительная линия 79"/>
          <p:cNvSpPr/>
          <p:nvPr/>
        </p:nvSpPr>
        <p:spPr>
          <a:xfrm flipH="1">
            <a:off x="2069640" y="3000240"/>
            <a:ext cx="1800" cy="20019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Прямая соединительная линия 81"/>
          <p:cNvSpPr/>
          <p:nvPr/>
        </p:nvSpPr>
        <p:spPr>
          <a:xfrm flipH="1">
            <a:off x="7143840" y="3000240"/>
            <a:ext cx="1440" cy="20019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рямая соединительная линия 83"/>
          <p:cNvSpPr/>
          <p:nvPr/>
        </p:nvSpPr>
        <p:spPr>
          <a:xfrm>
            <a:off x="2071800" y="5000760"/>
            <a:ext cx="507204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Прямая со стрелкой 85"/>
          <p:cNvCxnSpPr/>
          <p:nvPr/>
        </p:nvCxnSpPr>
        <p:spPr>
          <a:xfrm flipH="1">
            <a:off x="4570200" y="4858920"/>
            <a:ext cx="3600" cy="429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124" name="Прямая со стрелкой 87"/>
          <p:cNvCxnSpPr/>
          <p:nvPr/>
        </p:nvCxnSpPr>
        <p:spPr>
          <a:xfrm flipH="1">
            <a:off x="4570200" y="5573520"/>
            <a:ext cx="3600" cy="5007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p:transition>
    <p:wipe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0" y="2571840"/>
            <a:ext cx="3571920" cy="3143160"/>
          </a:xfrm>
          <a:prstGeom prst="rect">
            <a:avLst/>
          </a:prstGeom>
          <a:ln w="0">
            <a:noFill/>
          </a:ln>
        </p:spPr>
      </p:pic>
      <p:sp>
        <p:nvSpPr>
          <p:cNvPr id="1126" name="TextBox 1"/>
          <p:cNvSpPr/>
          <p:nvPr/>
        </p:nvSpPr>
        <p:spPr>
          <a:xfrm>
            <a:off x="2286000" y="428760"/>
            <a:ext cx="492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2"/>
          <p:cNvSpPr/>
          <p:nvPr/>
        </p:nvSpPr>
        <p:spPr>
          <a:xfrm>
            <a:off x="214200" y="1285920"/>
            <a:ext cx="85010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внобедренном треугольнике АВС с основанием АС, проведена биссектриса ВД, где точка М принадлежит ВД. Докажите, что АМ=М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16"/>
          <p:cNvSpPr/>
          <p:nvPr/>
        </p:nvSpPr>
        <p:spPr>
          <a:xfrm>
            <a:off x="0" y="5500800"/>
            <a:ext cx="428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17"/>
          <p:cNvSpPr/>
          <p:nvPr/>
        </p:nvSpPr>
        <p:spPr>
          <a:xfrm>
            <a:off x="1571760" y="2428920"/>
            <a:ext cx="428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18"/>
          <p:cNvSpPr/>
          <p:nvPr/>
        </p:nvSpPr>
        <p:spPr>
          <a:xfrm>
            <a:off x="3214800" y="5500800"/>
            <a:ext cx="357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19"/>
          <p:cNvSpPr/>
          <p:nvPr/>
        </p:nvSpPr>
        <p:spPr>
          <a:xfrm>
            <a:off x="1643040" y="3929040"/>
            <a:ext cx="214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20"/>
          <p:cNvSpPr/>
          <p:nvPr/>
        </p:nvSpPr>
        <p:spPr>
          <a:xfrm>
            <a:off x="1571760" y="5572080"/>
            <a:ext cx="357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Прямоугольник 21"/>
          <p:cNvSpPr/>
          <p:nvPr/>
        </p:nvSpPr>
        <p:spPr>
          <a:xfrm>
            <a:off x="3000240" y="2357280"/>
            <a:ext cx="557244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 - р/б                   ВД - бисс.  В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 = ВМ              АВ = ВС                      1 =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М =  С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 = 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4" name="Прямая со стрелкой 23"/>
          <p:cNvCxnSpPr/>
          <p:nvPr/>
        </p:nvCxnSpPr>
        <p:spPr>
          <a:xfrm flipH="1">
            <a:off x="7429320" y="2714400"/>
            <a:ext cx="2160" cy="286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135" name="Прямая со стрелкой 25"/>
          <p:cNvCxnSpPr/>
          <p:nvPr/>
        </p:nvCxnSpPr>
        <p:spPr>
          <a:xfrm flipH="1">
            <a:off x="5285520" y="2643120"/>
            <a:ext cx="252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136" name="Прямая со стрелкой 27"/>
          <p:cNvCxnSpPr/>
          <p:nvPr/>
        </p:nvCxnSpPr>
        <p:spPr>
          <a:xfrm flipH="1">
            <a:off x="5285520" y="3286080"/>
            <a:ext cx="2520" cy="6451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137" name="Прямая соединительная линия 29"/>
          <p:cNvSpPr/>
          <p:nvPr/>
        </p:nvSpPr>
        <p:spPr>
          <a:xfrm flipH="1">
            <a:off x="3569760" y="3214800"/>
            <a:ext cx="1800" cy="3585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Прямая соединительная линия 33"/>
          <p:cNvSpPr/>
          <p:nvPr/>
        </p:nvSpPr>
        <p:spPr>
          <a:xfrm flipH="1">
            <a:off x="7429680" y="3143160"/>
            <a:ext cx="1440" cy="4287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Прямая соединительная линия 35"/>
          <p:cNvSpPr/>
          <p:nvPr/>
        </p:nvSpPr>
        <p:spPr>
          <a:xfrm>
            <a:off x="3571920" y="3571920"/>
            <a:ext cx="385776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0" name="Прямая со стрелкой 38"/>
          <p:cNvCxnSpPr/>
          <p:nvPr/>
        </p:nvCxnSpPr>
        <p:spPr>
          <a:xfrm flipH="1">
            <a:off x="5285520" y="4287600"/>
            <a:ext cx="2520" cy="5007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141" name="TextBox 39"/>
          <p:cNvSpPr/>
          <p:nvPr/>
        </p:nvSpPr>
        <p:spPr>
          <a:xfrm>
            <a:off x="1571760" y="2928960"/>
            <a:ext cx="142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0"/>
          <p:cNvSpPr/>
          <p:nvPr/>
        </p:nvSpPr>
        <p:spPr>
          <a:xfrm>
            <a:off x="1714680" y="2928960"/>
            <a:ext cx="214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Прямая соединительная линия 42"/>
          <p:cNvSpPr/>
          <p:nvPr/>
        </p:nvSpPr>
        <p:spPr>
          <a:xfrm flipH="1">
            <a:off x="7500960" y="3143160"/>
            <a:ext cx="1440" cy="15001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Прямая соединительная линия 45"/>
          <p:cNvSpPr/>
          <p:nvPr/>
        </p:nvSpPr>
        <p:spPr>
          <a:xfrm flipH="1" flipV="1">
            <a:off x="5357520" y="4642920"/>
            <a:ext cx="214308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Box 1"/>
          <p:cNvSpPr/>
          <p:nvPr/>
        </p:nvSpPr>
        <p:spPr>
          <a:xfrm>
            <a:off x="1785960" y="357120"/>
            <a:ext cx="5214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5"/>
          <p:cNvSpPr/>
          <p:nvPr/>
        </p:nvSpPr>
        <p:spPr>
          <a:xfrm>
            <a:off x="785880" y="1143000"/>
            <a:ext cx="5643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"/>
          <p:cNvSpPr/>
          <p:nvPr/>
        </p:nvSpPr>
        <p:spPr>
          <a:xfrm>
            <a:off x="0" y="875880"/>
            <a:ext cx="914400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инквейн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 – это пятистрочная стро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я строка – одно ключевое слово, определяющее содержание синквей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я строка – два прилагательных, характеризующих данное поня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я строка – три глагола, обозначающих действие в рамках заданной 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я строка – короткое предложение, раскрывающее суть темы или отношение к 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я строка – синоним ключевого слова (существительно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5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4" dur="500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7" dur="500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3" dur="500"/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500"/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Box 1"/>
          <p:cNvSpPr/>
          <p:nvPr/>
        </p:nvSpPr>
        <p:spPr>
          <a:xfrm>
            <a:off x="1785960" y="357120"/>
            <a:ext cx="5214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5"/>
          <p:cNvSpPr/>
          <p:nvPr/>
        </p:nvSpPr>
        <p:spPr>
          <a:xfrm>
            <a:off x="785880" y="1143000"/>
            <a:ext cx="5643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"/>
          <p:cNvSpPr/>
          <p:nvPr/>
        </p:nvSpPr>
        <p:spPr>
          <a:xfrm>
            <a:off x="0" y="865440"/>
            <a:ext cx="91440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дн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ый, талантл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ет, думает, пиш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упнение дидактических еди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2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мара</dc:creator>
  <dc:description/>
  <dc:language>en-US</dc:language>
  <cp:lastModifiedBy>User</cp:lastModifiedBy>
  <dcterms:modified xsi:type="dcterms:W3CDTF">2015-03-20T17:12:46Z</dcterms:modified>
  <cp:revision>42</cp:revision>
  <dc:subject/>
  <dc:title>Слайд 1</dc:title>
</cp:coreProperties>
</file>