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006-B693-40ED-A50D-DEA534F6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B6E-FC0E-44D0-88ED-847F706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3C8-3BD8-41F1-82E1-8F4A267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390-CC87-4CE3-874C-3717666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18C-36ED-4B28-9968-9634E04E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D80C-418B-40B9-B4F9-B98F7DEB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C35-FC9C-4D68-938F-3B94622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566-A8EB-4189-B64A-CC936AB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3245-1A7A-490B-8F7A-151051E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3BDE-8FC2-4425-978F-47366B5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08F2-1B26-4737-93B4-40D47A1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EB3-37BA-4E19-83C2-6C37BF9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177-D0F3-491D-8B32-F6805CD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F24-68FB-4429-9C71-A487962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2EC-1FE8-439E-8BA5-956FC63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AD9-D1CD-4243-BF25-4BFD7C76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3ADC-6F9C-465B-B187-FFAA0CF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EC3-5721-4503-B160-CBB65DB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5EA-AB99-4C0A-BBD6-7CDF369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64B-8513-4B9E-84F4-E4942E6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5A5-8EA0-4550-B92E-8BF3E23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E6F-11C2-4A5C-9C5C-5D0855A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FD1-3200-4513-AEC8-78E8A00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A5F-B558-4357-ABF2-334A2FB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C85-5D85-4AE3-AC9D-CB0742900A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E1FC-D050-40D5-BCDB-4E174CEE56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30240" y="3067200"/>
            <a:ext cx="4681440" cy="379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kPcWG21GTjo"/>
          <p:cNvPicPr/>
          <p:nvPr/>
        </p:nvPicPr>
        <p:blipFill>
          <a:blip r:embed="rId3"/>
          <a:stretch/>
        </p:blipFill>
        <p:spPr>
          <a:xfrm>
            <a:off x="4429080" y="228600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" descr=""/>
          <p:cNvPicPr/>
          <p:nvPr/>
        </p:nvPicPr>
        <p:blipFill>
          <a:blip r:embed="rId4"/>
          <a:stretch/>
        </p:blipFill>
        <p:spPr>
          <a:xfrm>
            <a:off x="420840" y="133200"/>
            <a:ext cx="8089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Методы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теоретический анализ литературы в рамках проблемы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5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равнительно-обобщающий анализ передового педагогического опыта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5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бзор программ и учебных пособий по литературному чтению в начальной школе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5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эмпирические методы: анкетирование, тестирование, диагностические работы, наблюдение, беседа, изучение читательских формуляров обучающихся;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5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пытно-экспериментальная работа, включающая констатирующий, формирующий и контрольные этапы, статистический анализ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Методологическая основа исследования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Picture 5" descr="ushin1"/>
          <p:cNvPicPr/>
          <p:nvPr/>
        </p:nvPicPr>
        <p:blipFill>
          <a:blip r:embed="rId2"/>
          <a:stretch/>
        </p:blipFill>
        <p:spPr>
          <a:xfrm>
            <a:off x="684360" y="1628640"/>
            <a:ext cx="1428480" cy="183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ortret"/>
          <p:cNvPicPr/>
          <p:nvPr/>
        </p:nvPicPr>
        <p:blipFill>
          <a:blip r:embed="rId3"/>
          <a:stretch/>
        </p:blipFill>
        <p:spPr>
          <a:xfrm>
            <a:off x="2627280" y="1628640"/>
            <a:ext cx="15019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vygotskii_1380637930"/>
          <p:cNvPicPr/>
          <p:nvPr/>
        </p:nvPicPr>
        <p:blipFill>
          <a:blip r:embed="rId4"/>
          <a:stretch/>
        </p:blipFill>
        <p:spPr>
          <a:xfrm>
            <a:off x="4500720" y="1628640"/>
            <a:ext cx="1584000" cy="187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01-34"/>
          <p:cNvPicPr/>
          <p:nvPr/>
        </p:nvPicPr>
        <p:blipFill>
          <a:blip r:embed="rId5"/>
          <a:stretch/>
        </p:blipFill>
        <p:spPr>
          <a:xfrm>
            <a:off x="6588000" y="162864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pic01"/>
          <p:cNvPicPr/>
          <p:nvPr/>
        </p:nvPicPr>
        <p:blipFill>
          <a:blip r:embed="rId6"/>
          <a:stretch/>
        </p:blipFill>
        <p:spPr>
          <a:xfrm>
            <a:off x="539640" y="3860640"/>
            <a:ext cx="157176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399"/>
          <p:cNvPicPr/>
          <p:nvPr/>
        </p:nvPicPr>
        <p:blipFill>
          <a:blip r:embed="rId7"/>
          <a:stretch/>
        </p:blipFill>
        <p:spPr>
          <a:xfrm>
            <a:off x="2627280" y="393372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g12"/>
          <p:cNvPicPr/>
          <p:nvPr/>
        </p:nvPicPr>
        <p:blipFill>
          <a:blip r:embed="rId8"/>
          <a:stretch/>
        </p:blipFill>
        <p:spPr>
          <a:xfrm>
            <a:off x="4500720" y="3933720"/>
            <a:ext cx="1512720" cy="2016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55640" y="3429000"/>
            <a:ext cx="184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9528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.Д.Ушин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556000" y="34290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.П.Вахтер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4427640" y="342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.С.Выгот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59640" y="3429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.В.Зан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539280" y="5877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.Г.Горец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411280" y="58770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.Н.Светловск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4428720" y="587700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.В.Джежел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MCBS - Новости"/>
          <p:cNvPicPr/>
          <p:nvPr/>
        </p:nvPicPr>
        <p:blipFill>
          <a:blip r:embed="rId9"/>
          <a:stretch/>
        </p:blipFill>
        <p:spPr>
          <a:xfrm>
            <a:off x="6588000" y="3933720"/>
            <a:ext cx="1513080" cy="2016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6516360" y="58770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.П. Чудино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Теоретическая значимость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стематизация знаний по проблеме исслед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пределение рабочих понятий опытно-поисковой работы, уточнении понятий «читательский интерес»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точнение и дополнение общепедагогических представлений о формировании и развитии читательского интереса обучающихся современной начальной школ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зработка содержания исследов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21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актическая значимость</a:t>
            </a:r>
            <a:br>
              <a:rPr sz="4800"/>
            </a:b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 и новизн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ределение и обоснование педагогических условий, обеспечивающих формирование читательских интересов младших школьников на уроках и во внеурочной деятельности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работка критериально-диагностического обеспечения процесса развития читательского интереса, позволяющего проследить динамику приобщения младших школьников к осознанному выбору литературных произведений определённых жанров, тематики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актическая значимость</a:t>
            </a:r>
            <a:br>
              <a:rPr sz="4800"/>
            </a:b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 и новизн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ка рекомендаций для родителей, учителей начальных класс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ление сборника анкет по диагностике уровня сформированности читательских интересов младших школьник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Реализация проекта</a:t>
            </a: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учить психолого-педагогические предпосылки по данной проблеме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тивно использовать на различных уроках задания, дидактические игры, способствующие формированию читательских интерес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сти работу в тесном сотрудничестве с родителями, библиотекарями школы и города, учителями русского языка и литературы, другими значимыми взрослы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общать обучающихся к литературе как к особому виду искусств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пользовать различные методы исследования читательских интересов детей, на основе полученных результатов констатирующего эксперимента составлять содержание формирующего эксперимента, делать соответствующие вывод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Этапы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97000"/>
            <a:ext cx="8640720" cy="5113440"/>
          </a:xfrm>
          <a:prstGeom prst="foldedCorner">
            <a:avLst>
              <a:gd name="adj" fmla="val 1250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редусматривает: теоретические аспек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изучения психолого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дагогических условий формирован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тательских интересов де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адшего школьного возраста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 исходного уровн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ормированно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тательских интересов   обучающих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Этапы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341360"/>
            <a:ext cx="4105080" cy="4824360"/>
          </a:xfrm>
          <a:prstGeom prst="foldedCorner">
            <a:avLst>
              <a:gd name="adj" fmla="val 1250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составление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ной программы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ытно-педагогической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боты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точнение основных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нятийных категори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 изучению проблем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341360"/>
            <a:ext cx="4176720" cy="4824360"/>
          </a:xfrm>
          <a:prstGeom prst="foldedCorner">
            <a:avLst>
              <a:gd name="adj" fmla="val 12500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I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реализация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ксперимента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практике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зультативности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ведённо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ытно-педагогической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Критерии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личие эмоционального интереса к процессу чтения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устойчивость доминирующих потребностей и мотивов к чтению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отребность в чтении литературных произведений определённой тематики,  жанров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умение ориентироваться в группе книг, выбрать среди них книгу с заданными параметрами (жанр, тематика), объяснить своё отношение к книге, высказать мнение о прочитанно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4000" y="691920"/>
            <a:ext cx="85183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Формирова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читательских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интересов младших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школьников как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редство активизац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их познавательно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деятельност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Способы диагностики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Овал 3"/>
          <p:cNvSpPr/>
          <p:nvPr/>
        </p:nvSpPr>
        <p:spPr>
          <a:xfrm>
            <a:off x="1692360" y="2349360"/>
            <a:ext cx="6067440" cy="2232000"/>
          </a:xfrm>
          <a:prstGeom prst="ellipse">
            <a:avLst/>
          </a:prstGeom>
          <a:solidFill>
            <a:srgbClr val="85dfd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анкет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35480" y="2841480"/>
            <a:ext cx="1839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Анкета №1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ыявление читательских интересов младших школьников (по методике Л.А. Ясюковой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опросы для обучающихс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бишь ли ты читат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ём ты любишь читат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чему ты читаешь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опросы для родител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бит ли читать Ваш ребёнок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ём любят читать Ваши дет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чему читает Ваш ребёнок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4617b"/>
                </a:solidFill>
                <a:latin typeface="Calibri"/>
              </a:rPr>
              <a:t>Уровни развития читательских интересов младших школьников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5840" y="1500120"/>
          <a:ext cx="8678880" cy="5203800"/>
        </p:xfrm>
        <a:graphic>
          <a:graphicData uri="http://schemas.openxmlformats.org/drawingml/2006/table">
            <a:tbl>
              <a:tblPr/>
              <a:tblGrid>
                <a:gridCol w="2168280"/>
                <a:gridCol w="2117880"/>
                <a:gridCol w="2087640"/>
                <a:gridCol w="230508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высок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сещает детскую библиотек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ко посещает детскую и школьную библиотек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ает библиотеки. Интерес сформирован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ает библиотеки. Интерес сформирован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читает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не интересуется чтением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интересуется чтением. Читает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случая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случаю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тает только по программе. Умеет при надобности находить нужную информацию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тает много дополнительной литературы, дифференц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ванно.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тает сверх программы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Способы диагностики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Овал 3"/>
          <p:cNvSpPr/>
          <p:nvPr/>
        </p:nvSpPr>
        <p:spPr>
          <a:xfrm>
            <a:off x="1547640" y="1916280"/>
            <a:ext cx="6067440" cy="2233440"/>
          </a:xfrm>
          <a:prstGeom prst="ellipse">
            <a:avLst/>
          </a:prstGeom>
          <a:solidFill>
            <a:srgbClr val="85dfd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наблюд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653000"/>
            <a:ext cx="2665440" cy="15127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на урок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4653000"/>
            <a:ext cx="3024360" cy="15127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во внеурочно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0920" y="4005360"/>
            <a:ext cx="865440" cy="64764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076640"/>
            <a:ext cx="936720" cy="57636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Способы диагностики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Овал 3"/>
          <p:cNvSpPr/>
          <p:nvPr/>
        </p:nvSpPr>
        <p:spPr>
          <a:xfrm>
            <a:off x="900000" y="981000"/>
            <a:ext cx="7488360" cy="1727280"/>
          </a:xfrm>
          <a:prstGeom prst="ellipse">
            <a:avLst/>
          </a:prstGeom>
          <a:solidFill>
            <a:srgbClr val="85dfd0"/>
          </a:solidFill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ан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личных документов школьник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2852640"/>
            <a:ext cx="1843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357720"/>
            <a:ext cx="3240360" cy="13683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библиотечны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формуля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411280" y="2637000"/>
            <a:ext cx="648000" cy="79056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58920" y="2708280"/>
            <a:ext cx="1369800" cy="223344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3357720"/>
            <a:ext cx="3313080" cy="136656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творческ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2565360"/>
            <a:ext cx="432000" cy="79236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941720"/>
            <a:ext cx="3313080" cy="13669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читательск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дневн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4941720"/>
            <a:ext cx="3313080" cy="136692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анке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2708280"/>
            <a:ext cx="1152360" cy="223344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Способы диагностик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Овал 3"/>
          <p:cNvSpPr/>
          <p:nvPr/>
        </p:nvSpPr>
        <p:spPr>
          <a:xfrm>
            <a:off x="1692360" y="1700280"/>
            <a:ext cx="6067440" cy="1944720"/>
          </a:xfrm>
          <a:prstGeom prst="ellipse">
            <a:avLst/>
          </a:prstGeom>
          <a:solidFill>
            <a:srgbClr val="85dfd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бесе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35480" y="2841480"/>
            <a:ext cx="1839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221000"/>
            <a:ext cx="4608360" cy="187200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тандартизиров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4581360"/>
            <a:ext cx="2735280" cy="1295640"/>
          </a:xfrm>
          <a:prstGeom prst="ellipse">
            <a:avLst/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вобод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16360" y="3573360"/>
            <a:ext cx="576000" cy="64764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3500280"/>
            <a:ext cx="720720" cy="1081080"/>
          </a:xfrm>
          <a:prstGeom prst="line">
            <a:avLst/>
          </a:prstGeom>
          <a:ln w="5724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Формы организации работ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На уроках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усский язык и литературное чтени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запись отдельных предложений, абзацев из литературных произведений различных жанр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сочин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составление аннотации к прочитанному произведению, любимой книге: составление отзывов о прочитанной книге по план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лан устного рассказа о книге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кажи книг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ови автора, художника, издателе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знакомь с тематикой: из чего она состоит (из одного произведения или нескольких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ови героев книг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 происходит с героем (героями книги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амое интересное – зачита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ырази своё отношение к герою (героям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нравилась ли тебе книг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лан письменного отзыва </a:t>
            </a:r>
            <a:br>
              <a:rPr sz="4800"/>
            </a:b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о прочитанной книге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втор, название книг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раткое содержание: тема, главные герои, интересный отрывок или эпизод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ему учит эта книг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нравилась ли тебе эта книга? Почему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ыполни иллюстрацию (по желанию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Изобразительное искусство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иллюстрация к любимому произведению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сопоставление текста и иллюстрац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 нем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обсуждение того, как художник поня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передал своё понимание прочитанного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 коллективное творчество (иллюстрирование, коллаж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 произведениям определённой темати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ение играет важную рол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формировании личност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нравственном её воспитании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пособствует развитию смысловог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сприятия, внимания, памяти, мышления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ображения ребёнк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итательский интерес являетс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ним из факторов развит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знавательной активности, а значит,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меет большое значе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формировании грамотного челове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узык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ушание и обсуждение музыкальных произведений, написанным по мотивам произведений литератур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сказка А.Н.Островского «Снегурочка» - Н.А.Римский-Корсаков «Снегурочка» (опера)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а Х.К.Андерсена «Стойкий оловянный солдатик» - П.И.Чайковский «Марш солдатиков» и др.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Внеурочная деятельность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ллективное чт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еклама книги, прочитанной летом, любимой книг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итературные праздники «По страницам любимых книг», «В гостях у дедушки Корнея»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итературные игры, викторины, устный журнал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ворческие проект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бота с читательским дневнико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иблиотечные час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ас «тихого чтения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Свободный выбор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заявленное чт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звращающее чт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вободное чтени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>
            <a:off x="1116000" y="1844640"/>
            <a:ext cx="503280" cy="93672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31640" y="1916280"/>
            <a:ext cx="287640" cy="244944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1916280"/>
            <a:ext cx="73080" cy="107928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781360"/>
            <a:ext cx="1839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997360"/>
            <a:ext cx="1944720" cy="1439640"/>
          </a:xfrm>
          <a:prstGeom prst="roundRect">
            <a:avLst>
              <a:gd name="adj" fmla="val 16667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чт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в кругу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емь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653000"/>
            <a:ext cx="3671640" cy="1633680"/>
          </a:xfrm>
          <a:prstGeom prst="roundRect">
            <a:avLst>
              <a:gd name="adj" fmla="val 16667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501336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опосредованно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чт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3068640"/>
            <a:ext cx="1944720" cy="1440000"/>
          </a:xfrm>
          <a:prstGeom prst="roundRect">
            <a:avLst>
              <a:gd name="adj" fmla="val 16667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чт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вслу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4653000"/>
            <a:ext cx="3097440" cy="1655640"/>
          </a:xfrm>
          <a:prstGeom prst="roundRect">
            <a:avLst>
              <a:gd name="adj" fmla="val 16667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чт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отворчеств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93080" y="1773360"/>
            <a:ext cx="647640" cy="266364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404640"/>
            <a:ext cx="7632720" cy="1151280"/>
          </a:xfrm>
          <a:prstGeom prst="roundRect">
            <a:avLst>
              <a:gd name="adj" fmla="val 16667"/>
            </a:avLst>
          </a:prstGeom>
          <a:solidFill>
            <a:srgbClr val="85d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имеры семейного чтения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огноз положительных результатов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тивизация познавательной деятельности школьников, создание положительной мотивации обуч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вышение качества обуч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формирование культуры мышления, рационального усвоения знаний, исследовательских умени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вершенствование нравственных качеств обучающих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менение отношений «ученик – учитель - родитель» в сторону сотрудничеств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формирование умения работать с информаци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вышение квалификации учител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здание банка данных методических разработок, диагностических работ, рекомендаций для учителей и родителе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облема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кие педагогические услов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еобходимо учитыва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 формирован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итательских интересов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Цель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12400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58920" y="1927800"/>
            <a:ext cx="87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пределить и обоснов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дагогические условия,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еспечивающие целенаправленное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следовательное формиров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развитие читательских интерес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ладших школьников на урока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во внеурочной деятельност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Задачи исследования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8920" y="980640"/>
            <a:ext cx="8605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зучить  и проанализировать   педагогическую литературу, результаты различных исследований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 проблеме формирования читательских интересов младших школь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риентироваться на опыт работы учителей школ города и других регионов по данной проблеме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5280" indent="-4852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ыявить сущность понятий «интерес», «читательский интерес» и установить специфику читательских интерес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Задачи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760" y="1125000"/>
            <a:ext cx="8340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еоретически обосновать дидактико-методическую систему условий формирования читательских интересов младших школьников, способствующую становлению их познавательной и социальной активност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зработать и внедрить в практику программу опытно-педагогической работы по формированию читательских интересов младших школьник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Объект исследования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цесс формирования читательских интересов младших школьник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63600" y="3141720"/>
            <a:ext cx="65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Предмет исследования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6520" y="4149720"/>
            <a:ext cx="7870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формирование и развитие читательски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есов младших школьн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специально организованны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дагогических условиях для активизац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х познавательной деятельност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Гипотез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сли организовать целенаправленную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систематическую работ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 формированию читательских интересов младших школьников, учитывая специальные педагогические условия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о достаточно активизируется познавательная деятельность обучающихс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2:08:59Z</dcterms:created>
  <dc:creator>Мама</dc:creator>
  <dc:description/>
  <dc:language>en-US</dc:language>
  <cp:lastModifiedBy>Home</cp:lastModifiedBy>
  <dcterms:modified xsi:type="dcterms:W3CDTF">2015-01-21T11:03:24Z</dcterms:modified>
  <cp:revision>180</cp:revision>
  <dc:subject/>
  <dc:title>Слайд 1</dc:title>
</cp:coreProperties>
</file>