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922F-7040-405F-AAFF-649EA7AC57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CD72-A8FB-43BC-8757-8B1AC93574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B94-43FA-49C4-850E-8C8D6023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FEA-5CFF-46DD-ADB6-BAE1C938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FF3CE-2B71-4861-88B1-9C58CCCB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8D9D6-A1A4-45A7-BC7B-F650613E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236CB-1E02-4029-AE64-1CD96BDE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DC836-3AA6-43D3-8EE0-3D7703F5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C859C-639F-4CC7-8DF8-5B39F684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613E6-FA30-492D-B4A2-EB7262E3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FC390-FC5A-4792-916C-1667DFFF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D6A89-4064-4100-B80B-46E5EAC4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FAB7DE-4A77-4C5E-AAC0-8B3D0BD3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D11E0-FE32-443D-B441-B7180E07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A2D-ED51-4178-A38E-A451067C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E5540-1901-42CA-A00F-4CCDD7BC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2936D-58B4-4479-BE31-D59A9EB1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1C4D0-73BF-4B28-8169-F61A7661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A0286-A535-4674-AD6B-7F679676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F0C8B-471E-443F-B0B0-7DBAB58E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F9D8E-BD27-41B3-89C1-62EBA117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553D4-2F29-4C27-BBA5-25A5BD1A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B985F-0C8F-4417-8269-4AACA625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5631A-FACC-454B-9E3C-C45A05D9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27622-99C6-43EC-8EE0-896E944E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477-F988-4AF1-9452-1441C91F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FD26DB-E1C4-4A1E-A600-E2359659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B9E1B-0AD8-4715-A261-B436A24B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2D417-B855-424B-9259-A217D3DC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A4F94-4710-46C4-96D9-FFACCE7C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8F0EE-E615-47C5-98D6-B4260EEA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519F9-D0F9-4A12-96F0-121B4620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F58F8-2C5D-4EEC-8F59-CD8FB67F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B3593-FBEA-4180-86F1-1B926822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83A2C-29D5-4402-8AA8-947080C0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FBCC4-258B-4B6A-8080-3C9F4CD0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8C6B-9EFE-434E-AC98-B86A0DC4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1AF1E-AF09-40F5-AF07-C14C92B0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9CBB4-392B-434C-89C5-42C10406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D2635-2BD9-4C59-949C-464F4F89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EAD72-1D8F-43E6-A659-5D08AE69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67314-0A4D-41AA-BB97-6D43AC6F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3C251-31C0-4459-9019-10B54F7E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8C748-9AE8-4A65-84DF-99795FD5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198C2-92CC-4E92-9F56-57ADD82F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F3D78-CB18-4424-B8D4-5B833F29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DDD88-A2BE-41C8-868E-9EC63DAB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E1BE-5755-4195-923A-879250FC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46CC6-8A83-4A2D-B817-DEC40D8B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11EDF-D573-4F2A-95A2-A8DCB8CA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5C4F4-10F8-4367-B4CE-B1316F6D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99AC0-AAD0-457A-A26C-8996689B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2B256-FC36-4575-9EB3-82C8A158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C609-3E7C-47EC-A24D-660293BB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3765-B03D-46CF-BB93-F7E5E0E5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45FD-E152-4D0C-8D77-A3F44B49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8684-1239-4BA9-8354-EDD528E0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FB93-EDA7-4196-A459-99ACF1E8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5B8-98B6-4E09-8152-68CCF436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C125-E9B2-4D14-B8BD-D88964E2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C42C-76CD-456C-904B-A8C9D450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94D5-64E3-4444-8F32-4416DBF4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C422-699F-4F3B-A1D5-A6215216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66AE-092B-4F7B-89A4-BA8C509A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49788-259A-4324-BC4C-F2266E00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69B87-177D-4E12-B7A7-07F45310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01927-B3DB-4DDB-9162-F43F1602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E47A3-0E68-4EC5-B3D6-55FB83EC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E6751-1734-4113-AD3E-FA86648C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B08-299C-4F41-A28C-CC920961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3B6F1-0000-44C6-B2CA-6CBB370B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99FE-9130-49BB-92B2-3C3FEBCA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5887B-DAFC-4866-8860-FBD2088C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F3ED3-0843-4A26-AF99-AD5714C0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1DA76-9E6C-41DB-8885-6FADACC1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0D4F4-16ED-4ACB-937A-A99442A2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C1827-36A9-4864-A251-C9F79074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F1EB5-85E1-4E52-A3B2-8AEE35EF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E9F59-C5C3-4B15-9FBE-D8CB95A1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CB2AA-0F60-4A96-ABE9-329CE7A1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CC9-80FA-40C3-A67A-F92BF35C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D614E-4AFE-41C0-80C0-2699ACEC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48C7-3140-49BE-B08A-635D1C49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21D3B-64DC-4733-97BA-29F1D6B3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B0117-AFB4-40B6-B591-4D92DFE7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90D33-9EE1-4FFD-84C6-1C8C1A6B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6501A-5C78-4365-AA97-B9B79C92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8FD94-4531-459E-B3A0-F6BE5255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9184C-2D56-41AA-8FA9-0CF6721E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09DA3-64C9-4368-A65E-FE5A4529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6B0DB-C3C5-4B3F-A4CC-2564679B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AFC-8BD4-4537-89F3-47E1794C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D060A-6948-42E0-8143-A4EBD160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E4FEE-8898-4255-A664-E4F5BEA7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F860B-60A7-4835-8E26-EDA2EEC4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B3ACC-1008-4686-92FC-DD1F9846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D8907-4987-44C1-A13A-D5D8507A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1F16D-8F47-4C51-8E22-57D3AE55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8E694-4867-4AC5-81EF-EE47BB49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F4BFB-57DD-4A6A-A754-1B20C0D9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8B678-DA39-4AF2-87BA-18B34546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86761-F8AB-49E0-B3D0-F77093BA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8C3-EEBD-44C7-A0C8-D67F54F9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99260-2536-4A6F-ABBB-C2DE0259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76670-23C8-4B6A-89E8-3E31EB38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5FA2C-11D3-4290-B1BF-E4929582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A1374-F1B5-4597-81C1-EDCBCA06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A6839-A7C4-4D88-BBB6-DED6F376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D873C-F8B1-4C7F-86E4-27584349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2C891-392F-45E2-BAF7-9127CD98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680C6-14AA-4958-AC54-D2066E01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E47A5-F8DB-49C7-AF22-C588ADA4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0354A-BE59-4BDB-9D52-49C86251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A6B-DA4F-477B-BBB7-920E7630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15972-9A87-4898-9C78-E7DEB6ED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4AEB6-527B-461B-BEFC-6A6623C9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F795A-C27A-48AC-8A25-43A53AC9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F0758-0645-4B8B-A59F-A7C38293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72131-55DF-422C-AE76-D375B044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06DD7-754E-4311-A675-B5182079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0E428-1B66-402B-B6D4-B49DE5B6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E0842-9607-4373-8CC6-C65D3EEA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F53EB-55A4-4963-8F28-E38BBD21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B434E-93A4-4DCE-B39B-A8C53469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C52-4B4B-413E-A3D0-D1BCA4A0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3BB10-3AA5-463E-B5E5-8E822827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49BD5-1E15-4EC2-A96E-F1EA6FE6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6B8BE-8FED-42A3-9E35-78C5780A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C87F2-0D31-488C-97F5-6991A354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71F7B-EB97-491D-9E2C-29F7149F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9AF07-2CFF-4110-895E-A610DA15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2E595-778C-4642-9CDD-E5183DA1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D4F33-78A5-45D3-8585-475FE7D5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A280A-D2A7-4DD1-A7A3-C3DFEFDC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7C53C-E34A-43F4-BDD4-D1CB7452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776-CB5E-41D0-99B9-CE09F9C3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BD5D9-6729-4850-B831-217CBA20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B09A1-D032-453B-9A36-8BA7A685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6E929-F128-41F9-AC69-BC848F26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D962E-5F8E-4CB6-815D-5224A7BC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F0C63-E9D4-4216-81E0-9057BC30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D6BEB-4A1E-436E-8759-58F15818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85451-8CFF-479D-B778-C43EAE10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81331-A8E1-4D58-9564-353C889E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69673-44B8-4119-A8E2-623FBD0B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C82A7-13E8-45E0-A6CF-9874603C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4158-DC0A-4D15-A561-BEC81ECF410A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9967-AB52-47D7-A4E3-F4C09F4569D7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69F3-3B23-486F-90D0-00BE278F3F23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C521-D9CA-42AC-B2F1-482DD011187A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83C4-00C5-4715-B07F-F813C7BEE48B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5562-DB70-4C20-8012-7E93BACCCAEE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2B81-7833-4EA0-838F-D2B82D1F4886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8C11-0E0F-46BB-8F03-F736888AFEE5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BD46-A103-4E5D-B808-03216AFE01B6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592E-9A42-4508-A587-DA84D931A7CC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1815-F71D-4FBF-9312-E3034BC9D52E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D00C-0266-437C-B931-04C183DE73BE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73;&#1088;&#1080;&#1083;&#1083;&#1103;&#1088;&#1085;&#1099;&#1077;_&#1073;&#1077;&#1083;&#1082;&#1080;" TargetMode="External"/><Relationship Id="rId2" Type="http://schemas.openxmlformats.org/officeDocument/2006/relationships/hyperlink" Target="http://ru.wikipedia.org/wiki/&#1055;&#1088;&#1086;&#1095;&#1085;&#1086;&#1089;&#1090;&#1100;" TargetMode="External"/><Relationship Id="rId3" Type="http://schemas.openxmlformats.org/officeDocument/2006/relationships/hyperlink" Target="http://ru.wikipedia.org/wiki/&#1061;&#1080;&#1090;&#1080;&#1085;" TargetMode="External"/><Relationship Id="rId4" Type="http://schemas.openxmlformats.org/officeDocument/2006/relationships/hyperlink" Target="http://ru.wikipedia.org/wiki/&#1042;&#1086;&#1083;&#1086;&#1089;&#1099;" TargetMode="External"/><Relationship Id="rId5" Type="http://schemas.openxmlformats.org/officeDocument/2006/relationships/hyperlink" Target="http://ru.wikipedia.org/wiki/&#1053;&#1086;&#1075;&#1090;&#1080;" TargetMode="External"/><Relationship Id="rId6" Type="http://schemas.openxmlformats.org/officeDocument/2006/relationships/hyperlink" Target="http://ru.wikipedia.org/wiki/&#1056;&#1086;&#1075;" TargetMode="External"/><Relationship Id="rId7" Type="http://schemas.openxmlformats.org/officeDocument/2006/relationships/hyperlink" Target="http://ru.wikipedia.org/wiki/&#1055;&#1077;&#1088;&#1086;" TargetMode="External"/><Relationship Id="rId8" Type="http://schemas.openxmlformats.org/officeDocument/2006/relationships/hyperlink" Target="http://ru.wikipedia.org/w/index.php?title=&#1056;&#1072;&#1084;&#1092;&#1086;&#1090;&#1077;&#1082;&#1072;&amp;action=edit&amp;redlink=1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83;&#1086;&#1082;" TargetMode="External"/><Relationship Id="rId2" Type="http://schemas.openxmlformats.org/officeDocument/2006/relationships/hyperlink" Target="http://ru.wikipedia.org/wiki/&#1043;&#1083;&#1080;&#1094;&#1080;&#1085;" TargetMode="External"/><Relationship Id="rId3" Type="http://schemas.openxmlformats.org/officeDocument/2006/relationships/hyperlink" Target="http://ru.wikipedia.org/wiki/&#1040;&#1083;&#1072;&#1085;&#1080;&#1085;" TargetMode="External"/><Relationship Id="rId4" Type="http://schemas.openxmlformats.org/officeDocument/2006/relationships/hyperlink" Target="http://ru.wikipedia.org/wiki/&#1057;&#1077;&#1088;&#1080;&#1085;" TargetMode="External"/><Relationship Id="rId5" Type="http://schemas.openxmlformats.org/officeDocument/2006/relationships/hyperlink" Target="http://ru.wikipedia.org/wiki/&#1053;&#1077;&#1081;&#1083;&#1086;&#1085;" TargetMode="External"/><Relationship Id="rId6" Type="http://schemas.openxmlformats.org/officeDocument/2006/relationships/hyperlink" Target="http://ru.wikipedia.org/wiki/Bombyx_mori" TargetMode="External"/><Relationship Id="rId7" Type="http://schemas.openxmlformats.org/officeDocument/2006/relationships/hyperlink" Target="http://ru.wikipedia.org/wiki/&#1042;&#1080;&#1082;&#1080;&#1087;&#1077;&#1076;&#1080;&#1103;:&#1057;&#1089;&#1099;&#1083;&#1082;&#1080;_&#1085;&#1072;_&#1080;&#1089;&#1090;&#1086;&#1095;&#1085;&#1080;&#1082;&#1080;" TargetMode="External"/><Relationship Id="rId8" Type="http://schemas.openxmlformats.org/officeDocument/2006/relationships/hyperlink" Target="http://ru.wikipedia.org/wiki/&#1064;&#1072;&#1088;&#1085;&#1080;&#1088;" TargetMode="External"/><Relationship Id="rId9" Type="http://schemas.openxmlformats.org/officeDocument/2006/relationships/hyperlink" Target="http://ru.wikipedia.org/wiki/&#1042;&#1080;&#1082;&#1080;&#1087;&#1077;&#1076;&#1080;&#1103;:&#1057;&#1089;&#1099;&#1083;&#1082;&#1080;_&#1085;&#1072;_&#1080;&#1089;&#1090;&#1086;&#1095;&#1085;&#1080;&#1082;&#1080;" TargetMode="External"/><Relationship Id="rId10" Type="http://schemas.openxmlformats.org/officeDocument/2006/relationships/hyperlink" Target="http://ru.wikipedia.org/wiki/&#1042;&#1080;&#1082;&#1080;&#1087;&#1077;&#1076;&#1080;&#1103;:&#1057;&#1089;&#1099;&#1083;&#1082;&#1080;_&#1085;&#1072;_&#1080;&#1089;&#1090;&#1086;&#1095;&#1085;&#1080;&#1082;&#1080;" TargetMode="External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7;&#1099;&#1088;" TargetMode="External"/><Relationship Id="rId4" Type="http://schemas.openxmlformats.org/officeDocument/2006/relationships/hyperlink" Target="http://ru.wikipedia.org/wiki/&#1041;&#1077;&#1083;&#1086;&#1082;" TargetMode="External"/><Relationship Id="rId5" Type="http://schemas.openxmlformats.org/officeDocument/2006/relationships/hyperlink" Target="http://ru.wikipedia.org/w/index.php?title=&#1050;&#1072;&#1079;&#1077;&#1080;&#1085;&#1086;&#1075;&#1077;&#1085;&amp;action=edit&amp;redlink=1" TargetMode="External"/><Relationship Id="rId6" Type="http://schemas.openxmlformats.org/officeDocument/2006/relationships/hyperlink" Target="http://ru.wikipedia.org/w/index.php?title=&#1057;&#1090;&#1074;&#1086;&#1088;&#1072;&#1078;&#1080;&#1074;&#1072;&#1085;&#1080;&#1077;&amp;action=edit&amp;redlink=1" TargetMode="External"/><Relationship Id="rId7" Type="http://schemas.openxmlformats.org/officeDocument/2006/relationships/hyperlink" Target="http://ru.wikipedia.org/wiki/&#1052;&#1086;&#1083;&#1086;&#1082;&#1086;" TargetMode="External"/><Relationship Id="rId8" Type="http://schemas.openxmlformats.org/officeDocument/2006/relationships/hyperlink" Target="http://ru.wikipedia.org/w/index.php?title=&#1055;&#1088;&#1086;&#1090;&#1077;&#1086;&#1083;&#1080;&#1090;&#1080;&#1095;&#1077;&#1089;&#1082;&#1080;&#1081;_&#1092;&#1077;&#1088;&#1084;&#1077;&#1085;&#1090;&amp;action=edit&amp;redlink=1" TargetMode="External"/><Relationship Id="rId9" Type="http://schemas.openxmlformats.org/officeDocument/2006/relationships/slideLayout" Target="../slideLayouts/slideLayout109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ru.wikipedia.org/wiki/&#1057;&#1077;&#1088;&#1072;" TargetMode="External"/><Relationship Id="rId3" Type="http://schemas.openxmlformats.org/officeDocument/2006/relationships/hyperlink" Target="http://ru.wikipedia.org/wiki/&#1042;&#1091;&#1083;&#1082;&#1072;&#1085;&#1080;&#1079;&#1072;&#1094;&#1080;&#1103;" TargetMode="External"/><Relationship Id="rId4" Type="http://schemas.openxmlformats.org/officeDocument/2006/relationships/hyperlink" Target="http://ru.wikipedia.org/wiki/&#1056;&#1077;&#1079;&#1080;&#1085;&#1072;" TargetMode="External"/><Relationship Id="rId5" Type="http://schemas.openxmlformats.org/officeDocument/2006/relationships/hyperlink" Target="http://ru.wikipedia.org/wiki/Goodyear_Tire_and_Rubber_Company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Амазония — самое большое пространство тропических лесов, которое занимает чуть больше  половины территории Бразилии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Ботинок индейца и мистер Гудьир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16" name="Содержимое 13" descr="амазония 2.jpg"/>
          <p:cNvPicPr/>
          <p:nvPr/>
        </p:nvPicPr>
        <p:blipFill>
          <a:blip r:embed="rId1"/>
          <a:stretch/>
        </p:blipFill>
        <p:spPr>
          <a:xfrm>
            <a:off x="142920" y="1357200"/>
            <a:ext cx="4786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1"/>
          <p:cNvSpPr/>
          <p:nvPr/>
        </p:nvSpPr>
        <p:spPr>
          <a:xfrm>
            <a:off x="1500120" y="1267560"/>
            <a:ext cx="607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раньше изделия из каучука были недолговечны, а современный ластик, например, не теряет своих свойств  в течение многих л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31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271c"/>
                </a:solidFill>
                <a:latin typeface="Georgia"/>
              </a:rPr>
              <a:t>АЗО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271c"/>
                </a:solidFill>
                <a:latin typeface="Georgia"/>
              </a:rPr>
              <a:t>КИСЛОРОД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271c"/>
                </a:solidFill>
                <a:latin typeface="Georgia"/>
              </a:rPr>
              <a:t>СЕР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spcBef>
                <a:spcPts val="601"/>
              </a:spcBef>
              <a:buClr>
                <a:srgbClr val="3891a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271c"/>
                </a:solidFill>
                <a:latin typeface="Georgia"/>
              </a:rPr>
              <a:t>ФОСФОР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91a7"/>
                </a:solidFill>
                <a:latin typeface="Georgia"/>
              </a:rPr>
              <a:t>С помощью какого химического вещества проводят вулканизацию каучука при получении резины?</a:t>
            </a:r>
            <a:endParaRPr b="0" lang="en-US" sz="3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999880" y="5500440"/>
            <a:ext cx="586764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271c"/>
                </a:solidFill>
                <a:latin typeface="Georgia"/>
              </a:rPr>
              <a:t>Кок-сагыз – растение каучуконос</a:t>
            </a:r>
            <a:endParaRPr b="0" lang="en-US" sz="24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68" name="Содержимое 9" descr="42886.jpg"/>
          <p:cNvPicPr/>
          <p:nvPr/>
        </p:nvPicPr>
        <p:blipFill>
          <a:blip r:embed="rId1"/>
          <a:srcRect l="4377" t="0" r="4377" b="0"/>
          <a:stretch/>
        </p:blipFill>
        <p:spPr>
          <a:xfrm>
            <a:off x="3000240" y="609480"/>
            <a:ext cx="5867640" cy="467676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В результате изучения 1048 видов из 316 родов и 95 семейств отечественной флоры  проведенных в начале 20-го века, установлено, что 609 видов синтезируют каучук и каучукоподобные вещества. В результате поздних исследований общий список таких растений составил 993 вида.  Среди них лучшими каучуконосами оказались кок-сагыз, тау-сагыз, крым-сагыз и некоторые другие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7160" indent="-137160" algn="just">
              <a:spcBef>
                <a:spcPts val="451"/>
              </a:spcBef>
              <a:buClr>
                <a:srgbClr val="3891a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БЕЛКИ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37160" indent="-137160" algn="just">
              <a:spcBef>
                <a:spcPts val="451"/>
              </a:spcBef>
              <a:buClr>
                <a:srgbClr val="3891a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ЦЕЛЛЮЛОЗ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37160" indent="-137160" algn="just">
              <a:spcBef>
                <a:spcPts val="451"/>
              </a:spcBef>
              <a:buClr>
                <a:srgbClr val="3891a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ШЕЛК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37160" indent="-137160" algn="just">
              <a:spcBef>
                <a:spcPts val="451"/>
              </a:spcBef>
              <a:buClr>
                <a:srgbClr val="3891a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ШЕР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37160" indent="-137160" algn="just">
              <a:spcBef>
                <a:spcPts val="451"/>
              </a:spcBef>
              <a:buClr>
                <a:srgbClr val="3891a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ХЛОПОК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37160" indent="-137160" algn="just">
              <a:spcBef>
                <a:spcPts val="451"/>
              </a:spcBef>
              <a:buClr>
                <a:srgbClr val="3891a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ЛЕ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37160" indent="-137160" algn="just">
              <a:spcBef>
                <a:spcPts val="451"/>
              </a:spcBef>
              <a:buClr>
                <a:srgbClr val="3891a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ПАУТИ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37160" indent="-137160" algn="just">
              <a:spcBef>
                <a:spcPts val="451"/>
              </a:spcBef>
              <a:buClr>
                <a:srgbClr val="3891a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ХИТИ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37160" indent="-137160" algn="just">
              <a:spcBef>
                <a:spcPts val="451"/>
              </a:spcBef>
              <a:buClr>
                <a:srgbClr val="3891a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КОЛЛАГЕ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37160" indent="-137160" algn="just">
              <a:spcBef>
                <a:spcPts val="451"/>
              </a:spcBef>
              <a:buClr>
                <a:srgbClr val="3891a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КРАХМА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37160" indent="-137160" algn="just">
              <a:spcBef>
                <a:spcPts val="451"/>
              </a:spcBef>
              <a:buClr>
                <a:srgbClr val="3891a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ПЕКТИ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37160" indent="-137160" algn="just">
              <a:spcBef>
                <a:spcPts val="451"/>
              </a:spcBef>
              <a:buClr>
                <a:srgbClr val="3891a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Georgia"/>
              </a:rPr>
              <a:t>И ДРУГ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3716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Georgia"/>
              </a:rPr>
              <a:t>Природные вещества, обладающие свойствами, сходными с каучуком </a:t>
            </a:r>
            <a:endParaRPr b="0" lang="en-US" sz="38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Кератины </a:t>
            </a:r>
            <a:endParaRPr b="0" lang="en-US" sz="28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— </a:t>
            </a: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семейство 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Georgia"/>
                <a:hlinkClick r:id="rId1"/>
              </a:rPr>
              <a:t>фибриллярных белков</a:t>
            </a: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, обладающих механической 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Georgia"/>
                <a:hlinkClick r:id="rId2"/>
              </a:rPr>
              <a:t>прочностью</a:t>
            </a: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, которая среди материалов биологического происхождения уступает лишь 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Georgia"/>
                <a:hlinkClick r:id="rId3"/>
              </a:rPr>
              <a:t>хитину</a:t>
            </a: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. В основном из кератинов состоят роговые производные эпидермиса кожи - такие структуры, как 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Georgia"/>
                <a:hlinkClick r:id="rId4"/>
              </a:rPr>
              <a:t>волосы</a:t>
            </a: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Georgia"/>
                <a:hlinkClick r:id="rId5"/>
              </a:rPr>
              <a:t>ногти</a:t>
            </a: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Georgia"/>
                <a:hlinkClick r:id="rId6"/>
              </a:rPr>
              <a:t>рога</a:t>
            </a: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Georgia"/>
                <a:hlinkClick r:id="rId7"/>
              </a:rPr>
              <a:t>перья</a:t>
            </a: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Georgia"/>
                <a:hlinkClick r:id="rId8"/>
              </a:rPr>
              <a:t>рамфотека</a:t>
            </a: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 клюва птиц и др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4" name="Содержимое 4" descr="кератин 1.jpg"/>
          <p:cNvPicPr/>
          <p:nvPr/>
        </p:nvPicPr>
        <p:blipFill>
          <a:blip r:embed="rId9"/>
          <a:stretch/>
        </p:blipFill>
        <p:spPr>
          <a:xfrm>
            <a:off x="2928960" y="785880"/>
            <a:ext cx="60721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Паутина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Georgia"/>
              </a:rPr>
              <a:t>Паутина пауков представляет собой </a:t>
            </a:r>
            <a:r>
              <a:rPr b="0" lang="ru-RU" sz="900" spc="-1" strike="noStrike" u="sng">
                <a:solidFill>
                  <a:srgbClr val="8dc765"/>
                </a:solidFill>
                <a:uFillTx/>
                <a:latin typeface="Georgia"/>
                <a:hlinkClick r:id="rId1"/>
              </a:rPr>
              <a:t>белок</a:t>
            </a:r>
            <a:r>
              <a:rPr b="0" lang="ru-RU" sz="900" spc="-1" strike="noStrike">
                <a:solidFill>
                  <a:srgbClr val="ffffff"/>
                </a:solidFill>
                <a:latin typeface="Georgia"/>
              </a:rPr>
              <a:t>, обогащённый </a:t>
            </a:r>
            <a:r>
              <a:rPr b="0" lang="ru-RU" sz="900" spc="-1" strike="noStrike" u="sng">
                <a:solidFill>
                  <a:srgbClr val="8dc765"/>
                </a:solidFill>
                <a:uFillTx/>
                <a:latin typeface="Georgia"/>
                <a:hlinkClick r:id="rId2"/>
              </a:rPr>
              <a:t>глицином</a:t>
            </a:r>
            <a:r>
              <a:rPr b="0" lang="ru-RU" sz="9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lang="ru-RU" sz="900" spc="-1" strike="noStrike" u="sng">
                <a:solidFill>
                  <a:srgbClr val="8dc765"/>
                </a:solidFill>
                <a:uFillTx/>
                <a:latin typeface="Georgia"/>
                <a:hlinkClick r:id="rId3"/>
              </a:rPr>
              <a:t>аланином</a:t>
            </a:r>
            <a:r>
              <a:rPr b="0" lang="ru-RU" sz="900" spc="-1" strike="noStrike">
                <a:solidFill>
                  <a:srgbClr val="ffffff"/>
                </a:solidFill>
                <a:latin typeface="Georgia"/>
              </a:rPr>
              <a:t> и </a:t>
            </a:r>
            <a:r>
              <a:rPr b="0" lang="ru-RU" sz="900" spc="-1" strike="noStrike" u="sng">
                <a:solidFill>
                  <a:srgbClr val="8dc765"/>
                </a:solidFill>
                <a:uFillTx/>
                <a:latin typeface="Georgia"/>
                <a:hlinkClick r:id="rId4"/>
              </a:rPr>
              <a:t>серином</a:t>
            </a:r>
            <a:r>
              <a:rPr b="0" lang="ru-RU" sz="900" spc="-1" strike="noStrike">
                <a:solidFill>
                  <a:srgbClr val="ffffff"/>
                </a:solidFill>
                <a:latin typeface="Georgia"/>
              </a:rPr>
              <a:t>. Внутри паутинной железы она существует в жидкой форме. При выделении через многочисленные </a:t>
            </a:r>
            <a:r>
              <a:rPr b="0" i="1" lang="ru-RU" sz="900" spc="-1" strike="noStrike">
                <a:solidFill>
                  <a:srgbClr val="ffffff"/>
                </a:solidFill>
                <a:latin typeface="Georgia"/>
              </a:rPr>
              <a:t>прядильные трубочки</a:t>
            </a:r>
            <a:r>
              <a:rPr b="0" lang="ru-RU" sz="900" spc="-1" strike="noStrike">
                <a:solidFill>
                  <a:srgbClr val="ffffff"/>
                </a:solidFill>
                <a:latin typeface="Georgia"/>
              </a:rPr>
              <a:t>, открывающиеся на поверхности </a:t>
            </a:r>
            <a:r>
              <a:rPr b="0" i="1" lang="ru-RU" sz="900" spc="-1" strike="noStrike">
                <a:solidFill>
                  <a:srgbClr val="ffffff"/>
                </a:solidFill>
                <a:latin typeface="Georgia"/>
              </a:rPr>
              <a:t>паутинных бородавок</a:t>
            </a:r>
            <a:r>
              <a:rPr b="0" lang="ru-RU" sz="900" spc="-1" strike="noStrike">
                <a:solidFill>
                  <a:srgbClr val="ffffff"/>
                </a:solidFill>
                <a:latin typeface="Georgia"/>
              </a:rPr>
              <a:t>, происходит изменение структуры белка, вследствие чего он затвердевает в форме тонкой нити. В дальнейшем паук переплетает эти первичные нити в более толстое паутинное волокно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Georgia"/>
              </a:rPr>
              <a:t>По прочности паутина близка к </a:t>
            </a:r>
            <a:r>
              <a:rPr b="0" lang="ru-RU" sz="900" spc="-1" strike="noStrike" u="sng">
                <a:solidFill>
                  <a:srgbClr val="8dc765"/>
                </a:solidFill>
                <a:uFillTx/>
                <a:latin typeface="Georgia"/>
                <a:hlinkClick r:id="rId5"/>
              </a:rPr>
              <a:t>нейлону</a:t>
            </a:r>
            <a:r>
              <a:rPr b="0" lang="ru-RU" sz="900" spc="-1" strike="noStrike">
                <a:solidFill>
                  <a:srgbClr val="ffffff"/>
                </a:solidFill>
                <a:latin typeface="Georgia"/>
              </a:rPr>
              <a:t> и значительно прочнее сходного с ней по составу шёлка насекомых (например, гусениц </a:t>
            </a:r>
            <a:r>
              <a:rPr b="0" lang="ru-RU" sz="900" spc="-1" strike="noStrike" u="sng">
                <a:solidFill>
                  <a:srgbClr val="8dc765"/>
                </a:solidFill>
                <a:uFillTx/>
                <a:latin typeface="Georgia"/>
                <a:hlinkClick r:id="rId6"/>
              </a:rPr>
              <a:t>тутового шелкопряда</a:t>
            </a:r>
            <a:r>
              <a:rPr b="0" lang="ru-RU" sz="900" spc="-1" strike="noStrike">
                <a:solidFill>
                  <a:srgbClr val="ffffff"/>
                </a:solidFill>
                <a:latin typeface="Georgia"/>
              </a:rPr>
              <a:t>). Согласно одному из предположений различия обусловлены тем, что пауки формируют волокно, свисая на нём.</a:t>
            </a:r>
            <a:r>
              <a:rPr b="0" lang="ru-RU" sz="900" spc="-1" strike="noStrike" u="sng" baseline="30000">
                <a:solidFill>
                  <a:srgbClr val="8dc765"/>
                </a:solidFill>
                <a:uFillTx/>
                <a:latin typeface="Georgia"/>
                <a:hlinkClick r:id="rId7"/>
              </a:rPr>
              <a:t>[1]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Georgia"/>
              </a:rPr>
              <a:t>Другое необычное свойство паутины — внутренняя </a:t>
            </a:r>
            <a:r>
              <a:rPr b="0" lang="ru-RU" sz="900" spc="-1" strike="noStrike" u="sng">
                <a:solidFill>
                  <a:srgbClr val="8dc765"/>
                </a:solidFill>
                <a:uFillTx/>
                <a:latin typeface="Georgia"/>
                <a:hlinkClick r:id="rId8"/>
              </a:rPr>
              <a:t>шарнирность</a:t>
            </a:r>
            <a:r>
              <a:rPr b="0" lang="ru-RU" sz="900" spc="-1" strike="noStrike">
                <a:solidFill>
                  <a:srgbClr val="ffffff"/>
                </a:solidFill>
                <a:latin typeface="Georgia"/>
              </a:rPr>
              <a:t>: подвешенный на паутинном волокне предмет можно неограниченно вращать в одну и ту же сторону, и при этом она не только не перекрутится, но вообще не будет создавать заметной силы противодействия.</a:t>
            </a:r>
            <a:r>
              <a:rPr b="0" lang="ru-RU" sz="900" spc="-1" strike="noStrike" u="sng" baseline="30000">
                <a:solidFill>
                  <a:srgbClr val="8dc765"/>
                </a:solidFill>
                <a:uFillTx/>
                <a:latin typeface="Georgia"/>
                <a:hlinkClick r:id="rId9"/>
              </a:rPr>
              <a:t>[</a:t>
            </a:r>
            <a:r>
              <a:rPr b="0" lang="ru-RU" sz="900" spc="-1" strike="noStrike" u="sng" baseline="30000">
                <a:solidFill>
                  <a:srgbClr val="8dc765"/>
                </a:solidFill>
                <a:uFillTx/>
                <a:latin typeface="Georgia"/>
                <a:hlinkClick r:id="rId10"/>
              </a:rPr>
              <a:t>и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7" name="Содержимое 9" descr="250px-Spider_web_Luc_Viatour.jpg"/>
          <p:cNvPicPr/>
          <p:nvPr/>
        </p:nvPicPr>
        <p:blipFill>
          <a:blip r:embed="rId11"/>
          <a:stretch/>
        </p:blipFill>
        <p:spPr>
          <a:xfrm>
            <a:off x="2928960" y="714240"/>
            <a:ext cx="607212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99880" y="5643720"/>
            <a:ext cx="58676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271c"/>
                </a:solidFill>
                <a:latin typeface="Georgia"/>
              </a:rPr>
              <a:t>Казеин  - молочный белок </a:t>
            </a:r>
            <a:endParaRPr b="0" lang="en-US" sz="24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79" name="Рисунок 9" descr="4_1.jpg"/>
          <p:cNvPicPr/>
          <p:nvPr/>
        </p:nvPicPr>
        <p:blipFill>
          <a:blip r:embed="rId1"/>
          <a:srcRect l="0" t="1644" r="0" b="1644"/>
          <a:stretch/>
        </p:blipFill>
        <p:spPr>
          <a:xfrm>
            <a:off x="3071880" y="928800"/>
            <a:ext cx="5867280" cy="426708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Казеин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 (</a:t>
            </a:r>
            <a:r>
              <a:rPr b="0" lang="ru-RU" sz="1400" spc="-1" strike="noStrike" u="sng">
                <a:solidFill>
                  <a:srgbClr val="8dc765"/>
                </a:solidFill>
                <a:uFillTx/>
                <a:latin typeface="Georgia"/>
                <a:hlinkClick r:id="rId2"/>
              </a:rPr>
              <a:t>лат.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 </a:t>
            </a:r>
            <a:r>
              <a:rPr b="0" i="1" lang="ru-RU" sz="1400" spc="-1" strike="noStrike">
                <a:solidFill>
                  <a:srgbClr val="ffffff"/>
                </a:solidFill>
                <a:latin typeface="Georgia"/>
              </a:rPr>
              <a:t>caseus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 — </a:t>
            </a:r>
            <a:r>
              <a:rPr b="0" lang="ru-RU" sz="1400" spc="-1" strike="noStrike" u="sng">
                <a:solidFill>
                  <a:srgbClr val="8dc765"/>
                </a:solidFill>
                <a:uFillTx/>
                <a:latin typeface="Georgia"/>
                <a:hlinkClick r:id="rId3"/>
              </a:rPr>
              <a:t>сыр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) — сложный </a:t>
            </a:r>
            <a:r>
              <a:rPr b="0" lang="ru-RU" sz="1400" spc="-1" strike="noStrike" u="sng">
                <a:solidFill>
                  <a:srgbClr val="8dc765"/>
                </a:solidFill>
                <a:uFillTx/>
                <a:latin typeface="Georgia"/>
                <a:hlinkClick r:id="rId4"/>
              </a:rPr>
              <a:t>белок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, образующийся из предшественника казеина — </a:t>
            </a:r>
            <a:r>
              <a:rPr b="0" lang="ru-RU" sz="1400" spc="-1" strike="noStrike" u="sng">
                <a:solidFill>
                  <a:srgbClr val="8dc765"/>
                </a:solidFill>
                <a:uFillTx/>
                <a:latin typeface="Georgia"/>
                <a:hlinkClick r:id="rId5"/>
              </a:rPr>
              <a:t>казеиногена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 при </a:t>
            </a:r>
            <a:r>
              <a:rPr b="0" lang="ru-RU" sz="1400" spc="-1" strike="noStrike" u="sng">
                <a:solidFill>
                  <a:srgbClr val="8dc765"/>
                </a:solidFill>
                <a:uFillTx/>
                <a:latin typeface="Georgia"/>
                <a:hlinkClick r:id="rId6"/>
              </a:rPr>
              <a:t>створаживании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1400" spc="-1" strike="noStrike" u="sng">
                <a:solidFill>
                  <a:srgbClr val="8dc765"/>
                </a:solidFill>
                <a:uFillTx/>
                <a:latin typeface="Georgia"/>
                <a:hlinkClick r:id="rId7"/>
              </a:rPr>
              <a:t>молока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 под действием </a:t>
            </a:r>
            <a:r>
              <a:rPr b="0" lang="ru-RU" sz="1400" spc="-1" strike="noStrike" u="sng">
                <a:solidFill>
                  <a:srgbClr val="8dc765"/>
                </a:solidFill>
                <a:uFillTx/>
                <a:latin typeface="Georgia"/>
                <a:hlinkClick r:id="rId8"/>
              </a:rPr>
              <a:t>протеолитических ферментов</a:t>
            </a: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. Является основным белком молока, содержание в коровьем молоке в период лактации 2,8-3,5 % по массе (сывороточных белков 0,5 %), в женском — в два раза меньше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Присутствует в молоке в несвободном виде — в казеинате кальция. Составляет основную массу творога. Применяется в производстве красок, клеев, пластмасс, искусственных пищевых продуктов. По структуре относится к фосфопротеин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571320"/>
            <a:ext cx="23623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ДНК</a:t>
            </a:r>
            <a:endParaRPr b="0" lang="en-US" sz="4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Georgia"/>
              </a:rPr>
              <a:t>Дезоксирибонуклеи́новая кислота́</a:t>
            </a:r>
            <a:r>
              <a:rPr b="0" lang="ru-RU" sz="1500" spc="-1" strike="noStrike">
                <a:solidFill>
                  <a:srgbClr val="ffffff"/>
                </a:solidFill>
                <a:latin typeface="Georgia"/>
              </a:rPr>
              <a:t> (</a:t>
            </a:r>
            <a:r>
              <a:rPr b="1" lang="ru-RU" sz="1500" spc="-1" strike="noStrike">
                <a:solidFill>
                  <a:srgbClr val="ffffff"/>
                </a:solidFill>
                <a:latin typeface="Georgia"/>
              </a:rPr>
              <a:t>ДНК</a:t>
            </a:r>
            <a:r>
              <a:rPr b="0" lang="ru-RU" sz="1500" spc="-1" strike="noStrike">
                <a:solidFill>
                  <a:srgbClr val="ffffff"/>
                </a:solidFill>
                <a:latin typeface="Georgia"/>
              </a:rPr>
              <a:t>) — один из двух типов нуклеиновых кислот, обеспечивающих хранение, передачу из поколения в поколение и реализацию генетической программы развития и функционирования живых организмов. Основная роль ДНК в клетках — долговременное хранение информации о структуре РНК и белк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3" name="Содержимое 11" descr="239px-799px-DNA_Overview_rus2.png"/>
          <p:cNvPicPr/>
          <p:nvPr/>
        </p:nvPicPr>
        <p:blipFill>
          <a:blip r:embed="rId1"/>
          <a:srcRect l="0" t="12552" r="0" b="16730"/>
          <a:stretch/>
        </p:blipFill>
        <p:spPr>
          <a:xfrm>
            <a:off x="4071960" y="593640"/>
            <a:ext cx="37148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83000"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Целлюлоза, или клетчатка (от латинского слова «целлула» -- клетка), широко распространена в природе. Целлюлоза -- это прочное волокнистое вещество органического происхождения, из которого состоит опорная ткань всех растений (растительных клеток).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5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Georgia"/>
              </a:rPr>
              <a:t>Именно благодаря своим  свойствам,  мочалочки и спонжи, изготовленные из натуральной целлюлозы обладают гигиеническими, гигроскопичными  и экологическими свойствами.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6" name="Содержимое 4" descr="derevo.jpg"/>
          <p:cNvPicPr/>
          <p:nvPr/>
        </p:nvPicPr>
        <p:blipFill>
          <a:blip r:embed="rId1"/>
          <a:stretch/>
        </p:blipFill>
        <p:spPr>
          <a:xfrm>
            <a:off x="301680" y="3046320"/>
            <a:ext cx="4041720" cy="2668680"/>
          </a:xfrm>
          <a:prstGeom prst="rect">
            <a:avLst/>
          </a:prstGeom>
          <a:ln w="0">
            <a:noFill/>
          </a:ln>
        </p:spPr>
      </p:pic>
      <p:pic>
        <p:nvPicPr>
          <p:cNvPr id="687" name="Содержимое 7" descr="stuktura.jpg"/>
          <p:cNvPicPr/>
          <p:nvPr/>
        </p:nvPicPr>
        <p:blipFill>
          <a:blip r:embed="rId2"/>
          <a:stretch/>
        </p:blipFill>
        <p:spPr>
          <a:xfrm>
            <a:off x="4800600" y="2909880"/>
            <a:ext cx="4038480" cy="29448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ab2627"/>
                </a:solidFill>
                <a:latin typeface="Georgia"/>
              </a:rPr>
              <a:t>Целлюлоза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b2627"/>
                </a:solidFill>
                <a:latin typeface="Georgia"/>
              </a:rPr>
              <a:t>Почему жидкость превращается в твердое вещество?</a:t>
            </a:r>
            <a:endParaRPr b="0" lang="en-US" sz="27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0" name="Полилиния 16"/>
          <p:cNvSpPr/>
          <p:nvPr/>
        </p:nvSpPr>
        <p:spPr>
          <a:xfrm>
            <a:off x="1066680" y="2066760"/>
            <a:ext cx="2287800" cy="1947960"/>
          </a:xfrm>
          <a:custGeom>
            <a:avLst/>
            <a:gdLst/>
            <a:ahLst/>
            <a:rect l="l" t="t" r="r" b="b"/>
            <a:pathLst>
              <a:path w="2287242" h="1947672">
                <a:moveTo>
                  <a:pt x="743962" y="0"/>
                </a:moveTo>
                <a:cubicBezTo>
                  <a:pt x="740914" y="82296"/>
                  <a:pt x="740296" y="164718"/>
                  <a:pt x="734818" y="246888"/>
                </a:cubicBezTo>
                <a:cubicBezTo>
                  <a:pt x="734177" y="256505"/>
                  <a:pt x="727765" y="264911"/>
                  <a:pt x="725674" y="274320"/>
                </a:cubicBezTo>
                <a:cubicBezTo>
                  <a:pt x="721652" y="292419"/>
                  <a:pt x="719847" y="310943"/>
                  <a:pt x="716530" y="329184"/>
                </a:cubicBezTo>
                <a:cubicBezTo>
                  <a:pt x="713750" y="344475"/>
                  <a:pt x="709167" y="359465"/>
                  <a:pt x="707386" y="374904"/>
                </a:cubicBezTo>
                <a:cubicBezTo>
                  <a:pt x="681972" y="595160"/>
                  <a:pt x="710362" y="503136"/>
                  <a:pt x="679954" y="594360"/>
                </a:cubicBezTo>
                <a:cubicBezTo>
                  <a:pt x="676906" y="621792"/>
                  <a:pt x="673699" y="649207"/>
                  <a:pt x="670810" y="676656"/>
                </a:cubicBezTo>
                <a:cubicBezTo>
                  <a:pt x="659930" y="780018"/>
                  <a:pt x="671597" y="738302"/>
                  <a:pt x="652522" y="795528"/>
                </a:cubicBezTo>
                <a:cubicBezTo>
                  <a:pt x="649474" y="819912"/>
                  <a:pt x="647418" y="844441"/>
                  <a:pt x="643378" y="868680"/>
                </a:cubicBezTo>
                <a:cubicBezTo>
                  <a:pt x="641312" y="881076"/>
                  <a:pt x="636300" y="892860"/>
                  <a:pt x="634234" y="905256"/>
                </a:cubicBezTo>
                <a:cubicBezTo>
                  <a:pt x="601019" y="1104547"/>
                  <a:pt x="643914" y="884288"/>
                  <a:pt x="615946" y="1024128"/>
                </a:cubicBezTo>
                <a:cubicBezTo>
                  <a:pt x="618701" y="1068215"/>
                  <a:pt x="619920" y="1168039"/>
                  <a:pt x="634234" y="1225296"/>
                </a:cubicBezTo>
                <a:cubicBezTo>
                  <a:pt x="638909" y="1243998"/>
                  <a:pt x="636482" y="1269467"/>
                  <a:pt x="652522" y="1280160"/>
                </a:cubicBezTo>
                <a:cubicBezTo>
                  <a:pt x="661666" y="1286256"/>
                  <a:pt x="671011" y="1292060"/>
                  <a:pt x="679954" y="1298448"/>
                </a:cubicBezTo>
                <a:cubicBezTo>
                  <a:pt x="702034" y="1314220"/>
                  <a:pt x="716117" y="1332093"/>
                  <a:pt x="743962" y="1335024"/>
                </a:cubicBezTo>
                <a:cubicBezTo>
                  <a:pt x="792557" y="1340139"/>
                  <a:pt x="841498" y="1341120"/>
                  <a:pt x="890266" y="1344168"/>
                </a:cubicBezTo>
                <a:cubicBezTo>
                  <a:pt x="916411" y="1352883"/>
                  <a:pt x="925570" y="1356715"/>
                  <a:pt x="954274" y="1362456"/>
                </a:cubicBezTo>
                <a:cubicBezTo>
                  <a:pt x="972454" y="1366092"/>
                  <a:pt x="990958" y="1367964"/>
                  <a:pt x="1009138" y="1371600"/>
                </a:cubicBezTo>
                <a:cubicBezTo>
                  <a:pt x="1021461" y="1374065"/>
                  <a:pt x="1033630" y="1377292"/>
                  <a:pt x="1045714" y="1380744"/>
                </a:cubicBezTo>
                <a:cubicBezTo>
                  <a:pt x="1054982" y="1383392"/>
                  <a:pt x="1063737" y="1387797"/>
                  <a:pt x="1073146" y="1389888"/>
                </a:cubicBezTo>
                <a:cubicBezTo>
                  <a:pt x="1091245" y="1393910"/>
                  <a:pt x="1109830" y="1395396"/>
                  <a:pt x="1128010" y="1399032"/>
                </a:cubicBezTo>
                <a:cubicBezTo>
                  <a:pt x="1140333" y="1401497"/>
                  <a:pt x="1152394" y="1405128"/>
                  <a:pt x="1164586" y="1408176"/>
                </a:cubicBezTo>
                <a:cubicBezTo>
                  <a:pt x="1204794" y="1432301"/>
                  <a:pt x="1217354" y="1444333"/>
                  <a:pt x="1265170" y="1453896"/>
                </a:cubicBezTo>
                <a:cubicBezTo>
                  <a:pt x="1292005" y="1459263"/>
                  <a:pt x="1313719" y="1461640"/>
                  <a:pt x="1338322" y="1472184"/>
                </a:cubicBezTo>
                <a:cubicBezTo>
                  <a:pt x="1350851" y="1477554"/>
                  <a:pt x="1362369" y="1485102"/>
                  <a:pt x="1374898" y="1490472"/>
                </a:cubicBezTo>
                <a:cubicBezTo>
                  <a:pt x="1398799" y="1500715"/>
                  <a:pt x="1413127" y="1501026"/>
                  <a:pt x="1438906" y="1508760"/>
                </a:cubicBezTo>
                <a:cubicBezTo>
                  <a:pt x="1457370" y="1514299"/>
                  <a:pt x="1474755" y="1523879"/>
                  <a:pt x="1493770" y="1527048"/>
                </a:cubicBezTo>
                <a:cubicBezTo>
                  <a:pt x="1530346" y="1533144"/>
                  <a:pt x="1568320" y="1533610"/>
                  <a:pt x="1603498" y="1545336"/>
                </a:cubicBezTo>
                <a:cubicBezTo>
                  <a:pt x="1631462" y="1554657"/>
                  <a:pt x="1644396" y="1560229"/>
                  <a:pt x="1676650" y="1563624"/>
                </a:cubicBezTo>
                <a:cubicBezTo>
                  <a:pt x="1719196" y="1568102"/>
                  <a:pt x="1761994" y="1569720"/>
                  <a:pt x="1804666" y="1572768"/>
                </a:cubicBezTo>
                <a:cubicBezTo>
                  <a:pt x="1880866" y="1569720"/>
                  <a:pt x="1957439" y="1571748"/>
                  <a:pt x="2033266" y="1563624"/>
                </a:cubicBezTo>
                <a:cubicBezTo>
                  <a:pt x="2044193" y="1562453"/>
                  <a:pt x="2050655" y="1549799"/>
                  <a:pt x="2060698" y="1545336"/>
                </a:cubicBezTo>
                <a:cubicBezTo>
                  <a:pt x="2078314" y="1537507"/>
                  <a:pt x="2097274" y="1533144"/>
                  <a:pt x="2115562" y="1527048"/>
                </a:cubicBezTo>
                <a:lnTo>
                  <a:pt x="2142994" y="1517904"/>
                </a:lnTo>
                <a:cubicBezTo>
                  <a:pt x="2170426" y="1520952"/>
                  <a:pt x="2199106" y="1518320"/>
                  <a:pt x="2225290" y="1527048"/>
                </a:cubicBezTo>
                <a:cubicBezTo>
                  <a:pt x="2287242" y="1547699"/>
                  <a:pt x="2246073" y="1680414"/>
                  <a:pt x="2243578" y="1691640"/>
                </a:cubicBezTo>
                <a:cubicBezTo>
                  <a:pt x="2240773" y="1704264"/>
                  <a:pt x="2224425" y="1709138"/>
                  <a:pt x="2216146" y="1719072"/>
                </a:cubicBezTo>
                <a:cubicBezTo>
                  <a:pt x="2209111" y="1727515"/>
                  <a:pt x="2205629" y="1738733"/>
                  <a:pt x="2197858" y="1746504"/>
                </a:cubicBezTo>
                <a:cubicBezTo>
                  <a:pt x="2196596" y="1747766"/>
                  <a:pt x="2142157" y="1789109"/>
                  <a:pt x="2133850" y="1792224"/>
                </a:cubicBezTo>
                <a:cubicBezTo>
                  <a:pt x="2119298" y="1797681"/>
                  <a:pt x="2103370" y="1798320"/>
                  <a:pt x="2088130" y="1801368"/>
                </a:cubicBezTo>
                <a:cubicBezTo>
                  <a:pt x="2075938" y="1798320"/>
                  <a:pt x="2063105" y="1797174"/>
                  <a:pt x="2051554" y="1792224"/>
                </a:cubicBezTo>
                <a:cubicBezTo>
                  <a:pt x="2041453" y="1787895"/>
                  <a:pt x="2035001" y="1775490"/>
                  <a:pt x="2024122" y="1773936"/>
                </a:cubicBezTo>
                <a:cubicBezTo>
                  <a:pt x="2011681" y="1772159"/>
                  <a:pt x="1999583" y="1779469"/>
                  <a:pt x="1987546" y="1783080"/>
                </a:cubicBezTo>
                <a:cubicBezTo>
                  <a:pt x="1969082" y="1788619"/>
                  <a:pt x="1950970" y="1795272"/>
                  <a:pt x="1932682" y="1801368"/>
                </a:cubicBezTo>
                <a:lnTo>
                  <a:pt x="1905250" y="1810512"/>
                </a:lnTo>
                <a:lnTo>
                  <a:pt x="1850386" y="1828800"/>
                </a:lnTo>
                <a:lnTo>
                  <a:pt x="1822954" y="1837944"/>
                </a:lnTo>
                <a:cubicBezTo>
                  <a:pt x="1779980" y="1880918"/>
                  <a:pt x="1806282" y="1858203"/>
                  <a:pt x="1740658" y="1901952"/>
                </a:cubicBezTo>
                <a:cubicBezTo>
                  <a:pt x="1717539" y="1917365"/>
                  <a:pt x="1712835" y="1923976"/>
                  <a:pt x="1685794" y="1929384"/>
                </a:cubicBezTo>
                <a:cubicBezTo>
                  <a:pt x="1649434" y="1936656"/>
                  <a:pt x="1576066" y="1947672"/>
                  <a:pt x="1576066" y="1947672"/>
                </a:cubicBezTo>
                <a:cubicBezTo>
                  <a:pt x="1545586" y="1944624"/>
                  <a:pt x="1513903" y="1947536"/>
                  <a:pt x="1484626" y="1938528"/>
                </a:cubicBezTo>
                <a:cubicBezTo>
                  <a:pt x="1472266" y="1934725"/>
                  <a:pt x="1467954" y="1918269"/>
                  <a:pt x="1457194" y="1911096"/>
                </a:cubicBezTo>
                <a:cubicBezTo>
                  <a:pt x="1449174" y="1905749"/>
                  <a:pt x="1439171" y="1904043"/>
                  <a:pt x="1429762" y="1901952"/>
                </a:cubicBezTo>
                <a:cubicBezTo>
                  <a:pt x="1411663" y="1897930"/>
                  <a:pt x="1392997" y="1896830"/>
                  <a:pt x="1374898" y="1892808"/>
                </a:cubicBezTo>
                <a:cubicBezTo>
                  <a:pt x="1342997" y="1885719"/>
                  <a:pt x="1347099" y="1878141"/>
                  <a:pt x="1310890" y="1874520"/>
                </a:cubicBezTo>
                <a:cubicBezTo>
                  <a:pt x="1262269" y="1869658"/>
                  <a:pt x="1213354" y="1868424"/>
                  <a:pt x="1164586" y="1865376"/>
                </a:cubicBezTo>
                <a:cubicBezTo>
                  <a:pt x="1149721" y="1862403"/>
                  <a:pt x="1075701" y="1847088"/>
                  <a:pt x="1064002" y="1847088"/>
                </a:cubicBezTo>
                <a:cubicBezTo>
                  <a:pt x="1014009" y="1847088"/>
                  <a:pt x="879921" y="1857525"/>
                  <a:pt x="817114" y="1865376"/>
                </a:cubicBezTo>
                <a:cubicBezTo>
                  <a:pt x="798717" y="1867676"/>
                  <a:pt x="780663" y="1872354"/>
                  <a:pt x="762250" y="1874520"/>
                </a:cubicBezTo>
                <a:cubicBezTo>
                  <a:pt x="728814" y="1878454"/>
                  <a:pt x="695194" y="1880616"/>
                  <a:pt x="661666" y="1883664"/>
                </a:cubicBezTo>
                <a:cubicBezTo>
                  <a:pt x="637282" y="1889760"/>
                  <a:pt x="613454" y="1898834"/>
                  <a:pt x="588514" y="1901952"/>
                </a:cubicBezTo>
                <a:cubicBezTo>
                  <a:pt x="499940" y="1913024"/>
                  <a:pt x="539459" y="1906277"/>
                  <a:pt x="469642" y="1920240"/>
                </a:cubicBezTo>
                <a:cubicBezTo>
                  <a:pt x="399875" y="1916136"/>
                  <a:pt x="305570" y="1913286"/>
                  <a:pt x="231898" y="1901952"/>
                </a:cubicBezTo>
                <a:cubicBezTo>
                  <a:pt x="219477" y="1900041"/>
                  <a:pt x="207645" y="1895273"/>
                  <a:pt x="195322" y="1892808"/>
                </a:cubicBezTo>
                <a:cubicBezTo>
                  <a:pt x="144016" y="1882547"/>
                  <a:pt x="113058" y="1880620"/>
                  <a:pt x="58162" y="1874520"/>
                </a:cubicBezTo>
                <a:cubicBezTo>
                  <a:pt x="49018" y="1871472"/>
                  <a:pt x="38256" y="1871397"/>
                  <a:pt x="30730" y="1865376"/>
                </a:cubicBezTo>
                <a:cubicBezTo>
                  <a:pt x="0" y="1840792"/>
                  <a:pt x="6452" y="1784036"/>
                  <a:pt x="3298" y="1755648"/>
                </a:cubicBezTo>
                <a:cubicBezTo>
                  <a:pt x="6346" y="1719072"/>
                  <a:pt x="6997" y="1682217"/>
                  <a:pt x="12442" y="1645920"/>
                </a:cubicBezTo>
                <a:cubicBezTo>
                  <a:pt x="16170" y="1621064"/>
                  <a:pt x="26598" y="1597560"/>
                  <a:pt x="30730" y="1572768"/>
                </a:cubicBezTo>
                <a:cubicBezTo>
                  <a:pt x="33778" y="1554480"/>
                  <a:pt x="35377" y="1535891"/>
                  <a:pt x="39874" y="1517904"/>
                </a:cubicBezTo>
                <a:cubicBezTo>
                  <a:pt x="44549" y="1499202"/>
                  <a:pt x="44531" y="1476671"/>
                  <a:pt x="58162" y="1463040"/>
                </a:cubicBezTo>
                <a:cubicBezTo>
                  <a:pt x="78385" y="1442817"/>
                  <a:pt x="91151" y="1433637"/>
                  <a:pt x="103882" y="1408176"/>
                </a:cubicBezTo>
                <a:cubicBezTo>
                  <a:pt x="141740" y="1332460"/>
                  <a:pt x="78903" y="1431928"/>
                  <a:pt x="131314" y="1353312"/>
                </a:cubicBezTo>
                <a:cubicBezTo>
                  <a:pt x="134362" y="1341120"/>
                  <a:pt x="136847" y="1328773"/>
                  <a:pt x="140458" y="1316736"/>
                </a:cubicBezTo>
                <a:cubicBezTo>
                  <a:pt x="145997" y="1298272"/>
                  <a:pt x="154965" y="1280775"/>
                  <a:pt x="158746" y="1261872"/>
                </a:cubicBezTo>
                <a:cubicBezTo>
                  <a:pt x="161794" y="1246632"/>
                  <a:pt x="163801" y="1231146"/>
                  <a:pt x="167890" y="1216152"/>
                </a:cubicBezTo>
                <a:cubicBezTo>
                  <a:pt x="172962" y="1197554"/>
                  <a:pt x="183009" y="1180303"/>
                  <a:pt x="186178" y="1161288"/>
                </a:cubicBezTo>
                <a:cubicBezTo>
                  <a:pt x="189226" y="1143000"/>
                  <a:pt x="190825" y="1124411"/>
                  <a:pt x="195322" y="1106424"/>
                </a:cubicBezTo>
                <a:cubicBezTo>
                  <a:pt x="199997" y="1087722"/>
                  <a:pt x="207514" y="1069848"/>
                  <a:pt x="213610" y="1051560"/>
                </a:cubicBezTo>
                <a:lnTo>
                  <a:pt x="222754" y="1024128"/>
                </a:lnTo>
                <a:cubicBezTo>
                  <a:pt x="228850" y="957072"/>
                  <a:pt x="238454" y="890243"/>
                  <a:pt x="241042" y="822960"/>
                </a:cubicBezTo>
                <a:cubicBezTo>
                  <a:pt x="244090" y="743712"/>
                  <a:pt x="245388" y="664377"/>
                  <a:pt x="250186" y="585216"/>
                </a:cubicBezTo>
                <a:cubicBezTo>
                  <a:pt x="251490" y="563703"/>
                  <a:pt x="256482" y="542572"/>
                  <a:pt x="259330" y="521208"/>
                </a:cubicBezTo>
                <a:cubicBezTo>
                  <a:pt x="272616" y="421562"/>
                  <a:pt x="262254" y="479155"/>
                  <a:pt x="277618" y="402336"/>
                </a:cubicBezTo>
                <a:cubicBezTo>
                  <a:pt x="274122" y="353395"/>
                  <a:pt x="269530" y="257269"/>
                  <a:pt x="259330" y="201168"/>
                </a:cubicBezTo>
                <a:cubicBezTo>
                  <a:pt x="257606" y="191685"/>
                  <a:pt x="252277" y="183145"/>
                  <a:pt x="250186" y="173736"/>
                </a:cubicBezTo>
                <a:cubicBezTo>
                  <a:pt x="246164" y="155637"/>
                  <a:pt x="245064" y="136971"/>
                  <a:pt x="241042" y="118872"/>
                </a:cubicBezTo>
                <a:cubicBezTo>
                  <a:pt x="238951" y="109463"/>
                  <a:pt x="234546" y="100708"/>
                  <a:pt x="231898" y="91440"/>
                </a:cubicBezTo>
                <a:cubicBezTo>
                  <a:pt x="228446" y="79356"/>
                  <a:pt x="222754" y="54864"/>
                  <a:pt x="222754" y="54864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олилиния 17"/>
          <p:cNvSpPr/>
          <p:nvPr/>
        </p:nvSpPr>
        <p:spPr>
          <a:xfrm>
            <a:off x="3108240" y="3619440"/>
            <a:ext cx="214560" cy="65160"/>
          </a:xfrm>
          <a:custGeom>
            <a:avLst/>
            <a:gdLst/>
            <a:ahLst/>
            <a:rect l="l" t="t" r="r" b="b"/>
            <a:pathLst>
              <a:path w="213693" h="65699">
                <a:moveTo>
                  <a:pt x="0" y="19979"/>
                </a:moveTo>
                <a:cubicBezTo>
                  <a:pt x="12192" y="29123"/>
                  <a:pt x="24175" y="38553"/>
                  <a:pt x="36576" y="47411"/>
                </a:cubicBezTo>
                <a:cubicBezTo>
                  <a:pt x="45519" y="53799"/>
                  <a:pt x="53018" y="65699"/>
                  <a:pt x="64008" y="65699"/>
                </a:cubicBezTo>
                <a:cubicBezTo>
                  <a:pt x="111189" y="65699"/>
                  <a:pt x="113156" y="45697"/>
                  <a:pt x="146304" y="29123"/>
                </a:cubicBezTo>
                <a:cubicBezTo>
                  <a:pt x="154925" y="24812"/>
                  <a:pt x="165115" y="24290"/>
                  <a:pt x="173736" y="19979"/>
                </a:cubicBezTo>
                <a:cubicBezTo>
                  <a:pt x="213693" y="0"/>
                  <a:pt x="187408" y="1691"/>
                  <a:pt x="210312" y="1691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олилиния 18"/>
          <p:cNvSpPr/>
          <p:nvPr/>
        </p:nvSpPr>
        <p:spPr>
          <a:xfrm>
            <a:off x="1287360" y="2368440"/>
            <a:ext cx="592200" cy="120600"/>
          </a:xfrm>
          <a:custGeom>
            <a:avLst/>
            <a:gdLst/>
            <a:ahLst/>
            <a:rect l="l" t="t" r="r" b="b"/>
            <a:pathLst>
              <a:path w="590724" h="121536">
                <a:moveTo>
                  <a:pt x="55949" y="9654"/>
                </a:moveTo>
                <a:cubicBezTo>
                  <a:pt x="43757" y="12702"/>
                  <a:pt x="29186" y="10947"/>
                  <a:pt x="19373" y="18798"/>
                </a:cubicBezTo>
                <a:cubicBezTo>
                  <a:pt x="0" y="34297"/>
                  <a:pt x="12583" y="63703"/>
                  <a:pt x="28517" y="73662"/>
                </a:cubicBezTo>
                <a:cubicBezTo>
                  <a:pt x="77252" y="104122"/>
                  <a:pt x="197176" y="99062"/>
                  <a:pt x="229685" y="101094"/>
                </a:cubicBezTo>
                <a:cubicBezTo>
                  <a:pt x="331896" y="121536"/>
                  <a:pt x="286042" y="116210"/>
                  <a:pt x="467429" y="101094"/>
                </a:cubicBezTo>
                <a:cubicBezTo>
                  <a:pt x="477034" y="100294"/>
                  <a:pt x="485510" y="94288"/>
                  <a:pt x="494861" y="91950"/>
                </a:cubicBezTo>
                <a:cubicBezTo>
                  <a:pt x="509939" y="88181"/>
                  <a:pt x="525341" y="85854"/>
                  <a:pt x="540581" y="82806"/>
                </a:cubicBezTo>
                <a:cubicBezTo>
                  <a:pt x="562216" y="61171"/>
                  <a:pt x="590724" y="47880"/>
                  <a:pt x="558869" y="9654"/>
                </a:cubicBezTo>
                <a:cubicBezTo>
                  <a:pt x="550824" y="0"/>
                  <a:pt x="522293" y="510"/>
                  <a:pt x="522293" y="510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олилиния 19"/>
          <p:cNvSpPr/>
          <p:nvPr/>
        </p:nvSpPr>
        <p:spPr>
          <a:xfrm>
            <a:off x="969840" y="2357280"/>
            <a:ext cx="2514600" cy="1791000"/>
          </a:xfrm>
          <a:custGeom>
            <a:avLst/>
            <a:gdLst/>
            <a:ahLst/>
            <a:rect l="l" t="t" r="r" b="b"/>
            <a:pathLst>
              <a:path w="2514600" h="1791415">
                <a:moveTo>
                  <a:pt x="365760" y="20328"/>
                </a:moveTo>
                <a:cubicBezTo>
                  <a:pt x="335710" y="10311"/>
                  <a:pt x="319038" y="0"/>
                  <a:pt x="283464" y="20328"/>
                </a:cubicBezTo>
                <a:cubicBezTo>
                  <a:pt x="275095" y="25110"/>
                  <a:pt x="277368" y="38616"/>
                  <a:pt x="274320" y="47760"/>
                </a:cubicBezTo>
                <a:cubicBezTo>
                  <a:pt x="271272" y="133104"/>
                  <a:pt x="270191" y="218541"/>
                  <a:pt x="265176" y="303792"/>
                </a:cubicBezTo>
                <a:cubicBezTo>
                  <a:pt x="264087" y="322300"/>
                  <a:pt x="258654" y="340302"/>
                  <a:pt x="256032" y="358656"/>
                </a:cubicBezTo>
                <a:cubicBezTo>
                  <a:pt x="230220" y="539341"/>
                  <a:pt x="261030" y="349455"/>
                  <a:pt x="237744" y="477528"/>
                </a:cubicBezTo>
                <a:cubicBezTo>
                  <a:pt x="234427" y="495769"/>
                  <a:pt x="232622" y="514293"/>
                  <a:pt x="228600" y="532392"/>
                </a:cubicBezTo>
                <a:cubicBezTo>
                  <a:pt x="226509" y="541801"/>
                  <a:pt x="221623" y="550432"/>
                  <a:pt x="219456" y="559824"/>
                </a:cubicBezTo>
                <a:cubicBezTo>
                  <a:pt x="212467" y="590112"/>
                  <a:pt x="208707" y="621108"/>
                  <a:pt x="201168" y="651264"/>
                </a:cubicBezTo>
                <a:cubicBezTo>
                  <a:pt x="172582" y="765607"/>
                  <a:pt x="209116" y="623445"/>
                  <a:pt x="182880" y="715272"/>
                </a:cubicBezTo>
                <a:cubicBezTo>
                  <a:pt x="179428" y="727356"/>
                  <a:pt x="177347" y="739811"/>
                  <a:pt x="173736" y="751848"/>
                </a:cubicBezTo>
                <a:cubicBezTo>
                  <a:pt x="168197" y="770312"/>
                  <a:pt x="166141" y="790672"/>
                  <a:pt x="155448" y="806712"/>
                </a:cubicBezTo>
                <a:cubicBezTo>
                  <a:pt x="120303" y="859430"/>
                  <a:pt x="150731" y="808575"/>
                  <a:pt x="128016" y="861576"/>
                </a:cubicBezTo>
                <a:cubicBezTo>
                  <a:pt x="122646" y="874105"/>
                  <a:pt x="114039" y="885220"/>
                  <a:pt x="109728" y="898152"/>
                </a:cubicBezTo>
                <a:cubicBezTo>
                  <a:pt x="101780" y="921997"/>
                  <a:pt x="105382" y="950391"/>
                  <a:pt x="91440" y="971304"/>
                </a:cubicBezTo>
                <a:cubicBezTo>
                  <a:pt x="85344" y="980448"/>
                  <a:pt x="77615" y="988693"/>
                  <a:pt x="73152" y="998736"/>
                </a:cubicBezTo>
                <a:cubicBezTo>
                  <a:pt x="65323" y="1016352"/>
                  <a:pt x="60960" y="1035312"/>
                  <a:pt x="54864" y="1053600"/>
                </a:cubicBezTo>
                <a:cubicBezTo>
                  <a:pt x="51816" y="1062744"/>
                  <a:pt x="47610" y="1071581"/>
                  <a:pt x="45720" y="1081032"/>
                </a:cubicBezTo>
                <a:cubicBezTo>
                  <a:pt x="42672" y="1096272"/>
                  <a:pt x="39947" y="1111580"/>
                  <a:pt x="36576" y="1126752"/>
                </a:cubicBezTo>
                <a:cubicBezTo>
                  <a:pt x="33850" y="1139020"/>
                  <a:pt x="29680" y="1150963"/>
                  <a:pt x="27432" y="1163328"/>
                </a:cubicBezTo>
                <a:cubicBezTo>
                  <a:pt x="23577" y="1184533"/>
                  <a:pt x="22515" y="1206202"/>
                  <a:pt x="18288" y="1227336"/>
                </a:cubicBezTo>
                <a:cubicBezTo>
                  <a:pt x="13359" y="1251982"/>
                  <a:pt x="0" y="1300488"/>
                  <a:pt x="0" y="1300488"/>
                </a:cubicBezTo>
                <a:cubicBezTo>
                  <a:pt x="3048" y="1373640"/>
                  <a:pt x="4274" y="1446891"/>
                  <a:pt x="9144" y="1519944"/>
                </a:cubicBezTo>
                <a:cubicBezTo>
                  <a:pt x="10706" y="1543374"/>
                  <a:pt x="20331" y="1586531"/>
                  <a:pt x="27432" y="1611384"/>
                </a:cubicBezTo>
                <a:cubicBezTo>
                  <a:pt x="30080" y="1620652"/>
                  <a:pt x="29760" y="1632000"/>
                  <a:pt x="36576" y="1638816"/>
                </a:cubicBezTo>
                <a:cubicBezTo>
                  <a:pt x="59278" y="1661518"/>
                  <a:pt x="88209" y="1676870"/>
                  <a:pt x="118872" y="1684536"/>
                </a:cubicBezTo>
                <a:cubicBezTo>
                  <a:pt x="133950" y="1688305"/>
                  <a:pt x="149514" y="1689911"/>
                  <a:pt x="164592" y="1693680"/>
                </a:cubicBezTo>
                <a:cubicBezTo>
                  <a:pt x="173943" y="1696018"/>
                  <a:pt x="182756" y="1700176"/>
                  <a:pt x="192024" y="1702824"/>
                </a:cubicBezTo>
                <a:cubicBezTo>
                  <a:pt x="204108" y="1706276"/>
                  <a:pt x="216516" y="1708516"/>
                  <a:pt x="228600" y="1711968"/>
                </a:cubicBezTo>
                <a:cubicBezTo>
                  <a:pt x="237868" y="1714616"/>
                  <a:pt x="246623" y="1719021"/>
                  <a:pt x="256032" y="1721112"/>
                </a:cubicBezTo>
                <a:cubicBezTo>
                  <a:pt x="274131" y="1725134"/>
                  <a:pt x="292797" y="1726234"/>
                  <a:pt x="310896" y="1730256"/>
                </a:cubicBezTo>
                <a:cubicBezTo>
                  <a:pt x="320305" y="1732347"/>
                  <a:pt x="328755" y="1738274"/>
                  <a:pt x="338328" y="1739400"/>
                </a:cubicBezTo>
                <a:cubicBezTo>
                  <a:pt x="380816" y="1744399"/>
                  <a:pt x="423672" y="1745496"/>
                  <a:pt x="466344" y="1748544"/>
                </a:cubicBezTo>
                <a:cubicBezTo>
                  <a:pt x="490167" y="1747461"/>
                  <a:pt x="674816" y="1744366"/>
                  <a:pt x="740664" y="1730256"/>
                </a:cubicBezTo>
                <a:cubicBezTo>
                  <a:pt x="804103" y="1716662"/>
                  <a:pt x="779009" y="1710992"/>
                  <a:pt x="832104" y="1702824"/>
                </a:cubicBezTo>
                <a:cubicBezTo>
                  <a:pt x="1020349" y="1673863"/>
                  <a:pt x="836374" y="1709285"/>
                  <a:pt x="960120" y="1684536"/>
                </a:cubicBezTo>
                <a:cubicBezTo>
                  <a:pt x="1027176" y="1687584"/>
                  <a:pt x="1094360" y="1688532"/>
                  <a:pt x="1161288" y="1693680"/>
                </a:cubicBezTo>
                <a:cubicBezTo>
                  <a:pt x="1180847" y="1695185"/>
                  <a:pt x="1206165" y="1706502"/>
                  <a:pt x="1225296" y="1711968"/>
                </a:cubicBezTo>
                <a:cubicBezTo>
                  <a:pt x="1237380" y="1715420"/>
                  <a:pt x="1249835" y="1717501"/>
                  <a:pt x="1261872" y="1721112"/>
                </a:cubicBezTo>
                <a:cubicBezTo>
                  <a:pt x="1280336" y="1726651"/>
                  <a:pt x="1297721" y="1736231"/>
                  <a:pt x="1316736" y="1739400"/>
                </a:cubicBezTo>
                <a:lnTo>
                  <a:pt x="1371600" y="1748544"/>
                </a:lnTo>
                <a:cubicBezTo>
                  <a:pt x="1386891" y="1751324"/>
                  <a:pt x="1401990" y="1755133"/>
                  <a:pt x="1417320" y="1757688"/>
                </a:cubicBezTo>
                <a:cubicBezTo>
                  <a:pt x="1515611" y="1774070"/>
                  <a:pt x="1447683" y="1758421"/>
                  <a:pt x="1517904" y="1775976"/>
                </a:cubicBezTo>
                <a:cubicBezTo>
                  <a:pt x="1683691" y="1771100"/>
                  <a:pt x="1747331" y="1791415"/>
                  <a:pt x="1865376" y="1757688"/>
                </a:cubicBezTo>
                <a:cubicBezTo>
                  <a:pt x="1919005" y="1742366"/>
                  <a:pt x="1866807" y="1756973"/>
                  <a:pt x="1920240" y="1730256"/>
                </a:cubicBezTo>
                <a:cubicBezTo>
                  <a:pt x="1928861" y="1725945"/>
                  <a:pt x="1938813" y="1724909"/>
                  <a:pt x="1947672" y="1721112"/>
                </a:cubicBezTo>
                <a:cubicBezTo>
                  <a:pt x="2059889" y="1673019"/>
                  <a:pt x="1919848" y="1730452"/>
                  <a:pt x="2011680" y="1684536"/>
                </a:cubicBezTo>
                <a:cubicBezTo>
                  <a:pt x="2020301" y="1680225"/>
                  <a:pt x="2030253" y="1679189"/>
                  <a:pt x="2039112" y="1675392"/>
                </a:cubicBezTo>
                <a:cubicBezTo>
                  <a:pt x="2051641" y="1670022"/>
                  <a:pt x="2063853" y="1663867"/>
                  <a:pt x="2075688" y="1657104"/>
                </a:cubicBezTo>
                <a:cubicBezTo>
                  <a:pt x="2085230" y="1651652"/>
                  <a:pt x="2093077" y="1643279"/>
                  <a:pt x="2103120" y="1638816"/>
                </a:cubicBezTo>
                <a:cubicBezTo>
                  <a:pt x="2157152" y="1614802"/>
                  <a:pt x="2177506" y="1618359"/>
                  <a:pt x="2240280" y="1611384"/>
                </a:cubicBezTo>
                <a:cubicBezTo>
                  <a:pt x="2252472" y="1608336"/>
                  <a:pt x="2264772" y="1605692"/>
                  <a:pt x="2276856" y="1602240"/>
                </a:cubicBezTo>
                <a:cubicBezTo>
                  <a:pt x="2368683" y="1576004"/>
                  <a:pt x="2226521" y="1612538"/>
                  <a:pt x="2340864" y="1583952"/>
                </a:cubicBezTo>
                <a:cubicBezTo>
                  <a:pt x="2359152" y="1571760"/>
                  <a:pt x="2380186" y="1562918"/>
                  <a:pt x="2395728" y="1547376"/>
                </a:cubicBezTo>
                <a:cubicBezTo>
                  <a:pt x="2430931" y="1512173"/>
                  <a:pt x="2412400" y="1527117"/>
                  <a:pt x="2450592" y="1501656"/>
                </a:cubicBezTo>
                <a:cubicBezTo>
                  <a:pt x="2462784" y="1483368"/>
                  <a:pt x="2481837" y="1468115"/>
                  <a:pt x="2487168" y="1446792"/>
                </a:cubicBezTo>
                <a:cubicBezTo>
                  <a:pt x="2509953" y="1355653"/>
                  <a:pt x="2501324" y="1398432"/>
                  <a:pt x="2514600" y="1318776"/>
                </a:cubicBezTo>
                <a:cubicBezTo>
                  <a:pt x="2513826" y="1313355"/>
                  <a:pt x="2507919" y="1244746"/>
                  <a:pt x="2496312" y="1227336"/>
                </a:cubicBezTo>
                <a:cubicBezTo>
                  <a:pt x="2486201" y="1212169"/>
                  <a:pt x="2458316" y="1190050"/>
                  <a:pt x="2441448" y="1181616"/>
                </a:cubicBezTo>
                <a:cubicBezTo>
                  <a:pt x="2428330" y="1175057"/>
                  <a:pt x="2389159" y="1166258"/>
                  <a:pt x="2377440" y="1163328"/>
                </a:cubicBezTo>
                <a:cubicBezTo>
                  <a:pt x="2368296" y="1157232"/>
                  <a:pt x="2360051" y="1149503"/>
                  <a:pt x="2350008" y="1145040"/>
                </a:cubicBezTo>
                <a:cubicBezTo>
                  <a:pt x="2292496" y="1119479"/>
                  <a:pt x="2272356" y="1124835"/>
                  <a:pt x="2203704" y="1117608"/>
                </a:cubicBezTo>
                <a:lnTo>
                  <a:pt x="2121408" y="1108464"/>
                </a:lnTo>
                <a:cubicBezTo>
                  <a:pt x="1951408" y="1120607"/>
                  <a:pt x="1990193" y="1122748"/>
                  <a:pt x="1783080" y="1108464"/>
                </a:cubicBezTo>
                <a:cubicBezTo>
                  <a:pt x="1764584" y="1107188"/>
                  <a:pt x="1746203" y="1103817"/>
                  <a:pt x="1728216" y="1099320"/>
                </a:cubicBezTo>
                <a:cubicBezTo>
                  <a:pt x="1709514" y="1094645"/>
                  <a:pt x="1691640" y="1087128"/>
                  <a:pt x="1673352" y="1081032"/>
                </a:cubicBezTo>
                <a:lnTo>
                  <a:pt x="1645920" y="1071888"/>
                </a:lnTo>
                <a:cubicBezTo>
                  <a:pt x="1636776" y="1068840"/>
                  <a:pt x="1626508" y="1068091"/>
                  <a:pt x="1618488" y="1062744"/>
                </a:cubicBezTo>
                <a:cubicBezTo>
                  <a:pt x="1588432" y="1042706"/>
                  <a:pt x="1596750" y="1044776"/>
                  <a:pt x="1563624" y="1035312"/>
                </a:cubicBezTo>
                <a:cubicBezTo>
                  <a:pt x="1551540" y="1031860"/>
                  <a:pt x="1539085" y="1029779"/>
                  <a:pt x="1527048" y="1026168"/>
                </a:cubicBezTo>
                <a:cubicBezTo>
                  <a:pt x="1508584" y="1020629"/>
                  <a:pt x="1490472" y="1013976"/>
                  <a:pt x="1472184" y="1007880"/>
                </a:cubicBezTo>
                <a:cubicBezTo>
                  <a:pt x="1463040" y="1004832"/>
                  <a:pt x="1454103" y="1001074"/>
                  <a:pt x="1444752" y="998736"/>
                </a:cubicBezTo>
                <a:cubicBezTo>
                  <a:pt x="1432560" y="995688"/>
                  <a:pt x="1420213" y="993203"/>
                  <a:pt x="1408176" y="989592"/>
                </a:cubicBezTo>
                <a:cubicBezTo>
                  <a:pt x="1389712" y="984053"/>
                  <a:pt x="1372215" y="975085"/>
                  <a:pt x="1353312" y="971304"/>
                </a:cubicBezTo>
                <a:cubicBezTo>
                  <a:pt x="1288689" y="958379"/>
                  <a:pt x="1322336" y="967075"/>
                  <a:pt x="1252728" y="943872"/>
                </a:cubicBezTo>
                <a:lnTo>
                  <a:pt x="1197864" y="925584"/>
                </a:lnTo>
                <a:cubicBezTo>
                  <a:pt x="1188720" y="922536"/>
                  <a:pt x="1179783" y="918778"/>
                  <a:pt x="1170432" y="916440"/>
                </a:cubicBezTo>
                <a:cubicBezTo>
                  <a:pt x="1158240" y="913392"/>
                  <a:pt x="1145893" y="910907"/>
                  <a:pt x="1133856" y="907296"/>
                </a:cubicBezTo>
                <a:cubicBezTo>
                  <a:pt x="1118659" y="902737"/>
                  <a:pt x="1064062" y="882142"/>
                  <a:pt x="1042416" y="879864"/>
                </a:cubicBezTo>
                <a:cubicBezTo>
                  <a:pt x="996846" y="875067"/>
                  <a:pt x="950976" y="873768"/>
                  <a:pt x="905256" y="870720"/>
                </a:cubicBezTo>
                <a:cubicBezTo>
                  <a:pt x="841248" y="849384"/>
                  <a:pt x="856488" y="870720"/>
                  <a:pt x="841248" y="825000"/>
                </a:cubicBezTo>
                <a:cubicBezTo>
                  <a:pt x="844296" y="764040"/>
                  <a:pt x="843396" y="702754"/>
                  <a:pt x="850392" y="642120"/>
                </a:cubicBezTo>
                <a:cubicBezTo>
                  <a:pt x="852602" y="622970"/>
                  <a:pt x="862584" y="605544"/>
                  <a:pt x="868680" y="587256"/>
                </a:cubicBezTo>
                <a:lnTo>
                  <a:pt x="877824" y="559824"/>
                </a:lnTo>
                <a:cubicBezTo>
                  <a:pt x="880872" y="520200"/>
                  <a:pt x="880770" y="480207"/>
                  <a:pt x="886968" y="440952"/>
                </a:cubicBezTo>
                <a:cubicBezTo>
                  <a:pt x="889975" y="421911"/>
                  <a:pt x="905256" y="386088"/>
                  <a:pt x="905256" y="386088"/>
                </a:cubicBezTo>
                <a:cubicBezTo>
                  <a:pt x="908304" y="364752"/>
                  <a:pt x="914400" y="343633"/>
                  <a:pt x="914400" y="322080"/>
                </a:cubicBezTo>
                <a:cubicBezTo>
                  <a:pt x="914400" y="43591"/>
                  <a:pt x="971681" y="105041"/>
                  <a:pt x="896112" y="29472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олилиния 20"/>
          <p:cNvSpPr/>
          <p:nvPr/>
        </p:nvSpPr>
        <p:spPr>
          <a:xfrm>
            <a:off x="5230800" y="1809720"/>
            <a:ext cx="2332080" cy="960480"/>
          </a:xfrm>
          <a:custGeom>
            <a:avLst/>
            <a:gdLst/>
            <a:ahLst/>
            <a:rect l="l" t="t" r="r" b="b"/>
            <a:pathLst>
              <a:path w="2331720" h="960120">
                <a:moveTo>
                  <a:pt x="0" y="960120"/>
                </a:moveTo>
                <a:cubicBezTo>
                  <a:pt x="3048" y="950976"/>
                  <a:pt x="4463" y="941114"/>
                  <a:pt x="9144" y="932688"/>
                </a:cubicBezTo>
                <a:cubicBezTo>
                  <a:pt x="19818" y="913475"/>
                  <a:pt x="38769" y="898676"/>
                  <a:pt x="45720" y="877824"/>
                </a:cubicBezTo>
                <a:cubicBezTo>
                  <a:pt x="62485" y="827529"/>
                  <a:pt x="44791" y="872593"/>
                  <a:pt x="73152" y="822960"/>
                </a:cubicBezTo>
                <a:cubicBezTo>
                  <a:pt x="79915" y="811125"/>
                  <a:pt x="83517" y="797476"/>
                  <a:pt x="91440" y="786384"/>
                </a:cubicBezTo>
                <a:cubicBezTo>
                  <a:pt x="98956" y="775861"/>
                  <a:pt x="110456" y="768770"/>
                  <a:pt x="118872" y="758952"/>
                </a:cubicBezTo>
                <a:cubicBezTo>
                  <a:pt x="128790" y="747381"/>
                  <a:pt x="135528" y="733152"/>
                  <a:pt x="146304" y="722376"/>
                </a:cubicBezTo>
                <a:cubicBezTo>
                  <a:pt x="154075" y="714605"/>
                  <a:pt x="165965" y="711859"/>
                  <a:pt x="173736" y="704088"/>
                </a:cubicBezTo>
                <a:cubicBezTo>
                  <a:pt x="223559" y="654265"/>
                  <a:pt x="176207" y="675832"/>
                  <a:pt x="228600" y="658368"/>
                </a:cubicBezTo>
                <a:cubicBezTo>
                  <a:pt x="269500" y="597017"/>
                  <a:pt x="221319" y="657126"/>
                  <a:pt x="274320" y="621792"/>
                </a:cubicBezTo>
                <a:cubicBezTo>
                  <a:pt x="285080" y="614619"/>
                  <a:pt x="291229" y="601876"/>
                  <a:pt x="301752" y="594360"/>
                </a:cubicBezTo>
                <a:cubicBezTo>
                  <a:pt x="346150" y="562647"/>
                  <a:pt x="325962" y="586827"/>
                  <a:pt x="365760" y="566928"/>
                </a:cubicBezTo>
                <a:cubicBezTo>
                  <a:pt x="375590" y="562013"/>
                  <a:pt x="383149" y="553103"/>
                  <a:pt x="393192" y="548640"/>
                </a:cubicBezTo>
                <a:cubicBezTo>
                  <a:pt x="434553" y="530257"/>
                  <a:pt x="458944" y="527974"/>
                  <a:pt x="502920" y="521208"/>
                </a:cubicBezTo>
                <a:cubicBezTo>
                  <a:pt x="643404" y="499595"/>
                  <a:pt x="605222" y="510788"/>
                  <a:pt x="841248" y="502920"/>
                </a:cubicBezTo>
                <a:cubicBezTo>
                  <a:pt x="957685" y="479633"/>
                  <a:pt x="791325" y="511358"/>
                  <a:pt x="978408" y="484632"/>
                </a:cubicBezTo>
                <a:cubicBezTo>
                  <a:pt x="1018317" y="478931"/>
                  <a:pt x="1007677" y="475029"/>
                  <a:pt x="1042416" y="466344"/>
                </a:cubicBezTo>
                <a:cubicBezTo>
                  <a:pt x="1117840" y="447488"/>
                  <a:pt x="1059004" y="466830"/>
                  <a:pt x="1124712" y="448056"/>
                </a:cubicBezTo>
                <a:cubicBezTo>
                  <a:pt x="1133980" y="445408"/>
                  <a:pt x="1143523" y="443223"/>
                  <a:pt x="1152144" y="438912"/>
                </a:cubicBezTo>
                <a:cubicBezTo>
                  <a:pt x="1161974" y="433997"/>
                  <a:pt x="1169746" y="425539"/>
                  <a:pt x="1179576" y="420624"/>
                </a:cubicBezTo>
                <a:cubicBezTo>
                  <a:pt x="1188197" y="416313"/>
                  <a:pt x="1198582" y="416161"/>
                  <a:pt x="1207008" y="411480"/>
                </a:cubicBezTo>
                <a:cubicBezTo>
                  <a:pt x="1226221" y="400806"/>
                  <a:pt x="1243584" y="387096"/>
                  <a:pt x="1261872" y="374904"/>
                </a:cubicBezTo>
                <a:cubicBezTo>
                  <a:pt x="1326521" y="331805"/>
                  <a:pt x="1246486" y="385894"/>
                  <a:pt x="1325880" y="329184"/>
                </a:cubicBezTo>
                <a:cubicBezTo>
                  <a:pt x="1334823" y="322796"/>
                  <a:pt x="1345098" y="318197"/>
                  <a:pt x="1353312" y="310896"/>
                </a:cubicBezTo>
                <a:cubicBezTo>
                  <a:pt x="1427327" y="245104"/>
                  <a:pt x="1379043" y="265743"/>
                  <a:pt x="1435608" y="246888"/>
                </a:cubicBezTo>
                <a:cubicBezTo>
                  <a:pt x="1438656" y="237744"/>
                  <a:pt x="1438731" y="226982"/>
                  <a:pt x="1444752" y="219456"/>
                </a:cubicBezTo>
                <a:cubicBezTo>
                  <a:pt x="1451617" y="210874"/>
                  <a:pt x="1463741" y="208203"/>
                  <a:pt x="1472184" y="201168"/>
                </a:cubicBezTo>
                <a:cubicBezTo>
                  <a:pt x="1588386" y="104333"/>
                  <a:pt x="1420020" y="233286"/>
                  <a:pt x="1527048" y="155448"/>
                </a:cubicBezTo>
                <a:cubicBezTo>
                  <a:pt x="1551698" y="137521"/>
                  <a:pt x="1574839" y="117491"/>
                  <a:pt x="1600200" y="100584"/>
                </a:cubicBezTo>
                <a:cubicBezTo>
                  <a:pt x="1609344" y="94488"/>
                  <a:pt x="1618689" y="88684"/>
                  <a:pt x="1627632" y="82296"/>
                </a:cubicBezTo>
                <a:cubicBezTo>
                  <a:pt x="1676071" y="47697"/>
                  <a:pt x="1647124" y="60559"/>
                  <a:pt x="1691640" y="45720"/>
                </a:cubicBezTo>
                <a:cubicBezTo>
                  <a:pt x="1700784" y="36576"/>
                  <a:pt x="1708312" y="25461"/>
                  <a:pt x="1719072" y="18288"/>
                </a:cubicBezTo>
                <a:cubicBezTo>
                  <a:pt x="1726943" y="13041"/>
                  <a:pt x="1778203" y="1219"/>
                  <a:pt x="1783080" y="0"/>
                </a:cubicBezTo>
                <a:cubicBezTo>
                  <a:pt x="1825752" y="3048"/>
                  <a:pt x="1868550" y="4666"/>
                  <a:pt x="1911096" y="9144"/>
                </a:cubicBezTo>
                <a:cubicBezTo>
                  <a:pt x="1926552" y="10771"/>
                  <a:pt x="1941394" y="16360"/>
                  <a:pt x="1956816" y="18288"/>
                </a:cubicBezTo>
                <a:cubicBezTo>
                  <a:pt x="1990222" y="22464"/>
                  <a:pt x="2023964" y="23498"/>
                  <a:pt x="2057400" y="27432"/>
                </a:cubicBezTo>
                <a:cubicBezTo>
                  <a:pt x="2075813" y="29598"/>
                  <a:pt x="2093826" y="34635"/>
                  <a:pt x="2112264" y="36576"/>
                </a:cubicBezTo>
                <a:cubicBezTo>
                  <a:pt x="2223561" y="48291"/>
                  <a:pt x="2225989" y="45720"/>
                  <a:pt x="2331720" y="45720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олилиния 21"/>
          <p:cNvSpPr/>
          <p:nvPr/>
        </p:nvSpPr>
        <p:spPr>
          <a:xfrm>
            <a:off x="4748040" y="2066760"/>
            <a:ext cx="793800" cy="292320"/>
          </a:xfrm>
          <a:custGeom>
            <a:avLst/>
            <a:gdLst/>
            <a:ahLst/>
            <a:rect l="l" t="t" r="r" b="b"/>
            <a:pathLst>
              <a:path w="792480" h="292608">
                <a:moveTo>
                  <a:pt x="15240" y="128016"/>
                </a:moveTo>
                <a:cubicBezTo>
                  <a:pt x="88392" y="79248"/>
                  <a:pt x="0" y="143256"/>
                  <a:pt x="60960" y="82296"/>
                </a:cubicBezTo>
                <a:cubicBezTo>
                  <a:pt x="77739" y="65517"/>
                  <a:pt x="105843" y="57673"/>
                  <a:pt x="124968" y="45720"/>
                </a:cubicBezTo>
                <a:cubicBezTo>
                  <a:pt x="137891" y="37643"/>
                  <a:pt x="148312" y="25849"/>
                  <a:pt x="161544" y="18288"/>
                </a:cubicBezTo>
                <a:cubicBezTo>
                  <a:pt x="180082" y="7695"/>
                  <a:pt x="230409" y="2238"/>
                  <a:pt x="243840" y="0"/>
                </a:cubicBezTo>
                <a:cubicBezTo>
                  <a:pt x="310896" y="3048"/>
                  <a:pt x="378097" y="3791"/>
                  <a:pt x="445008" y="9144"/>
                </a:cubicBezTo>
                <a:cubicBezTo>
                  <a:pt x="454616" y="9913"/>
                  <a:pt x="463172" y="15640"/>
                  <a:pt x="472440" y="18288"/>
                </a:cubicBezTo>
                <a:cubicBezTo>
                  <a:pt x="486112" y="22194"/>
                  <a:pt x="521832" y="29268"/>
                  <a:pt x="536448" y="36576"/>
                </a:cubicBezTo>
                <a:cubicBezTo>
                  <a:pt x="546278" y="41491"/>
                  <a:pt x="554338" y="49412"/>
                  <a:pt x="563880" y="54864"/>
                </a:cubicBezTo>
                <a:cubicBezTo>
                  <a:pt x="575715" y="61627"/>
                  <a:pt x="589364" y="65229"/>
                  <a:pt x="600456" y="73152"/>
                </a:cubicBezTo>
                <a:cubicBezTo>
                  <a:pt x="610979" y="80668"/>
                  <a:pt x="617954" y="92305"/>
                  <a:pt x="627888" y="100584"/>
                </a:cubicBezTo>
                <a:cubicBezTo>
                  <a:pt x="636331" y="107619"/>
                  <a:pt x="646976" y="111720"/>
                  <a:pt x="655320" y="118872"/>
                </a:cubicBezTo>
                <a:cubicBezTo>
                  <a:pt x="703831" y="160453"/>
                  <a:pt x="680526" y="146755"/>
                  <a:pt x="719328" y="192024"/>
                </a:cubicBezTo>
                <a:cubicBezTo>
                  <a:pt x="727744" y="201842"/>
                  <a:pt x="737616" y="210312"/>
                  <a:pt x="746760" y="219456"/>
                </a:cubicBezTo>
                <a:cubicBezTo>
                  <a:pt x="749808" y="228600"/>
                  <a:pt x="751593" y="238267"/>
                  <a:pt x="755904" y="246888"/>
                </a:cubicBezTo>
                <a:cubicBezTo>
                  <a:pt x="767439" y="269958"/>
                  <a:pt x="775470" y="275598"/>
                  <a:pt x="792480" y="292608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олилиния 22"/>
          <p:cNvSpPr/>
          <p:nvPr/>
        </p:nvSpPr>
        <p:spPr>
          <a:xfrm>
            <a:off x="5578560" y="2422440"/>
            <a:ext cx="1143000" cy="919080"/>
          </a:xfrm>
          <a:custGeom>
            <a:avLst/>
            <a:gdLst/>
            <a:ahLst/>
            <a:rect l="l" t="t" r="r" b="b"/>
            <a:pathLst>
              <a:path w="1143000" h="919105">
                <a:moveTo>
                  <a:pt x="0" y="0"/>
                </a:moveTo>
                <a:lnTo>
                  <a:pt x="36576" y="54864"/>
                </a:lnTo>
                <a:cubicBezTo>
                  <a:pt x="42672" y="64008"/>
                  <a:pt x="47093" y="74525"/>
                  <a:pt x="54864" y="82296"/>
                </a:cubicBezTo>
                <a:lnTo>
                  <a:pt x="109728" y="137160"/>
                </a:lnTo>
                <a:cubicBezTo>
                  <a:pt x="118872" y="146304"/>
                  <a:pt x="126400" y="157419"/>
                  <a:pt x="137160" y="164592"/>
                </a:cubicBezTo>
                <a:cubicBezTo>
                  <a:pt x="146304" y="170688"/>
                  <a:pt x="156149" y="175845"/>
                  <a:pt x="164592" y="182880"/>
                </a:cubicBezTo>
                <a:cubicBezTo>
                  <a:pt x="174526" y="191159"/>
                  <a:pt x="181264" y="203139"/>
                  <a:pt x="192024" y="210312"/>
                </a:cubicBezTo>
                <a:cubicBezTo>
                  <a:pt x="274504" y="265299"/>
                  <a:pt x="160559" y="165803"/>
                  <a:pt x="246888" y="237744"/>
                </a:cubicBezTo>
                <a:cubicBezTo>
                  <a:pt x="256822" y="246023"/>
                  <a:pt x="263560" y="258003"/>
                  <a:pt x="274320" y="265176"/>
                </a:cubicBezTo>
                <a:cubicBezTo>
                  <a:pt x="282340" y="270523"/>
                  <a:pt x="292893" y="270523"/>
                  <a:pt x="301752" y="274320"/>
                </a:cubicBezTo>
                <a:cubicBezTo>
                  <a:pt x="413969" y="322413"/>
                  <a:pt x="273928" y="264980"/>
                  <a:pt x="365760" y="310896"/>
                </a:cubicBezTo>
                <a:cubicBezTo>
                  <a:pt x="374381" y="315207"/>
                  <a:pt x="384048" y="316992"/>
                  <a:pt x="393192" y="320040"/>
                </a:cubicBezTo>
                <a:cubicBezTo>
                  <a:pt x="405384" y="329184"/>
                  <a:pt x="416536" y="339911"/>
                  <a:pt x="429768" y="347472"/>
                </a:cubicBezTo>
                <a:cubicBezTo>
                  <a:pt x="438137" y="352254"/>
                  <a:pt x="448579" y="352305"/>
                  <a:pt x="457200" y="356616"/>
                </a:cubicBezTo>
                <a:cubicBezTo>
                  <a:pt x="467030" y="361531"/>
                  <a:pt x="474802" y="369989"/>
                  <a:pt x="484632" y="374904"/>
                </a:cubicBezTo>
                <a:cubicBezTo>
                  <a:pt x="493253" y="379215"/>
                  <a:pt x="503256" y="380133"/>
                  <a:pt x="512064" y="384048"/>
                </a:cubicBezTo>
                <a:cubicBezTo>
                  <a:pt x="530748" y="392352"/>
                  <a:pt x="549054" y="401550"/>
                  <a:pt x="566928" y="411480"/>
                </a:cubicBezTo>
                <a:cubicBezTo>
                  <a:pt x="576535" y="416817"/>
                  <a:pt x="584530" y="424853"/>
                  <a:pt x="594360" y="429768"/>
                </a:cubicBezTo>
                <a:cubicBezTo>
                  <a:pt x="602981" y="434079"/>
                  <a:pt x="612933" y="435115"/>
                  <a:pt x="621792" y="438912"/>
                </a:cubicBezTo>
                <a:cubicBezTo>
                  <a:pt x="688043" y="467305"/>
                  <a:pt x="627016" y="450930"/>
                  <a:pt x="704088" y="466344"/>
                </a:cubicBezTo>
                <a:cubicBezTo>
                  <a:pt x="713232" y="472440"/>
                  <a:pt x="722728" y="478038"/>
                  <a:pt x="731520" y="484632"/>
                </a:cubicBezTo>
                <a:cubicBezTo>
                  <a:pt x="747133" y="496342"/>
                  <a:pt x="761001" y="510382"/>
                  <a:pt x="777240" y="521208"/>
                </a:cubicBezTo>
                <a:cubicBezTo>
                  <a:pt x="788582" y="528769"/>
                  <a:pt x="801981" y="532733"/>
                  <a:pt x="813816" y="539496"/>
                </a:cubicBezTo>
                <a:cubicBezTo>
                  <a:pt x="863449" y="567857"/>
                  <a:pt x="818385" y="550163"/>
                  <a:pt x="868680" y="566928"/>
                </a:cubicBezTo>
                <a:cubicBezTo>
                  <a:pt x="877824" y="579120"/>
                  <a:pt x="885336" y="592728"/>
                  <a:pt x="896112" y="603504"/>
                </a:cubicBezTo>
                <a:cubicBezTo>
                  <a:pt x="903883" y="611275"/>
                  <a:pt x="915773" y="614021"/>
                  <a:pt x="923544" y="621792"/>
                </a:cubicBezTo>
                <a:cubicBezTo>
                  <a:pt x="984504" y="682752"/>
                  <a:pt x="896112" y="618744"/>
                  <a:pt x="969264" y="667512"/>
                </a:cubicBezTo>
                <a:cubicBezTo>
                  <a:pt x="975360" y="676656"/>
                  <a:pt x="980517" y="686501"/>
                  <a:pt x="987552" y="694944"/>
                </a:cubicBezTo>
                <a:cubicBezTo>
                  <a:pt x="995831" y="704878"/>
                  <a:pt x="1007811" y="711616"/>
                  <a:pt x="1014984" y="722376"/>
                </a:cubicBezTo>
                <a:cubicBezTo>
                  <a:pt x="1020331" y="730396"/>
                  <a:pt x="1020331" y="740949"/>
                  <a:pt x="1024128" y="749808"/>
                </a:cubicBezTo>
                <a:cubicBezTo>
                  <a:pt x="1029498" y="762337"/>
                  <a:pt x="1035403" y="774695"/>
                  <a:pt x="1042416" y="786384"/>
                </a:cubicBezTo>
                <a:cubicBezTo>
                  <a:pt x="1053724" y="805231"/>
                  <a:pt x="1070829" y="820841"/>
                  <a:pt x="1078992" y="841248"/>
                </a:cubicBezTo>
                <a:cubicBezTo>
                  <a:pt x="1081982" y="848722"/>
                  <a:pt x="1101151" y="905750"/>
                  <a:pt x="1115568" y="914400"/>
                </a:cubicBezTo>
                <a:cubicBezTo>
                  <a:pt x="1123409" y="919105"/>
                  <a:pt x="1133856" y="914400"/>
                  <a:pt x="1143000" y="914400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олилиния 23"/>
          <p:cNvSpPr/>
          <p:nvPr/>
        </p:nvSpPr>
        <p:spPr>
          <a:xfrm>
            <a:off x="5065560" y="2806560"/>
            <a:ext cx="941400" cy="192240"/>
          </a:xfrm>
          <a:custGeom>
            <a:avLst/>
            <a:gdLst/>
            <a:ahLst/>
            <a:rect l="l" t="t" r="r" b="b"/>
            <a:pathLst>
              <a:path w="941832" h="192024">
                <a:moveTo>
                  <a:pt x="0" y="192024"/>
                </a:moveTo>
                <a:lnTo>
                  <a:pt x="274320" y="173736"/>
                </a:lnTo>
                <a:cubicBezTo>
                  <a:pt x="329162" y="170308"/>
                  <a:pt x="384326" y="170890"/>
                  <a:pt x="438912" y="164592"/>
                </a:cubicBezTo>
                <a:cubicBezTo>
                  <a:pt x="463881" y="161711"/>
                  <a:pt x="488219" y="154252"/>
                  <a:pt x="512064" y="146304"/>
                </a:cubicBezTo>
                <a:cubicBezTo>
                  <a:pt x="521208" y="143256"/>
                  <a:pt x="530875" y="141471"/>
                  <a:pt x="539496" y="137160"/>
                </a:cubicBezTo>
                <a:cubicBezTo>
                  <a:pt x="610400" y="101708"/>
                  <a:pt x="525409" y="132712"/>
                  <a:pt x="594360" y="109728"/>
                </a:cubicBezTo>
                <a:cubicBezTo>
                  <a:pt x="606552" y="97536"/>
                  <a:pt x="617845" y="84373"/>
                  <a:pt x="630936" y="73152"/>
                </a:cubicBezTo>
                <a:cubicBezTo>
                  <a:pt x="639280" y="66000"/>
                  <a:pt x="650597" y="62635"/>
                  <a:pt x="658368" y="54864"/>
                </a:cubicBezTo>
                <a:cubicBezTo>
                  <a:pt x="666139" y="47093"/>
                  <a:pt x="667337" y="33257"/>
                  <a:pt x="676656" y="27432"/>
                </a:cubicBezTo>
                <a:cubicBezTo>
                  <a:pt x="693003" y="17215"/>
                  <a:pt x="713232" y="15240"/>
                  <a:pt x="731520" y="9144"/>
                </a:cubicBezTo>
                <a:lnTo>
                  <a:pt x="758952" y="0"/>
                </a:lnTo>
                <a:cubicBezTo>
                  <a:pt x="917424" y="9905"/>
                  <a:pt x="856393" y="9144"/>
                  <a:pt x="941832" y="9144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олилиния 24"/>
          <p:cNvSpPr/>
          <p:nvPr/>
        </p:nvSpPr>
        <p:spPr>
          <a:xfrm>
            <a:off x="6099120" y="1965240"/>
            <a:ext cx="723960" cy="824040"/>
          </a:xfrm>
          <a:custGeom>
            <a:avLst/>
            <a:gdLst/>
            <a:ahLst/>
            <a:rect l="l" t="t" r="r" b="b"/>
            <a:pathLst>
              <a:path w="724594" h="822960">
                <a:moveTo>
                  <a:pt x="0" y="822960"/>
                </a:moveTo>
                <a:cubicBezTo>
                  <a:pt x="12667" y="820427"/>
                  <a:pt x="57336" y="813459"/>
                  <a:pt x="73152" y="804672"/>
                </a:cubicBezTo>
                <a:lnTo>
                  <a:pt x="155448" y="749808"/>
                </a:lnTo>
                <a:cubicBezTo>
                  <a:pt x="164592" y="743712"/>
                  <a:pt x="175109" y="739291"/>
                  <a:pt x="182880" y="731520"/>
                </a:cubicBezTo>
                <a:cubicBezTo>
                  <a:pt x="217128" y="697272"/>
                  <a:pt x="198044" y="708177"/>
                  <a:pt x="237744" y="694944"/>
                </a:cubicBezTo>
                <a:cubicBezTo>
                  <a:pt x="243840" y="685800"/>
                  <a:pt x="247761" y="674749"/>
                  <a:pt x="256032" y="667512"/>
                </a:cubicBezTo>
                <a:cubicBezTo>
                  <a:pt x="290105" y="637698"/>
                  <a:pt x="338451" y="623449"/>
                  <a:pt x="365760" y="585216"/>
                </a:cubicBezTo>
                <a:cubicBezTo>
                  <a:pt x="373683" y="574124"/>
                  <a:pt x="374409" y="558279"/>
                  <a:pt x="384048" y="548640"/>
                </a:cubicBezTo>
                <a:cubicBezTo>
                  <a:pt x="399590" y="533098"/>
                  <a:pt x="438912" y="512064"/>
                  <a:pt x="438912" y="512064"/>
                </a:cubicBezTo>
                <a:cubicBezTo>
                  <a:pt x="441960" y="502920"/>
                  <a:pt x="442035" y="492158"/>
                  <a:pt x="448056" y="484632"/>
                </a:cubicBezTo>
                <a:cubicBezTo>
                  <a:pt x="496824" y="423672"/>
                  <a:pt x="457200" y="512064"/>
                  <a:pt x="493776" y="438912"/>
                </a:cubicBezTo>
                <a:cubicBezTo>
                  <a:pt x="498087" y="430291"/>
                  <a:pt x="498239" y="419906"/>
                  <a:pt x="502920" y="411480"/>
                </a:cubicBezTo>
                <a:cubicBezTo>
                  <a:pt x="513594" y="392267"/>
                  <a:pt x="532545" y="377468"/>
                  <a:pt x="539496" y="356616"/>
                </a:cubicBezTo>
                <a:cubicBezTo>
                  <a:pt x="556261" y="306321"/>
                  <a:pt x="538567" y="351385"/>
                  <a:pt x="566928" y="301752"/>
                </a:cubicBezTo>
                <a:cubicBezTo>
                  <a:pt x="573691" y="289917"/>
                  <a:pt x="580430" y="277939"/>
                  <a:pt x="585216" y="265176"/>
                </a:cubicBezTo>
                <a:cubicBezTo>
                  <a:pt x="587829" y="258208"/>
                  <a:pt x="597188" y="210642"/>
                  <a:pt x="603504" y="201168"/>
                </a:cubicBezTo>
                <a:cubicBezTo>
                  <a:pt x="616240" y="182064"/>
                  <a:pt x="650610" y="158980"/>
                  <a:pt x="667512" y="146304"/>
                </a:cubicBezTo>
                <a:cubicBezTo>
                  <a:pt x="670560" y="137160"/>
                  <a:pt x="671975" y="127298"/>
                  <a:pt x="676656" y="118872"/>
                </a:cubicBezTo>
                <a:cubicBezTo>
                  <a:pt x="687330" y="99659"/>
                  <a:pt x="713232" y="64008"/>
                  <a:pt x="713232" y="64008"/>
                </a:cubicBezTo>
                <a:cubicBezTo>
                  <a:pt x="724594" y="18561"/>
                  <a:pt x="722376" y="39999"/>
                  <a:pt x="722376" y="0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олилиния 25"/>
          <p:cNvSpPr/>
          <p:nvPr/>
        </p:nvSpPr>
        <p:spPr>
          <a:xfrm>
            <a:off x="6831000" y="1490760"/>
            <a:ext cx="952560" cy="722160"/>
          </a:xfrm>
          <a:custGeom>
            <a:avLst/>
            <a:gdLst/>
            <a:ahLst/>
            <a:rect l="l" t="t" r="r" b="b"/>
            <a:pathLst>
              <a:path w="953227" h="722376">
                <a:moveTo>
                  <a:pt x="0" y="393192"/>
                </a:moveTo>
                <a:cubicBezTo>
                  <a:pt x="27361" y="311109"/>
                  <a:pt x="0" y="404512"/>
                  <a:pt x="0" y="210312"/>
                </a:cubicBezTo>
                <a:cubicBezTo>
                  <a:pt x="0" y="179680"/>
                  <a:pt x="2256" y="148720"/>
                  <a:pt x="9144" y="118872"/>
                </a:cubicBezTo>
                <a:cubicBezTo>
                  <a:pt x="15530" y="91198"/>
                  <a:pt x="36286" y="88634"/>
                  <a:pt x="54864" y="73152"/>
                </a:cubicBezTo>
                <a:cubicBezTo>
                  <a:pt x="64798" y="64873"/>
                  <a:pt x="70992" y="52000"/>
                  <a:pt x="82296" y="45720"/>
                </a:cubicBezTo>
                <a:cubicBezTo>
                  <a:pt x="99147" y="36358"/>
                  <a:pt x="118872" y="33528"/>
                  <a:pt x="137160" y="27432"/>
                </a:cubicBezTo>
                <a:cubicBezTo>
                  <a:pt x="146304" y="24384"/>
                  <a:pt x="155085" y="19873"/>
                  <a:pt x="164592" y="18288"/>
                </a:cubicBezTo>
                <a:cubicBezTo>
                  <a:pt x="240715" y="5601"/>
                  <a:pt x="201102" y="11766"/>
                  <a:pt x="283464" y="0"/>
                </a:cubicBezTo>
                <a:cubicBezTo>
                  <a:pt x="319593" y="5161"/>
                  <a:pt x="357536" y="9374"/>
                  <a:pt x="393192" y="18288"/>
                </a:cubicBezTo>
                <a:cubicBezTo>
                  <a:pt x="402543" y="20626"/>
                  <a:pt x="412003" y="23121"/>
                  <a:pt x="420624" y="27432"/>
                </a:cubicBezTo>
                <a:cubicBezTo>
                  <a:pt x="430454" y="32347"/>
                  <a:pt x="438226" y="40805"/>
                  <a:pt x="448056" y="45720"/>
                </a:cubicBezTo>
                <a:cubicBezTo>
                  <a:pt x="484371" y="63877"/>
                  <a:pt x="469227" y="43203"/>
                  <a:pt x="502920" y="73152"/>
                </a:cubicBezTo>
                <a:cubicBezTo>
                  <a:pt x="522250" y="90335"/>
                  <a:pt x="543438" y="106497"/>
                  <a:pt x="557784" y="128016"/>
                </a:cubicBezTo>
                <a:cubicBezTo>
                  <a:pt x="563880" y="137160"/>
                  <a:pt x="568301" y="147677"/>
                  <a:pt x="576072" y="155448"/>
                </a:cubicBezTo>
                <a:cubicBezTo>
                  <a:pt x="583843" y="163219"/>
                  <a:pt x="595061" y="166701"/>
                  <a:pt x="603504" y="173736"/>
                </a:cubicBezTo>
                <a:cubicBezTo>
                  <a:pt x="613438" y="182015"/>
                  <a:pt x="621002" y="192889"/>
                  <a:pt x="630936" y="201168"/>
                </a:cubicBezTo>
                <a:cubicBezTo>
                  <a:pt x="639379" y="208203"/>
                  <a:pt x="649925" y="212421"/>
                  <a:pt x="658368" y="219456"/>
                </a:cubicBezTo>
                <a:cubicBezTo>
                  <a:pt x="668302" y="227735"/>
                  <a:pt x="675277" y="239372"/>
                  <a:pt x="685800" y="246888"/>
                </a:cubicBezTo>
                <a:cubicBezTo>
                  <a:pt x="696892" y="254811"/>
                  <a:pt x="711284" y="257253"/>
                  <a:pt x="722376" y="265176"/>
                </a:cubicBezTo>
                <a:cubicBezTo>
                  <a:pt x="782309" y="307985"/>
                  <a:pt x="718395" y="282137"/>
                  <a:pt x="777240" y="301752"/>
                </a:cubicBezTo>
                <a:cubicBezTo>
                  <a:pt x="789432" y="310896"/>
                  <a:pt x="801415" y="320326"/>
                  <a:pt x="813816" y="329184"/>
                </a:cubicBezTo>
                <a:cubicBezTo>
                  <a:pt x="840232" y="348053"/>
                  <a:pt x="847334" y="347459"/>
                  <a:pt x="868680" y="374904"/>
                </a:cubicBezTo>
                <a:cubicBezTo>
                  <a:pt x="949407" y="478696"/>
                  <a:pt x="881288" y="390977"/>
                  <a:pt x="914400" y="457200"/>
                </a:cubicBezTo>
                <a:cubicBezTo>
                  <a:pt x="919315" y="467030"/>
                  <a:pt x="927773" y="474802"/>
                  <a:pt x="932688" y="484632"/>
                </a:cubicBezTo>
                <a:cubicBezTo>
                  <a:pt x="942465" y="504186"/>
                  <a:pt x="950307" y="551542"/>
                  <a:pt x="950976" y="566928"/>
                </a:cubicBezTo>
                <a:cubicBezTo>
                  <a:pt x="953227" y="618695"/>
                  <a:pt x="950976" y="670560"/>
                  <a:pt x="950976" y="722376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олилиния 26"/>
          <p:cNvSpPr/>
          <p:nvPr/>
        </p:nvSpPr>
        <p:spPr>
          <a:xfrm>
            <a:off x="5595840" y="1352520"/>
            <a:ext cx="557280" cy="933480"/>
          </a:xfrm>
          <a:custGeom>
            <a:avLst/>
            <a:gdLst/>
            <a:ahLst/>
            <a:rect l="l" t="t" r="r" b="b"/>
            <a:pathLst>
              <a:path w="557784" h="932688">
                <a:moveTo>
                  <a:pt x="82296" y="0"/>
                </a:moveTo>
                <a:cubicBezTo>
                  <a:pt x="36558" y="60984"/>
                  <a:pt x="66107" y="9894"/>
                  <a:pt x="45720" y="91440"/>
                </a:cubicBezTo>
                <a:cubicBezTo>
                  <a:pt x="41045" y="110142"/>
                  <a:pt x="33528" y="128016"/>
                  <a:pt x="27432" y="146304"/>
                </a:cubicBezTo>
                <a:cubicBezTo>
                  <a:pt x="24384" y="155448"/>
                  <a:pt x="20178" y="164285"/>
                  <a:pt x="18288" y="173736"/>
                </a:cubicBezTo>
                <a:cubicBezTo>
                  <a:pt x="6679" y="231779"/>
                  <a:pt x="12913" y="204378"/>
                  <a:pt x="0" y="256032"/>
                </a:cubicBezTo>
                <a:cubicBezTo>
                  <a:pt x="3048" y="307848"/>
                  <a:pt x="1444" y="360149"/>
                  <a:pt x="9144" y="411480"/>
                </a:cubicBezTo>
                <a:cubicBezTo>
                  <a:pt x="10774" y="422348"/>
                  <a:pt x="23573" y="428622"/>
                  <a:pt x="27432" y="438912"/>
                </a:cubicBezTo>
                <a:cubicBezTo>
                  <a:pt x="29391" y="444136"/>
                  <a:pt x="40609" y="512265"/>
                  <a:pt x="45720" y="521208"/>
                </a:cubicBezTo>
                <a:cubicBezTo>
                  <a:pt x="52136" y="532436"/>
                  <a:pt x="64736" y="538822"/>
                  <a:pt x="73152" y="548640"/>
                </a:cubicBezTo>
                <a:cubicBezTo>
                  <a:pt x="83070" y="560211"/>
                  <a:pt x="92507" y="572293"/>
                  <a:pt x="100584" y="585216"/>
                </a:cubicBezTo>
                <a:cubicBezTo>
                  <a:pt x="107808" y="596775"/>
                  <a:pt x="110240" y="611242"/>
                  <a:pt x="118872" y="621792"/>
                </a:cubicBezTo>
                <a:cubicBezTo>
                  <a:pt x="198040" y="718553"/>
                  <a:pt x="156527" y="656596"/>
                  <a:pt x="219456" y="713232"/>
                </a:cubicBezTo>
                <a:cubicBezTo>
                  <a:pt x="238680" y="730534"/>
                  <a:pt x="259974" y="746577"/>
                  <a:pt x="274320" y="768096"/>
                </a:cubicBezTo>
                <a:cubicBezTo>
                  <a:pt x="299781" y="806288"/>
                  <a:pt x="284837" y="787757"/>
                  <a:pt x="320040" y="822960"/>
                </a:cubicBezTo>
                <a:cubicBezTo>
                  <a:pt x="323647" y="833782"/>
                  <a:pt x="337985" y="892836"/>
                  <a:pt x="356616" y="905256"/>
                </a:cubicBezTo>
                <a:cubicBezTo>
                  <a:pt x="367073" y="912227"/>
                  <a:pt x="380694" y="913084"/>
                  <a:pt x="393192" y="914400"/>
                </a:cubicBezTo>
                <a:cubicBezTo>
                  <a:pt x="438762" y="919197"/>
                  <a:pt x="484632" y="920496"/>
                  <a:pt x="530352" y="923544"/>
                </a:cubicBezTo>
                <a:lnTo>
                  <a:pt x="557784" y="932688"/>
                </a:ln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олилиния 27"/>
          <p:cNvSpPr/>
          <p:nvPr/>
        </p:nvSpPr>
        <p:spPr>
          <a:xfrm>
            <a:off x="6235560" y="2313000"/>
            <a:ext cx="330480" cy="84240"/>
          </a:xfrm>
          <a:custGeom>
            <a:avLst/>
            <a:gdLst/>
            <a:ahLst/>
            <a:rect l="l" t="t" r="r" b="b"/>
            <a:pathLst>
              <a:path w="329184" h="83260">
                <a:moveTo>
                  <a:pt x="0" y="0"/>
                </a:moveTo>
                <a:cubicBezTo>
                  <a:pt x="18288" y="6096"/>
                  <a:pt x="35781" y="15562"/>
                  <a:pt x="54864" y="18288"/>
                </a:cubicBezTo>
                <a:cubicBezTo>
                  <a:pt x="76200" y="21336"/>
                  <a:pt x="97667" y="23577"/>
                  <a:pt x="118872" y="27432"/>
                </a:cubicBezTo>
                <a:cubicBezTo>
                  <a:pt x="131237" y="29680"/>
                  <a:pt x="143125" y="34111"/>
                  <a:pt x="155448" y="36576"/>
                </a:cubicBezTo>
                <a:cubicBezTo>
                  <a:pt x="173628" y="40212"/>
                  <a:pt x="192325" y="41223"/>
                  <a:pt x="210312" y="45720"/>
                </a:cubicBezTo>
                <a:cubicBezTo>
                  <a:pt x="229014" y="50395"/>
                  <a:pt x="246888" y="57912"/>
                  <a:pt x="265176" y="64008"/>
                </a:cubicBezTo>
                <a:lnTo>
                  <a:pt x="292608" y="73152"/>
                </a:lnTo>
                <a:cubicBezTo>
                  <a:pt x="322932" y="83260"/>
                  <a:pt x="310401" y="82296"/>
                  <a:pt x="329184" y="82296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олилиния 28"/>
          <p:cNvSpPr/>
          <p:nvPr/>
        </p:nvSpPr>
        <p:spPr>
          <a:xfrm>
            <a:off x="6648480" y="2349360"/>
            <a:ext cx="1289160" cy="457200"/>
          </a:xfrm>
          <a:custGeom>
            <a:avLst/>
            <a:gdLst/>
            <a:ahLst/>
            <a:rect l="l" t="t" r="r" b="b"/>
            <a:pathLst>
              <a:path w="1289304" h="457200">
                <a:moveTo>
                  <a:pt x="0" y="82296"/>
                </a:moveTo>
                <a:cubicBezTo>
                  <a:pt x="32881" y="76816"/>
                  <a:pt x="53646" y="76286"/>
                  <a:pt x="82296" y="64008"/>
                </a:cubicBezTo>
                <a:cubicBezTo>
                  <a:pt x="124968" y="45720"/>
                  <a:pt x="121703" y="37839"/>
                  <a:pt x="173736" y="27432"/>
                </a:cubicBezTo>
                <a:cubicBezTo>
                  <a:pt x="188976" y="24384"/>
                  <a:pt x="204070" y="20486"/>
                  <a:pt x="219456" y="18288"/>
                </a:cubicBezTo>
                <a:cubicBezTo>
                  <a:pt x="246779" y="14385"/>
                  <a:pt x="274364" y="12567"/>
                  <a:pt x="301752" y="9144"/>
                </a:cubicBezTo>
                <a:cubicBezTo>
                  <a:pt x="323138" y="6471"/>
                  <a:pt x="344424" y="3048"/>
                  <a:pt x="365760" y="0"/>
                </a:cubicBezTo>
                <a:cubicBezTo>
                  <a:pt x="423981" y="2531"/>
                  <a:pt x="595297" y="6665"/>
                  <a:pt x="676656" y="18288"/>
                </a:cubicBezTo>
                <a:cubicBezTo>
                  <a:pt x="686198" y="19651"/>
                  <a:pt x="694789" y="24896"/>
                  <a:pt x="704088" y="27432"/>
                </a:cubicBezTo>
                <a:cubicBezTo>
                  <a:pt x="728337" y="34045"/>
                  <a:pt x="752594" y="40791"/>
                  <a:pt x="777240" y="45720"/>
                </a:cubicBezTo>
                <a:cubicBezTo>
                  <a:pt x="835283" y="57329"/>
                  <a:pt x="807882" y="51095"/>
                  <a:pt x="859536" y="64008"/>
                </a:cubicBezTo>
                <a:cubicBezTo>
                  <a:pt x="868680" y="70104"/>
                  <a:pt x="877138" y="77381"/>
                  <a:pt x="886968" y="82296"/>
                </a:cubicBezTo>
                <a:cubicBezTo>
                  <a:pt x="901584" y="89604"/>
                  <a:pt x="937304" y="96678"/>
                  <a:pt x="950976" y="100584"/>
                </a:cubicBezTo>
                <a:cubicBezTo>
                  <a:pt x="960244" y="103232"/>
                  <a:pt x="969787" y="105417"/>
                  <a:pt x="978408" y="109728"/>
                </a:cubicBezTo>
                <a:cubicBezTo>
                  <a:pt x="988238" y="114643"/>
                  <a:pt x="996010" y="123101"/>
                  <a:pt x="1005840" y="128016"/>
                </a:cubicBezTo>
                <a:cubicBezTo>
                  <a:pt x="1014461" y="132327"/>
                  <a:pt x="1024413" y="133363"/>
                  <a:pt x="1033272" y="137160"/>
                </a:cubicBezTo>
                <a:cubicBezTo>
                  <a:pt x="1045801" y="142530"/>
                  <a:pt x="1057656" y="149352"/>
                  <a:pt x="1069848" y="155448"/>
                </a:cubicBezTo>
                <a:cubicBezTo>
                  <a:pt x="1075944" y="164592"/>
                  <a:pt x="1083673" y="172837"/>
                  <a:pt x="1088136" y="182880"/>
                </a:cubicBezTo>
                <a:cubicBezTo>
                  <a:pt x="1095965" y="200496"/>
                  <a:pt x="1100328" y="219456"/>
                  <a:pt x="1106424" y="237744"/>
                </a:cubicBezTo>
                <a:cubicBezTo>
                  <a:pt x="1109472" y="246888"/>
                  <a:pt x="1113230" y="255825"/>
                  <a:pt x="1115568" y="265176"/>
                </a:cubicBezTo>
                <a:cubicBezTo>
                  <a:pt x="1118616" y="277368"/>
                  <a:pt x="1119762" y="290201"/>
                  <a:pt x="1124712" y="301752"/>
                </a:cubicBezTo>
                <a:cubicBezTo>
                  <a:pt x="1132704" y="320400"/>
                  <a:pt x="1155785" y="344410"/>
                  <a:pt x="1170432" y="356616"/>
                </a:cubicBezTo>
                <a:cubicBezTo>
                  <a:pt x="1178875" y="363651"/>
                  <a:pt x="1189650" y="367603"/>
                  <a:pt x="1197864" y="374904"/>
                </a:cubicBezTo>
                <a:cubicBezTo>
                  <a:pt x="1217194" y="392087"/>
                  <a:pt x="1232037" y="414250"/>
                  <a:pt x="1252728" y="429768"/>
                </a:cubicBezTo>
                <a:lnTo>
                  <a:pt x="1289304" y="457200"/>
                </a:ln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олилиния 29"/>
          <p:cNvSpPr/>
          <p:nvPr/>
        </p:nvSpPr>
        <p:spPr>
          <a:xfrm>
            <a:off x="5194440" y="4124160"/>
            <a:ext cx="2111400" cy="576360"/>
          </a:xfrm>
          <a:custGeom>
            <a:avLst/>
            <a:gdLst/>
            <a:ahLst/>
            <a:rect l="l" t="t" r="r" b="b"/>
            <a:pathLst>
              <a:path w="2112264" h="576072">
                <a:moveTo>
                  <a:pt x="0" y="576072"/>
                </a:moveTo>
                <a:cubicBezTo>
                  <a:pt x="9144" y="566928"/>
                  <a:pt x="17498" y="556919"/>
                  <a:pt x="27432" y="548640"/>
                </a:cubicBezTo>
                <a:cubicBezTo>
                  <a:pt x="35875" y="541605"/>
                  <a:pt x="47093" y="538123"/>
                  <a:pt x="54864" y="530352"/>
                </a:cubicBezTo>
                <a:cubicBezTo>
                  <a:pt x="62635" y="522581"/>
                  <a:pt x="66117" y="511363"/>
                  <a:pt x="73152" y="502920"/>
                </a:cubicBezTo>
                <a:cubicBezTo>
                  <a:pt x="81431" y="492986"/>
                  <a:pt x="91440" y="484632"/>
                  <a:pt x="100584" y="475488"/>
                </a:cubicBezTo>
                <a:cubicBezTo>
                  <a:pt x="117675" y="407126"/>
                  <a:pt x="93454" y="464665"/>
                  <a:pt x="146304" y="420624"/>
                </a:cubicBezTo>
                <a:cubicBezTo>
                  <a:pt x="154747" y="413589"/>
                  <a:pt x="156010" y="400057"/>
                  <a:pt x="164592" y="393192"/>
                </a:cubicBezTo>
                <a:cubicBezTo>
                  <a:pt x="172118" y="387171"/>
                  <a:pt x="182999" y="387432"/>
                  <a:pt x="192024" y="384048"/>
                </a:cubicBezTo>
                <a:cubicBezTo>
                  <a:pt x="207393" y="378285"/>
                  <a:pt x="222745" y="372426"/>
                  <a:pt x="237744" y="365760"/>
                </a:cubicBezTo>
                <a:cubicBezTo>
                  <a:pt x="250200" y="360224"/>
                  <a:pt x="261791" y="352842"/>
                  <a:pt x="274320" y="347472"/>
                </a:cubicBezTo>
                <a:cubicBezTo>
                  <a:pt x="283179" y="343675"/>
                  <a:pt x="293131" y="342639"/>
                  <a:pt x="301752" y="338328"/>
                </a:cubicBezTo>
                <a:cubicBezTo>
                  <a:pt x="311582" y="333413"/>
                  <a:pt x="319083" y="324369"/>
                  <a:pt x="329184" y="320040"/>
                </a:cubicBezTo>
                <a:cubicBezTo>
                  <a:pt x="340735" y="315090"/>
                  <a:pt x="353723" y="314507"/>
                  <a:pt x="365760" y="310896"/>
                </a:cubicBezTo>
                <a:cubicBezTo>
                  <a:pt x="384224" y="305357"/>
                  <a:pt x="402336" y="298704"/>
                  <a:pt x="420624" y="292608"/>
                </a:cubicBezTo>
                <a:cubicBezTo>
                  <a:pt x="429768" y="289560"/>
                  <a:pt x="438549" y="285049"/>
                  <a:pt x="448056" y="283464"/>
                </a:cubicBezTo>
                <a:cubicBezTo>
                  <a:pt x="466344" y="280416"/>
                  <a:pt x="484493" y="276367"/>
                  <a:pt x="502920" y="274320"/>
                </a:cubicBezTo>
                <a:cubicBezTo>
                  <a:pt x="539398" y="270267"/>
                  <a:pt x="576096" y="268499"/>
                  <a:pt x="612648" y="265176"/>
                </a:cubicBezTo>
                <a:lnTo>
                  <a:pt x="704088" y="256032"/>
                </a:lnTo>
                <a:cubicBezTo>
                  <a:pt x="770777" y="259737"/>
                  <a:pt x="861125" y="260007"/>
                  <a:pt x="932688" y="274320"/>
                </a:cubicBezTo>
                <a:cubicBezTo>
                  <a:pt x="965908" y="280964"/>
                  <a:pt x="967831" y="292981"/>
                  <a:pt x="1005840" y="301752"/>
                </a:cubicBezTo>
                <a:cubicBezTo>
                  <a:pt x="1029784" y="307278"/>
                  <a:pt x="1054608" y="307848"/>
                  <a:pt x="1078992" y="310896"/>
                </a:cubicBezTo>
                <a:cubicBezTo>
                  <a:pt x="1088136" y="313944"/>
                  <a:pt x="1097073" y="317702"/>
                  <a:pt x="1106424" y="320040"/>
                </a:cubicBezTo>
                <a:cubicBezTo>
                  <a:pt x="1286912" y="365162"/>
                  <a:pt x="1617985" y="321288"/>
                  <a:pt x="1691640" y="320040"/>
                </a:cubicBezTo>
                <a:cubicBezTo>
                  <a:pt x="1755973" y="298596"/>
                  <a:pt x="1676553" y="326506"/>
                  <a:pt x="1755648" y="292608"/>
                </a:cubicBezTo>
                <a:cubicBezTo>
                  <a:pt x="1864099" y="246129"/>
                  <a:pt x="1836254" y="269351"/>
                  <a:pt x="1938528" y="201168"/>
                </a:cubicBezTo>
                <a:cubicBezTo>
                  <a:pt x="1947672" y="195072"/>
                  <a:pt x="1958189" y="190651"/>
                  <a:pt x="1965960" y="182880"/>
                </a:cubicBezTo>
                <a:cubicBezTo>
                  <a:pt x="1976736" y="172104"/>
                  <a:pt x="1984652" y="158789"/>
                  <a:pt x="1993392" y="146304"/>
                </a:cubicBezTo>
                <a:cubicBezTo>
                  <a:pt x="2095554" y="359"/>
                  <a:pt x="1980059" y="154239"/>
                  <a:pt x="2057400" y="64008"/>
                </a:cubicBezTo>
                <a:cubicBezTo>
                  <a:pt x="2067318" y="52437"/>
                  <a:pt x="2074914" y="39003"/>
                  <a:pt x="2084832" y="27432"/>
                </a:cubicBezTo>
                <a:cubicBezTo>
                  <a:pt x="2093248" y="17614"/>
                  <a:pt x="2112264" y="0"/>
                  <a:pt x="2112264" y="0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олилиния 30"/>
          <p:cNvSpPr/>
          <p:nvPr/>
        </p:nvSpPr>
        <p:spPr>
          <a:xfrm>
            <a:off x="5349960" y="4105440"/>
            <a:ext cx="1782720" cy="1590480"/>
          </a:xfrm>
          <a:custGeom>
            <a:avLst/>
            <a:gdLst/>
            <a:ahLst/>
            <a:rect l="l" t="t" r="r" b="b"/>
            <a:pathLst>
              <a:path w="1783080" h="1591056">
                <a:moveTo>
                  <a:pt x="0" y="0"/>
                </a:moveTo>
                <a:cubicBezTo>
                  <a:pt x="18288" y="3048"/>
                  <a:pt x="38281" y="853"/>
                  <a:pt x="54864" y="9144"/>
                </a:cubicBezTo>
                <a:cubicBezTo>
                  <a:pt x="73600" y="18512"/>
                  <a:pt x="73973" y="49027"/>
                  <a:pt x="82296" y="64008"/>
                </a:cubicBezTo>
                <a:cubicBezTo>
                  <a:pt x="92970" y="83221"/>
                  <a:pt x="109042" y="99213"/>
                  <a:pt x="118872" y="118872"/>
                </a:cubicBezTo>
                <a:cubicBezTo>
                  <a:pt x="124968" y="131064"/>
                  <a:pt x="131790" y="142919"/>
                  <a:pt x="137160" y="155448"/>
                </a:cubicBezTo>
                <a:cubicBezTo>
                  <a:pt x="140957" y="164307"/>
                  <a:pt x="141993" y="174259"/>
                  <a:pt x="146304" y="182880"/>
                </a:cubicBezTo>
                <a:cubicBezTo>
                  <a:pt x="151219" y="192710"/>
                  <a:pt x="159140" y="200770"/>
                  <a:pt x="164592" y="210312"/>
                </a:cubicBezTo>
                <a:cubicBezTo>
                  <a:pt x="171355" y="222147"/>
                  <a:pt x="177510" y="234359"/>
                  <a:pt x="182880" y="246888"/>
                </a:cubicBezTo>
                <a:cubicBezTo>
                  <a:pt x="186677" y="255747"/>
                  <a:pt x="186677" y="266300"/>
                  <a:pt x="192024" y="274320"/>
                </a:cubicBezTo>
                <a:cubicBezTo>
                  <a:pt x="199197" y="285080"/>
                  <a:pt x="211177" y="291818"/>
                  <a:pt x="219456" y="301752"/>
                </a:cubicBezTo>
                <a:cubicBezTo>
                  <a:pt x="226491" y="310195"/>
                  <a:pt x="232292" y="319642"/>
                  <a:pt x="237744" y="329184"/>
                </a:cubicBezTo>
                <a:cubicBezTo>
                  <a:pt x="244507" y="341019"/>
                  <a:pt x="247517" y="355116"/>
                  <a:pt x="256032" y="365760"/>
                </a:cubicBezTo>
                <a:cubicBezTo>
                  <a:pt x="272189" y="385956"/>
                  <a:pt x="310896" y="420624"/>
                  <a:pt x="310896" y="420624"/>
                </a:cubicBezTo>
                <a:cubicBezTo>
                  <a:pt x="320862" y="450523"/>
                  <a:pt x="328668" y="481959"/>
                  <a:pt x="356616" y="502920"/>
                </a:cubicBezTo>
                <a:cubicBezTo>
                  <a:pt x="368808" y="512064"/>
                  <a:pt x="382416" y="519576"/>
                  <a:pt x="393192" y="530352"/>
                </a:cubicBezTo>
                <a:cubicBezTo>
                  <a:pt x="423687" y="560847"/>
                  <a:pt x="408743" y="593448"/>
                  <a:pt x="466344" y="612648"/>
                </a:cubicBezTo>
                <a:cubicBezTo>
                  <a:pt x="493837" y="621812"/>
                  <a:pt x="497573" y="620385"/>
                  <a:pt x="521208" y="640080"/>
                </a:cubicBezTo>
                <a:cubicBezTo>
                  <a:pt x="531142" y="648359"/>
                  <a:pt x="537880" y="660339"/>
                  <a:pt x="548640" y="667512"/>
                </a:cubicBezTo>
                <a:cubicBezTo>
                  <a:pt x="556511" y="672759"/>
                  <a:pt x="607771" y="684581"/>
                  <a:pt x="612648" y="685800"/>
                </a:cubicBezTo>
                <a:cubicBezTo>
                  <a:pt x="621792" y="691896"/>
                  <a:pt x="630250" y="699173"/>
                  <a:pt x="640080" y="704088"/>
                </a:cubicBezTo>
                <a:cubicBezTo>
                  <a:pt x="657692" y="712894"/>
                  <a:pt x="686509" y="716516"/>
                  <a:pt x="704088" y="722376"/>
                </a:cubicBezTo>
                <a:cubicBezTo>
                  <a:pt x="719660" y="727567"/>
                  <a:pt x="733972" y="736345"/>
                  <a:pt x="749808" y="740664"/>
                </a:cubicBezTo>
                <a:cubicBezTo>
                  <a:pt x="824092" y="760923"/>
                  <a:pt x="781924" y="739177"/>
                  <a:pt x="841248" y="758952"/>
                </a:cubicBezTo>
                <a:cubicBezTo>
                  <a:pt x="856820" y="764143"/>
                  <a:pt x="871396" y="772049"/>
                  <a:pt x="886968" y="777240"/>
                </a:cubicBezTo>
                <a:cubicBezTo>
                  <a:pt x="898890" y="781214"/>
                  <a:pt x="911507" y="782773"/>
                  <a:pt x="923544" y="786384"/>
                </a:cubicBezTo>
                <a:cubicBezTo>
                  <a:pt x="1016355" y="814227"/>
                  <a:pt x="940798" y="797150"/>
                  <a:pt x="1024128" y="813816"/>
                </a:cubicBezTo>
                <a:cubicBezTo>
                  <a:pt x="1036320" y="819912"/>
                  <a:pt x="1047676" y="828095"/>
                  <a:pt x="1060704" y="832104"/>
                </a:cubicBezTo>
                <a:cubicBezTo>
                  <a:pt x="1087563" y="840368"/>
                  <a:pt x="1115738" y="843576"/>
                  <a:pt x="1143000" y="850392"/>
                </a:cubicBezTo>
                <a:cubicBezTo>
                  <a:pt x="1152351" y="852730"/>
                  <a:pt x="1162006" y="854855"/>
                  <a:pt x="1170432" y="859536"/>
                </a:cubicBezTo>
                <a:cubicBezTo>
                  <a:pt x="1189645" y="870210"/>
                  <a:pt x="1225296" y="896112"/>
                  <a:pt x="1225296" y="896112"/>
                </a:cubicBezTo>
                <a:cubicBezTo>
                  <a:pt x="1242779" y="922337"/>
                  <a:pt x="1245201" y="929854"/>
                  <a:pt x="1271016" y="950976"/>
                </a:cubicBezTo>
                <a:cubicBezTo>
                  <a:pt x="1308200" y="981400"/>
                  <a:pt x="1370691" y="1018193"/>
                  <a:pt x="1399032" y="1060704"/>
                </a:cubicBezTo>
                <a:cubicBezTo>
                  <a:pt x="1405128" y="1069848"/>
                  <a:pt x="1412857" y="1078093"/>
                  <a:pt x="1417320" y="1088136"/>
                </a:cubicBezTo>
                <a:cubicBezTo>
                  <a:pt x="1425149" y="1105752"/>
                  <a:pt x="1429512" y="1124712"/>
                  <a:pt x="1435608" y="1143000"/>
                </a:cubicBezTo>
                <a:cubicBezTo>
                  <a:pt x="1438656" y="1152144"/>
                  <a:pt x="1442414" y="1161081"/>
                  <a:pt x="1444752" y="1170432"/>
                </a:cubicBezTo>
                <a:cubicBezTo>
                  <a:pt x="1447800" y="1182624"/>
                  <a:pt x="1448946" y="1195457"/>
                  <a:pt x="1453896" y="1207008"/>
                </a:cubicBezTo>
                <a:cubicBezTo>
                  <a:pt x="1458225" y="1217109"/>
                  <a:pt x="1467269" y="1224610"/>
                  <a:pt x="1472184" y="1234440"/>
                </a:cubicBezTo>
                <a:cubicBezTo>
                  <a:pt x="1476495" y="1243061"/>
                  <a:pt x="1477017" y="1253251"/>
                  <a:pt x="1481328" y="1261872"/>
                </a:cubicBezTo>
                <a:cubicBezTo>
                  <a:pt x="1486243" y="1271702"/>
                  <a:pt x="1494164" y="1279762"/>
                  <a:pt x="1499616" y="1289304"/>
                </a:cubicBezTo>
                <a:cubicBezTo>
                  <a:pt x="1515877" y="1317761"/>
                  <a:pt x="1515939" y="1329009"/>
                  <a:pt x="1536192" y="1353312"/>
                </a:cubicBezTo>
                <a:cubicBezTo>
                  <a:pt x="1544471" y="1363246"/>
                  <a:pt x="1554480" y="1371600"/>
                  <a:pt x="1563624" y="1380744"/>
                </a:cubicBezTo>
                <a:cubicBezTo>
                  <a:pt x="1580947" y="1432712"/>
                  <a:pt x="1565952" y="1401360"/>
                  <a:pt x="1627632" y="1463040"/>
                </a:cubicBezTo>
                <a:cubicBezTo>
                  <a:pt x="1636776" y="1472184"/>
                  <a:pt x="1644304" y="1483299"/>
                  <a:pt x="1655064" y="1490472"/>
                </a:cubicBezTo>
                <a:cubicBezTo>
                  <a:pt x="1664208" y="1496568"/>
                  <a:pt x="1674282" y="1501459"/>
                  <a:pt x="1682496" y="1508760"/>
                </a:cubicBezTo>
                <a:cubicBezTo>
                  <a:pt x="1733743" y="1554313"/>
                  <a:pt x="1727853" y="1549363"/>
                  <a:pt x="1755648" y="1591056"/>
                </a:cubicBezTo>
                <a:lnTo>
                  <a:pt x="1783080" y="1581912"/>
                </a:ln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олилиния 31"/>
          <p:cNvSpPr/>
          <p:nvPr/>
        </p:nvSpPr>
        <p:spPr>
          <a:xfrm>
            <a:off x="6539040" y="3882960"/>
            <a:ext cx="1517400" cy="1530360"/>
          </a:xfrm>
          <a:custGeom>
            <a:avLst/>
            <a:gdLst/>
            <a:ahLst/>
            <a:rect l="l" t="t" r="r" b="b"/>
            <a:pathLst>
              <a:path w="1517549" h="1530279">
                <a:moveTo>
                  <a:pt x="17933" y="21519"/>
                </a:moveTo>
                <a:cubicBezTo>
                  <a:pt x="98076" y="101662"/>
                  <a:pt x="0" y="0"/>
                  <a:pt x="63653" y="76383"/>
                </a:cubicBezTo>
                <a:cubicBezTo>
                  <a:pt x="71932" y="86317"/>
                  <a:pt x="82806" y="93881"/>
                  <a:pt x="91085" y="103815"/>
                </a:cubicBezTo>
                <a:cubicBezTo>
                  <a:pt x="98120" y="112258"/>
                  <a:pt x="102338" y="122804"/>
                  <a:pt x="109373" y="131247"/>
                </a:cubicBezTo>
                <a:cubicBezTo>
                  <a:pt x="117652" y="141181"/>
                  <a:pt x="129289" y="148156"/>
                  <a:pt x="136805" y="158679"/>
                </a:cubicBezTo>
                <a:cubicBezTo>
                  <a:pt x="159293" y="190163"/>
                  <a:pt x="156609" y="223824"/>
                  <a:pt x="191669" y="250119"/>
                </a:cubicBezTo>
                <a:cubicBezTo>
                  <a:pt x="203861" y="259263"/>
                  <a:pt x="217469" y="266775"/>
                  <a:pt x="228245" y="277551"/>
                </a:cubicBezTo>
                <a:cubicBezTo>
                  <a:pt x="283216" y="332522"/>
                  <a:pt x="186195" y="283046"/>
                  <a:pt x="301397" y="359847"/>
                </a:cubicBezTo>
                <a:cubicBezTo>
                  <a:pt x="399422" y="425197"/>
                  <a:pt x="250652" y="323427"/>
                  <a:pt x="356261" y="405567"/>
                </a:cubicBezTo>
                <a:cubicBezTo>
                  <a:pt x="373611" y="419061"/>
                  <a:pt x="395583" y="426601"/>
                  <a:pt x="411125" y="442143"/>
                </a:cubicBezTo>
                <a:cubicBezTo>
                  <a:pt x="436341" y="467359"/>
                  <a:pt x="436284" y="470889"/>
                  <a:pt x="465989" y="487863"/>
                </a:cubicBezTo>
                <a:cubicBezTo>
                  <a:pt x="477824" y="494626"/>
                  <a:pt x="489633" y="501840"/>
                  <a:pt x="502565" y="506151"/>
                </a:cubicBezTo>
                <a:cubicBezTo>
                  <a:pt x="526410" y="514099"/>
                  <a:pt x="550736" y="521663"/>
                  <a:pt x="575717" y="524439"/>
                </a:cubicBezTo>
                <a:cubicBezTo>
                  <a:pt x="647608" y="532427"/>
                  <a:pt x="645505" y="529787"/>
                  <a:pt x="703733" y="542727"/>
                </a:cubicBezTo>
                <a:cubicBezTo>
                  <a:pt x="722901" y="546987"/>
                  <a:pt x="783776" y="562561"/>
                  <a:pt x="795173" y="570159"/>
                </a:cubicBezTo>
                <a:cubicBezTo>
                  <a:pt x="858057" y="612082"/>
                  <a:pt x="829185" y="599784"/>
                  <a:pt x="877469" y="615879"/>
                </a:cubicBezTo>
                <a:cubicBezTo>
                  <a:pt x="886613" y="625023"/>
                  <a:pt x="894141" y="636138"/>
                  <a:pt x="904901" y="643311"/>
                </a:cubicBezTo>
                <a:cubicBezTo>
                  <a:pt x="959841" y="679938"/>
                  <a:pt x="905071" y="614254"/>
                  <a:pt x="959765" y="679887"/>
                </a:cubicBezTo>
                <a:cubicBezTo>
                  <a:pt x="980018" y="704190"/>
                  <a:pt x="980080" y="715438"/>
                  <a:pt x="996341" y="743895"/>
                </a:cubicBezTo>
                <a:cubicBezTo>
                  <a:pt x="1001793" y="753437"/>
                  <a:pt x="1008533" y="762183"/>
                  <a:pt x="1014629" y="771327"/>
                </a:cubicBezTo>
                <a:cubicBezTo>
                  <a:pt x="1019269" y="789888"/>
                  <a:pt x="1025046" y="816970"/>
                  <a:pt x="1032917" y="835335"/>
                </a:cubicBezTo>
                <a:cubicBezTo>
                  <a:pt x="1048619" y="871972"/>
                  <a:pt x="1051771" y="865032"/>
                  <a:pt x="1060349" y="899343"/>
                </a:cubicBezTo>
                <a:cubicBezTo>
                  <a:pt x="1064118" y="914421"/>
                  <a:pt x="1065724" y="929985"/>
                  <a:pt x="1069493" y="945063"/>
                </a:cubicBezTo>
                <a:cubicBezTo>
                  <a:pt x="1071831" y="954414"/>
                  <a:pt x="1075989" y="963227"/>
                  <a:pt x="1078637" y="972495"/>
                </a:cubicBezTo>
                <a:cubicBezTo>
                  <a:pt x="1082089" y="984579"/>
                  <a:pt x="1084329" y="996987"/>
                  <a:pt x="1087781" y="1009071"/>
                </a:cubicBezTo>
                <a:cubicBezTo>
                  <a:pt x="1092753" y="1026471"/>
                  <a:pt x="1104611" y="1060357"/>
                  <a:pt x="1115213" y="1073079"/>
                </a:cubicBezTo>
                <a:cubicBezTo>
                  <a:pt x="1122248" y="1081522"/>
                  <a:pt x="1134874" y="1083596"/>
                  <a:pt x="1142645" y="1091367"/>
                </a:cubicBezTo>
                <a:cubicBezTo>
                  <a:pt x="1153421" y="1102143"/>
                  <a:pt x="1159301" y="1117167"/>
                  <a:pt x="1170077" y="1127943"/>
                </a:cubicBezTo>
                <a:cubicBezTo>
                  <a:pt x="1177848" y="1135714"/>
                  <a:pt x="1189295" y="1138930"/>
                  <a:pt x="1197509" y="1146231"/>
                </a:cubicBezTo>
                <a:cubicBezTo>
                  <a:pt x="1216839" y="1163414"/>
                  <a:pt x="1234085" y="1182807"/>
                  <a:pt x="1252373" y="1201095"/>
                </a:cubicBezTo>
                <a:cubicBezTo>
                  <a:pt x="1261517" y="1210239"/>
                  <a:pt x="1269045" y="1221354"/>
                  <a:pt x="1279805" y="1228527"/>
                </a:cubicBezTo>
                <a:lnTo>
                  <a:pt x="1307237" y="1246815"/>
                </a:lnTo>
                <a:cubicBezTo>
                  <a:pt x="1310285" y="1255959"/>
                  <a:pt x="1311700" y="1265821"/>
                  <a:pt x="1316381" y="1274247"/>
                </a:cubicBezTo>
                <a:cubicBezTo>
                  <a:pt x="1327055" y="1293460"/>
                  <a:pt x="1339769" y="1311527"/>
                  <a:pt x="1352957" y="1329111"/>
                </a:cubicBezTo>
                <a:cubicBezTo>
                  <a:pt x="1364732" y="1344812"/>
                  <a:pt x="1387980" y="1374400"/>
                  <a:pt x="1398677" y="1393119"/>
                </a:cubicBezTo>
                <a:cubicBezTo>
                  <a:pt x="1405440" y="1404954"/>
                  <a:pt x="1411595" y="1417166"/>
                  <a:pt x="1416965" y="1429695"/>
                </a:cubicBezTo>
                <a:cubicBezTo>
                  <a:pt x="1420762" y="1438554"/>
                  <a:pt x="1421327" y="1448758"/>
                  <a:pt x="1426109" y="1457127"/>
                </a:cubicBezTo>
                <a:cubicBezTo>
                  <a:pt x="1433670" y="1470359"/>
                  <a:pt x="1444683" y="1481302"/>
                  <a:pt x="1453541" y="1493703"/>
                </a:cubicBezTo>
                <a:cubicBezTo>
                  <a:pt x="1468586" y="1514767"/>
                  <a:pt x="1468936" y="1530279"/>
                  <a:pt x="1499261" y="1530279"/>
                </a:cubicBezTo>
                <a:cubicBezTo>
                  <a:pt x="1506077" y="1530279"/>
                  <a:pt x="1511453" y="1524183"/>
                  <a:pt x="1517549" y="1521135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олилиния 32"/>
          <p:cNvSpPr/>
          <p:nvPr/>
        </p:nvSpPr>
        <p:spPr>
          <a:xfrm>
            <a:off x="5989680" y="4689360"/>
            <a:ext cx="2030400" cy="687600"/>
          </a:xfrm>
          <a:custGeom>
            <a:avLst/>
            <a:gdLst/>
            <a:ahLst/>
            <a:rect l="l" t="t" r="r" b="b"/>
            <a:pathLst>
              <a:path w="2029968" h="686090">
                <a:moveTo>
                  <a:pt x="0" y="576811"/>
                </a:moveTo>
                <a:cubicBezTo>
                  <a:pt x="9144" y="570715"/>
                  <a:pt x="17602" y="563438"/>
                  <a:pt x="27432" y="558523"/>
                </a:cubicBezTo>
                <a:cubicBezTo>
                  <a:pt x="81238" y="531620"/>
                  <a:pt x="168388" y="556057"/>
                  <a:pt x="210312" y="558523"/>
                </a:cubicBezTo>
                <a:cubicBezTo>
                  <a:pt x="225552" y="564619"/>
                  <a:pt x="241351" y="569470"/>
                  <a:pt x="256032" y="576811"/>
                </a:cubicBezTo>
                <a:cubicBezTo>
                  <a:pt x="265862" y="581726"/>
                  <a:pt x="273260" y="591018"/>
                  <a:pt x="283464" y="595099"/>
                </a:cubicBezTo>
                <a:cubicBezTo>
                  <a:pt x="341397" y="618272"/>
                  <a:pt x="345555" y="609913"/>
                  <a:pt x="402336" y="622531"/>
                </a:cubicBezTo>
                <a:cubicBezTo>
                  <a:pt x="411745" y="624622"/>
                  <a:pt x="420417" y="629337"/>
                  <a:pt x="429768" y="631675"/>
                </a:cubicBezTo>
                <a:cubicBezTo>
                  <a:pt x="444846" y="635444"/>
                  <a:pt x="460316" y="637448"/>
                  <a:pt x="475488" y="640819"/>
                </a:cubicBezTo>
                <a:cubicBezTo>
                  <a:pt x="487756" y="643545"/>
                  <a:pt x="499574" y="648575"/>
                  <a:pt x="512064" y="649963"/>
                </a:cubicBezTo>
                <a:cubicBezTo>
                  <a:pt x="554583" y="654687"/>
                  <a:pt x="597408" y="656059"/>
                  <a:pt x="640080" y="659107"/>
                </a:cubicBezTo>
                <a:cubicBezTo>
                  <a:pt x="652272" y="662155"/>
                  <a:pt x="664175" y="666783"/>
                  <a:pt x="676656" y="668251"/>
                </a:cubicBezTo>
                <a:cubicBezTo>
                  <a:pt x="828285" y="686090"/>
                  <a:pt x="879165" y="674511"/>
                  <a:pt x="1060704" y="668251"/>
                </a:cubicBezTo>
                <a:cubicBezTo>
                  <a:pt x="1078992" y="665203"/>
                  <a:pt x="1097388" y="662743"/>
                  <a:pt x="1115568" y="659107"/>
                </a:cubicBezTo>
                <a:cubicBezTo>
                  <a:pt x="1127891" y="656642"/>
                  <a:pt x="1139876" y="652689"/>
                  <a:pt x="1152144" y="649963"/>
                </a:cubicBezTo>
                <a:cubicBezTo>
                  <a:pt x="1167316" y="646592"/>
                  <a:pt x="1182624" y="643867"/>
                  <a:pt x="1197864" y="640819"/>
                </a:cubicBezTo>
                <a:cubicBezTo>
                  <a:pt x="1210056" y="634723"/>
                  <a:pt x="1222605" y="629294"/>
                  <a:pt x="1234440" y="622531"/>
                </a:cubicBezTo>
                <a:cubicBezTo>
                  <a:pt x="1243982" y="617079"/>
                  <a:pt x="1252042" y="609158"/>
                  <a:pt x="1261872" y="604243"/>
                </a:cubicBezTo>
                <a:cubicBezTo>
                  <a:pt x="1270493" y="599932"/>
                  <a:pt x="1280878" y="599780"/>
                  <a:pt x="1289304" y="595099"/>
                </a:cubicBezTo>
                <a:cubicBezTo>
                  <a:pt x="1308517" y="584425"/>
                  <a:pt x="1323761" y="566686"/>
                  <a:pt x="1344168" y="558523"/>
                </a:cubicBezTo>
                <a:cubicBezTo>
                  <a:pt x="1359408" y="552427"/>
                  <a:pt x="1375478" y="548095"/>
                  <a:pt x="1389888" y="540235"/>
                </a:cubicBezTo>
                <a:cubicBezTo>
                  <a:pt x="1482007" y="489988"/>
                  <a:pt x="1408106" y="512820"/>
                  <a:pt x="1481328" y="494515"/>
                </a:cubicBezTo>
                <a:cubicBezTo>
                  <a:pt x="1502118" y="473725"/>
                  <a:pt x="1518943" y="454314"/>
                  <a:pt x="1545336" y="439651"/>
                </a:cubicBezTo>
                <a:cubicBezTo>
                  <a:pt x="1606786" y="405512"/>
                  <a:pt x="1613113" y="437673"/>
                  <a:pt x="1673352" y="357355"/>
                </a:cubicBezTo>
                <a:cubicBezTo>
                  <a:pt x="1682496" y="345163"/>
                  <a:pt x="1689550" y="331077"/>
                  <a:pt x="1700784" y="320779"/>
                </a:cubicBezTo>
                <a:cubicBezTo>
                  <a:pt x="1726402" y="297296"/>
                  <a:pt x="1783080" y="256771"/>
                  <a:pt x="1783080" y="256771"/>
                </a:cubicBezTo>
                <a:cubicBezTo>
                  <a:pt x="1789176" y="244579"/>
                  <a:pt x="1792736" y="230745"/>
                  <a:pt x="1801368" y="220195"/>
                </a:cubicBezTo>
                <a:cubicBezTo>
                  <a:pt x="1820475" y="196842"/>
                  <a:pt x="1848639" y="181293"/>
                  <a:pt x="1865376" y="156187"/>
                </a:cubicBezTo>
                <a:cubicBezTo>
                  <a:pt x="1871472" y="147043"/>
                  <a:pt x="1876629" y="137198"/>
                  <a:pt x="1883664" y="128755"/>
                </a:cubicBezTo>
                <a:cubicBezTo>
                  <a:pt x="1891943" y="118821"/>
                  <a:pt x="1903337" y="111668"/>
                  <a:pt x="1911096" y="101323"/>
                </a:cubicBezTo>
                <a:cubicBezTo>
                  <a:pt x="1949580" y="50011"/>
                  <a:pt x="1922760" y="64171"/>
                  <a:pt x="1965960" y="28171"/>
                </a:cubicBezTo>
                <a:cubicBezTo>
                  <a:pt x="1985116" y="12207"/>
                  <a:pt x="1997258" y="6630"/>
                  <a:pt x="2020824" y="739"/>
                </a:cubicBezTo>
                <a:cubicBezTo>
                  <a:pt x="2023781" y="0"/>
                  <a:pt x="2026920" y="739"/>
                  <a:pt x="2029968" y="739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олилиния 36"/>
          <p:cNvSpPr/>
          <p:nvPr/>
        </p:nvSpPr>
        <p:spPr>
          <a:xfrm>
            <a:off x="5367240" y="3772080"/>
            <a:ext cx="1059120" cy="909360"/>
          </a:xfrm>
          <a:custGeom>
            <a:avLst/>
            <a:gdLst/>
            <a:ahLst/>
            <a:rect l="l" t="t" r="r" b="b"/>
            <a:pathLst>
              <a:path w="1059335" h="909894">
                <a:moveTo>
                  <a:pt x="0" y="909894"/>
                </a:moveTo>
                <a:cubicBezTo>
                  <a:pt x="9144" y="903798"/>
                  <a:pt x="18989" y="898641"/>
                  <a:pt x="27432" y="891606"/>
                </a:cubicBezTo>
                <a:cubicBezTo>
                  <a:pt x="97838" y="832934"/>
                  <a:pt x="14188" y="891292"/>
                  <a:pt x="82296" y="845886"/>
                </a:cubicBezTo>
                <a:lnTo>
                  <a:pt x="155448" y="736158"/>
                </a:lnTo>
                <a:lnTo>
                  <a:pt x="173736" y="708726"/>
                </a:lnTo>
                <a:cubicBezTo>
                  <a:pt x="179832" y="699582"/>
                  <a:pt x="188549" y="691720"/>
                  <a:pt x="192024" y="681294"/>
                </a:cubicBezTo>
                <a:cubicBezTo>
                  <a:pt x="202456" y="649997"/>
                  <a:pt x="216501" y="591824"/>
                  <a:pt x="246888" y="571566"/>
                </a:cubicBezTo>
                <a:cubicBezTo>
                  <a:pt x="256032" y="565470"/>
                  <a:pt x="265877" y="560313"/>
                  <a:pt x="274320" y="553278"/>
                </a:cubicBezTo>
                <a:cubicBezTo>
                  <a:pt x="284254" y="544999"/>
                  <a:pt x="291229" y="533362"/>
                  <a:pt x="301752" y="525846"/>
                </a:cubicBezTo>
                <a:cubicBezTo>
                  <a:pt x="312844" y="517923"/>
                  <a:pt x="326639" y="514571"/>
                  <a:pt x="338328" y="507558"/>
                </a:cubicBezTo>
                <a:cubicBezTo>
                  <a:pt x="357175" y="496250"/>
                  <a:pt x="372340" y="477933"/>
                  <a:pt x="393192" y="470982"/>
                </a:cubicBezTo>
                <a:cubicBezTo>
                  <a:pt x="402336" y="467934"/>
                  <a:pt x="412198" y="466519"/>
                  <a:pt x="420624" y="461838"/>
                </a:cubicBezTo>
                <a:cubicBezTo>
                  <a:pt x="439837" y="451164"/>
                  <a:pt x="457200" y="437454"/>
                  <a:pt x="475488" y="425262"/>
                </a:cubicBezTo>
                <a:lnTo>
                  <a:pt x="502920" y="406974"/>
                </a:lnTo>
                <a:cubicBezTo>
                  <a:pt x="536711" y="356288"/>
                  <a:pt x="501875" y="396379"/>
                  <a:pt x="548640" y="370398"/>
                </a:cubicBezTo>
                <a:cubicBezTo>
                  <a:pt x="567853" y="359724"/>
                  <a:pt x="603504" y="333822"/>
                  <a:pt x="603504" y="333822"/>
                </a:cubicBezTo>
                <a:cubicBezTo>
                  <a:pt x="653701" y="258526"/>
                  <a:pt x="588069" y="344811"/>
                  <a:pt x="649224" y="297246"/>
                </a:cubicBezTo>
                <a:cubicBezTo>
                  <a:pt x="669639" y="281368"/>
                  <a:pt x="685800" y="260670"/>
                  <a:pt x="704088" y="242382"/>
                </a:cubicBezTo>
                <a:cubicBezTo>
                  <a:pt x="713232" y="233238"/>
                  <a:pt x="720760" y="222123"/>
                  <a:pt x="731520" y="214950"/>
                </a:cubicBezTo>
                <a:cubicBezTo>
                  <a:pt x="747096" y="204566"/>
                  <a:pt x="784186" y="180572"/>
                  <a:pt x="795528" y="169230"/>
                </a:cubicBezTo>
                <a:cubicBezTo>
                  <a:pt x="803299" y="161459"/>
                  <a:pt x="805545" y="149035"/>
                  <a:pt x="813816" y="141798"/>
                </a:cubicBezTo>
                <a:cubicBezTo>
                  <a:pt x="830357" y="127324"/>
                  <a:pt x="853138" y="120764"/>
                  <a:pt x="868680" y="105222"/>
                </a:cubicBezTo>
                <a:cubicBezTo>
                  <a:pt x="877824" y="96078"/>
                  <a:pt x="885352" y="84963"/>
                  <a:pt x="896112" y="77790"/>
                </a:cubicBezTo>
                <a:cubicBezTo>
                  <a:pt x="904132" y="72443"/>
                  <a:pt x="914923" y="72957"/>
                  <a:pt x="923544" y="68646"/>
                </a:cubicBezTo>
                <a:cubicBezTo>
                  <a:pt x="933374" y="63731"/>
                  <a:pt x="941146" y="55273"/>
                  <a:pt x="950976" y="50358"/>
                </a:cubicBezTo>
                <a:cubicBezTo>
                  <a:pt x="959597" y="46047"/>
                  <a:pt x="969787" y="45525"/>
                  <a:pt x="978408" y="41214"/>
                </a:cubicBezTo>
                <a:cubicBezTo>
                  <a:pt x="988238" y="36299"/>
                  <a:pt x="995739" y="27255"/>
                  <a:pt x="1005840" y="22926"/>
                </a:cubicBezTo>
                <a:cubicBezTo>
                  <a:pt x="1059335" y="0"/>
                  <a:pt x="1029161" y="27037"/>
                  <a:pt x="1051560" y="4638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олилиния 37"/>
          <p:cNvSpPr/>
          <p:nvPr/>
        </p:nvSpPr>
        <p:spPr>
          <a:xfrm>
            <a:off x="6748560" y="3703680"/>
            <a:ext cx="1307880" cy="977760"/>
          </a:xfrm>
          <a:custGeom>
            <a:avLst/>
            <a:gdLst/>
            <a:ahLst/>
            <a:rect l="l" t="t" r="r" b="b"/>
            <a:pathLst>
              <a:path w="1308331" h="978408">
                <a:moveTo>
                  <a:pt x="0" y="978408"/>
                </a:moveTo>
                <a:cubicBezTo>
                  <a:pt x="18288" y="966216"/>
                  <a:pt x="39322" y="957374"/>
                  <a:pt x="54864" y="941832"/>
                </a:cubicBezTo>
                <a:cubicBezTo>
                  <a:pt x="117499" y="879197"/>
                  <a:pt x="88209" y="901314"/>
                  <a:pt x="137160" y="868680"/>
                </a:cubicBezTo>
                <a:cubicBezTo>
                  <a:pt x="140208" y="859536"/>
                  <a:pt x="140283" y="848774"/>
                  <a:pt x="146304" y="841248"/>
                </a:cubicBezTo>
                <a:cubicBezTo>
                  <a:pt x="153169" y="832666"/>
                  <a:pt x="165522" y="830261"/>
                  <a:pt x="173736" y="822960"/>
                </a:cubicBezTo>
                <a:cubicBezTo>
                  <a:pt x="193066" y="805777"/>
                  <a:pt x="210312" y="786384"/>
                  <a:pt x="228600" y="768096"/>
                </a:cubicBezTo>
                <a:lnTo>
                  <a:pt x="228600" y="768096"/>
                </a:lnTo>
                <a:cubicBezTo>
                  <a:pt x="270523" y="705212"/>
                  <a:pt x="258225" y="734084"/>
                  <a:pt x="274320" y="685800"/>
                </a:cubicBezTo>
                <a:cubicBezTo>
                  <a:pt x="277237" y="665382"/>
                  <a:pt x="287533" y="589765"/>
                  <a:pt x="292608" y="566928"/>
                </a:cubicBezTo>
                <a:cubicBezTo>
                  <a:pt x="294699" y="557519"/>
                  <a:pt x="299104" y="548764"/>
                  <a:pt x="301752" y="539496"/>
                </a:cubicBezTo>
                <a:cubicBezTo>
                  <a:pt x="305204" y="527412"/>
                  <a:pt x="305276" y="514160"/>
                  <a:pt x="310896" y="502920"/>
                </a:cubicBezTo>
                <a:cubicBezTo>
                  <a:pt x="320726" y="483261"/>
                  <a:pt x="335280" y="466344"/>
                  <a:pt x="347472" y="448056"/>
                </a:cubicBezTo>
                <a:cubicBezTo>
                  <a:pt x="353568" y="438912"/>
                  <a:pt x="356616" y="426720"/>
                  <a:pt x="365760" y="420624"/>
                </a:cubicBezTo>
                <a:cubicBezTo>
                  <a:pt x="374904" y="414528"/>
                  <a:pt x="385421" y="410107"/>
                  <a:pt x="393192" y="402336"/>
                </a:cubicBezTo>
                <a:cubicBezTo>
                  <a:pt x="403968" y="391560"/>
                  <a:pt x="409848" y="376536"/>
                  <a:pt x="420624" y="365760"/>
                </a:cubicBezTo>
                <a:cubicBezTo>
                  <a:pt x="428395" y="357989"/>
                  <a:pt x="439613" y="354507"/>
                  <a:pt x="448056" y="347472"/>
                </a:cubicBezTo>
                <a:cubicBezTo>
                  <a:pt x="457990" y="339193"/>
                  <a:pt x="464184" y="326320"/>
                  <a:pt x="475488" y="320040"/>
                </a:cubicBezTo>
                <a:cubicBezTo>
                  <a:pt x="492339" y="310678"/>
                  <a:pt x="512064" y="307848"/>
                  <a:pt x="530352" y="301752"/>
                </a:cubicBezTo>
                <a:cubicBezTo>
                  <a:pt x="539496" y="298704"/>
                  <a:pt x="548433" y="294946"/>
                  <a:pt x="557784" y="292608"/>
                </a:cubicBezTo>
                <a:cubicBezTo>
                  <a:pt x="582168" y="286512"/>
                  <a:pt x="607091" y="282268"/>
                  <a:pt x="630936" y="274320"/>
                </a:cubicBezTo>
                <a:cubicBezTo>
                  <a:pt x="693642" y="253418"/>
                  <a:pt x="615814" y="278101"/>
                  <a:pt x="704088" y="256032"/>
                </a:cubicBezTo>
                <a:cubicBezTo>
                  <a:pt x="713439" y="253694"/>
                  <a:pt x="722013" y="248473"/>
                  <a:pt x="731520" y="246888"/>
                </a:cubicBezTo>
                <a:cubicBezTo>
                  <a:pt x="758745" y="242350"/>
                  <a:pt x="786384" y="240792"/>
                  <a:pt x="813816" y="237744"/>
                </a:cubicBezTo>
                <a:cubicBezTo>
                  <a:pt x="910808" y="213496"/>
                  <a:pt x="862028" y="222574"/>
                  <a:pt x="960120" y="210312"/>
                </a:cubicBezTo>
                <a:cubicBezTo>
                  <a:pt x="1025893" y="188388"/>
                  <a:pt x="943756" y="214987"/>
                  <a:pt x="1024128" y="192024"/>
                </a:cubicBezTo>
                <a:cubicBezTo>
                  <a:pt x="1033396" y="189376"/>
                  <a:pt x="1042109" y="184770"/>
                  <a:pt x="1051560" y="182880"/>
                </a:cubicBezTo>
                <a:cubicBezTo>
                  <a:pt x="1072694" y="178653"/>
                  <a:pt x="1094232" y="176784"/>
                  <a:pt x="1115568" y="173736"/>
                </a:cubicBezTo>
                <a:cubicBezTo>
                  <a:pt x="1124712" y="170688"/>
                  <a:pt x="1133649" y="166930"/>
                  <a:pt x="1143000" y="164592"/>
                </a:cubicBezTo>
                <a:cubicBezTo>
                  <a:pt x="1158078" y="160823"/>
                  <a:pt x="1174571" y="161879"/>
                  <a:pt x="1188720" y="155448"/>
                </a:cubicBezTo>
                <a:cubicBezTo>
                  <a:pt x="1208729" y="146353"/>
                  <a:pt x="1243584" y="118872"/>
                  <a:pt x="1243584" y="118872"/>
                </a:cubicBezTo>
                <a:lnTo>
                  <a:pt x="1280160" y="64008"/>
                </a:lnTo>
                <a:cubicBezTo>
                  <a:pt x="1298039" y="37189"/>
                  <a:pt x="1300020" y="39430"/>
                  <a:pt x="1307592" y="9144"/>
                </a:cubicBezTo>
                <a:cubicBezTo>
                  <a:pt x="1308331" y="6187"/>
                  <a:pt x="1307592" y="3048"/>
                  <a:pt x="1307592" y="0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олилиния 38"/>
          <p:cNvSpPr/>
          <p:nvPr/>
        </p:nvSpPr>
        <p:spPr>
          <a:xfrm>
            <a:off x="5559480" y="4413240"/>
            <a:ext cx="34920" cy="49320"/>
          </a:xfrm>
          <a:custGeom>
            <a:avLst/>
            <a:gdLst/>
            <a:ahLst/>
            <a:rect l="l" t="t" r="r" b="b"/>
            <a:pathLst>
              <a:path w="34248" h="49690">
                <a:moveTo>
                  <a:pt x="18288" y="12619"/>
                </a:moveTo>
                <a:cubicBezTo>
                  <a:pt x="21336" y="21763"/>
                  <a:pt x="27432" y="-15846"/>
                  <a:pt x="27432" y="-25485"/>
                </a:cubicBezTo>
                <a:cubicBezTo>
                  <a:pt x="27432" y="27484"/>
                  <a:pt x="30210" y="7449"/>
                  <a:pt x="18288" y="3475"/>
                </a:cubicBezTo>
                <a:cubicBezTo>
                  <a:pt x="7862" y="0"/>
                  <a:pt x="6096" y="21763"/>
                  <a:pt x="0" y="30907"/>
                </a:cubicBezTo>
                <a:cubicBezTo>
                  <a:pt x="9144" y="-31581"/>
                  <a:pt x="20616" y="-18669"/>
                  <a:pt x="27432" y="-25485"/>
                </a:cubicBezTo>
                <a:cubicBezTo>
                  <a:pt x="-31288" y="-32301"/>
                  <a:pt x="25104" y="19435"/>
                  <a:pt x="18288" y="12619"/>
                </a:cubicBezTo>
                <a:lnTo>
                  <a:pt x="18288" y="12619"/>
                </a:lnTo>
                <a:close/>
              </a:path>
            </a:pathLst>
          </a:custGeom>
          <a:solidFill>
            <a:srgbClr val="3891a7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олилиния 39"/>
          <p:cNvSpPr/>
          <p:nvPr/>
        </p:nvSpPr>
        <p:spPr>
          <a:xfrm>
            <a:off x="7031160" y="4362480"/>
            <a:ext cx="19080" cy="27000"/>
          </a:xfrm>
          <a:custGeom>
            <a:avLst/>
            <a:gdLst/>
            <a:ahLst/>
            <a:rect l="l" t="t" r="r" b="b"/>
            <a:pathLst>
              <a:path w="18288" h="27432">
                <a:moveTo>
                  <a:pt x="18288" y="0"/>
                </a:moveTo>
                <a:lnTo>
                  <a:pt x="0" y="27432"/>
                </a:ln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олилиния 40"/>
          <p:cNvSpPr/>
          <p:nvPr/>
        </p:nvSpPr>
        <p:spPr>
          <a:xfrm>
            <a:off x="6811920" y="5353200"/>
            <a:ext cx="61920" cy="77760"/>
          </a:xfrm>
          <a:custGeom>
            <a:avLst/>
            <a:gdLst/>
            <a:ahLst/>
            <a:rect l="l" t="t" r="r" b="b"/>
            <a:pathLst>
              <a:path w="61874" h="78181">
                <a:moveTo>
                  <a:pt x="45720" y="6096"/>
                </a:moveTo>
                <a:cubicBezTo>
                  <a:pt x="47244" y="0"/>
                  <a:pt x="22599" y="6619"/>
                  <a:pt x="18288" y="15240"/>
                </a:cubicBezTo>
                <a:cubicBezTo>
                  <a:pt x="13977" y="23861"/>
                  <a:pt x="17793" y="42672"/>
                  <a:pt x="27432" y="42672"/>
                </a:cubicBezTo>
                <a:cubicBezTo>
                  <a:pt x="37071" y="42672"/>
                  <a:pt x="44596" y="20587"/>
                  <a:pt x="36576" y="15240"/>
                </a:cubicBezTo>
                <a:cubicBezTo>
                  <a:pt x="26119" y="8269"/>
                  <a:pt x="12192" y="21336"/>
                  <a:pt x="0" y="24384"/>
                </a:cubicBezTo>
                <a:cubicBezTo>
                  <a:pt x="3048" y="33528"/>
                  <a:pt x="523" y="47505"/>
                  <a:pt x="9144" y="51816"/>
                </a:cubicBezTo>
                <a:cubicBezTo>
                  <a:pt x="61874" y="78181"/>
                  <a:pt x="44196" y="12192"/>
                  <a:pt x="45720" y="6096"/>
                </a:cubicBezTo>
                <a:close/>
              </a:path>
            </a:pathLst>
          </a:custGeom>
          <a:solidFill>
            <a:srgbClr val="3891a7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олилиния 41"/>
          <p:cNvSpPr/>
          <p:nvPr/>
        </p:nvSpPr>
        <p:spPr>
          <a:xfrm>
            <a:off x="6985080" y="4370400"/>
            <a:ext cx="58680" cy="65160"/>
          </a:xfrm>
          <a:custGeom>
            <a:avLst/>
            <a:gdLst/>
            <a:ahLst/>
            <a:rect l="l" t="t" r="r" b="b"/>
            <a:pathLst>
              <a:path w="57429" h="65180">
                <a:moveTo>
                  <a:pt x="-19347" y="0"/>
                </a:moveTo>
                <a:cubicBezTo>
                  <a:pt x="-23919" y="3048"/>
                  <a:pt x="22838" y="8084"/>
                  <a:pt x="18757" y="18288"/>
                </a:cubicBezTo>
                <a:cubicBezTo>
                  <a:pt x="0" y="-356"/>
                  <a:pt x="-15830" y="-27084"/>
                  <a:pt x="-10203" y="-28960"/>
                </a:cubicBezTo>
                <a:cubicBezTo>
                  <a:pt x="-13251" y="24384"/>
                  <a:pt x="-8107" y="5620"/>
                  <a:pt x="-19347" y="0"/>
                </a:cubicBezTo>
                <a:lnTo>
                  <a:pt x="-19347" y="0"/>
                </a:lnTo>
                <a:close/>
              </a:path>
            </a:pathLst>
          </a:custGeom>
          <a:solidFill>
            <a:srgbClr val="3891a7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олилиния 42"/>
          <p:cNvSpPr/>
          <p:nvPr/>
        </p:nvSpPr>
        <p:spPr>
          <a:xfrm>
            <a:off x="7672320" y="4987800"/>
            <a:ext cx="57240" cy="47880"/>
          </a:xfrm>
          <a:custGeom>
            <a:avLst/>
            <a:gdLst/>
            <a:ahLst/>
            <a:rect l="l" t="t" r="r" b="b"/>
            <a:pathLst>
              <a:path w="57912" h="47703">
                <a:moveTo>
                  <a:pt x="-10672" y="31743"/>
                </a:moveTo>
                <a:cubicBezTo>
                  <a:pt x="-7624" y="27171"/>
                  <a:pt x="-27264" y="15262"/>
                  <a:pt x="27432" y="13455"/>
                </a:cubicBezTo>
                <a:cubicBezTo>
                  <a:pt x="17925" y="11870"/>
                  <a:pt x="0" y="12960"/>
                  <a:pt x="0" y="22599"/>
                </a:cubicBezTo>
                <a:cubicBezTo>
                  <a:pt x="0" y="-31947"/>
                  <a:pt x="18288" y="-30745"/>
                  <a:pt x="27432" y="-24649"/>
                </a:cubicBezTo>
                <a:cubicBezTo>
                  <a:pt x="-32008" y="31743"/>
                  <a:pt x="-17151" y="24117"/>
                  <a:pt x="-19816" y="13455"/>
                </a:cubicBezTo>
                <a:cubicBezTo>
                  <a:pt x="-22154" y="4104"/>
                  <a:pt x="26909" y="0"/>
                  <a:pt x="18288" y="4311"/>
                </a:cubicBezTo>
                <a:cubicBezTo>
                  <a:pt x="9667" y="8622"/>
                  <a:pt x="12192" y="22599"/>
                  <a:pt x="9144" y="31743"/>
                </a:cubicBezTo>
                <a:cubicBezTo>
                  <a:pt x="18288" y="-30745"/>
                  <a:pt x="29760" y="-17833"/>
                  <a:pt x="-28960" y="-24649"/>
                </a:cubicBezTo>
                <a:cubicBezTo>
                  <a:pt x="-22144" y="-31465"/>
                  <a:pt x="-28465" y="13455"/>
                  <a:pt x="27432" y="13455"/>
                </a:cubicBezTo>
                <a:cubicBezTo>
                  <a:pt x="16442" y="13455"/>
                  <a:pt x="14059" y="31057"/>
                  <a:pt x="9144" y="-24649"/>
                </a:cubicBezTo>
                <a:cubicBezTo>
                  <a:pt x="7216" y="-20794"/>
                  <a:pt x="-13720" y="-29221"/>
                  <a:pt x="-10672" y="31743"/>
                </a:cubicBezTo>
                <a:close/>
              </a:path>
            </a:pathLst>
          </a:custGeom>
          <a:solidFill>
            <a:srgbClr val="3891a7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618" name="Рисунок 9" descr="1237802920_0003wx61.jpg"/>
          <p:cNvPicPr/>
          <p:nvPr/>
        </p:nvPicPr>
        <p:blipFill>
          <a:blip r:embed="rId1"/>
          <a:srcRect l="0" t="1447" r="0" b="1447"/>
          <a:stretch/>
        </p:blipFill>
        <p:spPr>
          <a:xfrm>
            <a:off x="2857680" y="609480"/>
            <a:ext cx="6143400" cy="567720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В 1735 году экспедиция французских астрономов наткнулась в Перу на дерево, из которого индейцы добывали бесцветный тягучий сок, затвердевающий на солнце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У туземцев сок служил отличным материалом для изготовления «галош» и «сапог». Покрытые латексом ноги обретали великолепную защиту как от острых камней, так и от ядовитых змей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715240" cy="542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ab2627"/>
                </a:solidFill>
                <a:latin typeface="Georgia"/>
              </a:rPr>
              <a:t>Полимеры</a:t>
            </a: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(</a:t>
            </a:r>
            <a:r>
              <a:rPr b="0" i="1" lang="ru-RU" sz="3300" spc="-1" strike="noStrike">
                <a:solidFill>
                  <a:srgbClr val="ab2627"/>
                </a:solidFill>
                <a:latin typeface="Georgia"/>
              </a:rPr>
              <a:t>от греч. polymerоs )</a:t>
            </a: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, химические вещества с высокой молекулярной массой (от нескольких тысяч до многих миллионов), молекулы которых состоят из большого числа повторяющихся звеньев.</a:t>
            </a: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 (</a:t>
            </a:r>
            <a:r>
              <a:rPr b="0" i="1" lang="ru-RU" sz="3300" spc="-1" strike="noStrike">
                <a:solidFill>
                  <a:srgbClr val="ab2627"/>
                </a:solidFill>
                <a:latin typeface="Georgia"/>
              </a:rPr>
              <a:t>poly – много, merоs – часть)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b2627"/>
                </a:solidFill>
                <a:latin typeface="Georgia"/>
              </a:rPr>
              <a:t>Молекула полимера называется </a:t>
            </a:r>
            <a:r>
              <a:rPr b="1" lang="ru-RU" sz="2400" spc="-1" strike="noStrike">
                <a:solidFill>
                  <a:srgbClr val="ab2627"/>
                </a:solidFill>
                <a:latin typeface="Georgia"/>
              </a:rPr>
              <a:t>макромолекулой (от греч. "</a:t>
            </a:r>
            <a:r>
              <a:rPr b="1" i="1" lang="ru-RU" sz="2400" spc="-1" strike="noStrike">
                <a:solidFill>
                  <a:srgbClr val="ab2627"/>
                </a:solidFill>
                <a:latin typeface="Georgia"/>
              </a:rPr>
              <a:t>макрос</a:t>
            </a:r>
            <a:r>
              <a:rPr b="1" lang="ru-RU" sz="2400" spc="-1" strike="noStrike">
                <a:solidFill>
                  <a:srgbClr val="ab2627"/>
                </a:solidFill>
                <a:latin typeface="Georgia"/>
              </a:rPr>
              <a:t>" - большой, длинный).</a:t>
            </a:r>
            <a:endParaRPr b="0" lang="en-US" sz="24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716" name="Содержимое 5" descr="hm211.gif"/>
          <p:cNvPicPr/>
          <p:nvPr/>
        </p:nvPicPr>
        <p:blipFill>
          <a:blip r:embed="rId1"/>
          <a:stretch/>
        </p:blipFill>
        <p:spPr>
          <a:xfrm>
            <a:off x="214200" y="1500120"/>
            <a:ext cx="4286520" cy="478656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 txBox="1"/>
          <p:nvPr/>
        </p:nvSpPr>
        <p:spPr>
          <a:xfrm>
            <a:off x="4642920" y="1371600"/>
            <a:ext cx="4195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авная особенность макромолекул –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гибк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Прямоугольник 8"/>
          <p:cNvSpPr/>
          <p:nvPr/>
        </p:nvSpPr>
        <p:spPr>
          <a:xfrm>
            <a:off x="4572000" y="3929040"/>
            <a:ext cx="4572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...-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..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 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(-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-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-)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Georgia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713880" y="2819520"/>
            <a:ext cx="79297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271c"/>
                </a:solidFill>
                <a:latin typeface="Georgia"/>
              </a:rPr>
              <a:t>НАПРИМЕР, ДЛЯ ПОЛИЭТИЛЕНА</a:t>
            </a:r>
            <a:r>
              <a:rPr b="1" lang="en-US" sz="2200" spc="-1" strike="noStrike">
                <a:solidFill>
                  <a:srgbClr val="4f271c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271c"/>
                </a:solidFill>
                <a:latin typeface="Georgia"/>
              </a:rPr>
              <a:t> </a:t>
            </a:r>
            <a:r>
              <a:rPr b="1" lang="ru-RU" sz="2200" spc="-1" strike="noStrike">
                <a:solidFill>
                  <a:srgbClr val="4f271c"/>
                </a:solidFill>
                <a:latin typeface="Georgia"/>
              </a:rPr>
              <a:t>(-</a:t>
            </a:r>
            <a:r>
              <a:rPr b="1" lang="en-US" sz="2200" spc="-1" strike="noStrike">
                <a:solidFill>
                  <a:srgbClr val="4f271c"/>
                </a:solidFill>
                <a:latin typeface="Georgia"/>
              </a:rPr>
              <a:t>CH</a:t>
            </a:r>
            <a:r>
              <a:rPr b="1" lang="en-US" sz="2200" spc="-1" strike="noStrike" baseline="-25000">
                <a:solidFill>
                  <a:srgbClr val="4f271c"/>
                </a:solidFill>
                <a:latin typeface="Georgia"/>
              </a:rPr>
              <a:t>2</a:t>
            </a:r>
            <a:r>
              <a:rPr b="1" lang="en-US" sz="2200" spc="-1" strike="noStrike">
                <a:solidFill>
                  <a:srgbClr val="4f271c"/>
                </a:solidFill>
                <a:latin typeface="Georgia"/>
              </a:rPr>
              <a:t>-CH</a:t>
            </a:r>
            <a:r>
              <a:rPr b="1" lang="en-US" sz="2200" spc="-1" strike="noStrike" baseline="-25000">
                <a:solidFill>
                  <a:srgbClr val="4f271c"/>
                </a:solidFill>
                <a:latin typeface="Georgia"/>
              </a:rPr>
              <a:t>2</a:t>
            </a:r>
            <a:r>
              <a:rPr b="1" lang="en-US" sz="2200" spc="-1" strike="noStrike">
                <a:solidFill>
                  <a:srgbClr val="4f271c"/>
                </a:solidFill>
                <a:latin typeface="Georgia"/>
              </a:rPr>
              <a:t>-)</a:t>
            </a:r>
            <a:r>
              <a:rPr b="1" lang="ru-RU" sz="2200" spc="-1" strike="noStrike" baseline="-25000">
                <a:solidFill>
                  <a:srgbClr val="4f271c"/>
                </a:solidFill>
                <a:latin typeface="Georgia"/>
              </a:rPr>
              <a:t>П</a:t>
            </a:r>
            <a:r>
              <a:rPr b="1" lang="en-US" sz="2200" spc="-1" strike="noStrike">
                <a:solidFill>
                  <a:srgbClr val="4f271c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271c"/>
                </a:solidFill>
                <a:latin typeface="Georgia"/>
              </a:rPr>
              <a:t>МОНОМЕРНОЕ    ЗВЕНО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271c"/>
                </a:solidFill>
                <a:latin typeface="Georgia"/>
              </a:rPr>
              <a:t>-</a:t>
            </a:r>
            <a:r>
              <a:rPr b="1" lang="en-US" sz="2200" spc="-1" strike="noStrike">
                <a:solidFill>
                  <a:srgbClr val="4f271c"/>
                </a:solidFill>
                <a:latin typeface="Georgia"/>
              </a:rPr>
              <a:t>CH</a:t>
            </a:r>
            <a:r>
              <a:rPr b="1" lang="en-US" sz="2200" spc="-1" strike="noStrike" baseline="-25000">
                <a:solidFill>
                  <a:srgbClr val="4f271c"/>
                </a:solidFill>
                <a:latin typeface="Georgia"/>
              </a:rPr>
              <a:t>2</a:t>
            </a:r>
            <a:r>
              <a:rPr b="1" lang="en-US" sz="2200" spc="-1" strike="noStrike">
                <a:solidFill>
                  <a:srgbClr val="4f271c"/>
                </a:solidFill>
                <a:latin typeface="Georgia"/>
              </a:rPr>
              <a:t>-CH</a:t>
            </a:r>
            <a:r>
              <a:rPr b="1" lang="en-US" sz="2200" spc="-1" strike="noStrike" baseline="-25000">
                <a:solidFill>
                  <a:srgbClr val="4f271c"/>
                </a:solidFill>
                <a:latin typeface="Georgia"/>
              </a:rPr>
              <a:t>2</a:t>
            </a:r>
            <a:r>
              <a:rPr b="1" lang="en-US" sz="2200" spc="-1" strike="noStrike">
                <a:solidFill>
                  <a:srgbClr val="4f271c"/>
                </a:solidFill>
                <a:latin typeface="Georgia"/>
              </a:rPr>
              <a:t>- 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271c"/>
                </a:solidFill>
                <a:latin typeface="Georgia"/>
              </a:rPr>
              <a:t> 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200" spc="-1" strike="noStrike">
                <a:solidFill>
                  <a:srgbClr val="3891a7"/>
                </a:solidFill>
                <a:latin typeface="Georgia"/>
              </a:rPr>
              <a:t>Повторяющиеся звенья, из которых состоят макромолекулы называют</a:t>
            </a:r>
            <a:r>
              <a:rPr b="0" i="1" lang="ru-RU" sz="3200" spc="-1" strike="noStrike">
                <a:solidFill>
                  <a:srgbClr val="3891a7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3891a7"/>
                </a:solidFill>
                <a:latin typeface="Georgia"/>
              </a:rPr>
              <a:t>мономерными звеньями.</a:t>
            </a:r>
            <a:br>
              <a:rPr sz="3200"/>
            </a:br>
            <a:endParaRPr b="0" lang="en-US" sz="3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521640"/>
            <a:ext cx="236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Главная особенность полимеров – их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эластичность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(из-за гибкости макормолекул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3" name="Содержимое 7" descr="hm212.gif"/>
          <p:cNvPicPr/>
          <p:nvPr/>
        </p:nvPicPr>
        <p:blipFill>
          <a:blip r:embed="rId1"/>
          <a:stretch/>
        </p:blipFill>
        <p:spPr>
          <a:xfrm>
            <a:off x="3071880" y="1714680"/>
            <a:ext cx="57862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b2627"/>
                </a:solidFill>
                <a:latin typeface="Georgia"/>
              </a:rPr>
              <a:t>Классификация полимеров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25" name="Скругленный прямоугольник 2"/>
          <p:cNvSpPr/>
          <p:nvPr/>
        </p:nvSpPr>
        <p:spPr>
          <a:xfrm>
            <a:off x="2928960" y="1571760"/>
            <a:ext cx="3214800" cy="64296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ОЛ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6" name="Прямая со стрелкой 4"/>
          <p:cNvCxnSpPr/>
          <p:nvPr/>
        </p:nvCxnSpPr>
        <p:spPr>
          <a:xfrm flipH="1">
            <a:off x="1428840" y="2213640"/>
            <a:ext cx="2071800" cy="500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727" name="Прямая со стрелкой 6"/>
          <p:cNvCxnSpPr>
            <a:stCxn id="725" idx="2"/>
          </p:cNvCxnSpPr>
          <p:nvPr/>
        </p:nvCxnSpPr>
        <p:spPr>
          <a:xfrm>
            <a:off x="4534560" y="2214360"/>
            <a:ext cx="37080" cy="5720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728" name="Прямая со стрелкой 8"/>
          <p:cNvCxnSpPr/>
          <p:nvPr/>
        </p:nvCxnSpPr>
        <p:spPr>
          <a:xfrm>
            <a:off x="5643720" y="2214360"/>
            <a:ext cx="2000880" cy="5720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729" name="Скругленный прямоугольник 10"/>
          <p:cNvSpPr/>
          <p:nvPr/>
        </p:nvSpPr>
        <p:spPr>
          <a:xfrm>
            <a:off x="3429000" y="2786040"/>
            <a:ext cx="2500200" cy="3071880"/>
          </a:xfrm>
          <a:custGeom>
            <a:avLst/>
            <a:gdLst>
              <a:gd name="textAreaLeft" fmla="*/ 122040 w 2500200"/>
              <a:gd name="textAreaRight" fmla="*/ 2378160 w 2500200"/>
              <a:gd name="textAreaTop" fmla="*/ 122040 h 3071880"/>
              <a:gd name="textAreaBottom" fmla="*/ 2949840 h 3071880"/>
            </a:gdLst>
            <a:ahLst/>
            <a:rect l="textAreaLeft" t="textAreaTop" r="textAreaRight" b="textAreaBottom"/>
            <a:pathLst>
              <a:path w="21600" h="26538">
                <a:moveTo>
                  <a:pt x="3600" y="0"/>
                </a:moveTo>
                <a:arcTo wR="3600" hR="3600" stAng="16200000" swAng="-5400000"/>
                <a:lnTo>
                  <a:pt x="0" y="22938"/>
                </a:lnTo>
                <a:arcTo wR="3600" hR="3600" stAng="10800000" swAng="-5400000"/>
                <a:lnTo>
                  <a:pt x="18000" y="26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891a7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ИСКССТВЕН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Целлоф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Вискоза (искусственный шел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е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иликатное стек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Скругленный прямоугольник 12"/>
          <p:cNvSpPr/>
          <p:nvPr/>
        </p:nvSpPr>
        <p:spPr>
          <a:xfrm>
            <a:off x="6215040" y="2786040"/>
            <a:ext cx="2643120" cy="292896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2928960"/>
              <a:gd name="textAreaBottom" fmla="*/ 2800080 h 2928960"/>
            </a:gdLst>
            <a:ahLst/>
            <a:rect l="textAreaLeft" t="textAreaTop" r="textAreaRight" b="textAreaBottom"/>
            <a:pathLst>
              <a:path w="21600" h="23936">
                <a:moveTo>
                  <a:pt x="3600" y="0"/>
                </a:moveTo>
                <a:arcTo wR="3600" hR="3600" stAng="16200000" swAng="-5400000"/>
                <a:lnTo>
                  <a:pt x="0" y="20336"/>
                </a:lnTo>
                <a:arcTo wR="3600" hR="3600" stAng="10800000" swAng="-5400000"/>
                <a:lnTo>
                  <a:pt x="18000" y="239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891a7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СИНТЕТИЧЕСК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олиэти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олипропи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оливинилхлор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Теф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Эпоксидная см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олиэ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Скругленный прямоугольник 14"/>
          <p:cNvSpPr/>
          <p:nvPr/>
        </p:nvSpPr>
        <p:spPr>
          <a:xfrm>
            <a:off x="642960" y="2714760"/>
            <a:ext cx="2000160" cy="321444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214440"/>
              <a:gd name="textAreaBottom" fmla="*/ 3116880 h 3214440"/>
            </a:gdLst>
            <a:ahLst/>
            <a:rect l="textAreaLeft" t="textAreaTop" r="textAreaRight" b="textAreaBottom"/>
            <a:pathLst>
              <a:path w="21600" h="34711">
                <a:moveTo>
                  <a:pt x="3600" y="0"/>
                </a:moveTo>
                <a:arcTo wR="3600" hR="3600" stAng="16200000" swAng="-5400000"/>
                <a:lnTo>
                  <a:pt x="0" y="31111"/>
                </a:lnTo>
                <a:arcTo wR="3600" hR="3600" stAng="10800000" swAng="-5400000"/>
                <a:lnTo>
                  <a:pt x="18000" y="34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891a7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Georgia"/>
              </a:rPr>
              <a:t>ПРИРОД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Древес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Целлю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Крах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Натуральный кау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Казе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Хи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ил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ТЕРМОПЛАСТ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РЕАКТОПЛАСТ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это полимеры, которые размягчаются при нагревании и затвердевают при охлажден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Georgia"/>
              </a:rPr>
              <a:t>в отличие от реактопластов термопласты можно перерабатывать многократно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верждаются при нагревании и становятся неплавкими и нерастворимым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нельзя переработать повторн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b2627"/>
                </a:solidFill>
                <a:latin typeface="Georgia"/>
              </a:rPr>
              <a:t>Классификация полимеров</a:t>
            </a:r>
            <a:endParaRPr b="0" lang="en-US" sz="3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термопласто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реактопласто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Сетчаты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b2627"/>
                </a:solidFill>
                <a:latin typeface="Georgia"/>
              </a:rPr>
              <a:t>Формы макромолекул</a:t>
            </a:r>
            <a:endParaRPr b="0" lang="en-US" sz="40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741" name="Содержимое 6" descr=""/>
          <p:cNvPicPr/>
          <p:nvPr/>
        </p:nvPicPr>
        <p:blipFill>
          <a:blip r:embed="rId1"/>
          <a:stretch/>
        </p:blipFill>
        <p:spPr>
          <a:xfrm>
            <a:off x="2143080" y="2928960"/>
            <a:ext cx="2071800" cy="857160"/>
          </a:xfrm>
          <a:prstGeom prst="rect">
            <a:avLst/>
          </a:prstGeom>
          <a:ln w="0">
            <a:noFill/>
          </a:ln>
        </p:spPr>
      </p:pic>
      <p:pic>
        <p:nvPicPr>
          <p:cNvPr id="742" name="Рисунок 7" descr=""/>
          <p:cNvPicPr/>
          <p:nvPr/>
        </p:nvPicPr>
        <p:blipFill>
          <a:blip r:embed="rId2"/>
          <a:stretch/>
        </p:blipFill>
        <p:spPr>
          <a:xfrm>
            <a:off x="2714760" y="450072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743" name="Прямоугольник 8"/>
          <p:cNvSpPr/>
          <p:nvPr/>
        </p:nvSpPr>
        <p:spPr>
          <a:xfrm>
            <a:off x="439920" y="2928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Линейны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Прямоугольник 9"/>
          <p:cNvSpPr/>
          <p:nvPr/>
        </p:nvSpPr>
        <p:spPr>
          <a:xfrm>
            <a:off x="259200" y="464328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ветвлен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Рисунок 10" descr=""/>
          <p:cNvPicPr/>
          <p:nvPr/>
        </p:nvPicPr>
        <p:blipFill>
          <a:blip r:embed="rId3"/>
          <a:stretch/>
        </p:blipFill>
        <p:spPr>
          <a:xfrm>
            <a:off x="5500800" y="2928960"/>
            <a:ext cx="27860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1"/>
          <p:cNvSpPr/>
          <p:nvPr/>
        </p:nvSpPr>
        <p:spPr>
          <a:xfrm>
            <a:off x="0" y="2259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снова расплавить и переработать резин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олимеры, в частности термопласты, выпускают как правило в виде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грану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8" name="Содержимое 5" descr="prodam_vtorichnuy_granulyat_stretch__pend_pevd_pp_ps_3.jpg"/>
          <p:cNvPicPr/>
          <p:nvPr/>
        </p:nvPicPr>
        <p:blipFill>
          <a:blip r:embed="rId1"/>
          <a:stretch/>
        </p:blipFill>
        <p:spPr>
          <a:xfrm>
            <a:off x="3000240" y="928800"/>
            <a:ext cx="5929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196200"/>
            <a:ext cx="2362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А так выглядит  реактоплас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1" name="Содержимое 4" descr="резит.jpg"/>
          <p:cNvPicPr/>
          <p:nvPr/>
        </p:nvPicPr>
        <p:blipFill>
          <a:blip r:embed="rId1"/>
          <a:stretch/>
        </p:blipFill>
        <p:spPr>
          <a:xfrm>
            <a:off x="2928960" y="1143000"/>
            <a:ext cx="6072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b2627"/>
                </a:solidFill>
                <a:latin typeface="Georgia"/>
              </a:rPr>
              <a:t>Почему жидкость превращается в твердое вещество?</a:t>
            </a:r>
            <a:endParaRPr b="0" lang="en-US" sz="27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1" name="Полилиния 16"/>
          <p:cNvSpPr/>
          <p:nvPr/>
        </p:nvSpPr>
        <p:spPr>
          <a:xfrm>
            <a:off x="1066680" y="2066760"/>
            <a:ext cx="2287800" cy="1947960"/>
          </a:xfrm>
          <a:custGeom>
            <a:avLst/>
            <a:gdLst/>
            <a:ahLst/>
            <a:rect l="l" t="t" r="r" b="b"/>
            <a:pathLst>
              <a:path w="2287242" h="1947672">
                <a:moveTo>
                  <a:pt x="743962" y="0"/>
                </a:moveTo>
                <a:cubicBezTo>
                  <a:pt x="740914" y="82296"/>
                  <a:pt x="740296" y="164718"/>
                  <a:pt x="734818" y="246888"/>
                </a:cubicBezTo>
                <a:cubicBezTo>
                  <a:pt x="734177" y="256505"/>
                  <a:pt x="727765" y="264911"/>
                  <a:pt x="725674" y="274320"/>
                </a:cubicBezTo>
                <a:cubicBezTo>
                  <a:pt x="721652" y="292419"/>
                  <a:pt x="719847" y="310943"/>
                  <a:pt x="716530" y="329184"/>
                </a:cubicBezTo>
                <a:cubicBezTo>
                  <a:pt x="713750" y="344475"/>
                  <a:pt x="709167" y="359465"/>
                  <a:pt x="707386" y="374904"/>
                </a:cubicBezTo>
                <a:cubicBezTo>
                  <a:pt x="681972" y="595160"/>
                  <a:pt x="710362" y="503136"/>
                  <a:pt x="679954" y="594360"/>
                </a:cubicBezTo>
                <a:cubicBezTo>
                  <a:pt x="676906" y="621792"/>
                  <a:pt x="673699" y="649207"/>
                  <a:pt x="670810" y="676656"/>
                </a:cubicBezTo>
                <a:cubicBezTo>
                  <a:pt x="659930" y="780018"/>
                  <a:pt x="671597" y="738302"/>
                  <a:pt x="652522" y="795528"/>
                </a:cubicBezTo>
                <a:cubicBezTo>
                  <a:pt x="649474" y="819912"/>
                  <a:pt x="647418" y="844441"/>
                  <a:pt x="643378" y="868680"/>
                </a:cubicBezTo>
                <a:cubicBezTo>
                  <a:pt x="641312" y="881076"/>
                  <a:pt x="636300" y="892860"/>
                  <a:pt x="634234" y="905256"/>
                </a:cubicBezTo>
                <a:cubicBezTo>
                  <a:pt x="601019" y="1104547"/>
                  <a:pt x="643914" y="884288"/>
                  <a:pt x="615946" y="1024128"/>
                </a:cubicBezTo>
                <a:cubicBezTo>
                  <a:pt x="618701" y="1068215"/>
                  <a:pt x="619920" y="1168039"/>
                  <a:pt x="634234" y="1225296"/>
                </a:cubicBezTo>
                <a:cubicBezTo>
                  <a:pt x="638909" y="1243998"/>
                  <a:pt x="636482" y="1269467"/>
                  <a:pt x="652522" y="1280160"/>
                </a:cubicBezTo>
                <a:cubicBezTo>
                  <a:pt x="661666" y="1286256"/>
                  <a:pt x="671011" y="1292060"/>
                  <a:pt x="679954" y="1298448"/>
                </a:cubicBezTo>
                <a:cubicBezTo>
                  <a:pt x="702034" y="1314220"/>
                  <a:pt x="716117" y="1332093"/>
                  <a:pt x="743962" y="1335024"/>
                </a:cubicBezTo>
                <a:cubicBezTo>
                  <a:pt x="792557" y="1340139"/>
                  <a:pt x="841498" y="1341120"/>
                  <a:pt x="890266" y="1344168"/>
                </a:cubicBezTo>
                <a:cubicBezTo>
                  <a:pt x="916411" y="1352883"/>
                  <a:pt x="925570" y="1356715"/>
                  <a:pt x="954274" y="1362456"/>
                </a:cubicBezTo>
                <a:cubicBezTo>
                  <a:pt x="972454" y="1366092"/>
                  <a:pt x="990958" y="1367964"/>
                  <a:pt x="1009138" y="1371600"/>
                </a:cubicBezTo>
                <a:cubicBezTo>
                  <a:pt x="1021461" y="1374065"/>
                  <a:pt x="1033630" y="1377292"/>
                  <a:pt x="1045714" y="1380744"/>
                </a:cubicBezTo>
                <a:cubicBezTo>
                  <a:pt x="1054982" y="1383392"/>
                  <a:pt x="1063737" y="1387797"/>
                  <a:pt x="1073146" y="1389888"/>
                </a:cubicBezTo>
                <a:cubicBezTo>
                  <a:pt x="1091245" y="1393910"/>
                  <a:pt x="1109830" y="1395396"/>
                  <a:pt x="1128010" y="1399032"/>
                </a:cubicBezTo>
                <a:cubicBezTo>
                  <a:pt x="1140333" y="1401497"/>
                  <a:pt x="1152394" y="1405128"/>
                  <a:pt x="1164586" y="1408176"/>
                </a:cubicBezTo>
                <a:cubicBezTo>
                  <a:pt x="1204794" y="1432301"/>
                  <a:pt x="1217354" y="1444333"/>
                  <a:pt x="1265170" y="1453896"/>
                </a:cubicBezTo>
                <a:cubicBezTo>
                  <a:pt x="1292005" y="1459263"/>
                  <a:pt x="1313719" y="1461640"/>
                  <a:pt x="1338322" y="1472184"/>
                </a:cubicBezTo>
                <a:cubicBezTo>
                  <a:pt x="1350851" y="1477554"/>
                  <a:pt x="1362369" y="1485102"/>
                  <a:pt x="1374898" y="1490472"/>
                </a:cubicBezTo>
                <a:cubicBezTo>
                  <a:pt x="1398799" y="1500715"/>
                  <a:pt x="1413127" y="1501026"/>
                  <a:pt x="1438906" y="1508760"/>
                </a:cubicBezTo>
                <a:cubicBezTo>
                  <a:pt x="1457370" y="1514299"/>
                  <a:pt x="1474755" y="1523879"/>
                  <a:pt x="1493770" y="1527048"/>
                </a:cubicBezTo>
                <a:cubicBezTo>
                  <a:pt x="1530346" y="1533144"/>
                  <a:pt x="1568320" y="1533610"/>
                  <a:pt x="1603498" y="1545336"/>
                </a:cubicBezTo>
                <a:cubicBezTo>
                  <a:pt x="1631462" y="1554657"/>
                  <a:pt x="1644396" y="1560229"/>
                  <a:pt x="1676650" y="1563624"/>
                </a:cubicBezTo>
                <a:cubicBezTo>
                  <a:pt x="1719196" y="1568102"/>
                  <a:pt x="1761994" y="1569720"/>
                  <a:pt x="1804666" y="1572768"/>
                </a:cubicBezTo>
                <a:cubicBezTo>
                  <a:pt x="1880866" y="1569720"/>
                  <a:pt x="1957439" y="1571748"/>
                  <a:pt x="2033266" y="1563624"/>
                </a:cubicBezTo>
                <a:cubicBezTo>
                  <a:pt x="2044193" y="1562453"/>
                  <a:pt x="2050655" y="1549799"/>
                  <a:pt x="2060698" y="1545336"/>
                </a:cubicBezTo>
                <a:cubicBezTo>
                  <a:pt x="2078314" y="1537507"/>
                  <a:pt x="2097274" y="1533144"/>
                  <a:pt x="2115562" y="1527048"/>
                </a:cubicBezTo>
                <a:lnTo>
                  <a:pt x="2142994" y="1517904"/>
                </a:lnTo>
                <a:cubicBezTo>
                  <a:pt x="2170426" y="1520952"/>
                  <a:pt x="2199106" y="1518320"/>
                  <a:pt x="2225290" y="1527048"/>
                </a:cubicBezTo>
                <a:cubicBezTo>
                  <a:pt x="2287242" y="1547699"/>
                  <a:pt x="2246073" y="1680414"/>
                  <a:pt x="2243578" y="1691640"/>
                </a:cubicBezTo>
                <a:cubicBezTo>
                  <a:pt x="2240773" y="1704264"/>
                  <a:pt x="2224425" y="1709138"/>
                  <a:pt x="2216146" y="1719072"/>
                </a:cubicBezTo>
                <a:cubicBezTo>
                  <a:pt x="2209111" y="1727515"/>
                  <a:pt x="2205629" y="1738733"/>
                  <a:pt x="2197858" y="1746504"/>
                </a:cubicBezTo>
                <a:cubicBezTo>
                  <a:pt x="2196596" y="1747766"/>
                  <a:pt x="2142157" y="1789109"/>
                  <a:pt x="2133850" y="1792224"/>
                </a:cubicBezTo>
                <a:cubicBezTo>
                  <a:pt x="2119298" y="1797681"/>
                  <a:pt x="2103370" y="1798320"/>
                  <a:pt x="2088130" y="1801368"/>
                </a:cubicBezTo>
                <a:cubicBezTo>
                  <a:pt x="2075938" y="1798320"/>
                  <a:pt x="2063105" y="1797174"/>
                  <a:pt x="2051554" y="1792224"/>
                </a:cubicBezTo>
                <a:cubicBezTo>
                  <a:pt x="2041453" y="1787895"/>
                  <a:pt x="2035001" y="1775490"/>
                  <a:pt x="2024122" y="1773936"/>
                </a:cubicBezTo>
                <a:cubicBezTo>
                  <a:pt x="2011681" y="1772159"/>
                  <a:pt x="1999583" y="1779469"/>
                  <a:pt x="1987546" y="1783080"/>
                </a:cubicBezTo>
                <a:cubicBezTo>
                  <a:pt x="1969082" y="1788619"/>
                  <a:pt x="1950970" y="1795272"/>
                  <a:pt x="1932682" y="1801368"/>
                </a:cubicBezTo>
                <a:lnTo>
                  <a:pt x="1905250" y="1810512"/>
                </a:lnTo>
                <a:lnTo>
                  <a:pt x="1850386" y="1828800"/>
                </a:lnTo>
                <a:lnTo>
                  <a:pt x="1822954" y="1837944"/>
                </a:lnTo>
                <a:cubicBezTo>
                  <a:pt x="1779980" y="1880918"/>
                  <a:pt x="1806282" y="1858203"/>
                  <a:pt x="1740658" y="1901952"/>
                </a:cubicBezTo>
                <a:cubicBezTo>
                  <a:pt x="1717539" y="1917365"/>
                  <a:pt x="1712835" y="1923976"/>
                  <a:pt x="1685794" y="1929384"/>
                </a:cubicBezTo>
                <a:cubicBezTo>
                  <a:pt x="1649434" y="1936656"/>
                  <a:pt x="1576066" y="1947672"/>
                  <a:pt x="1576066" y="1947672"/>
                </a:cubicBezTo>
                <a:cubicBezTo>
                  <a:pt x="1545586" y="1944624"/>
                  <a:pt x="1513903" y="1947536"/>
                  <a:pt x="1484626" y="1938528"/>
                </a:cubicBezTo>
                <a:cubicBezTo>
                  <a:pt x="1472266" y="1934725"/>
                  <a:pt x="1467954" y="1918269"/>
                  <a:pt x="1457194" y="1911096"/>
                </a:cubicBezTo>
                <a:cubicBezTo>
                  <a:pt x="1449174" y="1905749"/>
                  <a:pt x="1439171" y="1904043"/>
                  <a:pt x="1429762" y="1901952"/>
                </a:cubicBezTo>
                <a:cubicBezTo>
                  <a:pt x="1411663" y="1897930"/>
                  <a:pt x="1392997" y="1896830"/>
                  <a:pt x="1374898" y="1892808"/>
                </a:cubicBezTo>
                <a:cubicBezTo>
                  <a:pt x="1342997" y="1885719"/>
                  <a:pt x="1347099" y="1878141"/>
                  <a:pt x="1310890" y="1874520"/>
                </a:cubicBezTo>
                <a:cubicBezTo>
                  <a:pt x="1262269" y="1869658"/>
                  <a:pt x="1213354" y="1868424"/>
                  <a:pt x="1164586" y="1865376"/>
                </a:cubicBezTo>
                <a:cubicBezTo>
                  <a:pt x="1149721" y="1862403"/>
                  <a:pt x="1075701" y="1847088"/>
                  <a:pt x="1064002" y="1847088"/>
                </a:cubicBezTo>
                <a:cubicBezTo>
                  <a:pt x="1014009" y="1847088"/>
                  <a:pt x="879921" y="1857525"/>
                  <a:pt x="817114" y="1865376"/>
                </a:cubicBezTo>
                <a:cubicBezTo>
                  <a:pt x="798717" y="1867676"/>
                  <a:pt x="780663" y="1872354"/>
                  <a:pt x="762250" y="1874520"/>
                </a:cubicBezTo>
                <a:cubicBezTo>
                  <a:pt x="728814" y="1878454"/>
                  <a:pt x="695194" y="1880616"/>
                  <a:pt x="661666" y="1883664"/>
                </a:cubicBezTo>
                <a:cubicBezTo>
                  <a:pt x="637282" y="1889760"/>
                  <a:pt x="613454" y="1898834"/>
                  <a:pt x="588514" y="1901952"/>
                </a:cubicBezTo>
                <a:cubicBezTo>
                  <a:pt x="499940" y="1913024"/>
                  <a:pt x="539459" y="1906277"/>
                  <a:pt x="469642" y="1920240"/>
                </a:cubicBezTo>
                <a:cubicBezTo>
                  <a:pt x="399875" y="1916136"/>
                  <a:pt x="305570" y="1913286"/>
                  <a:pt x="231898" y="1901952"/>
                </a:cubicBezTo>
                <a:cubicBezTo>
                  <a:pt x="219477" y="1900041"/>
                  <a:pt x="207645" y="1895273"/>
                  <a:pt x="195322" y="1892808"/>
                </a:cubicBezTo>
                <a:cubicBezTo>
                  <a:pt x="144016" y="1882547"/>
                  <a:pt x="113058" y="1880620"/>
                  <a:pt x="58162" y="1874520"/>
                </a:cubicBezTo>
                <a:cubicBezTo>
                  <a:pt x="49018" y="1871472"/>
                  <a:pt x="38256" y="1871397"/>
                  <a:pt x="30730" y="1865376"/>
                </a:cubicBezTo>
                <a:cubicBezTo>
                  <a:pt x="0" y="1840792"/>
                  <a:pt x="6452" y="1784036"/>
                  <a:pt x="3298" y="1755648"/>
                </a:cubicBezTo>
                <a:cubicBezTo>
                  <a:pt x="6346" y="1719072"/>
                  <a:pt x="6997" y="1682217"/>
                  <a:pt x="12442" y="1645920"/>
                </a:cubicBezTo>
                <a:cubicBezTo>
                  <a:pt x="16170" y="1621064"/>
                  <a:pt x="26598" y="1597560"/>
                  <a:pt x="30730" y="1572768"/>
                </a:cubicBezTo>
                <a:cubicBezTo>
                  <a:pt x="33778" y="1554480"/>
                  <a:pt x="35377" y="1535891"/>
                  <a:pt x="39874" y="1517904"/>
                </a:cubicBezTo>
                <a:cubicBezTo>
                  <a:pt x="44549" y="1499202"/>
                  <a:pt x="44531" y="1476671"/>
                  <a:pt x="58162" y="1463040"/>
                </a:cubicBezTo>
                <a:cubicBezTo>
                  <a:pt x="78385" y="1442817"/>
                  <a:pt x="91151" y="1433637"/>
                  <a:pt x="103882" y="1408176"/>
                </a:cubicBezTo>
                <a:cubicBezTo>
                  <a:pt x="141740" y="1332460"/>
                  <a:pt x="78903" y="1431928"/>
                  <a:pt x="131314" y="1353312"/>
                </a:cubicBezTo>
                <a:cubicBezTo>
                  <a:pt x="134362" y="1341120"/>
                  <a:pt x="136847" y="1328773"/>
                  <a:pt x="140458" y="1316736"/>
                </a:cubicBezTo>
                <a:cubicBezTo>
                  <a:pt x="145997" y="1298272"/>
                  <a:pt x="154965" y="1280775"/>
                  <a:pt x="158746" y="1261872"/>
                </a:cubicBezTo>
                <a:cubicBezTo>
                  <a:pt x="161794" y="1246632"/>
                  <a:pt x="163801" y="1231146"/>
                  <a:pt x="167890" y="1216152"/>
                </a:cubicBezTo>
                <a:cubicBezTo>
                  <a:pt x="172962" y="1197554"/>
                  <a:pt x="183009" y="1180303"/>
                  <a:pt x="186178" y="1161288"/>
                </a:cubicBezTo>
                <a:cubicBezTo>
                  <a:pt x="189226" y="1143000"/>
                  <a:pt x="190825" y="1124411"/>
                  <a:pt x="195322" y="1106424"/>
                </a:cubicBezTo>
                <a:cubicBezTo>
                  <a:pt x="199997" y="1087722"/>
                  <a:pt x="207514" y="1069848"/>
                  <a:pt x="213610" y="1051560"/>
                </a:cubicBezTo>
                <a:lnTo>
                  <a:pt x="222754" y="1024128"/>
                </a:lnTo>
                <a:cubicBezTo>
                  <a:pt x="228850" y="957072"/>
                  <a:pt x="238454" y="890243"/>
                  <a:pt x="241042" y="822960"/>
                </a:cubicBezTo>
                <a:cubicBezTo>
                  <a:pt x="244090" y="743712"/>
                  <a:pt x="245388" y="664377"/>
                  <a:pt x="250186" y="585216"/>
                </a:cubicBezTo>
                <a:cubicBezTo>
                  <a:pt x="251490" y="563703"/>
                  <a:pt x="256482" y="542572"/>
                  <a:pt x="259330" y="521208"/>
                </a:cubicBezTo>
                <a:cubicBezTo>
                  <a:pt x="272616" y="421562"/>
                  <a:pt x="262254" y="479155"/>
                  <a:pt x="277618" y="402336"/>
                </a:cubicBezTo>
                <a:cubicBezTo>
                  <a:pt x="274122" y="353395"/>
                  <a:pt x="269530" y="257269"/>
                  <a:pt x="259330" y="201168"/>
                </a:cubicBezTo>
                <a:cubicBezTo>
                  <a:pt x="257606" y="191685"/>
                  <a:pt x="252277" y="183145"/>
                  <a:pt x="250186" y="173736"/>
                </a:cubicBezTo>
                <a:cubicBezTo>
                  <a:pt x="246164" y="155637"/>
                  <a:pt x="245064" y="136971"/>
                  <a:pt x="241042" y="118872"/>
                </a:cubicBezTo>
                <a:cubicBezTo>
                  <a:pt x="238951" y="109463"/>
                  <a:pt x="234546" y="100708"/>
                  <a:pt x="231898" y="91440"/>
                </a:cubicBezTo>
                <a:cubicBezTo>
                  <a:pt x="228446" y="79356"/>
                  <a:pt x="222754" y="54864"/>
                  <a:pt x="222754" y="54864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олилиния 17"/>
          <p:cNvSpPr/>
          <p:nvPr/>
        </p:nvSpPr>
        <p:spPr>
          <a:xfrm>
            <a:off x="3108240" y="3619440"/>
            <a:ext cx="214560" cy="65160"/>
          </a:xfrm>
          <a:custGeom>
            <a:avLst/>
            <a:gdLst/>
            <a:ahLst/>
            <a:rect l="l" t="t" r="r" b="b"/>
            <a:pathLst>
              <a:path w="213693" h="65699">
                <a:moveTo>
                  <a:pt x="0" y="19979"/>
                </a:moveTo>
                <a:cubicBezTo>
                  <a:pt x="12192" y="29123"/>
                  <a:pt x="24175" y="38553"/>
                  <a:pt x="36576" y="47411"/>
                </a:cubicBezTo>
                <a:cubicBezTo>
                  <a:pt x="45519" y="53799"/>
                  <a:pt x="53018" y="65699"/>
                  <a:pt x="64008" y="65699"/>
                </a:cubicBezTo>
                <a:cubicBezTo>
                  <a:pt x="111189" y="65699"/>
                  <a:pt x="113156" y="45697"/>
                  <a:pt x="146304" y="29123"/>
                </a:cubicBezTo>
                <a:cubicBezTo>
                  <a:pt x="154925" y="24812"/>
                  <a:pt x="165115" y="24290"/>
                  <a:pt x="173736" y="19979"/>
                </a:cubicBezTo>
                <a:cubicBezTo>
                  <a:pt x="213693" y="0"/>
                  <a:pt x="187408" y="1691"/>
                  <a:pt x="210312" y="1691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олилиния 18"/>
          <p:cNvSpPr/>
          <p:nvPr/>
        </p:nvSpPr>
        <p:spPr>
          <a:xfrm>
            <a:off x="1287360" y="2368440"/>
            <a:ext cx="592200" cy="120600"/>
          </a:xfrm>
          <a:custGeom>
            <a:avLst/>
            <a:gdLst/>
            <a:ahLst/>
            <a:rect l="l" t="t" r="r" b="b"/>
            <a:pathLst>
              <a:path w="590724" h="121536">
                <a:moveTo>
                  <a:pt x="55949" y="9654"/>
                </a:moveTo>
                <a:cubicBezTo>
                  <a:pt x="43757" y="12702"/>
                  <a:pt x="29186" y="10947"/>
                  <a:pt x="19373" y="18798"/>
                </a:cubicBezTo>
                <a:cubicBezTo>
                  <a:pt x="0" y="34297"/>
                  <a:pt x="12583" y="63703"/>
                  <a:pt x="28517" y="73662"/>
                </a:cubicBezTo>
                <a:cubicBezTo>
                  <a:pt x="77252" y="104122"/>
                  <a:pt x="197176" y="99062"/>
                  <a:pt x="229685" y="101094"/>
                </a:cubicBezTo>
                <a:cubicBezTo>
                  <a:pt x="331896" y="121536"/>
                  <a:pt x="286042" y="116210"/>
                  <a:pt x="467429" y="101094"/>
                </a:cubicBezTo>
                <a:cubicBezTo>
                  <a:pt x="477034" y="100294"/>
                  <a:pt x="485510" y="94288"/>
                  <a:pt x="494861" y="91950"/>
                </a:cubicBezTo>
                <a:cubicBezTo>
                  <a:pt x="509939" y="88181"/>
                  <a:pt x="525341" y="85854"/>
                  <a:pt x="540581" y="82806"/>
                </a:cubicBezTo>
                <a:cubicBezTo>
                  <a:pt x="562216" y="61171"/>
                  <a:pt x="590724" y="47880"/>
                  <a:pt x="558869" y="9654"/>
                </a:cubicBezTo>
                <a:cubicBezTo>
                  <a:pt x="550824" y="0"/>
                  <a:pt x="522293" y="510"/>
                  <a:pt x="522293" y="510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олилиния 19"/>
          <p:cNvSpPr/>
          <p:nvPr/>
        </p:nvSpPr>
        <p:spPr>
          <a:xfrm>
            <a:off x="969840" y="2357280"/>
            <a:ext cx="2514600" cy="1791000"/>
          </a:xfrm>
          <a:custGeom>
            <a:avLst/>
            <a:gdLst/>
            <a:ahLst/>
            <a:rect l="l" t="t" r="r" b="b"/>
            <a:pathLst>
              <a:path w="2514600" h="1791415">
                <a:moveTo>
                  <a:pt x="365760" y="20328"/>
                </a:moveTo>
                <a:cubicBezTo>
                  <a:pt x="335710" y="10311"/>
                  <a:pt x="319038" y="0"/>
                  <a:pt x="283464" y="20328"/>
                </a:cubicBezTo>
                <a:cubicBezTo>
                  <a:pt x="275095" y="25110"/>
                  <a:pt x="277368" y="38616"/>
                  <a:pt x="274320" y="47760"/>
                </a:cubicBezTo>
                <a:cubicBezTo>
                  <a:pt x="271272" y="133104"/>
                  <a:pt x="270191" y="218541"/>
                  <a:pt x="265176" y="303792"/>
                </a:cubicBezTo>
                <a:cubicBezTo>
                  <a:pt x="264087" y="322300"/>
                  <a:pt x="258654" y="340302"/>
                  <a:pt x="256032" y="358656"/>
                </a:cubicBezTo>
                <a:cubicBezTo>
                  <a:pt x="230220" y="539341"/>
                  <a:pt x="261030" y="349455"/>
                  <a:pt x="237744" y="477528"/>
                </a:cubicBezTo>
                <a:cubicBezTo>
                  <a:pt x="234427" y="495769"/>
                  <a:pt x="232622" y="514293"/>
                  <a:pt x="228600" y="532392"/>
                </a:cubicBezTo>
                <a:cubicBezTo>
                  <a:pt x="226509" y="541801"/>
                  <a:pt x="221623" y="550432"/>
                  <a:pt x="219456" y="559824"/>
                </a:cubicBezTo>
                <a:cubicBezTo>
                  <a:pt x="212467" y="590112"/>
                  <a:pt x="208707" y="621108"/>
                  <a:pt x="201168" y="651264"/>
                </a:cubicBezTo>
                <a:cubicBezTo>
                  <a:pt x="172582" y="765607"/>
                  <a:pt x="209116" y="623445"/>
                  <a:pt x="182880" y="715272"/>
                </a:cubicBezTo>
                <a:cubicBezTo>
                  <a:pt x="179428" y="727356"/>
                  <a:pt x="177347" y="739811"/>
                  <a:pt x="173736" y="751848"/>
                </a:cubicBezTo>
                <a:cubicBezTo>
                  <a:pt x="168197" y="770312"/>
                  <a:pt x="166141" y="790672"/>
                  <a:pt x="155448" y="806712"/>
                </a:cubicBezTo>
                <a:cubicBezTo>
                  <a:pt x="120303" y="859430"/>
                  <a:pt x="150731" y="808575"/>
                  <a:pt x="128016" y="861576"/>
                </a:cubicBezTo>
                <a:cubicBezTo>
                  <a:pt x="122646" y="874105"/>
                  <a:pt x="114039" y="885220"/>
                  <a:pt x="109728" y="898152"/>
                </a:cubicBezTo>
                <a:cubicBezTo>
                  <a:pt x="101780" y="921997"/>
                  <a:pt x="105382" y="950391"/>
                  <a:pt x="91440" y="971304"/>
                </a:cubicBezTo>
                <a:cubicBezTo>
                  <a:pt x="85344" y="980448"/>
                  <a:pt x="77615" y="988693"/>
                  <a:pt x="73152" y="998736"/>
                </a:cubicBezTo>
                <a:cubicBezTo>
                  <a:pt x="65323" y="1016352"/>
                  <a:pt x="60960" y="1035312"/>
                  <a:pt x="54864" y="1053600"/>
                </a:cubicBezTo>
                <a:cubicBezTo>
                  <a:pt x="51816" y="1062744"/>
                  <a:pt x="47610" y="1071581"/>
                  <a:pt x="45720" y="1081032"/>
                </a:cubicBezTo>
                <a:cubicBezTo>
                  <a:pt x="42672" y="1096272"/>
                  <a:pt x="39947" y="1111580"/>
                  <a:pt x="36576" y="1126752"/>
                </a:cubicBezTo>
                <a:cubicBezTo>
                  <a:pt x="33850" y="1139020"/>
                  <a:pt x="29680" y="1150963"/>
                  <a:pt x="27432" y="1163328"/>
                </a:cubicBezTo>
                <a:cubicBezTo>
                  <a:pt x="23577" y="1184533"/>
                  <a:pt x="22515" y="1206202"/>
                  <a:pt x="18288" y="1227336"/>
                </a:cubicBezTo>
                <a:cubicBezTo>
                  <a:pt x="13359" y="1251982"/>
                  <a:pt x="0" y="1300488"/>
                  <a:pt x="0" y="1300488"/>
                </a:cubicBezTo>
                <a:cubicBezTo>
                  <a:pt x="3048" y="1373640"/>
                  <a:pt x="4274" y="1446891"/>
                  <a:pt x="9144" y="1519944"/>
                </a:cubicBezTo>
                <a:cubicBezTo>
                  <a:pt x="10706" y="1543374"/>
                  <a:pt x="20331" y="1586531"/>
                  <a:pt x="27432" y="1611384"/>
                </a:cubicBezTo>
                <a:cubicBezTo>
                  <a:pt x="30080" y="1620652"/>
                  <a:pt x="29760" y="1632000"/>
                  <a:pt x="36576" y="1638816"/>
                </a:cubicBezTo>
                <a:cubicBezTo>
                  <a:pt x="59278" y="1661518"/>
                  <a:pt x="88209" y="1676870"/>
                  <a:pt x="118872" y="1684536"/>
                </a:cubicBezTo>
                <a:cubicBezTo>
                  <a:pt x="133950" y="1688305"/>
                  <a:pt x="149514" y="1689911"/>
                  <a:pt x="164592" y="1693680"/>
                </a:cubicBezTo>
                <a:cubicBezTo>
                  <a:pt x="173943" y="1696018"/>
                  <a:pt x="182756" y="1700176"/>
                  <a:pt x="192024" y="1702824"/>
                </a:cubicBezTo>
                <a:cubicBezTo>
                  <a:pt x="204108" y="1706276"/>
                  <a:pt x="216516" y="1708516"/>
                  <a:pt x="228600" y="1711968"/>
                </a:cubicBezTo>
                <a:cubicBezTo>
                  <a:pt x="237868" y="1714616"/>
                  <a:pt x="246623" y="1719021"/>
                  <a:pt x="256032" y="1721112"/>
                </a:cubicBezTo>
                <a:cubicBezTo>
                  <a:pt x="274131" y="1725134"/>
                  <a:pt x="292797" y="1726234"/>
                  <a:pt x="310896" y="1730256"/>
                </a:cubicBezTo>
                <a:cubicBezTo>
                  <a:pt x="320305" y="1732347"/>
                  <a:pt x="328755" y="1738274"/>
                  <a:pt x="338328" y="1739400"/>
                </a:cubicBezTo>
                <a:cubicBezTo>
                  <a:pt x="380816" y="1744399"/>
                  <a:pt x="423672" y="1745496"/>
                  <a:pt x="466344" y="1748544"/>
                </a:cubicBezTo>
                <a:cubicBezTo>
                  <a:pt x="490167" y="1747461"/>
                  <a:pt x="674816" y="1744366"/>
                  <a:pt x="740664" y="1730256"/>
                </a:cubicBezTo>
                <a:cubicBezTo>
                  <a:pt x="804103" y="1716662"/>
                  <a:pt x="779009" y="1710992"/>
                  <a:pt x="832104" y="1702824"/>
                </a:cubicBezTo>
                <a:cubicBezTo>
                  <a:pt x="1020349" y="1673863"/>
                  <a:pt x="836374" y="1709285"/>
                  <a:pt x="960120" y="1684536"/>
                </a:cubicBezTo>
                <a:cubicBezTo>
                  <a:pt x="1027176" y="1687584"/>
                  <a:pt x="1094360" y="1688532"/>
                  <a:pt x="1161288" y="1693680"/>
                </a:cubicBezTo>
                <a:cubicBezTo>
                  <a:pt x="1180847" y="1695185"/>
                  <a:pt x="1206165" y="1706502"/>
                  <a:pt x="1225296" y="1711968"/>
                </a:cubicBezTo>
                <a:cubicBezTo>
                  <a:pt x="1237380" y="1715420"/>
                  <a:pt x="1249835" y="1717501"/>
                  <a:pt x="1261872" y="1721112"/>
                </a:cubicBezTo>
                <a:cubicBezTo>
                  <a:pt x="1280336" y="1726651"/>
                  <a:pt x="1297721" y="1736231"/>
                  <a:pt x="1316736" y="1739400"/>
                </a:cubicBezTo>
                <a:lnTo>
                  <a:pt x="1371600" y="1748544"/>
                </a:lnTo>
                <a:cubicBezTo>
                  <a:pt x="1386891" y="1751324"/>
                  <a:pt x="1401990" y="1755133"/>
                  <a:pt x="1417320" y="1757688"/>
                </a:cubicBezTo>
                <a:cubicBezTo>
                  <a:pt x="1515611" y="1774070"/>
                  <a:pt x="1447683" y="1758421"/>
                  <a:pt x="1517904" y="1775976"/>
                </a:cubicBezTo>
                <a:cubicBezTo>
                  <a:pt x="1683691" y="1771100"/>
                  <a:pt x="1747331" y="1791415"/>
                  <a:pt x="1865376" y="1757688"/>
                </a:cubicBezTo>
                <a:cubicBezTo>
                  <a:pt x="1919005" y="1742366"/>
                  <a:pt x="1866807" y="1756973"/>
                  <a:pt x="1920240" y="1730256"/>
                </a:cubicBezTo>
                <a:cubicBezTo>
                  <a:pt x="1928861" y="1725945"/>
                  <a:pt x="1938813" y="1724909"/>
                  <a:pt x="1947672" y="1721112"/>
                </a:cubicBezTo>
                <a:cubicBezTo>
                  <a:pt x="2059889" y="1673019"/>
                  <a:pt x="1919848" y="1730452"/>
                  <a:pt x="2011680" y="1684536"/>
                </a:cubicBezTo>
                <a:cubicBezTo>
                  <a:pt x="2020301" y="1680225"/>
                  <a:pt x="2030253" y="1679189"/>
                  <a:pt x="2039112" y="1675392"/>
                </a:cubicBezTo>
                <a:cubicBezTo>
                  <a:pt x="2051641" y="1670022"/>
                  <a:pt x="2063853" y="1663867"/>
                  <a:pt x="2075688" y="1657104"/>
                </a:cubicBezTo>
                <a:cubicBezTo>
                  <a:pt x="2085230" y="1651652"/>
                  <a:pt x="2093077" y="1643279"/>
                  <a:pt x="2103120" y="1638816"/>
                </a:cubicBezTo>
                <a:cubicBezTo>
                  <a:pt x="2157152" y="1614802"/>
                  <a:pt x="2177506" y="1618359"/>
                  <a:pt x="2240280" y="1611384"/>
                </a:cubicBezTo>
                <a:cubicBezTo>
                  <a:pt x="2252472" y="1608336"/>
                  <a:pt x="2264772" y="1605692"/>
                  <a:pt x="2276856" y="1602240"/>
                </a:cubicBezTo>
                <a:cubicBezTo>
                  <a:pt x="2368683" y="1576004"/>
                  <a:pt x="2226521" y="1612538"/>
                  <a:pt x="2340864" y="1583952"/>
                </a:cubicBezTo>
                <a:cubicBezTo>
                  <a:pt x="2359152" y="1571760"/>
                  <a:pt x="2380186" y="1562918"/>
                  <a:pt x="2395728" y="1547376"/>
                </a:cubicBezTo>
                <a:cubicBezTo>
                  <a:pt x="2430931" y="1512173"/>
                  <a:pt x="2412400" y="1527117"/>
                  <a:pt x="2450592" y="1501656"/>
                </a:cubicBezTo>
                <a:cubicBezTo>
                  <a:pt x="2462784" y="1483368"/>
                  <a:pt x="2481837" y="1468115"/>
                  <a:pt x="2487168" y="1446792"/>
                </a:cubicBezTo>
                <a:cubicBezTo>
                  <a:pt x="2509953" y="1355653"/>
                  <a:pt x="2501324" y="1398432"/>
                  <a:pt x="2514600" y="1318776"/>
                </a:cubicBezTo>
                <a:cubicBezTo>
                  <a:pt x="2513826" y="1313355"/>
                  <a:pt x="2507919" y="1244746"/>
                  <a:pt x="2496312" y="1227336"/>
                </a:cubicBezTo>
                <a:cubicBezTo>
                  <a:pt x="2486201" y="1212169"/>
                  <a:pt x="2458316" y="1190050"/>
                  <a:pt x="2441448" y="1181616"/>
                </a:cubicBezTo>
                <a:cubicBezTo>
                  <a:pt x="2428330" y="1175057"/>
                  <a:pt x="2389159" y="1166258"/>
                  <a:pt x="2377440" y="1163328"/>
                </a:cubicBezTo>
                <a:cubicBezTo>
                  <a:pt x="2368296" y="1157232"/>
                  <a:pt x="2360051" y="1149503"/>
                  <a:pt x="2350008" y="1145040"/>
                </a:cubicBezTo>
                <a:cubicBezTo>
                  <a:pt x="2292496" y="1119479"/>
                  <a:pt x="2272356" y="1124835"/>
                  <a:pt x="2203704" y="1117608"/>
                </a:cubicBezTo>
                <a:lnTo>
                  <a:pt x="2121408" y="1108464"/>
                </a:lnTo>
                <a:cubicBezTo>
                  <a:pt x="1951408" y="1120607"/>
                  <a:pt x="1990193" y="1122748"/>
                  <a:pt x="1783080" y="1108464"/>
                </a:cubicBezTo>
                <a:cubicBezTo>
                  <a:pt x="1764584" y="1107188"/>
                  <a:pt x="1746203" y="1103817"/>
                  <a:pt x="1728216" y="1099320"/>
                </a:cubicBezTo>
                <a:cubicBezTo>
                  <a:pt x="1709514" y="1094645"/>
                  <a:pt x="1691640" y="1087128"/>
                  <a:pt x="1673352" y="1081032"/>
                </a:cubicBezTo>
                <a:lnTo>
                  <a:pt x="1645920" y="1071888"/>
                </a:lnTo>
                <a:cubicBezTo>
                  <a:pt x="1636776" y="1068840"/>
                  <a:pt x="1626508" y="1068091"/>
                  <a:pt x="1618488" y="1062744"/>
                </a:cubicBezTo>
                <a:cubicBezTo>
                  <a:pt x="1588432" y="1042706"/>
                  <a:pt x="1596750" y="1044776"/>
                  <a:pt x="1563624" y="1035312"/>
                </a:cubicBezTo>
                <a:cubicBezTo>
                  <a:pt x="1551540" y="1031860"/>
                  <a:pt x="1539085" y="1029779"/>
                  <a:pt x="1527048" y="1026168"/>
                </a:cubicBezTo>
                <a:cubicBezTo>
                  <a:pt x="1508584" y="1020629"/>
                  <a:pt x="1490472" y="1013976"/>
                  <a:pt x="1472184" y="1007880"/>
                </a:cubicBezTo>
                <a:cubicBezTo>
                  <a:pt x="1463040" y="1004832"/>
                  <a:pt x="1454103" y="1001074"/>
                  <a:pt x="1444752" y="998736"/>
                </a:cubicBezTo>
                <a:cubicBezTo>
                  <a:pt x="1432560" y="995688"/>
                  <a:pt x="1420213" y="993203"/>
                  <a:pt x="1408176" y="989592"/>
                </a:cubicBezTo>
                <a:cubicBezTo>
                  <a:pt x="1389712" y="984053"/>
                  <a:pt x="1372215" y="975085"/>
                  <a:pt x="1353312" y="971304"/>
                </a:cubicBezTo>
                <a:cubicBezTo>
                  <a:pt x="1288689" y="958379"/>
                  <a:pt x="1322336" y="967075"/>
                  <a:pt x="1252728" y="943872"/>
                </a:cubicBezTo>
                <a:lnTo>
                  <a:pt x="1197864" y="925584"/>
                </a:lnTo>
                <a:cubicBezTo>
                  <a:pt x="1188720" y="922536"/>
                  <a:pt x="1179783" y="918778"/>
                  <a:pt x="1170432" y="916440"/>
                </a:cubicBezTo>
                <a:cubicBezTo>
                  <a:pt x="1158240" y="913392"/>
                  <a:pt x="1145893" y="910907"/>
                  <a:pt x="1133856" y="907296"/>
                </a:cubicBezTo>
                <a:cubicBezTo>
                  <a:pt x="1118659" y="902737"/>
                  <a:pt x="1064062" y="882142"/>
                  <a:pt x="1042416" y="879864"/>
                </a:cubicBezTo>
                <a:cubicBezTo>
                  <a:pt x="996846" y="875067"/>
                  <a:pt x="950976" y="873768"/>
                  <a:pt x="905256" y="870720"/>
                </a:cubicBezTo>
                <a:cubicBezTo>
                  <a:pt x="841248" y="849384"/>
                  <a:pt x="856488" y="870720"/>
                  <a:pt x="841248" y="825000"/>
                </a:cubicBezTo>
                <a:cubicBezTo>
                  <a:pt x="844296" y="764040"/>
                  <a:pt x="843396" y="702754"/>
                  <a:pt x="850392" y="642120"/>
                </a:cubicBezTo>
                <a:cubicBezTo>
                  <a:pt x="852602" y="622970"/>
                  <a:pt x="862584" y="605544"/>
                  <a:pt x="868680" y="587256"/>
                </a:cubicBezTo>
                <a:lnTo>
                  <a:pt x="877824" y="559824"/>
                </a:lnTo>
                <a:cubicBezTo>
                  <a:pt x="880872" y="520200"/>
                  <a:pt x="880770" y="480207"/>
                  <a:pt x="886968" y="440952"/>
                </a:cubicBezTo>
                <a:cubicBezTo>
                  <a:pt x="889975" y="421911"/>
                  <a:pt x="905256" y="386088"/>
                  <a:pt x="905256" y="386088"/>
                </a:cubicBezTo>
                <a:cubicBezTo>
                  <a:pt x="908304" y="364752"/>
                  <a:pt x="914400" y="343633"/>
                  <a:pt x="914400" y="322080"/>
                </a:cubicBezTo>
                <a:cubicBezTo>
                  <a:pt x="914400" y="43591"/>
                  <a:pt x="971681" y="105041"/>
                  <a:pt x="896112" y="29472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олилиния 20"/>
          <p:cNvSpPr/>
          <p:nvPr/>
        </p:nvSpPr>
        <p:spPr>
          <a:xfrm>
            <a:off x="5230800" y="1809720"/>
            <a:ext cx="2332080" cy="960480"/>
          </a:xfrm>
          <a:custGeom>
            <a:avLst/>
            <a:gdLst/>
            <a:ahLst/>
            <a:rect l="l" t="t" r="r" b="b"/>
            <a:pathLst>
              <a:path w="2331720" h="960120">
                <a:moveTo>
                  <a:pt x="0" y="960120"/>
                </a:moveTo>
                <a:cubicBezTo>
                  <a:pt x="3048" y="950976"/>
                  <a:pt x="4463" y="941114"/>
                  <a:pt x="9144" y="932688"/>
                </a:cubicBezTo>
                <a:cubicBezTo>
                  <a:pt x="19818" y="913475"/>
                  <a:pt x="38769" y="898676"/>
                  <a:pt x="45720" y="877824"/>
                </a:cubicBezTo>
                <a:cubicBezTo>
                  <a:pt x="62485" y="827529"/>
                  <a:pt x="44791" y="872593"/>
                  <a:pt x="73152" y="822960"/>
                </a:cubicBezTo>
                <a:cubicBezTo>
                  <a:pt x="79915" y="811125"/>
                  <a:pt x="83517" y="797476"/>
                  <a:pt x="91440" y="786384"/>
                </a:cubicBezTo>
                <a:cubicBezTo>
                  <a:pt x="98956" y="775861"/>
                  <a:pt x="110456" y="768770"/>
                  <a:pt x="118872" y="758952"/>
                </a:cubicBezTo>
                <a:cubicBezTo>
                  <a:pt x="128790" y="747381"/>
                  <a:pt x="135528" y="733152"/>
                  <a:pt x="146304" y="722376"/>
                </a:cubicBezTo>
                <a:cubicBezTo>
                  <a:pt x="154075" y="714605"/>
                  <a:pt x="165965" y="711859"/>
                  <a:pt x="173736" y="704088"/>
                </a:cubicBezTo>
                <a:cubicBezTo>
                  <a:pt x="223559" y="654265"/>
                  <a:pt x="176207" y="675832"/>
                  <a:pt x="228600" y="658368"/>
                </a:cubicBezTo>
                <a:cubicBezTo>
                  <a:pt x="269500" y="597017"/>
                  <a:pt x="221319" y="657126"/>
                  <a:pt x="274320" y="621792"/>
                </a:cubicBezTo>
                <a:cubicBezTo>
                  <a:pt x="285080" y="614619"/>
                  <a:pt x="291229" y="601876"/>
                  <a:pt x="301752" y="594360"/>
                </a:cubicBezTo>
                <a:cubicBezTo>
                  <a:pt x="346150" y="562647"/>
                  <a:pt x="325962" y="586827"/>
                  <a:pt x="365760" y="566928"/>
                </a:cubicBezTo>
                <a:cubicBezTo>
                  <a:pt x="375590" y="562013"/>
                  <a:pt x="383149" y="553103"/>
                  <a:pt x="393192" y="548640"/>
                </a:cubicBezTo>
                <a:cubicBezTo>
                  <a:pt x="434553" y="530257"/>
                  <a:pt x="458944" y="527974"/>
                  <a:pt x="502920" y="521208"/>
                </a:cubicBezTo>
                <a:cubicBezTo>
                  <a:pt x="643404" y="499595"/>
                  <a:pt x="605222" y="510788"/>
                  <a:pt x="841248" y="502920"/>
                </a:cubicBezTo>
                <a:cubicBezTo>
                  <a:pt x="957685" y="479633"/>
                  <a:pt x="791325" y="511358"/>
                  <a:pt x="978408" y="484632"/>
                </a:cubicBezTo>
                <a:cubicBezTo>
                  <a:pt x="1018317" y="478931"/>
                  <a:pt x="1007677" y="475029"/>
                  <a:pt x="1042416" y="466344"/>
                </a:cubicBezTo>
                <a:cubicBezTo>
                  <a:pt x="1117840" y="447488"/>
                  <a:pt x="1059004" y="466830"/>
                  <a:pt x="1124712" y="448056"/>
                </a:cubicBezTo>
                <a:cubicBezTo>
                  <a:pt x="1133980" y="445408"/>
                  <a:pt x="1143523" y="443223"/>
                  <a:pt x="1152144" y="438912"/>
                </a:cubicBezTo>
                <a:cubicBezTo>
                  <a:pt x="1161974" y="433997"/>
                  <a:pt x="1169746" y="425539"/>
                  <a:pt x="1179576" y="420624"/>
                </a:cubicBezTo>
                <a:cubicBezTo>
                  <a:pt x="1188197" y="416313"/>
                  <a:pt x="1198582" y="416161"/>
                  <a:pt x="1207008" y="411480"/>
                </a:cubicBezTo>
                <a:cubicBezTo>
                  <a:pt x="1226221" y="400806"/>
                  <a:pt x="1243584" y="387096"/>
                  <a:pt x="1261872" y="374904"/>
                </a:cubicBezTo>
                <a:cubicBezTo>
                  <a:pt x="1326521" y="331805"/>
                  <a:pt x="1246486" y="385894"/>
                  <a:pt x="1325880" y="329184"/>
                </a:cubicBezTo>
                <a:cubicBezTo>
                  <a:pt x="1334823" y="322796"/>
                  <a:pt x="1345098" y="318197"/>
                  <a:pt x="1353312" y="310896"/>
                </a:cubicBezTo>
                <a:cubicBezTo>
                  <a:pt x="1427327" y="245104"/>
                  <a:pt x="1379043" y="265743"/>
                  <a:pt x="1435608" y="246888"/>
                </a:cubicBezTo>
                <a:cubicBezTo>
                  <a:pt x="1438656" y="237744"/>
                  <a:pt x="1438731" y="226982"/>
                  <a:pt x="1444752" y="219456"/>
                </a:cubicBezTo>
                <a:cubicBezTo>
                  <a:pt x="1451617" y="210874"/>
                  <a:pt x="1463741" y="208203"/>
                  <a:pt x="1472184" y="201168"/>
                </a:cubicBezTo>
                <a:cubicBezTo>
                  <a:pt x="1588386" y="104333"/>
                  <a:pt x="1420020" y="233286"/>
                  <a:pt x="1527048" y="155448"/>
                </a:cubicBezTo>
                <a:cubicBezTo>
                  <a:pt x="1551698" y="137521"/>
                  <a:pt x="1574839" y="117491"/>
                  <a:pt x="1600200" y="100584"/>
                </a:cubicBezTo>
                <a:cubicBezTo>
                  <a:pt x="1609344" y="94488"/>
                  <a:pt x="1618689" y="88684"/>
                  <a:pt x="1627632" y="82296"/>
                </a:cubicBezTo>
                <a:cubicBezTo>
                  <a:pt x="1676071" y="47697"/>
                  <a:pt x="1647124" y="60559"/>
                  <a:pt x="1691640" y="45720"/>
                </a:cubicBezTo>
                <a:cubicBezTo>
                  <a:pt x="1700784" y="36576"/>
                  <a:pt x="1708312" y="25461"/>
                  <a:pt x="1719072" y="18288"/>
                </a:cubicBezTo>
                <a:cubicBezTo>
                  <a:pt x="1726943" y="13041"/>
                  <a:pt x="1778203" y="1219"/>
                  <a:pt x="1783080" y="0"/>
                </a:cubicBezTo>
                <a:cubicBezTo>
                  <a:pt x="1825752" y="3048"/>
                  <a:pt x="1868550" y="4666"/>
                  <a:pt x="1911096" y="9144"/>
                </a:cubicBezTo>
                <a:cubicBezTo>
                  <a:pt x="1926552" y="10771"/>
                  <a:pt x="1941394" y="16360"/>
                  <a:pt x="1956816" y="18288"/>
                </a:cubicBezTo>
                <a:cubicBezTo>
                  <a:pt x="1990222" y="22464"/>
                  <a:pt x="2023964" y="23498"/>
                  <a:pt x="2057400" y="27432"/>
                </a:cubicBezTo>
                <a:cubicBezTo>
                  <a:pt x="2075813" y="29598"/>
                  <a:pt x="2093826" y="34635"/>
                  <a:pt x="2112264" y="36576"/>
                </a:cubicBezTo>
                <a:cubicBezTo>
                  <a:pt x="2223561" y="48291"/>
                  <a:pt x="2225989" y="45720"/>
                  <a:pt x="2331720" y="45720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олилиния 21"/>
          <p:cNvSpPr/>
          <p:nvPr/>
        </p:nvSpPr>
        <p:spPr>
          <a:xfrm>
            <a:off x="4748040" y="2066760"/>
            <a:ext cx="793800" cy="292320"/>
          </a:xfrm>
          <a:custGeom>
            <a:avLst/>
            <a:gdLst/>
            <a:ahLst/>
            <a:rect l="l" t="t" r="r" b="b"/>
            <a:pathLst>
              <a:path w="792480" h="292608">
                <a:moveTo>
                  <a:pt x="15240" y="128016"/>
                </a:moveTo>
                <a:cubicBezTo>
                  <a:pt x="88392" y="79248"/>
                  <a:pt x="0" y="143256"/>
                  <a:pt x="60960" y="82296"/>
                </a:cubicBezTo>
                <a:cubicBezTo>
                  <a:pt x="77739" y="65517"/>
                  <a:pt x="105843" y="57673"/>
                  <a:pt x="124968" y="45720"/>
                </a:cubicBezTo>
                <a:cubicBezTo>
                  <a:pt x="137891" y="37643"/>
                  <a:pt x="148312" y="25849"/>
                  <a:pt x="161544" y="18288"/>
                </a:cubicBezTo>
                <a:cubicBezTo>
                  <a:pt x="180082" y="7695"/>
                  <a:pt x="230409" y="2238"/>
                  <a:pt x="243840" y="0"/>
                </a:cubicBezTo>
                <a:cubicBezTo>
                  <a:pt x="310896" y="3048"/>
                  <a:pt x="378097" y="3791"/>
                  <a:pt x="445008" y="9144"/>
                </a:cubicBezTo>
                <a:cubicBezTo>
                  <a:pt x="454616" y="9913"/>
                  <a:pt x="463172" y="15640"/>
                  <a:pt x="472440" y="18288"/>
                </a:cubicBezTo>
                <a:cubicBezTo>
                  <a:pt x="486112" y="22194"/>
                  <a:pt x="521832" y="29268"/>
                  <a:pt x="536448" y="36576"/>
                </a:cubicBezTo>
                <a:cubicBezTo>
                  <a:pt x="546278" y="41491"/>
                  <a:pt x="554338" y="49412"/>
                  <a:pt x="563880" y="54864"/>
                </a:cubicBezTo>
                <a:cubicBezTo>
                  <a:pt x="575715" y="61627"/>
                  <a:pt x="589364" y="65229"/>
                  <a:pt x="600456" y="73152"/>
                </a:cubicBezTo>
                <a:cubicBezTo>
                  <a:pt x="610979" y="80668"/>
                  <a:pt x="617954" y="92305"/>
                  <a:pt x="627888" y="100584"/>
                </a:cubicBezTo>
                <a:cubicBezTo>
                  <a:pt x="636331" y="107619"/>
                  <a:pt x="646976" y="111720"/>
                  <a:pt x="655320" y="118872"/>
                </a:cubicBezTo>
                <a:cubicBezTo>
                  <a:pt x="703831" y="160453"/>
                  <a:pt x="680526" y="146755"/>
                  <a:pt x="719328" y="192024"/>
                </a:cubicBezTo>
                <a:cubicBezTo>
                  <a:pt x="727744" y="201842"/>
                  <a:pt x="737616" y="210312"/>
                  <a:pt x="746760" y="219456"/>
                </a:cubicBezTo>
                <a:cubicBezTo>
                  <a:pt x="749808" y="228600"/>
                  <a:pt x="751593" y="238267"/>
                  <a:pt x="755904" y="246888"/>
                </a:cubicBezTo>
                <a:cubicBezTo>
                  <a:pt x="767439" y="269958"/>
                  <a:pt x="775470" y="275598"/>
                  <a:pt x="792480" y="292608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олилиния 22"/>
          <p:cNvSpPr/>
          <p:nvPr/>
        </p:nvSpPr>
        <p:spPr>
          <a:xfrm>
            <a:off x="5578560" y="2422440"/>
            <a:ext cx="1143000" cy="919080"/>
          </a:xfrm>
          <a:custGeom>
            <a:avLst/>
            <a:gdLst/>
            <a:ahLst/>
            <a:rect l="l" t="t" r="r" b="b"/>
            <a:pathLst>
              <a:path w="1143000" h="919105">
                <a:moveTo>
                  <a:pt x="0" y="0"/>
                </a:moveTo>
                <a:lnTo>
                  <a:pt x="36576" y="54864"/>
                </a:lnTo>
                <a:cubicBezTo>
                  <a:pt x="42672" y="64008"/>
                  <a:pt x="47093" y="74525"/>
                  <a:pt x="54864" y="82296"/>
                </a:cubicBezTo>
                <a:lnTo>
                  <a:pt x="109728" y="137160"/>
                </a:lnTo>
                <a:cubicBezTo>
                  <a:pt x="118872" y="146304"/>
                  <a:pt x="126400" y="157419"/>
                  <a:pt x="137160" y="164592"/>
                </a:cubicBezTo>
                <a:cubicBezTo>
                  <a:pt x="146304" y="170688"/>
                  <a:pt x="156149" y="175845"/>
                  <a:pt x="164592" y="182880"/>
                </a:cubicBezTo>
                <a:cubicBezTo>
                  <a:pt x="174526" y="191159"/>
                  <a:pt x="181264" y="203139"/>
                  <a:pt x="192024" y="210312"/>
                </a:cubicBezTo>
                <a:cubicBezTo>
                  <a:pt x="274504" y="265299"/>
                  <a:pt x="160559" y="165803"/>
                  <a:pt x="246888" y="237744"/>
                </a:cubicBezTo>
                <a:cubicBezTo>
                  <a:pt x="256822" y="246023"/>
                  <a:pt x="263560" y="258003"/>
                  <a:pt x="274320" y="265176"/>
                </a:cubicBezTo>
                <a:cubicBezTo>
                  <a:pt x="282340" y="270523"/>
                  <a:pt x="292893" y="270523"/>
                  <a:pt x="301752" y="274320"/>
                </a:cubicBezTo>
                <a:cubicBezTo>
                  <a:pt x="413969" y="322413"/>
                  <a:pt x="273928" y="264980"/>
                  <a:pt x="365760" y="310896"/>
                </a:cubicBezTo>
                <a:cubicBezTo>
                  <a:pt x="374381" y="315207"/>
                  <a:pt x="384048" y="316992"/>
                  <a:pt x="393192" y="320040"/>
                </a:cubicBezTo>
                <a:cubicBezTo>
                  <a:pt x="405384" y="329184"/>
                  <a:pt x="416536" y="339911"/>
                  <a:pt x="429768" y="347472"/>
                </a:cubicBezTo>
                <a:cubicBezTo>
                  <a:pt x="438137" y="352254"/>
                  <a:pt x="448579" y="352305"/>
                  <a:pt x="457200" y="356616"/>
                </a:cubicBezTo>
                <a:cubicBezTo>
                  <a:pt x="467030" y="361531"/>
                  <a:pt x="474802" y="369989"/>
                  <a:pt x="484632" y="374904"/>
                </a:cubicBezTo>
                <a:cubicBezTo>
                  <a:pt x="493253" y="379215"/>
                  <a:pt x="503256" y="380133"/>
                  <a:pt x="512064" y="384048"/>
                </a:cubicBezTo>
                <a:cubicBezTo>
                  <a:pt x="530748" y="392352"/>
                  <a:pt x="549054" y="401550"/>
                  <a:pt x="566928" y="411480"/>
                </a:cubicBezTo>
                <a:cubicBezTo>
                  <a:pt x="576535" y="416817"/>
                  <a:pt x="584530" y="424853"/>
                  <a:pt x="594360" y="429768"/>
                </a:cubicBezTo>
                <a:cubicBezTo>
                  <a:pt x="602981" y="434079"/>
                  <a:pt x="612933" y="435115"/>
                  <a:pt x="621792" y="438912"/>
                </a:cubicBezTo>
                <a:cubicBezTo>
                  <a:pt x="688043" y="467305"/>
                  <a:pt x="627016" y="450930"/>
                  <a:pt x="704088" y="466344"/>
                </a:cubicBezTo>
                <a:cubicBezTo>
                  <a:pt x="713232" y="472440"/>
                  <a:pt x="722728" y="478038"/>
                  <a:pt x="731520" y="484632"/>
                </a:cubicBezTo>
                <a:cubicBezTo>
                  <a:pt x="747133" y="496342"/>
                  <a:pt x="761001" y="510382"/>
                  <a:pt x="777240" y="521208"/>
                </a:cubicBezTo>
                <a:cubicBezTo>
                  <a:pt x="788582" y="528769"/>
                  <a:pt x="801981" y="532733"/>
                  <a:pt x="813816" y="539496"/>
                </a:cubicBezTo>
                <a:cubicBezTo>
                  <a:pt x="863449" y="567857"/>
                  <a:pt x="818385" y="550163"/>
                  <a:pt x="868680" y="566928"/>
                </a:cubicBezTo>
                <a:cubicBezTo>
                  <a:pt x="877824" y="579120"/>
                  <a:pt x="885336" y="592728"/>
                  <a:pt x="896112" y="603504"/>
                </a:cubicBezTo>
                <a:cubicBezTo>
                  <a:pt x="903883" y="611275"/>
                  <a:pt x="915773" y="614021"/>
                  <a:pt x="923544" y="621792"/>
                </a:cubicBezTo>
                <a:cubicBezTo>
                  <a:pt x="984504" y="682752"/>
                  <a:pt x="896112" y="618744"/>
                  <a:pt x="969264" y="667512"/>
                </a:cubicBezTo>
                <a:cubicBezTo>
                  <a:pt x="975360" y="676656"/>
                  <a:pt x="980517" y="686501"/>
                  <a:pt x="987552" y="694944"/>
                </a:cubicBezTo>
                <a:cubicBezTo>
                  <a:pt x="995831" y="704878"/>
                  <a:pt x="1007811" y="711616"/>
                  <a:pt x="1014984" y="722376"/>
                </a:cubicBezTo>
                <a:cubicBezTo>
                  <a:pt x="1020331" y="730396"/>
                  <a:pt x="1020331" y="740949"/>
                  <a:pt x="1024128" y="749808"/>
                </a:cubicBezTo>
                <a:cubicBezTo>
                  <a:pt x="1029498" y="762337"/>
                  <a:pt x="1035403" y="774695"/>
                  <a:pt x="1042416" y="786384"/>
                </a:cubicBezTo>
                <a:cubicBezTo>
                  <a:pt x="1053724" y="805231"/>
                  <a:pt x="1070829" y="820841"/>
                  <a:pt x="1078992" y="841248"/>
                </a:cubicBezTo>
                <a:cubicBezTo>
                  <a:pt x="1081982" y="848722"/>
                  <a:pt x="1101151" y="905750"/>
                  <a:pt x="1115568" y="914400"/>
                </a:cubicBezTo>
                <a:cubicBezTo>
                  <a:pt x="1123409" y="919105"/>
                  <a:pt x="1133856" y="914400"/>
                  <a:pt x="1143000" y="914400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олилиния 23"/>
          <p:cNvSpPr/>
          <p:nvPr/>
        </p:nvSpPr>
        <p:spPr>
          <a:xfrm>
            <a:off x="5065560" y="2806560"/>
            <a:ext cx="941400" cy="192240"/>
          </a:xfrm>
          <a:custGeom>
            <a:avLst/>
            <a:gdLst/>
            <a:ahLst/>
            <a:rect l="l" t="t" r="r" b="b"/>
            <a:pathLst>
              <a:path w="941832" h="192024">
                <a:moveTo>
                  <a:pt x="0" y="192024"/>
                </a:moveTo>
                <a:lnTo>
                  <a:pt x="274320" y="173736"/>
                </a:lnTo>
                <a:cubicBezTo>
                  <a:pt x="329162" y="170308"/>
                  <a:pt x="384326" y="170890"/>
                  <a:pt x="438912" y="164592"/>
                </a:cubicBezTo>
                <a:cubicBezTo>
                  <a:pt x="463881" y="161711"/>
                  <a:pt x="488219" y="154252"/>
                  <a:pt x="512064" y="146304"/>
                </a:cubicBezTo>
                <a:cubicBezTo>
                  <a:pt x="521208" y="143256"/>
                  <a:pt x="530875" y="141471"/>
                  <a:pt x="539496" y="137160"/>
                </a:cubicBezTo>
                <a:cubicBezTo>
                  <a:pt x="610400" y="101708"/>
                  <a:pt x="525409" y="132712"/>
                  <a:pt x="594360" y="109728"/>
                </a:cubicBezTo>
                <a:cubicBezTo>
                  <a:pt x="606552" y="97536"/>
                  <a:pt x="617845" y="84373"/>
                  <a:pt x="630936" y="73152"/>
                </a:cubicBezTo>
                <a:cubicBezTo>
                  <a:pt x="639280" y="66000"/>
                  <a:pt x="650597" y="62635"/>
                  <a:pt x="658368" y="54864"/>
                </a:cubicBezTo>
                <a:cubicBezTo>
                  <a:pt x="666139" y="47093"/>
                  <a:pt x="667337" y="33257"/>
                  <a:pt x="676656" y="27432"/>
                </a:cubicBezTo>
                <a:cubicBezTo>
                  <a:pt x="693003" y="17215"/>
                  <a:pt x="713232" y="15240"/>
                  <a:pt x="731520" y="9144"/>
                </a:cubicBezTo>
                <a:lnTo>
                  <a:pt x="758952" y="0"/>
                </a:lnTo>
                <a:cubicBezTo>
                  <a:pt x="917424" y="9905"/>
                  <a:pt x="856393" y="9144"/>
                  <a:pt x="941832" y="9144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олилиния 24"/>
          <p:cNvSpPr/>
          <p:nvPr/>
        </p:nvSpPr>
        <p:spPr>
          <a:xfrm>
            <a:off x="6099120" y="1965240"/>
            <a:ext cx="723960" cy="824040"/>
          </a:xfrm>
          <a:custGeom>
            <a:avLst/>
            <a:gdLst/>
            <a:ahLst/>
            <a:rect l="l" t="t" r="r" b="b"/>
            <a:pathLst>
              <a:path w="724594" h="822960">
                <a:moveTo>
                  <a:pt x="0" y="822960"/>
                </a:moveTo>
                <a:cubicBezTo>
                  <a:pt x="12667" y="820427"/>
                  <a:pt x="57336" y="813459"/>
                  <a:pt x="73152" y="804672"/>
                </a:cubicBezTo>
                <a:lnTo>
                  <a:pt x="155448" y="749808"/>
                </a:lnTo>
                <a:cubicBezTo>
                  <a:pt x="164592" y="743712"/>
                  <a:pt x="175109" y="739291"/>
                  <a:pt x="182880" y="731520"/>
                </a:cubicBezTo>
                <a:cubicBezTo>
                  <a:pt x="217128" y="697272"/>
                  <a:pt x="198044" y="708177"/>
                  <a:pt x="237744" y="694944"/>
                </a:cubicBezTo>
                <a:cubicBezTo>
                  <a:pt x="243840" y="685800"/>
                  <a:pt x="247761" y="674749"/>
                  <a:pt x="256032" y="667512"/>
                </a:cubicBezTo>
                <a:cubicBezTo>
                  <a:pt x="290105" y="637698"/>
                  <a:pt x="338451" y="623449"/>
                  <a:pt x="365760" y="585216"/>
                </a:cubicBezTo>
                <a:cubicBezTo>
                  <a:pt x="373683" y="574124"/>
                  <a:pt x="374409" y="558279"/>
                  <a:pt x="384048" y="548640"/>
                </a:cubicBezTo>
                <a:cubicBezTo>
                  <a:pt x="399590" y="533098"/>
                  <a:pt x="438912" y="512064"/>
                  <a:pt x="438912" y="512064"/>
                </a:cubicBezTo>
                <a:cubicBezTo>
                  <a:pt x="441960" y="502920"/>
                  <a:pt x="442035" y="492158"/>
                  <a:pt x="448056" y="484632"/>
                </a:cubicBezTo>
                <a:cubicBezTo>
                  <a:pt x="496824" y="423672"/>
                  <a:pt x="457200" y="512064"/>
                  <a:pt x="493776" y="438912"/>
                </a:cubicBezTo>
                <a:cubicBezTo>
                  <a:pt x="498087" y="430291"/>
                  <a:pt x="498239" y="419906"/>
                  <a:pt x="502920" y="411480"/>
                </a:cubicBezTo>
                <a:cubicBezTo>
                  <a:pt x="513594" y="392267"/>
                  <a:pt x="532545" y="377468"/>
                  <a:pt x="539496" y="356616"/>
                </a:cubicBezTo>
                <a:cubicBezTo>
                  <a:pt x="556261" y="306321"/>
                  <a:pt x="538567" y="351385"/>
                  <a:pt x="566928" y="301752"/>
                </a:cubicBezTo>
                <a:cubicBezTo>
                  <a:pt x="573691" y="289917"/>
                  <a:pt x="580430" y="277939"/>
                  <a:pt x="585216" y="265176"/>
                </a:cubicBezTo>
                <a:cubicBezTo>
                  <a:pt x="587829" y="258208"/>
                  <a:pt x="597188" y="210642"/>
                  <a:pt x="603504" y="201168"/>
                </a:cubicBezTo>
                <a:cubicBezTo>
                  <a:pt x="616240" y="182064"/>
                  <a:pt x="650610" y="158980"/>
                  <a:pt x="667512" y="146304"/>
                </a:cubicBezTo>
                <a:cubicBezTo>
                  <a:pt x="670560" y="137160"/>
                  <a:pt x="671975" y="127298"/>
                  <a:pt x="676656" y="118872"/>
                </a:cubicBezTo>
                <a:cubicBezTo>
                  <a:pt x="687330" y="99659"/>
                  <a:pt x="713232" y="64008"/>
                  <a:pt x="713232" y="64008"/>
                </a:cubicBezTo>
                <a:cubicBezTo>
                  <a:pt x="724594" y="18561"/>
                  <a:pt x="722376" y="39999"/>
                  <a:pt x="722376" y="0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олилиния 25"/>
          <p:cNvSpPr/>
          <p:nvPr/>
        </p:nvSpPr>
        <p:spPr>
          <a:xfrm>
            <a:off x="6831000" y="1490760"/>
            <a:ext cx="952560" cy="722160"/>
          </a:xfrm>
          <a:custGeom>
            <a:avLst/>
            <a:gdLst/>
            <a:ahLst/>
            <a:rect l="l" t="t" r="r" b="b"/>
            <a:pathLst>
              <a:path w="953227" h="722376">
                <a:moveTo>
                  <a:pt x="0" y="393192"/>
                </a:moveTo>
                <a:cubicBezTo>
                  <a:pt x="27361" y="311109"/>
                  <a:pt x="0" y="404512"/>
                  <a:pt x="0" y="210312"/>
                </a:cubicBezTo>
                <a:cubicBezTo>
                  <a:pt x="0" y="179680"/>
                  <a:pt x="2256" y="148720"/>
                  <a:pt x="9144" y="118872"/>
                </a:cubicBezTo>
                <a:cubicBezTo>
                  <a:pt x="15530" y="91198"/>
                  <a:pt x="36286" y="88634"/>
                  <a:pt x="54864" y="73152"/>
                </a:cubicBezTo>
                <a:cubicBezTo>
                  <a:pt x="64798" y="64873"/>
                  <a:pt x="70992" y="52000"/>
                  <a:pt x="82296" y="45720"/>
                </a:cubicBezTo>
                <a:cubicBezTo>
                  <a:pt x="99147" y="36358"/>
                  <a:pt x="118872" y="33528"/>
                  <a:pt x="137160" y="27432"/>
                </a:cubicBezTo>
                <a:cubicBezTo>
                  <a:pt x="146304" y="24384"/>
                  <a:pt x="155085" y="19873"/>
                  <a:pt x="164592" y="18288"/>
                </a:cubicBezTo>
                <a:cubicBezTo>
                  <a:pt x="240715" y="5601"/>
                  <a:pt x="201102" y="11766"/>
                  <a:pt x="283464" y="0"/>
                </a:cubicBezTo>
                <a:cubicBezTo>
                  <a:pt x="319593" y="5161"/>
                  <a:pt x="357536" y="9374"/>
                  <a:pt x="393192" y="18288"/>
                </a:cubicBezTo>
                <a:cubicBezTo>
                  <a:pt x="402543" y="20626"/>
                  <a:pt x="412003" y="23121"/>
                  <a:pt x="420624" y="27432"/>
                </a:cubicBezTo>
                <a:cubicBezTo>
                  <a:pt x="430454" y="32347"/>
                  <a:pt x="438226" y="40805"/>
                  <a:pt x="448056" y="45720"/>
                </a:cubicBezTo>
                <a:cubicBezTo>
                  <a:pt x="484371" y="63877"/>
                  <a:pt x="469227" y="43203"/>
                  <a:pt x="502920" y="73152"/>
                </a:cubicBezTo>
                <a:cubicBezTo>
                  <a:pt x="522250" y="90335"/>
                  <a:pt x="543438" y="106497"/>
                  <a:pt x="557784" y="128016"/>
                </a:cubicBezTo>
                <a:cubicBezTo>
                  <a:pt x="563880" y="137160"/>
                  <a:pt x="568301" y="147677"/>
                  <a:pt x="576072" y="155448"/>
                </a:cubicBezTo>
                <a:cubicBezTo>
                  <a:pt x="583843" y="163219"/>
                  <a:pt x="595061" y="166701"/>
                  <a:pt x="603504" y="173736"/>
                </a:cubicBezTo>
                <a:cubicBezTo>
                  <a:pt x="613438" y="182015"/>
                  <a:pt x="621002" y="192889"/>
                  <a:pt x="630936" y="201168"/>
                </a:cubicBezTo>
                <a:cubicBezTo>
                  <a:pt x="639379" y="208203"/>
                  <a:pt x="649925" y="212421"/>
                  <a:pt x="658368" y="219456"/>
                </a:cubicBezTo>
                <a:cubicBezTo>
                  <a:pt x="668302" y="227735"/>
                  <a:pt x="675277" y="239372"/>
                  <a:pt x="685800" y="246888"/>
                </a:cubicBezTo>
                <a:cubicBezTo>
                  <a:pt x="696892" y="254811"/>
                  <a:pt x="711284" y="257253"/>
                  <a:pt x="722376" y="265176"/>
                </a:cubicBezTo>
                <a:cubicBezTo>
                  <a:pt x="782309" y="307985"/>
                  <a:pt x="718395" y="282137"/>
                  <a:pt x="777240" y="301752"/>
                </a:cubicBezTo>
                <a:cubicBezTo>
                  <a:pt x="789432" y="310896"/>
                  <a:pt x="801415" y="320326"/>
                  <a:pt x="813816" y="329184"/>
                </a:cubicBezTo>
                <a:cubicBezTo>
                  <a:pt x="840232" y="348053"/>
                  <a:pt x="847334" y="347459"/>
                  <a:pt x="868680" y="374904"/>
                </a:cubicBezTo>
                <a:cubicBezTo>
                  <a:pt x="949407" y="478696"/>
                  <a:pt x="881288" y="390977"/>
                  <a:pt x="914400" y="457200"/>
                </a:cubicBezTo>
                <a:cubicBezTo>
                  <a:pt x="919315" y="467030"/>
                  <a:pt x="927773" y="474802"/>
                  <a:pt x="932688" y="484632"/>
                </a:cubicBezTo>
                <a:cubicBezTo>
                  <a:pt x="942465" y="504186"/>
                  <a:pt x="950307" y="551542"/>
                  <a:pt x="950976" y="566928"/>
                </a:cubicBezTo>
                <a:cubicBezTo>
                  <a:pt x="953227" y="618695"/>
                  <a:pt x="950976" y="670560"/>
                  <a:pt x="950976" y="722376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олилиния 26"/>
          <p:cNvSpPr/>
          <p:nvPr/>
        </p:nvSpPr>
        <p:spPr>
          <a:xfrm>
            <a:off x="5595840" y="1352520"/>
            <a:ext cx="557280" cy="933480"/>
          </a:xfrm>
          <a:custGeom>
            <a:avLst/>
            <a:gdLst/>
            <a:ahLst/>
            <a:rect l="l" t="t" r="r" b="b"/>
            <a:pathLst>
              <a:path w="557784" h="932688">
                <a:moveTo>
                  <a:pt x="82296" y="0"/>
                </a:moveTo>
                <a:cubicBezTo>
                  <a:pt x="36558" y="60984"/>
                  <a:pt x="66107" y="9894"/>
                  <a:pt x="45720" y="91440"/>
                </a:cubicBezTo>
                <a:cubicBezTo>
                  <a:pt x="41045" y="110142"/>
                  <a:pt x="33528" y="128016"/>
                  <a:pt x="27432" y="146304"/>
                </a:cubicBezTo>
                <a:cubicBezTo>
                  <a:pt x="24384" y="155448"/>
                  <a:pt x="20178" y="164285"/>
                  <a:pt x="18288" y="173736"/>
                </a:cubicBezTo>
                <a:cubicBezTo>
                  <a:pt x="6679" y="231779"/>
                  <a:pt x="12913" y="204378"/>
                  <a:pt x="0" y="256032"/>
                </a:cubicBezTo>
                <a:cubicBezTo>
                  <a:pt x="3048" y="307848"/>
                  <a:pt x="1444" y="360149"/>
                  <a:pt x="9144" y="411480"/>
                </a:cubicBezTo>
                <a:cubicBezTo>
                  <a:pt x="10774" y="422348"/>
                  <a:pt x="23573" y="428622"/>
                  <a:pt x="27432" y="438912"/>
                </a:cubicBezTo>
                <a:cubicBezTo>
                  <a:pt x="29391" y="444136"/>
                  <a:pt x="40609" y="512265"/>
                  <a:pt x="45720" y="521208"/>
                </a:cubicBezTo>
                <a:cubicBezTo>
                  <a:pt x="52136" y="532436"/>
                  <a:pt x="64736" y="538822"/>
                  <a:pt x="73152" y="548640"/>
                </a:cubicBezTo>
                <a:cubicBezTo>
                  <a:pt x="83070" y="560211"/>
                  <a:pt x="92507" y="572293"/>
                  <a:pt x="100584" y="585216"/>
                </a:cubicBezTo>
                <a:cubicBezTo>
                  <a:pt x="107808" y="596775"/>
                  <a:pt x="110240" y="611242"/>
                  <a:pt x="118872" y="621792"/>
                </a:cubicBezTo>
                <a:cubicBezTo>
                  <a:pt x="198040" y="718553"/>
                  <a:pt x="156527" y="656596"/>
                  <a:pt x="219456" y="713232"/>
                </a:cubicBezTo>
                <a:cubicBezTo>
                  <a:pt x="238680" y="730534"/>
                  <a:pt x="259974" y="746577"/>
                  <a:pt x="274320" y="768096"/>
                </a:cubicBezTo>
                <a:cubicBezTo>
                  <a:pt x="299781" y="806288"/>
                  <a:pt x="284837" y="787757"/>
                  <a:pt x="320040" y="822960"/>
                </a:cubicBezTo>
                <a:cubicBezTo>
                  <a:pt x="323647" y="833782"/>
                  <a:pt x="337985" y="892836"/>
                  <a:pt x="356616" y="905256"/>
                </a:cubicBezTo>
                <a:cubicBezTo>
                  <a:pt x="367073" y="912227"/>
                  <a:pt x="380694" y="913084"/>
                  <a:pt x="393192" y="914400"/>
                </a:cubicBezTo>
                <a:cubicBezTo>
                  <a:pt x="438762" y="919197"/>
                  <a:pt x="484632" y="920496"/>
                  <a:pt x="530352" y="923544"/>
                </a:cubicBezTo>
                <a:lnTo>
                  <a:pt x="557784" y="932688"/>
                </a:ln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олилиния 27"/>
          <p:cNvSpPr/>
          <p:nvPr/>
        </p:nvSpPr>
        <p:spPr>
          <a:xfrm>
            <a:off x="6235560" y="2313000"/>
            <a:ext cx="330480" cy="84240"/>
          </a:xfrm>
          <a:custGeom>
            <a:avLst/>
            <a:gdLst/>
            <a:ahLst/>
            <a:rect l="l" t="t" r="r" b="b"/>
            <a:pathLst>
              <a:path w="329184" h="83260">
                <a:moveTo>
                  <a:pt x="0" y="0"/>
                </a:moveTo>
                <a:cubicBezTo>
                  <a:pt x="18288" y="6096"/>
                  <a:pt x="35781" y="15562"/>
                  <a:pt x="54864" y="18288"/>
                </a:cubicBezTo>
                <a:cubicBezTo>
                  <a:pt x="76200" y="21336"/>
                  <a:pt x="97667" y="23577"/>
                  <a:pt x="118872" y="27432"/>
                </a:cubicBezTo>
                <a:cubicBezTo>
                  <a:pt x="131237" y="29680"/>
                  <a:pt x="143125" y="34111"/>
                  <a:pt x="155448" y="36576"/>
                </a:cubicBezTo>
                <a:cubicBezTo>
                  <a:pt x="173628" y="40212"/>
                  <a:pt x="192325" y="41223"/>
                  <a:pt x="210312" y="45720"/>
                </a:cubicBezTo>
                <a:cubicBezTo>
                  <a:pt x="229014" y="50395"/>
                  <a:pt x="246888" y="57912"/>
                  <a:pt x="265176" y="64008"/>
                </a:cubicBezTo>
                <a:lnTo>
                  <a:pt x="292608" y="73152"/>
                </a:lnTo>
                <a:cubicBezTo>
                  <a:pt x="322932" y="83260"/>
                  <a:pt x="310401" y="82296"/>
                  <a:pt x="329184" y="82296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олилиния 28"/>
          <p:cNvSpPr/>
          <p:nvPr/>
        </p:nvSpPr>
        <p:spPr>
          <a:xfrm>
            <a:off x="6648480" y="2349360"/>
            <a:ext cx="1289160" cy="457200"/>
          </a:xfrm>
          <a:custGeom>
            <a:avLst/>
            <a:gdLst/>
            <a:ahLst/>
            <a:rect l="l" t="t" r="r" b="b"/>
            <a:pathLst>
              <a:path w="1289304" h="457200">
                <a:moveTo>
                  <a:pt x="0" y="82296"/>
                </a:moveTo>
                <a:cubicBezTo>
                  <a:pt x="32881" y="76816"/>
                  <a:pt x="53646" y="76286"/>
                  <a:pt x="82296" y="64008"/>
                </a:cubicBezTo>
                <a:cubicBezTo>
                  <a:pt x="124968" y="45720"/>
                  <a:pt x="121703" y="37839"/>
                  <a:pt x="173736" y="27432"/>
                </a:cubicBezTo>
                <a:cubicBezTo>
                  <a:pt x="188976" y="24384"/>
                  <a:pt x="204070" y="20486"/>
                  <a:pt x="219456" y="18288"/>
                </a:cubicBezTo>
                <a:cubicBezTo>
                  <a:pt x="246779" y="14385"/>
                  <a:pt x="274364" y="12567"/>
                  <a:pt x="301752" y="9144"/>
                </a:cubicBezTo>
                <a:cubicBezTo>
                  <a:pt x="323138" y="6471"/>
                  <a:pt x="344424" y="3048"/>
                  <a:pt x="365760" y="0"/>
                </a:cubicBezTo>
                <a:cubicBezTo>
                  <a:pt x="423981" y="2531"/>
                  <a:pt x="595297" y="6665"/>
                  <a:pt x="676656" y="18288"/>
                </a:cubicBezTo>
                <a:cubicBezTo>
                  <a:pt x="686198" y="19651"/>
                  <a:pt x="694789" y="24896"/>
                  <a:pt x="704088" y="27432"/>
                </a:cubicBezTo>
                <a:cubicBezTo>
                  <a:pt x="728337" y="34045"/>
                  <a:pt x="752594" y="40791"/>
                  <a:pt x="777240" y="45720"/>
                </a:cubicBezTo>
                <a:cubicBezTo>
                  <a:pt x="835283" y="57329"/>
                  <a:pt x="807882" y="51095"/>
                  <a:pt x="859536" y="64008"/>
                </a:cubicBezTo>
                <a:cubicBezTo>
                  <a:pt x="868680" y="70104"/>
                  <a:pt x="877138" y="77381"/>
                  <a:pt x="886968" y="82296"/>
                </a:cubicBezTo>
                <a:cubicBezTo>
                  <a:pt x="901584" y="89604"/>
                  <a:pt x="937304" y="96678"/>
                  <a:pt x="950976" y="100584"/>
                </a:cubicBezTo>
                <a:cubicBezTo>
                  <a:pt x="960244" y="103232"/>
                  <a:pt x="969787" y="105417"/>
                  <a:pt x="978408" y="109728"/>
                </a:cubicBezTo>
                <a:cubicBezTo>
                  <a:pt x="988238" y="114643"/>
                  <a:pt x="996010" y="123101"/>
                  <a:pt x="1005840" y="128016"/>
                </a:cubicBezTo>
                <a:cubicBezTo>
                  <a:pt x="1014461" y="132327"/>
                  <a:pt x="1024413" y="133363"/>
                  <a:pt x="1033272" y="137160"/>
                </a:cubicBezTo>
                <a:cubicBezTo>
                  <a:pt x="1045801" y="142530"/>
                  <a:pt x="1057656" y="149352"/>
                  <a:pt x="1069848" y="155448"/>
                </a:cubicBezTo>
                <a:cubicBezTo>
                  <a:pt x="1075944" y="164592"/>
                  <a:pt x="1083673" y="172837"/>
                  <a:pt x="1088136" y="182880"/>
                </a:cubicBezTo>
                <a:cubicBezTo>
                  <a:pt x="1095965" y="200496"/>
                  <a:pt x="1100328" y="219456"/>
                  <a:pt x="1106424" y="237744"/>
                </a:cubicBezTo>
                <a:cubicBezTo>
                  <a:pt x="1109472" y="246888"/>
                  <a:pt x="1113230" y="255825"/>
                  <a:pt x="1115568" y="265176"/>
                </a:cubicBezTo>
                <a:cubicBezTo>
                  <a:pt x="1118616" y="277368"/>
                  <a:pt x="1119762" y="290201"/>
                  <a:pt x="1124712" y="301752"/>
                </a:cubicBezTo>
                <a:cubicBezTo>
                  <a:pt x="1132704" y="320400"/>
                  <a:pt x="1155785" y="344410"/>
                  <a:pt x="1170432" y="356616"/>
                </a:cubicBezTo>
                <a:cubicBezTo>
                  <a:pt x="1178875" y="363651"/>
                  <a:pt x="1189650" y="367603"/>
                  <a:pt x="1197864" y="374904"/>
                </a:cubicBezTo>
                <a:cubicBezTo>
                  <a:pt x="1217194" y="392087"/>
                  <a:pt x="1232037" y="414250"/>
                  <a:pt x="1252728" y="429768"/>
                </a:cubicBezTo>
                <a:lnTo>
                  <a:pt x="1289304" y="457200"/>
                </a:ln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олилиния 29"/>
          <p:cNvSpPr/>
          <p:nvPr/>
        </p:nvSpPr>
        <p:spPr>
          <a:xfrm>
            <a:off x="5194440" y="4124160"/>
            <a:ext cx="2111400" cy="576360"/>
          </a:xfrm>
          <a:custGeom>
            <a:avLst/>
            <a:gdLst/>
            <a:ahLst/>
            <a:rect l="l" t="t" r="r" b="b"/>
            <a:pathLst>
              <a:path w="2112264" h="576072">
                <a:moveTo>
                  <a:pt x="0" y="576072"/>
                </a:moveTo>
                <a:cubicBezTo>
                  <a:pt x="9144" y="566928"/>
                  <a:pt x="17498" y="556919"/>
                  <a:pt x="27432" y="548640"/>
                </a:cubicBezTo>
                <a:cubicBezTo>
                  <a:pt x="35875" y="541605"/>
                  <a:pt x="47093" y="538123"/>
                  <a:pt x="54864" y="530352"/>
                </a:cubicBezTo>
                <a:cubicBezTo>
                  <a:pt x="62635" y="522581"/>
                  <a:pt x="66117" y="511363"/>
                  <a:pt x="73152" y="502920"/>
                </a:cubicBezTo>
                <a:cubicBezTo>
                  <a:pt x="81431" y="492986"/>
                  <a:pt x="91440" y="484632"/>
                  <a:pt x="100584" y="475488"/>
                </a:cubicBezTo>
                <a:cubicBezTo>
                  <a:pt x="117675" y="407126"/>
                  <a:pt x="93454" y="464665"/>
                  <a:pt x="146304" y="420624"/>
                </a:cubicBezTo>
                <a:cubicBezTo>
                  <a:pt x="154747" y="413589"/>
                  <a:pt x="156010" y="400057"/>
                  <a:pt x="164592" y="393192"/>
                </a:cubicBezTo>
                <a:cubicBezTo>
                  <a:pt x="172118" y="387171"/>
                  <a:pt x="182999" y="387432"/>
                  <a:pt x="192024" y="384048"/>
                </a:cubicBezTo>
                <a:cubicBezTo>
                  <a:pt x="207393" y="378285"/>
                  <a:pt x="222745" y="372426"/>
                  <a:pt x="237744" y="365760"/>
                </a:cubicBezTo>
                <a:cubicBezTo>
                  <a:pt x="250200" y="360224"/>
                  <a:pt x="261791" y="352842"/>
                  <a:pt x="274320" y="347472"/>
                </a:cubicBezTo>
                <a:cubicBezTo>
                  <a:pt x="283179" y="343675"/>
                  <a:pt x="293131" y="342639"/>
                  <a:pt x="301752" y="338328"/>
                </a:cubicBezTo>
                <a:cubicBezTo>
                  <a:pt x="311582" y="333413"/>
                  <a:pt x="319083" y="324369"/>
                  <a:pt x="329184" y="320040"/>
                </a:cubicBezTo>
                <a:cubicBezTo>
                  <a:pt x="340735" y="315090"/>
                  <a:pt x="353723" y="314507"/>
                  <a:pt x="365760" y="310896"/>
                </a:cubicBezTo>
                <a:cubicBezTo>
                  <a:pt x="384224" y="305357"/>
                  <a:pt x="402336" y="298704"/>
                  <a:pt x="420624" y="292608"/>
                </a:cubicBezTo>
                <a:cubicBezTo>
                  <a:pt x="429768" y="289560"/>
                  <a:pt x="438549" y="285049"/>
                  <a:pt x="448056" y="283464"/>
                </a:cubicBezTo>
                <a:cubicBezTo>
                  <a:pt x="466344" y="280416"/>
                  <a:pt x="484493" y="276367"/>
                  <a:pt x="502920" y="274320"/>
                </a:cubicBezTo>
                <a:cubicBezTo>
                  <a:pt x="539398" y="270267"/>
                  <a:pt x="576096" y="268499"/>
                  <a:pt x="612648" y="265176"/>
                </a:cubicBezTo>
                <a:lnTo>
                  <a:pt x="704088" y="256032"/>
                </a:lnTo>
                <a:cubicBezTo>
                  <a:pt x="770777" y="259737"/>
                  <a:pt x="861125" y="260007"/>
                  <a:pt x="932688" y="274320"/>
                </a:cubicBezTo>
                <a:cubicBezTo>
                  <a:pt x="965908" y="280964"/>
                  <a:pt x="967831" y="292981"/>
                  <a:pt x="1005840" y="301752"/>
                </a:cubicBezTo>
                <a:cubicBezTo>
                  <a:pt x="1029784" y="307278"/>
                  <a:pt x="1054608" y="307848"/>
                  <a:pt x="1078992" y="310896"/>
                </a:cubicBezTo>
                <a:cubicBezTo>
                  <a:pt x="1088136" y="313944"/>
                  <a:pt x="1097073" y="317702"/>
                  <a:pt x="1106424" y="320040"/>
                </a:cubicBezTo>
                <a:cubicBezTo>
                  <a:pt x="1286912" y="365162"/>
                  <a:pt x="1617985" y="321288"/>
                  <a:pt x="1691640" y="320040"/>
                </a:cubicBezTo>
                <a:cubicBezTo>
                  <a:pt x="1755973" y="298596"/>
                  <a:pt x="1676553" y="326506"/>
                  <a:pt x="1755648" y="292608"/>
                </a:cubicBezTo>
                <a:cubicBezTo>
                  <a:pt x="1864099" y="246129"/>
                  <a:pt x="1836254" y="269351"/>
                  <a:pt x="1938528" y="201168"/>
                </a:cubicBezTo>
                <a:cubicBezTo>
                  <a:pt x="1947672" y="195072"/>
                  <a:pt x="1958189" y="190651"/>
                  <a:pt x="1965960" y="182880"/>
                </a:cubicBezTo>
                <a:cubicBezTo>
                  <a:pt x="1976736" y="172104"/>
                  <a:pt x="1984652" y="158789"/>
                  <a:pt x="1993392" y="146304"/>
                </a:cubicBezTo>
                <a:cubicBezTo>
                  <a:pt x="2095554" y="359"/>
                  <a:pt x="1980059" y="154239"/>
                  <a:pt x="2057400" y="64008"/>
                </a:cubicBezTo>
                <a:cubicBezTo>
                  <a:pt x="2067318" y="52437"/>
                  <a:pt x="2074914" y="39003"/>
                  <a:pt x="2084832" y="27432"/>
                </a:cubicBezTo>
                <a:cubicBezTo>
                  <a:pt x="2093248" y="17614"/>
                  <a:pt x="2112264" y="0"/>
                  <a:pt x="2112264" y="0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олилиния 30"/>
          <p:cNvSpPr/>
          <p:nvPr/>
        </p:nvSpPr>
        <p:spPr>
          <a:xfrm>
            <a:off x="5349960" y="4105440"/>
            <a:ext cx="1782720" cy="1590480"/>
          </a:xfrm>
          <a:custGeom>
            <a:avLst/>
            <a:gdLst/>
            <a:ahLst/>
            <a:rect l="l" t="t" r="r" b="b"/>
            <a:pathLst>
              <a:path w="1783080" h="1591056">
                <a:moveTo>
                  <a:pt x="0" y="0"/>
                </a:moveTo>
                <a:cubicBezTo>
                  <a:pt x="18288" y="3048"/>
                  <a:pt x="38281" y="853"/>
                  <a:pt x="54864" y="9144"/>
                </a:cubicBezTo>
                <a:cubicBezTo>
                  <a:pt x="73600" y="18512"/>
                  <a:pt x="73973" y="49027"/>
                  <a:pt x="82296" y="64008"/>
                </a:cubicBezTo>
                <a:cubicBezTo>
                  <a:pt x="92970" y="83221"/>
                  <a:pt x="109042" y="99213"/>
                  <a:pt x="118872" y="118872"/>
                </a:cubicBezTo>
                <a:cubicBezTo>
                  <a:pt x="124968" y="131064"/>
                  <a:pt x="131790" y="142919"/>
                  <a:pt x="137160" y="155448"/>
                </a:cubicBezTo>
                <a:cubicBezTo>
                  <a:pt x="140957" y="164307"/>
                  <a:pt x="141993" y="174259"/>
                  <a:pt x="146304" y="182880"/>
                </a:cubicBezTo>
                <a:cubicBezTo>
                  <a:pt x="151219" y="192710"/>
                  <a:pt x="159140" y="200770"/>
                  <a:pt x="164592" y="210312"/>
                </a:cubicBezTo>
                <a:cubicBezTo>
                  <a:pt x="171355" y="222147"/>
                  <a:pt x="177510" y="234359"/>
                  <a:pt x="182880" y="246888"/>
                </a:cubicBezTo>
                <a:cubicBezTo>
                  <a:pt x="186677" y="255747"/>
                  <a:pt x="186677" y="266300"/>
                  <a:pt x="192024" y="274320"/>
                </a:cubicBezTo>
                <a:cubicBezTo>
                  <a:pt x="199197" y="285080"/>
                  <a:pt x="211177" y="291818"/>
                  <a:pt x="219456" y="301752"/>
                </a:cubicBezTo>
                <a:cubicBezTo>
                  <a:pt x="226491" y="310195"/>
                  <a:pt x="232292" y="319642"/>
                  <a:pt x="237744" y="329184"/>
                </a:cubicBezTo>
                <a:cubicBezTo>
                  <a:pt x="244507" y="341019"/>
                  <a:pt x="247517" y="355116"/>
                  <a:pt x="256032" y="365760"/>
                </a:cubicBezTo>
                <a:cubicBezTo>
                  <a:pt x="272189" y="385956"/>
                  <a:pt x="310896" y="420624"/>
                  <a:pt x="310896" y="420624"/>
                </a:cubicBezTo>
                <a:cubicBezTo>
                  <a:pt x="320862" y="450523"/>
                  <a:pt x="328668" y="481959"/>
                  <a:pt x="356616" y="502920"/>
                </a:cubicBezTo>
                <a:cubicBezTo>
                  <a:pt x="368808" y="512064"/>
                  <a:pt x="382416" y="519576"/>
                  <a:pt x="393192" y="530352"/>
                </a:cubicBezTo>
                <a:cubicBezTo>
                  <a:pt x="423687" y="560847"/>
                  <a:pt x="408743" y="593448"/>
                  <a:pt x="466344" y="612648"/>
                </a:cubicBezTo>
                <a:cubicBezTo>
                  <a:pt x="493837" y="621812"/>
                  <a:pt x="497573" y="620385"/>
                  <a:pt x="521208" y="640080"/>
                </a:cubicBezTo>
                <a:cubicBezTo>
                  <a:pt x="531142" y="648359"/>
                  <a:pt x="537880" y="660339"/>
                  <a:pt x="548640" y="667512"/>
                </a:cubicBezTo>
                <a:cubicBezTo>
                  <a:pt x="556511" y="672759"/>
                  <a:pt x="607771" y="684581"/>
                  <a:pt x="612648" y="685800"/>
                </a:cubicBezTo>
                <a:cubicBezTo>
                  <a:pt x="621792" y="691896"/>
                  <a:pt x="630250" y="699173"/>
                  <a:pt x="640080" y="704088"/>
                </a:cubicBezTo>
                <a:cubicBezTo>
                  <a:pt x="657692" y="712894"/>
                  <a:pt x="686509" y="716516"/>
                  <a:pt x="704088" y="722376"/>
                </a:cubicBezTo>
                <a:cubicBezTo>
                  <a:pt x="719660" y="727567"/>
                  <a:pt x="733972" y="736345"/>
                  <a:pt x="749808" y="740664"/>
                </a:cubicBezTo>
                <a:cubicBezTo>
                  <a:pt x="824092" y="760923"/>
                  <a:pt x="781924" y="739177"/>
                  <a:pt x="841248" y="758952"/>
                </a:cubicBezTo>
                <a:cubicBezTo>
                  <a:pt x="856820" y="764143"/>
                  <a:pt x="871396" y="772049"/>
                  <a:pt x="886968" y="777240"/>
                </a:cubicBezTo>
                <a:cubicBezTo>
                  <a:pt x="898890" y="781214"/>
                  <a:pt x="911507" y="782773"/>
                  <a:pt x="923544" y="786384"/>
                </a:cubicBezTo>
                <a:cubicBezTo>
                  <a:pt x="1016355" y="814227"/>
                  <a:pt x="940798" y="797150"/>
                  <a:pt x="1024128" y="813816"/>
                </a:cubicBezTo>
                <a:cubicBezTo>
                  <a:pt x="1036320" y="819912"/>
                  <a:pt x="1047676" y="828095"/>
                  <a:pt x="1060704" y="832104"/>
                </a:cubicBezTo>
                <a:cubicBezTo>
                  <a:pt x="1087563" y="840368"/>
                  <a:pt x="1115738" y="843576"/>
                  <a:pt x="1143000" y="850392"/>
                </a:cubicBezTo>
                <a:cubicBezTo>
                  <a:pt x="1152351" y="852730"/>
                  <a:pt x="1162006" y="854855"/>
                  <a:pt x="1170432" y="859536"/>
                </a:cubicBezTo>
                <a:cubicBezTo>
                  <a:pt x="1189645" y="870210"/>
                  <a:pt x="1225296" y="896112"/>
                  <a:pt x="1225296" y="896112"/>
                </a:cubicBezTo>
                <a:cubicBezTo>
                  <a:pt x="1242779" y="922337"/>
                  <a:pt x="1245201" y="929854"/>
                  <a:pt x="1271016" y="950976"/>
                </a:cubicBezTo>
                <a:cubicBezTo>
                  <a:pt x="1308200" y="981400"/>
                  <a:pt x="1370691" y="1018193"/>
                  <a:pt x="1399032" y="1060704"/>
                </a:cubicBezTo>
                <a:cubicBezTo>
                  <a:pt x="1405128" y="1069848"/>
                  <a:pt x="1412857" y="1078093"/>
                  <a:pt x="1417320" y="1088136"/>
                </a:cubicBezTo>
                <a:cubicBezTo>
                  <a:pt x="1425149" y="1105752"/>
                  <a:pt x="1429512" y="1124712"/>
                  <a:pt x="1435608" y="1143000"/>
                </a:cubicBezTo>
                <a:cubicBezTo>
                  <a:pt x="1438656" y="1152144"/>
                  <a:pt x="1442414" y="1161081"/>
                  <a:pt x="1444752" y="1170432"/>
                </a:cubicBezTo>
                <a:cubicBezTo>
                  <a:pt x="1447800" y="1182624"/>
                  <a:pt x="1448946" y="1195457"/>
                  <a:pt x="1453896" y="1207008"/>
                </a:cubicBezTo>
                <a:cubicBezTo>
                  <a:pt x="1458225" y="1217109"/>
                  <a:pt x="1467269" y="1224610"/>
                  <a:pt x="1472184" y="1234440"/>
                </a:cubicBezTo>
                <a:cubicBezTo>
                  <a:pt x="1476495" y="1243061"/>
                  <a:pt x="1477017" y="1253251"/>
                  <a:pt x="1481328" y="1261872"/>
                </a:cubicBezTo>
                <a:cubicBezTo>
                  <a:pt x="1486243" y="1271702"/>
                  <a:pt x="1494164" y="1279762"/>
                  <a:pt x="1499616" y="1289304"/>
                </a:cubicBezTo>
                <a:cubicBezTo>
                  <a:pt x="1515877" y="1317761"/>
                  <a:pt x="1515939" y="1329009"/>
                  <a:pt x="1536192" y="1353312"/>
                </a:cubicBezTo>
                <a:cubicBezTo>
                  <a:pt x="1544471" y="1363246"/>
                  <a:pt x="1554480" y="1371600"/>
                  <a:pt x="1563624" y="1380744"/>
                </a:cubicBezTo>
                <a:cubicBezTo>
                  <a:pt x="1580947" y="1432712"/>
                  <a:pt x="1565952" y="1401360"/>
                  <a:pt x="1627632" y="1463040"/>
                </a:cubicBezTo>
                <a:cubicBezTo>
                  <a:pt x="1636776" y="1472184"/>
                  <a:pt x="1644304" y="1483299"/>
                  <a:pt x="1655064" y="1490472"/>
                </a:cubicBezTo>
                <a:cubicBezTo>
                  <a:pt x="1664208" y="1496568"/>
                  <a:pt x="1674282" y="1501459"/>
                  <a:pt x="1682496" y="1508760"/>
                </a:cubicBezTo>
                <a:cubicBezTo>
                  <a:pt x="1733743" y="1554313"/>
                  <a:pt x="1727853" y="1549363"/>
                  <a:pt x="1755648" y="1591056"/>
                </a:cubicBezTo>
                <a:lnTo>
                  <a:pt x="1783080" y="1581912"/>
                </a:ln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олилиния 31"/>
          <p:cNvSpPr/>
          <p:nvPr/>
        </p:nvSpPr>
        <p:spPr>
          <a:xfrm>
            <a:off x="6539040" y="3882960"/>
            <a:ext cx="1517400" cy="1530360"/>
          </a:xfrm>
          <a:custGeom>
            <a:avLst/>
            <a:gdLst/>
            <a:ahLst/>
            <a:rect l="l" t="t" r="r" b="b"/>
            <a:pathLst>
              <a:path w="1517549" h="1530279">
                <a:moveTo>
                  <a:pt x="17933" y="21519"/>
                </a:moveTo>
                <a:cubicBezTo>
                  <a:pt x="98076" y="101662"/>
                  <a:pt x="0" y="0"/>
                  <a:pt x="63653" y="76383"/>
                </a:cubicBezTo>
                <a:cubicBezTo>
                  <a:pt x="71932" y="86317"/>
                  <a:pt x="82806" y="93881"/>
                  <a:pt x="91085" y="103815"/>
                </a:cubicBezTo>
                <a:cubicBezTo>
                  <a:pt x="98120" y="112258"/>
                  <a:pt x="102338" y="122804"/>
                  <a:pt x="109373" y="131247"/>
                </a:cubicBezTo>
                <a:cubicBezTo>
                  <a:pt x="117652" y="141181"/>
                  <a:pt x="129289" y="148156"/>
                  <a:pt x="136805" y="158679"/>
                </a:cubicBezTo>
                <a:cubicBezTo>
                  <a:pt x="159293" y="190163"/>
                  <a:pt x="156609" y="223824"/>
                  <a:pt x="191669" y="250119"/>
                </a:cubicBezTo>
                <a:cubicBezTo>
                  <a:pt x="203861" y="259263"/>
                  <a:pt x="217469" y="266775"/>
                  <a:pt x="228245" y="277551"/>
                </a:cubicBezTo>
                <a:cubicBezTo>
                  <a:pt x="283216" y="332522"/>
                  <a:pt x="186195" y="283046"/>
                  <a:pt x="301397" y="359847"/>
                </a:cubicBezTo>
                <a:cubicBezTo>
                  <a:pt x="399422" y="425197"/>
                  <a:pt x="250652" y="323427"/>
                  <a:pt x="356261" y="405567"/>
                </a:cubicBezTo>
                <a:cubicBezTo>
                  <a:pt x="373611" y="419061"/>
                  <a:pt x="395583" y="426601"/>
                  <a:pt x="411125" y="442143"/>
                </a:cubicBezTo>
                <a:cubicBezTo>
                  <a:pt x="436341" y="467359"/>
                  <a:pt x="436284" y="470889"/>
                  <a:pt x="465989" y="487863"/>
                </a:cubicBezTo>
                <a:cubicBezTo>
                  <a:pt x="477824" y="494626"/>
                  <a:pt x="489633" y="501840"/>
                  <a:pt x="502565" y="506151"/>
                </a:cubicBezTo>
                <a:cubicBezTo>
                  <a:pt x="526410" y="514099"/>
                  <a:pt x="550736" y="521663"/>
                  <a:pt x="575717" y="524439"/>
                </a:cubicBezTo>
                <a:cubicBezTo>
                  <a:pt x="647608" y="532427"/>
                  <a:pt x="645505" y="529787"/>
                  <a:pt x="703733" y="542727"/>
                </a:cubicBezTo>
                <a:cubicBezTo>
                  <a:pt x="722901" y="546987"/>
                  <a:pt x="783776" y="562561"/>
                  <a:pt x="795173" y="570159"/>
                </a:cubicBezTo>
                <a:cubicBezTo>
                  <a:pt x="858057" y="612082"/>
                  <a:pt x="829185" y="599784"/>
                  <a:pt x="877469" y="615879"/>
                </a:cubicBezTo>
                <a:cubicBezTo>
                  <a:pt x="886613" y="625023"/>
                  <a:pt x="894141" y="636138"/>
                  <a:pt x="904901" y="643311"/>
                </a:cubicBezTo>
                <a:cubicBezTo>
                  <a:pt x="959841" y="679938"/>
                  <a:pt x="905071" y="614254"/>
                  <a:pt x="959765" y="679887"/>
                </a:cubicBezTo>
                <a:cubicBezTo>
                  <a:pt x="980018" y="704190"/>
                  <a:pt x="980080" y="715438"/>
                  <a:pt x="996341" y="743895"/>
                </a:cubicBezTo>
                <a:cubicBezTo>
                  <a:pt x="1001793" y="753437"/>
                  <a:pt x="1008533" y="762183"/>
                  <a:pt x="1014629" y="771327"/>
                </a:cubicBezTo>
                <a:cubicBezTo>
                  <a:pt x="1019269" y="789888"/>
                  <a:pt x="1025046" y="816970"/>
                  <a:pt x="1032917" y="835335"/>
                </a:cubicBezTo>
                <a:cubicBezTo>
                  <a:pt x="1048619" y="871972"/>
                  <a:pt x="1051771" y="865032"/>
                  <a:pt x="1060349" y="899343"/>
                </a:cubicBezTo>
                <a:cubicBezTo>
                  <a:pt x="1064118" y="914421"/>
                  <a:pt x="1065724" y="929985"/>
                  <a:pt x="1069493" y="945063"/>
                </a:cubicBezTo>
                <a:cubicBezTo>
                  <a:pt x="1071831" y="954414"/>
                  <a:pt x="1075989" y="963227"/>
                  <a:pt x="1078637" y="972495"/>
                </a:cubicBezTo>
                <a:cubicBezTo>
                  <a:pt x="1082089" y="984579"/>
                  <a:pt x="1084329" y="996987"/>
                  <a:pt x="1087781" y="1009071"/>
                </a:cubicBezTo>
                <a:cubicBezTo>
                  <a:pt x="1092753" y="1026471"/>
                  <a:pt x="1104611" y="1060357"/>
                  <a:pt x="1115213" y="1073079"/>
                </a:cubicBezTo>
                <a:cubicBezTo>
                  <a:pt x="1122248" y="1081522"/>
                  <a:pt x="1134874" y="1083596"/>
                  <a:pt x="1142645" y="1091367"/>
                </a:cubicBezTo>
                <a:cubicBezTo>
                  <a:pt x="1153421" y="1102143"/>
                  <a:pt x="1159301" y="1117167"/>
                  <a:pt x="1170077" y="1127943"/>
                </a:cubicBezTo>
                <a:cubicBezTo>
                  <a:pt x="1177848" y="1135714"/>
                  <a:pt x="1189295" y="1138930"/>
                  <a:pt x="1197509" y="1146231"/>
                </a:cubicBezTo>
                <a:cubicBezTo>
                  <a:pt x="1216839" y="1163414"/>
                  <a:pt x="1234085" y="1182807"/>
                  <a:pt x="1252373" y="1201095"/>
                </a:cubicBezTo>
                <a:cubicBezTo>
                  <a:pt x="1261517" y="1210239"/>
                  <a:pt x="1269045" y="1221354"/>
                  <a:pt x="1279805" y="1228527"/>
                </a:cubicBezTo>
                <a:lnTo>
                  <a:pt x="1307237" y="1246815"/>
                </a:lnTo>
                <a:cubicBezTo>
                  <a:pt x="1310285" y="1255959"/>
                  <a:pt x="1311700" y="1265821"/>
                  <a:pt x="1316381" y="1274247"/>
                </a:cubicBezTo>
                <a:cubicBezTo>
                  <a:pt x="1327055" y="1293460"/>
                  <a:pt x="1339769" y="1311527"/>
                  <a:pt x="1352957" y="1329111"/>
                </a:cubicBezTo>
                <a:cubicBezTo>
                  <a:pt x="1364732" y="1344812"/>
                  <a:pt x="1387980" y="1374400"/>
                  <a:pt x="1398677" y="1393119"/>
                </a:cubicBezTo>
                <a:cubicBezTo>
                  <a:pt x="1405440" y="1404954"/>
                  <a:pt x="1411595" y="1417166"/>
                  <a:pt x="1416965" y="1429695"/>
                </a:cubicBezTo>
                <a:cubicBezTo>
                  <a:pt x="1420762" y="1438554"/>
                  <a:pt x="1421327" y="1448758"/>
                  <a:pt x="1426109" y="1457127"/>
                </a:cubicBezTo>
                <a:cubicBezTo>
                  <a:pt x="1433670" y="1470359"/>
                  <a:pt x="1444683" y="1481302"/>
                  <a:pt x="1453541" y="1493703"/>
                </a:cubicBezTo>
                <a:cubicBezTo>
                  <a:pt x="1468586" y="1514767"/>
                  <a:pt x="1468936" y="1530279"/>
                  <a:pt x="1499261" y="1530279"/>
                </a:cubicBezTo>
                <a:cubicBezTo>
                  <a:pt x="1506077" y="1530279"/>
                  <a:pt x="1511453" y="1524183"/>
                  <a:pt x="1517549" y="1521135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олилиния 32"/>
          <p:cNvSpPr/>
          <p:nvPr/>
        </p:nvSpPr>
        <p:spPr>
          <a:xfrm>
            <a:off x="5989680" y="4689360"/>
            <a:ext cx="2030400" cy="687600"/>
          </a:xfrm>
          <a:custGeom>
            <a:avLst/>
            <a:gdLst/>
            <a:ahLst/>
            <a:rect l="l" t="t" r="r" b="b"/>
            <a:pathLst>
              <a:path w="2029968" h="686090">
                <a:moveTo>
                  <a:pt x="0" y="576811"/>
                </a:moveTo>
                <a:cubicBezTo>
                  <a:pt x="9144" y="570715"/>
                  <a:pt x="17602" y="563438"/>
                  <a:pt x="27432" y="558523"/>
                </a:cubicBezTo>
                <a:cubicBezTo>
                  <a:pt x="81238" y="531620"/>
                  <a:pt x="168388" y="556057"/>
                  <a:pt x="210312" y="558523"/>
                </a:cubicBezTo>
                <a:cubicBezTo>
                  <a:pt x="225552" y="564619"/>
                  <a:pt x="241351" y="569470"/>
                  <a:pt x="256032" y="576811"/>
                </a:cubicBezTo>
                <a:cubicBezTo>
                  <a:pt x="265862" y="581726"/>
                  <a:pt x="273260" y="591018"/>
                  <a:pt x="283464" y="595099"/>
                </a:cubicBezTo>
                <a:cubicBezTo>
                  <a:pt x="341397" y="618272"/>
                  <a:pt x="345555" y="609913"/>
                  <a:pt x="402336" y="622531"/>
                </a:cubicBezTo>
                <a:cubicBezTo>
                  <a:pt x="411745" y="624622"/>
                  <a:pt x="420417" y="629337"/>
                  <a:pt x="429768" y="631675"/>
                </a:cubicBezTo>
                <a:cubicBezTo>
                  <a:pt x="444846" y="635444"/>
                  <a:pt x="460316" y="637448"/>
                  <a:pt x="475488" y="640819"/>
                </a:cubicBezTo>
                <a:cubicBezTo>
                  <a:pt x="487756" y="643545"/>
                  <a:pt x="499574" y="648575"/>
                  <a:pt x="512064" y="649963"/>
                </a:cubicBezTo>
                <a:cubicBezTo>
                  <a:pt x="554583" y="654687"/>
                  <a:pt x="597408" y="656059"/>
                  <a:pt x="640080" y="659107"/>
                </a:cubicBezTo>
                <a:cubicBezTo>
                  <a:pt x="652272" y="662155"/>
                  <a:pt x="664175" y="666783"/>
                  <a:pt x="676656" y="668251"/>
                </a:cubicBezTo>
                <a:cubicBezTo>
                  <a:pt x="828285" y="686090"/>
                  <a:pt x="879165" y="674511"/>
                  <a:pt x="1060704" y="668251"/>
                </a:cubicBezTo>
                <a:cubicBezTo>
                  <a:pt x="1078992" y="665203"/>
                  <a:pt x="1097388" y="662743"/>
                  <a:pt x="1115568" y="659107"/>
                </a:cubicBezTo>
                <a:cubicBezTo>
                  <a:pt x="1127891" y="656642"/>
                  <a:pt x="1139876" y="652689"/>
                  <a:pt x="1152144" y="649963"/>
                </a:cubicBezTo>
                <a:cubicBezTo>
                  <a:pt x="1167316" y="646592"/>
                  <a:pt x="1182624" y="643867"/>
                  <a:pt x="1197864" y="640819"/>
                </a:cubicBezTo>
                <a:cubicBezTo>
                  <a:pt x="1210056" y="634723"/>
                  <a:pt x="1222605" y="629294"/>
                  <a:pt x="1234440" y="622531"/>
                </a:cubicBezTo>
                <a:cubicBezTo>
                  <a:pt x="1243982" y="617079"/>
                  <a:pt x="1252042" y="609158"/>
                  <a:pt x="1261872" y="604243"/>
                </a:cubicBezTo>
                <a:cubicBezTo>
                  <a:pt x="1270493" y="599932"/>
                  <a:pt x="1280878" y="599780"/>
                  <a:pt x="1289304" y="595099"/>
                </a:cubicBezTo>
                <a:cubicBezTo>
                  <a:pt x="1308517" y="584425"/>
                  <a:pt x="1323761" y="566686"/>
                  <a:pt x="1344168" y="558523"/>
                </a:cubicBezTo>
                <a:cubicBezTo>
                  <a:pt x="1359408" y="552427"/>
                  <a:pt x="1375478" y="548095"/>
                  <a:pt x="1389888" y="540235"/>
                </a:cubicBezTo>
                <a:cubicBezTo>
                  <a:pt x="1482007" y="489988"/>
                  <a:pt x="1408106" y="512820"/>
                  <a:pt x="1481328" y="494515"/>
                </a:cubicBezTo>
                <a:cubicBezTo>
                  <a:pt x="1502118" y="473725"/>
                  <a:pt x="1518943" y="454314"/>
                  <a:pt x="1545336" y="439651"/>
                </a:cubicBezTo>
                <a:cubicBezTo>
                  <a:pt x="1606786" y="405512"/>
                  <a:pt x="1613113" y="437673"/>
                  <a:pt x="1673352" y="357355"/>
                </a:cubicBezTo>
                <a:cubicBezTo>
                  <a:pt x="1682496" y="345163"/>
                  <a:pt x="1689550" y="331077"/>
                  <a:pt x="1700784" y="320779"/>
                </a:cubicBezTo>
                <a:cubicBezTo>
                  <a:pt x="1726402" y="297296"/>
                  <a:pt x="1783080" y="256771"/>
                  <a:pt x="1783080" y="256771"/>
                </a:cubicBezTo>
                <a:cubicBezTo>
                  <a:pt x="1789176" y="244579"/>
                  <a:pt x="1792736" y="230745"/>
                  <a:pt x="1801368" y="220195"/>
                </a:cubicBezTo>
                <a:cubicBezTo>
                  <a:pt x="1820475" y="196842"/>
                  <a:pt x="1848639" y="181293"/>
                  <a:pt x="1865376" y="156187"/>
                </a:cubicBezTo>
                <a:cubicBezTo>
                  <a:pt x="1871472" y="147043"/>
                  <a:pt x="1876629" y="137198"/>
                  <a:pt x="1883664" y="128755"/>
                </a:cubicBezTo>
                <a:cubicBezTo>
                  <a:pt x="1891943" y="118821"/>
                  <a:pt x="1903337" y="111668"/>
                  <a:pt x="1911096" y="101323"/>
                </a:cubicBezTo>
                <a:cubicBezTo>
                  <a:pt x="1949580" y="50011"/>
                  <a:pt x="1922760" y="64171"/>
                  <a:pt x="1965960" y="28171"/>
                </a:cubicBezTo>
                <a:cubicBezTo>
                  <a:pt x="1985116" y="12207"/>
                  <a:pt x="1997258" y="6630"/>
                  <a:pt x="2020824" y="739"/>
                </a:cubicBezTo>
                <a:cubicBezTo>
                  <a:pt x="2023781" y="0"/>
                  <a:pt x="2026920" y="739"/>
                  <a:pt x="2029968" y="739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олилиния 36"/>
          <p:cNvSpPr/>
          <p:nvPr/>
        </p:nvSpPr>
        <p:spPr>
          <a:xfrm>
            <a:off x="5367240" y="3772080"/>
            <a:ext cx="1059120" cy="909360"/>
          </a:xfrm>
          <a:custGeom>
            <a:avLst/>
            <a:gdLst/>
            <a:ahLst/>
            <a:rect l="l" t="t" r="r" b="b"/>
            <a:pathLst>
              <a:path w="1059335" h="909894">
                <a:moveTo>
                  <a:pt x="0" y="909894"/>
                </a:moveTo>
                <a:cubicBezTo>
                  <a:pt x="9144" y="903798"/>
                  <a:pt x="18989" y="898641"/>
                  <a:pt x="27432" y="891606"/>
                </a:cubicBezTo>
                <a:cubicBezTo>
                  <a:pt x="97838" y="832934"/>
                  <a:pt x="14188" y="891292"/>
                  <a:pt x="82296" y="845886"/>
                </a:cubicBezTo>
                <a:lnTo>
                  <a:pt x="155448" y="736158"/>
                </a:lnTo>
                <a:lnTo>
                  <a:pt x="173736" y="708726"/>
                </a:lnTo>
                <a:cubicBezTo>
                  <a:pt x="179832" y="699582"/>
                  <a:pt x="188549" y="691720"/>
                  <a:pt x="192024" y="681294"/>
                </a:cubicBezTo>
                <a:cubicBezTo>
                  <a:pt x="202456" y="649997"/>
                  <a:pt x="216501" y="591824"/>
                  <a:pt x="246888" y="571566"/>
                </a:cubicBezTo>
                <a:cubicBezTo>
                  <a:pt x="256032" y="565470"/>
                  <a:pt x="265877" y="560313"/>
                  <a:pt x="274320" y="553278"/>
                </a:cubicBezTo>
                <a:cubicBezTo>
                  <a:pt x="284254" y="544999"/>
                  <a:pt x="291229" y="533362"/>
                  <a:pt x="301752" y="525846"/>
                </a:cubicBezTo>
                <a:cubicBezTo>
                  <a:pt x="312844" y="517923"/>
                  <a:pt x="326639" y="514571"/>
                  <a:pt x="338328" y="507558"/>
                </a:cubicBezTo>
                <a:cubicBezTo>
                  <a:pt x="357175" y="496250"/>
                  <a:pt x="372340" y="477933"/>
                  <a:pt x="393192" y="470982"/>
                </a:cubicBezTo>
                <a:cubicBezTo>
                  <a:pt x="402336" y="467934"/>
                  <a:pt x="412198" y="466519"/>
                  <a:pt x="420624" y="461838"/>
                </a:cubicBezTo>
                <a:cubicBezTo>
                  <a:pt x="439837" y="451164"/>
                  <a:pt x="457200" y="437454"/>
                  <a:pt x="475488" y="425262"/>
                </a:cubicBezTo>
                <a:lnTo>
                  <a:pt x="502920" y="406974"/>
                </a:lnTo>
                <a:cubicBezTo>
                  <a:pt x="536711" y="356288"/>
                  <a:pt x="501875" y="396379"/>
                  <a:pt x="548640" y="370398"/>
                </a:cubicBezTo>
                <a:cubicBezTo>
                  <a:pt x="567853" y="359724"/>
                  <a:pt x="603504" y="333822"/>
                  <a:pt x="603504" y="333822"/>
                </a:cubicBezTo>
                <a:cubicBezTo>
                  <a:pt x="653701" y="258526"/>
                  <a:pt x="588069" y="344811"/>
                  <a:pt x="649224" y="297246"/>
                </a:cubicBezTo>
                <a:cubicBezTo>
                  <a:pt x="669639" y="281368"/>
                  <a:pt x="685800" y="260670"/>
                  <a:pt x="704088" y="242382"/>
                </a:cubicBezTo>
                <a:cubicBezTo>
                  <a:pt x="713232" y="233238"/>
                  <a:pt x="720760" y="222123"/>
                  <a:pt x="731520" y="214950"/>
                </a:cubicBezTo>
                <a:cubicBezTo>
                  <a:pt x="747096" y="204566"/>
                  <a:pt x="784186" y="180572"/>
                  <a:pt x="795528" y="169230"/>
                </a:cubicBezTo>
                <a:cubicBezTo>
                  <a:pt x="803299" y="161459"/>
                  <a:pt x="805545" y="149035"/>
                  <a:pt x="813816" y="141798"/>
                </a:cubicBezTo>
                <a:cubicBezTo>
                  <a:pt x="830357" y="127324"/>
                  <a:pt x="853138" y="120764"/>
                  <a:pt x="868680" y="105222"/>
                </a:cubicBezTo>
                <a:cubicBezTo>
                  <a:pt x="877824" y="96078"/>
                  <a:pt x="885352" y="84963"/>
                  <a:pt x="896112" y="77790"/>
                </a:cubicBezTo>
                <a:cubicBezTo>
                  <a:pt x="904132" y="72443"/>
                  <a:pt x="914923" y="72957"/>
                  <a:pt x="923544" y="68646"/>
                </a:cubicBezTo>
                <a:cubicBezTo>
                  <a:pt x="933374" y="63731"/>
                  <a:pt x="941146" y="55273"/>
                  <a:pt x="950976" y="50358"/>
                </a:cubicBezTo>
                <a:cubicBezTo>
                  <a:pt x="959597" y="46047"/>
                  <a:pt x="969787" y="45525"/>
                  <a:pt x="978408" y="41214"/>
                </a:cubicBezTo>
                <a:cubicBezTo>
                  <a:pt x="988238" y="36299"/>
                  <a:pt x="995739" y="27255"/>
                  <a:pt x="1005840" y="22926"/>
                </a:cubicBezTo>
                <a:cubicBezTo>
                  <a:pt x="1059335" y="0"/>
                  <a:pt x="1029161" y="27037"/>
                  <a:pt x="1051560" y="4638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олилиния 37"/>
          <p:cNvSpPr/>
          <p:nvPr/>
        </p:nvSpPr>
        <p:spPr>
          <a:xfrm>
            <a:off x="6748560" y="3703680"/>
            <a:ext cx="1307880" cy="977760"/>
          </a:xfrm>
          <a:custGeom>
            <a:avLst/>
            <a:gdLst/>
            <a:ahLst/>
            <a:rect l="l" t="t" r="r" b="b"/>
            <a:pathLst>
              <a:path w="1308331" h="978408">
                <a:moveTo>
                  <a:pt x="0" y="978408"/>
                </a:moveTo>
                <a:cubicBezTo>
                  <a:pt x="18288" y="966216"/>
                  <a:pt x="39322" y="957374"/>
                  <a:pt x="54864" y="941832"/>
                </a:cubicBezTo>
                <a:cubicBezTo>
                  <a:pt x="117499" y="879197"/>
                  <a:pt x="88209" y="901314"/>
                  <a:pt x="137160" y="868680"/>
                </a:cubicBezTo>
                <a:cubicBezTo>
                  <a:pt x="140208" y="859536"/>
                  <a:pt x="140283" y="848774"/>
                  <a:pt x="146304" y="841248"/>
                </a:cubicBezTo>
                <a:cubicBezTo>
                  <a:pt x="153169" y="832666"/>
                  <a:pt x="165522" y="830261"/>
                  <a:pt x="173736" y="822960"/>
                </a:cubicBezTo>
                <a:cubicBezTo>
                  <a:pt x="193066" y="805777"/>
                  <a:pt x="210312" y="786384"/>
                  <a:pt x="228600" y="768096"/>
                </a:cubicBezTo>
                <a:lnTo>
                  <a:pt x="228600" y="768096"/>
                </a:lnTo>
                <a:cubicBezTo>
                  <a:pt x="270523" y="705212"/>
                  <a:pt x="258225" y="734084"/>
                  <a:pt x="274320" y="685800"/>
                </a:cubicBezTo>
                <a:cubicBezTo>
                  <a:pt x="277237" y="665382"/>
                  <a:pt x="287533" y="589765"/>
                  <a:pt x="292608" y="566928"/>
                </a:cubicBezTo>
                <a:cubicBezTo>
                  <a:pt x="294699" y="557519"/>
                  <a:pt x="299104" y="548764"/>
                  <a:pt x="301752" y="539496"/>
                </a:cubicBezTo>
                <a:cubicBezTo>
                  <a:pt x="305204" y="527412"/>
                  <a:pt x="305276" y="514160"/>
                  <a:pt x="310896" y="502920"/>
                </a:cubicBezTo>
                <a:cubicBezTo>
                  <a:pt x="320726" y="483261"/>
                  <a:pt x="335280" y="466344"/>
                  <a:pt x="347472" y="448056"/>
                </a:cubicBezTo>
                <a:cubicBezTo>
                  <a:pt x="353568" y="438912"/>
                  <a:pt x="356616" y="426720"/>
                  <a:pt x="365760" y="420624"/>
                </a:cubicBezTo>
                <a:cubicBezTo>
                  <a:pt x="374904" y="414528"/>
                  <a:pt x="385421" y="410107"/>
                  <a:pt x="393192" y="402336"/>
                </a:cubicBezTo>
                <a:cubicBezTo>
                  <a:pt x="403968" y="391560"/>
                  <a:pt x="409848" y="376536"/>
                  <a:pt x="420624" y="365760"/>
                </a:cubicBezTo>
                <a:cubicBezTo>
                  <a:pt x="428395" y="357989"/>
                  <a:pt x="439613" y="354507"/>
                  <a:pt x="448056" y="347472"/>
                </a:cubicBezTo>
                <a:cubicBezTo>
                  <a:pt x="457990" y="339193"/>
                  <a:pt x="464184" y="326320"/>
                  <a:pt x="475488" y="320040"/>
                </a:cubicBezTo>
                <a:cubicBezTo>
                  <a:pt x="492339" y="310678"/>
                  <a:pt x="512064" y="307848"/>
                  <a:pt x="530352" y="301752"/>
                </a:cubicBezTo>
                <a:cubicBezTo>
                  <a:pt x="539496" y="298704"/>
                  <a:pt x="548433" y="294946"/>
                  <a:pt x="557784" y="292608"/>
                </a:cubicBezTo>
                <a:cubicBezTo>
                  <a:pt x="582168" y="286512"/>
                  <a:pt x="607091" y="282268"/>
                  <a:pt x="630936" y="274320"/>
                </a:cubicBezTo>
                <a:cubicBezTo>
                  <a:pt x="693642" y="253418"/>
                  <a:pt x="615814" y="278101"/>
                  <a:pt x="704088" y="256032"/>
                </a:cubicBezTo>
                <a:cubicBezTo>
                  <a:pt x="713439" y="253694"/>
                  <a:pt x="722013" y="248473"/>
                  <a:pt x="731520" y="246888"/>
                </a:cubicBezTo>
                <a:cubicBezTo>
                  <a:pt x="758745" y="242350"/>
                  <a:pt x="786384" y="240792"/>
                  <a:pt x="813816" y="237744"/>
                </a:cubicBezTo>
                <a:cubicBezTo>
                  <a:pt x="910808" y="213496"/>
                  <a:pt x="862028" y="222574"/>
                  <a:pt x="960120" y="210312"/>
                </a:cubicBezTo>
                <a:cubicBezTo>
                  <a:pt x="1025893" y="188388"/>
                  <a:pt x="943756" y="214987"/>
                  <a:pt x="1024128" y="192024"/>
                </a:cubicBezTo>
                <a:cubicBezTo>
                  <a:pt x="1033396" y="189376"/>
                  <a:pt x="1042109" y="184770"/>
                  <a:pt x="1051560" y="182880"/>
                </a:cubicBezTo>
                <a:cubicBezTo>
                  <a:pt x="1072694" y="178653"/>
                  <a:pt x="1094232" y="176784"/>
                  <a:pt x="1115568" y="173736"/>
                </a:cubicBezTo>
                <a:cubicBezTo>
                  <a:pt x="1124712" y="170688"/>
                  <a:pt x="1133649" y="166930"/>
                  <a:pt x="1143000" y="164592"/>
                </a:cubicBezTo>
                <a:cubicBezTo>
                  <a:pt x="1158078" y="160823"/>
                  <a:pt x="1174571" y="161879"/>
                  <a:pt x="1188720" y="155448"/>
                </a:cubicBezTo>
                <a:cubicBezTo>
                  <a:pt x="1208729" y="146353"/>
                  <a:pt x="1243584" y="118872"/>
                  <a:pt x="1243584" y="118872"/>
                </a:cubicBezTo>
                <a:lnTo>
                  <a:pt x="1280160" y="64008"/>
                </a:lnTo>
                <a:cubicBezTo>
                  <a:pt x="1298039" y="37189"/>
                  <a:pt x="1300020" y="39430"/>
                  <a:pt x="1307592" y="9144"/>
                </a:cubicBezTo>
                <a:cubicBezTo>
                  <a:pt x="1308331" y="6187"/>
                  <a:pt x="1307592" y="3048"/>
                  <a:pt x="1307592" y="0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олилиния 38"/>
          <p:cNvSpPr/>
          <p:nvPr/>
        </p:nvSpPr>
        <p:spPr>
          <a:xfrm>
            <a:off x="5559480" y="4413240"/>
            <a:ext cx="34920" cy="49320"/>
          </a:xfrm>
          <a:custGeom>
            <a:avLst/>
            <a:gdLst/>
            <a:ahLst/>
            <a:rect l="l" t="t" r="r" b="b"/>
            <a:pathLst>
              <a:path w="34248" h="49690">
                <a:moveTo>
                  <a:pt x="18288" y="12619"/>
                </a:moveTo>
                <a:cubicBezTo>
                  <a:pt x="21336" y="21763"/>
                  <a:pt x="27432" y="-15846"/>
                  <a:pt x="27432" y="-25485"/>
                </a:cubicBezTo>
                <a:cubicBezTo>
                  <a:pt x="27432" y="27484"/>
                  <a:pt x="30210" y="7449"/>
                  <a:pt x="18288" y="3475"/>
                </a:cubicBezTo>
                <a:cubicBezTo>
                  <a:pt x="7862" y="0"/>
                  <a:pt x="6096" y="21763"/>
                  <a:pt x="0" y="30907"/>
                </a:cubicBezTo>
                <a:cubicBezTo>
                  <a:pt x="9144" y="-31581"/>
                  <a:pt x="20616" y="-18669"/>
                  <a:pt x="27432" y="-25485"/>
                </a:cubicBezTo>
                <a:cubicBezTo>
                  <a:pt x="-31288" y="-32301"/>
                  <a:pt x="25104" y="19435"/>
                  <a:pt x="18288" y="12619"/>
                </a:cubicBezTo>
                <a:lnTo>
                  <a:pt x="18288" y="12619"/>
                </a:lnTo>
                <a:close/>
              </a:path>
            </a:pathLst>
          </a:custGeom>
          <a:solidFill>
            <a:srgbClr val="3891a7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олилиния 39"/>
          <p:cNvSpPr/>
          <p:nvPr/>
        </p:nvSpPr>
        <p:spPr>
          <a:xfrm>
            <a:off x="7031160" y="4362480"/>
            <a:ext cx="19080" cy="27000"/>
          </a:xfrm>
          <a:custGeom>
            <a:avLst/>
            <a:gdLst/>
            <a:ahLst/>
            <a:rect l="l" t="t" r="r" b="b"/>
            <a:pathLst>
              <a:path w="18288" h="27432">
                <a:moveTo>
                  <a:pt x="18288" y="0"/>
                </a:moveTo>
                <a:lnTo>
                  <a:pt x="0" y="27432"/>
                </a:ln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олилиния 40"/>
          <p:cNvSpPr/>
          <p:nvPr/>
        </p:nvSpPr>
        <p:spPr>
          <a:xfrm>
            <a:off x="6811920" y="5353200"/>
            <a:ext cx="61920" cy="77760"/>
          </a:xfrm>
          <a:custGeom>
            <a:avLst/>
            <a:gdLst/>
            <a:ahLst/>
            <a:rect l="l" t="t" r="r" b="b"/>
            <a:pathLst>
              <a:path w="61874" h="78181">
                <a:moveTo>
                  <a:pt x="45720" y="6096"/>
                </a:moveTo>
                <a:cubicBezTo>
                  <a:pt x="47244" y="0"/>
                  <a:pt x="22599" y="6619"/>
                  <a:pt x="18288" y="15240"/>
                </a:cubicBezTo>
                <a:cubicBezTo>
                  <a:pt x="13977" y="23861"/>
                  <a:pt x="17793" y="42672"/>
                  <a:pt x="27432" y="42672"/>
                </a:cubicBezTo>
                <a:cubicBezTo>
                  <a:pt x="37071" y="42672"/>
                  <a:pt x="44596" y="20587"/>
                  <a:pt x="36576" y="15240"/>
                </a:cubicBezTo>
                <a:cubicBezTo>
                  <a:pt x="26119" y="8269"/>
                  <a:pt x="12192" y="21336"/>
                  <a:pt x="0" y="24384"/>
                </a:cubicBezTo>
                <a:cubicBezTo>
                  <a:pt x="3048" y="33528"/>
                  <a:pt x="523" y="47505"/>
                  <a:pt x="9144" y="51816"/>
                </a:cubicBezTo>
                <a:cubicBezTo>
                  <a:pt x="61874" y="78181"/>
                  <a:pt x="44196" y="12192"/>
                  <a:pt x="45720" y="6096"/>
                </a:cubicBezTo>
                <a:close/>
              </a:path>
            </a:pathLst>
          </a:custGeom>
          <a:solidFill>
            <a:srgbClr val="3891a7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олилиния 41"/>
          <p:cNvSpPr/>
          <p:nvPr/>
        </p:nvSpPr>
        <p:spPr>
          <a:xfrm>
            <a:off x="6985080" y="4370400"/>
            <a:ext cx="58680" cy="65160"/>
          </a:xfrm>
          <a:custGeom>
            <a:avLst/>
            <a:gdLst/>
            <a:ahLst/>
            <a:rect l="l" t="t" r="r" b="b"/>
            <a:pathLst>
              <a:path w="57429" h="65180">
                <a:moveTo>
                  <a:pt x="-19347" y="0"/>
                </a:moveTo>
                <a:cubicBezTo>
                  <a:pt x="-23919" y="3048"/>
                  <a:pt x="22838" y="8084"/>
                  <a:pt x="18757" y="18288"/>
                </a:cubicBezTo>
                <a:cubicBezTo>
                  <a:pt x="0" y="-356"/>
                  <a:pt x="-15830" y="-27084"/>
                  <a:pt x="-10203" y="-28960"/>
                </a:cubicBezTo>
                <a:cubicBezTo>
                  <a:pt x="-13251" y="24384"/>
                  <a:pt x="-8107" y="5620"/>
                  <a:pt x="-19347" y="0"/>
                </a:cubicBezTo>
                <a:lnTo>
                  <a:pt x="-19347" y="0"/>
                </a:lnTo>
                <a:close/>
              </a:path>
            </a:pathLst>
          </a:custGeom>
          <a:solidFill>
            <a:srgbClr val="3891a7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олилиния 42"/>
          <p:cNvSpPr/>
          <p:nvPr/>
        </p:nvSpPr>
        <p:spPr>
          <a:xfrm>
            <a:off x="7672320" y="4987800"/>
            <a:ext cx="57240" cy="47880"/>
          </a:xfrm>
          <a:custGeom>
            <a:avLst/>
            <a:gdLst/>
            <a:ahLst/>
            <a:rect l="l" t="t" r="r" b="b"/>
            <a:pathLst>
              <a:path w="57912" h="47703">
                <a:moveTo>
                  <a:pt x="-10672" y="31743"/>
                </a:moveTo>
                <a:cubicBezTo>
                  <a:pt x="-7624" y="27171"/>
                  <a:pt x="-27264" y="15262"/>
                  <a:pt x="27432" y="13455"/>
                </a:cubicBezTo>
                <a:cubicBezTo>
                  <a:pt x="17925" y="11870"/>
                  <a:pt x="0" y="12960"/>
                  <a:pt x="0" y="22599"/>
                </a:cubicBezTo>
                <a:cubicBezTo>
                  <a:pt x="0" y="-31947"/>
                  <a:pt x="18288" y="-30745"/>
                  <a:pt x="27432" y="-24649"/>
                </a:cubicBezTo>
                <a:cubicBezTo>
                  <a:pt x="-32008" y="31743"/>
                  <a:pt x="-17151" y="24117"/>
                  <a:pt x="-19816" y="13455"/>
                </a:cubicBezTo>
                <a:cubicBezTo>
                  <a:pt x="-22154" y="4104"/>
                  <a:pt x="26909" y="0"/>
                  <a:pt x="18288" y="4311"/>
                </a:cubicBezTo>
                <a:cubicBezTo>
                  <a:pt x="9667" y="8622"/>
                  <a:pt x="12192" y="22599"/>
                  <a:pt x="9144" y="31743"/>
                </a:cubicBezTo>
                <a:cubicBezTo>
                  <a:pt x="18288" y="-30745"/>
                  <a:pt x="29760" y="-17833"/>
                  <a:pt x="-28960" y="-24649"/>
                </a:cubicBezTo>
                <a:cubicBezTo>
                  <a:pt x="-22144" y="-31465"/>
                  <a:pt x="-28465" y="13455"/>
                  <a:pt x="27432" y="13455"/>
                </a:cubicBezTo>
                <a:cubicBezTo>
                  <a:pt x="16442" y="13455"/>
                  <a:pt x="14059" y="31057"/>
                  <a:pt x="9144" y="-24649"/>
                </a:cubicBezTo>
                <a:cubicBezTo>
                  <a:pt x="7216" y="-20794"/>
                  <a:pt x="-13720" y="-29221"/>
                  <a:pt x="-10672" y="31743"/>
                </a:cubicBezTo>
                <a:close/>
              </a:path>
            </a:pathLst>
          </a:custGeom>
          <a:solidFill>
            <a:srgbClr val="3891a7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143000" y="1143000"/>
          <a:ext cx="6929280" cy="3960720"/>
        </p:xfrm>
        <a:graphic>
          <a:graphicData uri="http://schemas.openxmlformats.org/drawingml/2006/table">
            <a:tbl>
              <a:tblPr/>
              <a:tblGrid>
                <a:gridCol w="1382760"/>
                <a:gridCol w="1332000"/>
                <a:gridCol w="2071440"/>
                <a:gridCol w="2143080"/>
              </a:tblGrid>
              <a:tr h="42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лучше, чем, например, у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(+)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о(-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стойк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проводить теп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проводить электрический 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юче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стойк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Rectangle 1"/>
          <p:cNvSpPr/>
          <p:nvPr/>
        </p:nvSpPr>
        <p:spPr>
          <a:xfrm>
            <a:off x="2734920" y="41904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поли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Прямоугольник 3"/>
          <p:cNvSpPr/>
          <p:nvPr/>
        </p:nvSpPr>
        <p:spPr>
          <a:xfrm>
            <a:off x="3863880" y="5056200"/>
            <a:ext cx="228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оки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зки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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 может быть и высоким и низк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(«кау» – дерево, «учу» – течь, плакать 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Содержимое 9" descr="1267460823_geveya.jpg"/>
          <p:cNvPicPr/>
          <p:nvPr/>
        </p:nvPicPr>
        <p:blipFill>
          <a:blip r:embed="rId1"/>
          <a:stretch/>
        </p:blipFill>
        <p:spPr>
          <a:xfrm>
            <a:off x="214200" y="1428840"/>
            <a:ext cx="4357800" cy="486072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 txBox="1"/>
          <p:nvPr/>
        </p:nvSpPr>
        <p:spPr>
          <a:xfrm>
            <a:off x="4800600" y="2286000"/>
            <a:ext cx="403848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Натуральный каучук (латекс) использовался индейцами для пропитки хлопчатобумажных тканей, для домашнего производств посуды, а детям - для лепки футбольных мячей. Источником ценного сока служило дерево гевея. Эти сведения о гевее были зафиксированы в старинной рукописи начала XVI ве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«Каучу» – слезы млечного дерева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Как использовали латекс раньше?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791 год  - англичанином Самюэлем Пилем получен первый патент на </a:t>
            </a:r>
            <a:r>
              <a:rPr b="0" i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пропитку ткани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ырым латексом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811 год – открыта первая фабрика </a:t>
            </a:r>
            <a:r>
              <a:rPr b="0" i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стиральных резинок 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820 год  - каучук применяли при изготовлении </a:t>
            </a:r>
            <a:r>
              <a:rPr b="0" i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галош, непромокаемых пальто, подвязок и подтяжек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Что такое макинтош?</a:t>
            </a:r>
            <a:endParaRPr b="0" lang="en-US" sz="22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eorgia"/>
              </a:rPr>
              <a:t>1823, когда шотландец Ч.Макинтош придумал прокладывать тонкий слой резины между двумя кусками ткани, начался настоящий «резиновый бум». Непромокаемые плащи из этой ткани, которые стали называть в честь их создателя «макинтошами», получили широкое распространение. Примерно в то же время в Америке стало модно в дождливую погоду поверх башмаков носить индейскую резиновую обувь – галоши.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Содержимое 6" descr="1228905134_52280782-1.jpg"/>
          <p:cNvPicPr/>
          <p:nvPr/>
        </p:nvPicPr>
        <p:blipFill>
          <a:blip r:embed="rId1"/>
          <a:stretch/>
        </p:blipFill>
        <p:spPr>
          <a:xfrm>
            <a:off x="3429000" y="714240"/>
            <a:ext cx="52149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b2627"/>
                </a:solidFill>
                <a:latin typeface="Georgia"/>
              </a:rPr>
              <a:t>Так ли хороши были первые латексные изделия?</a:t>
            </a:r>
            <a:endParaRPr b="0" lang="en-US" sz="30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 изделий из пропитанной каучуком ткани был большой недостаток. – эластичность каучука проявляется лишь в небольшом интервале температур, поэтому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в холодную погоду резиновые изделия твердели и могли растрескаться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, а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етом размягчались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, превращаясь в липкую, издающую зловоние массу. Одежду и обувь на лето приходилось прятать в прохладный погреб, с прорезиненными крышами было хуже – приходилось терпеть неприятные запахи. Энтузиазм по поводу нового материала быстро иссяк. А когда однажды в Северо-Американских Соединенных Штатах выдалось жаркое лето, наступил кризис резиновой промышленности – вся ее продукция превратилась в мерзко пахнущий кисель. Фирмы по производству резины разорились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 все бы забыли про макинтоши и галоши, если бы не американец Чарльз Нельсон Гудьир, который верил, что из каучука можно создать хороший материал. Он посвятил этой идее несколько лет и потратил все свои сбережения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271c"/>
                </a:solidFill>
                <a:latin typeface="Georgia"/>
              </a:rPr>
              <a:t>Чарльз Нельсон Гудьир</a:t>
            </a:r>
            <a:br>
              <a:rPr sz="2400"/>
            </a:br>
            <a:r>
              <a:rPr b="1" lang="ru-RU" sz="2400" spc="-1" strike="noStrike">
                <a:solidFill>
                  <a:srgbClr val="4f271c"/>
                </a:solidFill>
                <a:latin typeface="Georgia"/>
              </a:rPr>
              <a:t>(1800-1860)</a:t>
            </a:r>
            <a:endParaRPr b="0" lang="en-US" sz="24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58" name="Рисунок 4" descr="200px-Charles_Goodyear.png"/>
          <p:cNvPicPr/>
          <p:nvPr/>
        </p:nvPicPr>
        <p:blipFill>
          <a:blip r:embed="rId1"/>
          <a:stretch/>
        </p:blipFill>
        <p:spPr>
          <a:xfrm>
            <a:off x="3940200" y="1268280"/>
            <a:ext cx="3954600" cy="366732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548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75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Georgia"/>
              </a:rPr>
              <a:t>В 1839 году капля приготовленной Чарльзом Гудьиром смеси каучука с </a:t>
            </a:r>
            <a:r>
              <a:rPr b="0" lang="ru-RU" sz="1100" spc="-1" strike="noStrike" u="sng">
                <a:solidFill>
                  <a:srgbClr val="8dc765"/>
                </a:solidFill>
                <a:uFillTx/>
                <a:latin typeface="Georgia"/>
                <a:hlinkClick r:id="rId2"/>
              </a:rPr>
              <a:t>серой</a:t>
            </a: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Georgia"/>
              </a:rPr>
              <a:t>упала на раскалённую плиту, превратившись в обугленную массу. Таким образом им был открыт процесс </a:t>
            </a:r>
            <a:r>
              <a:rPr b="0" lang="ru-RU" sz="1100" spc="-1" strike="noStrike" u="sng">
                <a:solidFill>
                  <a:srgbClr val="8dc765"/>
                </a:solidFill>
                <a:uFillTx/>
                <a:latin typeface="Georgia"/>
                <a:hlinkClick r:id="rId3"/>
              </a:rPr>
              <a:t>вулканизации</a:t>
            </a:r>
            <a:r>
              <a:rPr b="0" lang="ru-RU" sz="1100" spc="-1" strike="noStrike">
                <a:solidFill>
                  <a:srgbClr val="ffffff"/>
                </a:solidFill>
                <a:latin typeface="Georgia"/>
              </a:rPr>
              <a:t>. После экспериментов с различными соотношениями серы и каучука при разных температурах и времени нагрева Гудьиру удалось получить достаточно прочную и эластичную </a:t>
            </a:r>
            <a:r>
              <a:rPr b="0" lang="ru-RU" sz="1100" spc="-1" strike="noStrike" u="sng">
                <a:solidFill>
                  <a:srgbClr val="8dc765"/>
                </a:solidFill>
                <a:uFillTx/>
                <a:latin typeface="Georgia"/>
                <a:hlinkClick r:id="rId4"/>
              </a:rPr>
              <a:t>резину</a:t>
            </a:r>
            <a:r>
              <a:rPr b="0" lang="ru-RU" sz="11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Georgia"/>
              </a:rPr>
              <a:t>Патент на своё открытие Гудьир получил лишь в 1844 году. Хотя его открытие принесло ему славу, оно не помогло ему улучшить материальное положение. За долги он неоднократно приговаривался к тюремному заключению. Гудьир умер в нищете в 1860 году. Газеты писали о нём: «Если вы увидите человека в обуви, пальто и шляпе из резины, но без гроша в кармане, знайте: перед вами — Чарльз Гудьир».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Georgia"/>
              </a:rPr>
              <a:t>В 1898 году была основана компания </a:t>
            </a:r>
            <a:r>
              <a:rPr b="0" lang="ru-RU" sz="1100" spc="-1" strike="noStrike" u="sng">
                <a:solidFill>
                  <a:srgbClr val="8dc765"/>
                </a:solidFill>
                <a:uFillTx/>
                <a:latin typeface="Georgia"/>
                <a:hlinkClick r:id="rId5"/>
              </a:rPr>
              <a:t>Goodyear Tire and Rubber Company</a:t>
            </a:r>
            <a:r>
              <a:rPr b="0" lang="ru-RU" sz="1100" spc="-1" strike="noStrike">
                <a:solidFill>
                  <a:srgbClr val="ffffff"/>
                </a:solidFill>
                <a:latin typeface="Georgia"/>
              </a:rPr>
              <a:t>, получившая своё название в честь Чарльза Гудьира.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0" name="Picture 5" descr=""/>
          <p:cNvPicPr/>
          <p:nvPr/>
        </p:nvPicPr>
        <p:blipFill>
          <a:blip r:embed="rId6"/>
          <a:stretch/>
        </p:blipFill>
        <p:spPr>
          <a:xfrm>
            <a:off x="2987640" y="692280"/>
            <a:ext cx="1905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999880" y="5500440"/>
            <a:ext cx="586764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271c"/>
                </a:solidFill>
                <a:latin typeface="Georgia"/>
              </a:rPr>
              <a:t>Конструкция шины </a:t>
            </a:r>
            <a:endParaRPr b="0" lang="en-US" sz="24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 современных покрышках содержится около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eorgia"/>
              </a:rPr>
              <a:t>16 различных слоев.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екоторые из них до сих пор могут изготавливаться из натурального каучука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Рисунок 15" descr="1269690875_tyre_construction.jpg"/>
          <p:cNvPicPr/>
          <p:nvPr/>
        </p:nvPicPr>
        <p:blipFill>
          <a:blip r:embed="rId1"/>
          <a:srcRect l="5695" t="0" r="5695" b="0"/>
          <a:stretch/>
        </p:blipFill>
        <p:spPr>
          <a:xfrm>
            <a:off x="3000240" y="609480"/>
            <a:ext cx="58676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5:30:45Z</dcterms:created>
  <dc:creator>kav</dc:creator>
  <dc:description/>
  <dc:language>en-US</dc:language>
  <cp:lastModifiedBy>Кухарь Наталья Сергеевна</cp:lastModifiedBy>
  <dcterms:modified xsi:type="dcterms:W3CDTF">2015-03-20T12:53:44Z</dcterms:modified>
  <cp:revision>49</cp:revision>
  <dc:subject/>
  <dc:title>Слайд 1</dc:title>
</cp:coreProperties>
</file>