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9BA3-D1C5-4041-B822-7E459EA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4659-C540-4806-B631-72A34334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895A-D9FB-49C8-BA81-52D5D779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50D9-1591-4879-A074-9411869B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CD3C-F865-408B-8043-5253C084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0381-113B-484D-802D-8D3D4868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F373-08D2-48F2-BC67-3ADC8EFD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049A-C200-467F-BD93-FEEC462B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BBD7-39E8-4E73-A896-7A16917D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9C2C-4E3E-47E5-A2D5-266E9BF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C618-5E48-459E-B661-7D7F05C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6C5F-3B04-4052-B580-3269D15B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ED09-EFB5-4725-AF1A-0F4B31D6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EE04-0FF7-43A5-BCC1-87ACA2A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20A7-6C99-43B8-96EF-88809DB9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02A5-C798-42E1-9389-383D35BC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8967-4D64-4F2F-A9D4-93551B81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C692-8CBE-4BE3-AD85-1AC0BFFD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1EE9-0F22-45A7-9154-5EE88C40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0413-8B03-47E4-8BF1-066CCDE2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2F34-5B4C-4775-9703-7D079B05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B73F-BEF1-4FDE-903F-A18E202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0CFE-C1AE-41FD-BC5B-4F54990C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7ABE-F009-47D6-9A6F-0A955E7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D6AA-6E26-4F9F-BD09-2E458B698D76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036-E1E9-493F-B9FE-4976DDA630FB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Pari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4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Le Quartier Latin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Рисунок 2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2990880" cy="2087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"/>
          <p:cNvPicPr/>
          <p:nvPr/>
        </p:nvPicPr>
        <p:blipFill>
          <a:blip r:embed="rId3"/>
          <a:stretch/>
        </p:blipFill>
        <p:spPr>
          <a:xfrm>
            <a:off x="5076720" y="4292640"/>
            <a:ext cx="285768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4"/>
          <a:stretch/>
        </p:blipFill>
        <p:spPr>
          <a:xfrm>
            <a:off x="1755720" y="4064040"/>
            <a:ext cx="2521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Notre-Dame de Pari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Объект 1" descr=""/>
          <p:cNvPicPr/>
          <p:nvPr/>
        </p:nvPicPr>
        <p:blipFill>
          <a:blip r:embed="rId1"/>
          <a:stretch/>
        </p:blipFill>
        <p:spPr>
          <a:xfrm>
            <a:off x="5219640" y="2108160"/>
            <a:ext cx="3600360" cy="2400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ау\Documents\080e543421828a4b7340b11db578a793.jpg"/>
          <p:cNvPicPr/>
          <p:nvPr/>
        </p:nvPicPr>
        <p:blipFill>
          <a:blip r:embed="rId2"/>
          <a:stretch/>
        </p:blipFill>
        <p:spPr>
          <a:xfrm>
            <a:off x="250920" y="1557360"/>
            <a:ext cx="46288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La  Tour Eiffel</a:t>
            </a:r>
            <a:br>
              <a:rPr sz="3900"/>
            </a:b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4572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L’Arc de Triomph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Объект 1" descr=""/>
          <p:cNvPicPr/>
          <p:nvPr/>
        </p:nvPicPr>
        <p:blipFill>
          <a:blip r:embed="rId1"/>
          <a:stretch/>
        </p:blipFill>
        <p:spPr>
          <a:xfrm>
            <a:off x="5435640" y="1982880"/>
            <a:ext cx="3384360" cy="309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ау\Documents\arc_de_triomphe.jpg"/>
          <p:cNvPicPr/>
          <p:nvPr/>
        </p:nvPicPr>
        <p:blipFill>
          <a:blip r:embed="rId2"/>
          <a:stretch/>
        </p:blipFill>
        <p:spPr>
          <a:xfrm>
            <a:off x="395280" y="1976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Les Champs-Elysee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Объект 1" descr=""/>
          <p:cNvPicPr/>
          <p:nvPr/>
        </p:nvPicPr>
        <p:blipFill>
          <a:blip r:embed="rId1"/>
          <a:stretch/>
        </p:blipFill>
        <p:spPr>
          <a:xfrm>
            <a:off x="2916360" y="3986280"/>
            <a:ext cx="360036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332160" cy="21765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3816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La Place de la Concord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Объект 1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ау\Desktop\plochadi_parizha53.jpg"/>
          <p:cNvPicPr/>
          <p:nvPr/>
        </p:nvPicPr>
        <p:blipFill>
          <a:blip r:embed="rId2"/>
          <a:stretch/>
        </p:blipFill>
        <p:spPr>
          <a:xfrm>
            <a:off x="324000" y="2060640"/>
            <a:ext cx="3779640" cy="3816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3672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477360"/>
            <a:ext cx="6624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Le jardin des Tuilerie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"/>
          <p:cNvPicPr/>
          <p:nvPr/>
        </p:nvPicPr>
        <p:blipFill>
          <a:blip r:embed="rId2"/>
          <a:stretch/>
        </p:blipFill>
        <p:spPr>
          <a:xfrm>
            <a:off x="304920" y="1773360"/>
            <a:ext cx="3267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Le musee d’Orsay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Объект 1" descr=""/>
          <p:cNvPicPr/>
          <p:nvPr/>
        </p:nvPicPr>
        <p:blipFill>
          <a:blip r:embed="rId1"/>
          <a:stretch/>
        </p:blipFill>
        <p:spPr>
          <a:xfrm>
            <a:off x="5435640" y="3824280"/>
            <a:ext cx="3457440" cy="2665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ау\Desktop\01_musee-orsay_2007.jpg"/>
          <p:cNvPicPr/>
          <p:nvPr/>
        </p:nvPicPr>
        <p:blipFill>
          <a:blip r:embed="rId2"/>
          <a:stretch/>
        </p:blipFill>
        <p:spPr>
          <a:xfrm>
            <a:off x="133200" y="1773360"/>
            <a:ext cx="51516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Monmartr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5691240" y="3284640"/>
            <a:ext cx="2952720" cy="2436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647880" cy="217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"/>
          <p:cNvPicPr/>
          <p:nvPr/>
        </p:nvPicPr>
        <p:blipFill>
          <a:blip r:embed="rId3"/>
          <a:stretch/>
        </p:blipFill>
        <p:spPr>
          <a:xfrm>
            <a:off x="5616720" y="768240"/>
            <a:ext cx="3103560" cy="211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ау\Documents\5192576673_d950a746e8_z.jpg"/>
          <p:cNvPicPr/>
          <p:nvPr/>
        </p:nvPicPr>
        <p:blipFill>
          <a:blip r:embed="rId4"/>
          <a:stretch/>
        </p:blipFill>
        <p:spPr>
          <a:xfrm>
            <a:off x="1763640" y="3862440"/>
            <a:ext cx="28083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9:28:19Z</dcterms:created>
  <dc:creator>filolog</dc:creator>
  <dc:description/>
  <dc:language>en-US</dc:language>
  <cp:lastModifiedBy>Учитель-20</cp:lastModifiedBy>
  <dcterms:modified xsi:type="dcterms:W3CDTF">2015-03-20T08:29:16Z</dcterms:modified>
  <cp:revision>61</cp:revision>
  <dc:subject/>
  <dc:title>La France</dc:title>
</cp:coreProperties>
</file>