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23232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A3816-5845-4FDA-99B2-2C073462C0D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3BCD8-7AF7-496B-8AA2-2F42EDBE683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BD0D2-1475-4AEE-B0FC-DB145B42D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E77BA-0280-4B8A-9908-78D82DCC1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A7D52-8ACF-48E8-8AFE-90D60C23F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8C162-E404-427B-AE81-37278DCB7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483E5-7395-4DF5-BE3B-84AF89954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E6E50-6566-4A1E-9DB2-60BBA0011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7C405-8319-4688-94DC-66796F2D0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9EADE-3142-4079-8AD0-F14779A14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87EB6-D58A-4729-85B6-1B9AF5635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DCFDF-6DFA-41E0-9DFB-52535B46D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7E5DD-C561-4DB0-A1C7-50C270992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A831B-6C50-4C08-9CA4-AFE380054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12153-8B2D-465B-9C79-04BA1398A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874C4-9B8B-43D8-AA5F-CF023C38B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41755-FB3A-428B-9B47-A724FF405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E6E7F-5254-4009-A0B0-698231332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89F68-5599-42EE-8E6E-33781F474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4B436F-1B80-41B1-8657-451872CC8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D7C911-13B8-4013-8914-C3050E829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EAA216-65E4-4183-83E6-34BE07E86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A03D9C-F945-45CD-BADE-F6D31016F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F83817-67B7-4D9D-A1B1-5BCB39AAF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16A88-44A9-42B5-B45E-11339963A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C41EE9-7925-43BE-BF2C-69C43868A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C12BAE-8F98-40C4-B6A5-1478E3E81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E31CFC-0E12-4AF2-9C68-4457B0242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659A97-8BB8-4CD0-B27B-462774F01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F2D142-39D9-431F-8E91-6E26E5460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D642C4-1210-49E4-8E82-16580327E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FB7DCA-F788-4BB5-9969-B4FC7AACC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AAC6DB-A420-42E4-B765-962E13734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6EF0F8-81B8-4ADA-9B69-1A57537E1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5AA725-C329-4681-B1B5-307262A09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A888B-A252-4587-9081-2BF20EB03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337D8B-8DD4-4F5A-8F71-3E68FE4FF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2BB23A-8C3E-43B8-84F5-48F869D0F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1676B2-B455-499A-AC1F-FAE7EAA52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11BCC5-8833-424D-83BD-B78B28680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5DFE6D-565F-44F9-BD56-01B03CC62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021D88-FEE3-4B1C-BABE-AB6A2A9B4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051AB7-E79A-45FE-A15A-5185EDD32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16DBA0-6921-4A9E-8C9E-19DB7A552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4656C5-230D-4531-84DB-1D95BB5FB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8BD53-CD3E-484D-A149-612C2E4AA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D7F26-B0ED-46A7-82AA-CD78ED47E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3498F-F50A-46D5-A201-5190A1C2F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14274-0E94-416F-8892-C0AE3D30B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85658-D7C7-4514-AC9C-6B6975B8E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fcb79a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23232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f07f09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9f29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9f29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9f29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1A8A8-128D-41B1-86F3-ECBBF3E737CF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fcb79a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49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50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52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53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c94d00"/>
              </a:gs>
              <a:gs pos="50000">
                <a:srgbClr val="ff8934"/>
              </a:gs>
              <a:gs pos="100000">
                <a:srgbClr val="c94d00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54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55" name="Полилиния 16"/>
            <p:cNvSpPr/>
            <p:nvPr/>
          </p:nvSpPr>
          <p:spPr>
            <a:xfrm>
              <a:off x="1693440" y="4952880"/>
              <a:ext cx="7444440" cy="486720"/>
            </a:xfrm>
            <a:prstGeom prst="pie">
              <a:avLst/>
            </a:prstGeom>
            <a:solidFill>
              <a:srgbClr val="fcb79a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56" name="Полилиния 18"/>
            <p:cNvSpPr/>
            <p:nvPr/>
          </p:nvSpPr>
          <p:spPr>
            <a:xfrm>
              <a:off x="44280" y="5236560"/>
              <a:ext cx="9093600" cy="786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grpSp>
          <p:nvGrpSpPr>
            <p:cNvPr id="57" name="Полилиния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8" name="Полилиния 19" descr=""/>
              <p:cNvPicPr/>
              <p:nvPr/>
            </p:nvPicPr>
            <p:blipFill>
              <a:blip r:embed="rId5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" name=""/>
              <p:cNvSpPr/>
              <p:nvPr/>
            </p:nvSpPr>
            <p:spPr>
              <a:xfrm>
                <a:off x="828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</p:grpSp>
        <p:pic>
          <p:nvPicPr>
            <p:cNvPr id="60" name="Прямая соединительная линия 20" descr=""/>
            <p:cNvPicPr/>
            <p:nvPr/>
          </p:nvPicPr>
          <p:blipFill>
            <a:blip r:embed="rId6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23232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f07f09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9f29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9f29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9f29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B21A1-2AA3-4EFF-A36C-43B0EF74A181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fcb79a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104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05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07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8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d76400"/>
              </a:gs>
              <a:gs pos="100000">
                <a:srgbClr val="ffa373"/>
              </a:gs>
            </a:gsLst>
            <a:lin ang="16200000"/>
          </a:gradFill>
          <a:ln cap="rnd" w="3240">
            <a:solidFill>
              <a:srgbClr val="b05c05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9" name="Нашивка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d76400"/>
              </a:gs>
              <a:gs pos="100000">
                <a:srgbClr val="ffa373"/>
              </a:gs>
            </a:gsLst>
            <a:lin ang="16200000"/>
          </a:gradFill>
          <a:ln cap="rnd" w="3240">
            <a:solidFill>
              <a:srgbClr val="b05c05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23232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f07f09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9f29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9f29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9f29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9FC0C-5B1F-489F-BE93-9A7F274F637C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fcb79a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2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153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54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56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7" name="Полилиния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fcb79a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8" name="Полилиния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159" name="Прямоугольный треугольник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60" name="Прямоугольный треугольник 16" descr=""/>
            <p:cNvPicPr/>
            <p:nvPr/>
          </p:nvPicPr>
          <p:blipFill>
            <a:blip r:embed="rId5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62" name="Прямая соединительная линия 18" descr=""/>
          <p:cNvPicPr/>
          <p:nvPr/>
        </p:nvPicPr>
        <p:blipFill>
          <a:blip r:embed="rId6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63" name="Нашивка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d76400"/>
              </a:gs>
              <a:gs pos="100000">
                <a:srgbClr val="ffa373"/>
              </a:gs>
            </a:gsLst>
            <a:lin ang="16200000"/>
          </a:gradFill>
          <a:ln cap="rnd" w="3240">
            <a:solidFill>
              <a:srgbClr val="b05c05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4" name="Нашивка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d76400"/>
              </a:gs>
              <a:gs pos="100000">
                <a:srgbClr val="ffa373"/>
              </a:gs>
            </a:gsLst>
            <a:lin ang="16200000"/>
          </a:gradFill>
          <a:ln cap="rnd" w="3240">
            <a:solidFill>
              <a:srgbClr val="b05c05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23232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f07f09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9f29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9f29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9f29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97A00-42E3-49B8-8C83-673F4EEFFA09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Заголовок 1" descr=""/>
          <p:cNvPicPr/>
          <p:nvPr/>
        </p:nvPicPr>
        <p:blipFill>
          <a:blip r:embed="rId1"/>
          <a:stretch/>
        </p:blipFill>
        <p:spPr>
          <a:xfrm>
            <a:off x="542880" y="281160"/>
            <a:ext cx="8113680" cy="3797280"/>
          </a:xfrm>
          <a:prstGeom prst="rect">
            <a:avLst/>
          </a:prstGeom>
          <a:ln w="0">
            <a:noFill/>
          </a:ln>
        </p:spPr>
      </p:pic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428760" y="5572080"/>
            <a:ext cx="8501040" cy="128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р: Иванкина Инесса Геннадьевна воспитатель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тровского филиала «Аленушка»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БДОУ Платоновского детского сада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Содержимое 3" descr=""/>
          <p:cNvPicPr/>
          <p:nvPr/>
        </p:nvPicPr>
        <p:blipFill>
          <a:blip r:embed="rId1"/>
          <a:stretch/>
        </p:blipFill>
        <p:spPr>
          <a:xfrm>
            <a:off x="450720" y="1457280"/>
            <a:ext cx="8242560" cy="4578480"/>
          </a:xfrm>
          <a:prstGeom prst="rect">
            <a:avLst/>
          </a:prstGeom>
          <a:ln w="0">
            <a:noFill/>
          </a:ln>
        </p:spPr>
      </p:pic>
      <p:pic>
        <p:nvPicPr>
          <p:cNvPr id="236" name="Заголовок 1" descr=""/>
          <p:cNvPicPr/>
          <p:nvPr/>
        </p:nvPicPr>
        <p:blipFill>
          <a:blip r:embed="rId2"/>
          <a:stretch/>
        </p:blipFill>
        <p:spPr>
          <a:xfrm>
            <a:off x="231840" y="212760"/>
            <a:ext cx="8515440" cy="10796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213840" y="1285920"/>
            <a:ext cx="8643960" cy="528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f07f09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В.Н. Волчкова, Н.В. Степанова «Конспекты занятий в старшей группе детского сада. Познавательное развитие»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f07f09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В.Н. Волчкова, Н.В. Степанова «Конспекты занятий во второй младшей группе детского сада»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f07f09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В.А. Степанов «Азбука в загадках»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f07f09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Журнал «Ребёнок в детском саду» № 6 2006 год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f07f09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Журнал «Дошкольное воспитание» № 5 2006 год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f07f09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Журнал «дошкольное воспитание» 2007 г №4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f07f09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С.Я. Маршак «Пожар», «Рассказ о неизвестном герое», «Кошкин дом»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f07f09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Л.Н. Толстой «Пожарные собаки»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f07f09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Б. Жидков «Пожар в море», «Дым», «Пожар»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f07f09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К. Чуковский «Путаница»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f07f09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«Жили-были» №6 2003 год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f07f09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238" name="Заголовок 1" descr=""/>
          <p:cNvPicPr/>
          <p:nvPr/>
        </p:nvPicPr>
        <p:blipFill>
          <a:blip r:embed="rId1"/>
          <a:stretch/>
        </p:blipFill>
        <p:spPr>
          <a:xfrm>
            <a:off x="115920" y="66600"/>
            <a:ext cx="8577360" cy="10796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f07f09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71f28"/>
                </a:solidFill>
                <a:latin typeface="Times New Roman"/>
                <a:ea typeface="Times New Roman"/>
              </a:rPr>
              <a:t>Как донести до каждого ребенка основные понятия пожароопасных ситуаций, и выполнения правил поведения при пожаре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07f09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216" name="Заголовок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217" name="Прямоугольник 3"/>
          <p:cNvSpPr/>
          <p:nvPr/>
        </p:nvSpPr>
        <p:spPr>
          <a:xfrm>
            <a:off x="785880" y="3500280"/>
            <a:ext cx="6786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771f28"/>
                </a:solidFill>
                <a:uFillTx/>
                <a:latin typeface="Times New Roman"/>
                <a:ea typeface="Times New Roman"/>
              </a:rPr>
              <a:t>Участники проекта: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71f28"/>
                </a:solidFill>
                <a:latin typeface="Times New Roman"/>
                <a:ea typeface="Times New Roman"/>
              </a:rPr>
              <a:t>дети подготовительной группы, родители, педагогический коллектив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14200" y="999720"/>
            <a:ext cx="8715600" cy="53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66"/>
                </a:solidFill>
                <a:latin typeface="Times New Roman"/>
                <a:ea typeface="Arial Unicode MS"/>
              </a:rPr>
              <a:t>Сколько лет огонь угрожает людям, почти столько же они пытаются найти от него защиту. Можно назвать много факторов, влияющих на увеличение пожаров в современном мире, но самым важным является человеческий фактор. Проблема пожаров остро стоит не только в нашей стране, но и в нашем селе. За последние годы значительно увеличилось количество пожаров, которые произошли по вине человека. Часто причиной пожара является детская шалость. Родители подходят к этой проблеме недостаточно серьёзно. Разрешают детям играть огнеопасными предметами, у многих зажигалка является привычной игрушкой. Чтобы изменить отношение человека к этой проблеме, нужно уже на дошкольном этапе развития ребёнка начинать заниматься этой проблемой. Необходимо изменить сознание и отношение людей к противопожарной безопасности, а детский возраст является самым благоприятным для формирования правил пожарной безопасности. Детскому саду и родителям надо объединить усилия, для того, чтобы уберечь детей от возможной трагедии, необходима целенаправленная работа над формированием у них культуры пожаробезопасного поведения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f07f09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219" name="Заголовок 1" descr=""/>
          <p:cNvPicPr/>
          <p:nvPr/>
        </p:nvPicPr>
        <p:blipFill>
          <a:blip r:embed="rId1"/>
          <a:stretch/>
        </p:blipFill>
        <p:spPr>
          <a:xfrm>
            <a:off x="-6480" y="-23760"/>
            <a:ext cx="8083800" cy="9572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Схема 3" descr=""/>
          <p:cNvPicPr/>
          <p:nvPr/>
        </p:nvPicPr>
        <p:blipFill>
          <a:blip r:embed="rId1"/>
          <a:stretch/>
        </p:blipFill>
        <p:spPr>
          <a:xfrm>
            <a:off x="438120" y="133200"/>
            <a:ext cx="8424720" cy="631692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 txBox="1"/>
          <p:nvPr/>
        </p:nvSpPr>
        <p:spPr>
          <a:xfrm>
            <a:off x="457200" y="6410160"/>
            <a:ext cx="7238880" cy="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720" bIns="-720"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f07f09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214200" y="713880"/>
            <a:ext cx="8715600" cy="592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771f28"/>
                </a:solidFill>
                <a:uFillTx/>
                <a:latin typeface="Times New Roman"/>
                <a:ea typeface="Times New Roman"/>
              </a:rPr>
              <a:t>Образовательные 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f07f09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71f28"/>
                </a:solidFill>
                <a:latin typeface="Times New Roman"/>
                <a:ea typeface="Times New Roman"/>
              </a:rPr>
              <a:t>Познакомить с историей возникновения огня.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f07f09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71f28"/>
                </a:solidFill>
                <a:latin typeface="Times New Roman"/>
                <a:ea typeface="Times New Roman"/>
              </a:rPr>
              <a:t>Дать понятие детям, что огонь бывает другом, а бывает и врагом.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f07f09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71f28"/>
                </a:solidFill>
                <a:latin typeface="Times New Roman"/>
                <a:ea typeface="Times New Roman"/>
              </a:rPr>
              <a:t>Учить детей видеть, когда огонь друг, а когда враг.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771f28"/>
                </a:solidFill>
                <a:uFillTx/>
                <a:latin typeface="Times New Roman"/>
                <a:ea typeface="Times New Roman"/>
              </a:rPr>
              <a:t>Развивающие 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f07f09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71f28"/>
                </a:solidFill>
                <a:latin typeface="Times New Roman"/>
                <a:ea typeface="Times New Roman"/>
              </a:rPr>
              <a:t>Формировать умение реально оценивать возможную опасность.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f07f09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71f28"/>
                </a:solidFill>
                <a:latin typeface="Times New Roman"/>
                <a:ea typeface="Times New Roman"/>
              </a:rPr>
              <a:t>Помочь детям запомнить правила пожарной безопасности.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f07f09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71f28"/>
                </a:solidFill>
                <a:latin typeface="Times New Roman"/>
                <a:ea typeface="Times New Roman"/>
              </a:rPr>
              <a:t>Развивать творческие способности дошкольников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771f28"/>
                </a:solidFill>
                <a:uFillTx/>
                <a:latin typeface="Times New Roman"/>
                <a:ea typeface="Times New Roman"/>
              </a:rPr>
              <a:t>Воспитательные 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f07f09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71f28"/>
                </a:solidFill>
                <a:latin typeface="Times New Roman"/>
                <a:ea typeface="Times New Roman"/>
              </a:rPr>
              <a:t>Воспитывать чувство осторожности и самосохранения.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f07f09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71f28"/>
                </a:solidFill>
                <a:latin typeface="Times New Roman"/>
                <a:ea typeface="Times New Roman"/>
              </a:rPr>
              <a:t>Воспитывать в детях уверенность в своих силах, проводить профилактику страха перед огнем.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f07f09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71f28"/>
                </a:solidFill>
                <a:latin typeface="Times New Roman"/>
                <a:ea typeface="Times New Roman"/>
              </a:rPr>
              <a:t>Воспитывать чувства благодарности людям, которые помогают нам в трудных ситуациях.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771f28"/>
                </a:solidFill>
                <a:uFillTx/>
                <a:latin typeface="Times New Roman"/>
                <a:ea typeface="Times New Roman"/>
              </a:rPr>
              <a:t>Практические 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f07f09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71f28"/>
                </a:solidFill>
                <a:latin typeface="Times New Roman"/>
                <a:ea typeface="Times New Roman"/>
              </a:rPr>
              <a:t>Прививать практические навыки поведения детей при возникновении пожара. 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f07f09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71f28"/>
                </a:solidFill>
                <a:latin typeface="Times New Roman"/>
                <a:ea typeface="Times New Roman"/>
              </a:rPr>
              <a:t>Учить элементарным действиям по тушению очага возгорания.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f07f09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71f28"/>
                </a:solidFill>
                <a:latin typeface="Times New Roman"/>
                <a:ea typeface="Times New Roman"/>
              </a:rPr>
              <a:t>Показать родителям знания и умения детей, приобретенные в ходе реализации проекта.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f07f09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71f28"/>
                </a:solidFill>
                <a:latin typeface="Times New Roman"/>
                <a:ea typeface="Times New Roman"/>
              </a:rPr>
              <a:t>Вовлечь их в образовательный процесс ДОУ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223" name="Заголовок 1" descr=""/>
          <p:cNvPicPr/>
          <p:nvPr/>
        </p:nvPicPr>
        <p:blipFill>
          <a:blip r:embed="rId1"/>
          <a:stretch/>
        </p:blipFill>
        <p:spPr>
          <a:xfrm>
            <a:off x="311040" y="-122400"/>
            <a:ext cx="7394760" cy="8607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428400" y="1142640"/>
            <a:ext cx="8258040" cy="5072040"/>
          </a:xfrm>
          <a:prstGeom prst="rect">
            <a:avLst/>
          </a:prstGeom>
          <a:noFill/>
          <a:ln w="9360">
            <a:solidFill>
              <a:srgbClr val="f3eade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f07f09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27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оставление дополнительных разработок занятий, игр, досугов, практических занятий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f07f09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офилактика панического страха перед огнём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f07f09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владение детьми навыками правильных действий в случае пожара, их отработка до автоматизма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f07f09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сознанное выполнение правил противопожарной безопасности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f07f09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зменение отношения родителей к данной проблеме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f07f09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225" name="Заголовок 1" descr=""/>
          <p:cNvPicPr/>
          <p:nvPr/>
        </p:nvPicPr>
        <p:blipFill>
          <a:blip r:embed="rId1"/>
          <a:stretch/>
        </p:blipFill>
        <p:spPr>
          <a:xfrm>
            <a:off x="109440" y="23760"/>
            <a:ext cx="7566120" cy="11224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457200" y="1142640"/>
            <a:ext cx="7238880" cy="531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f07f09"/>
              </a:buClr>
              <a:buSzPct val="68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227" name="Заголовок 1" descr=""/>
          <p:cNvPicPr/>
          <p:nvPr/>
        </p:nvPicPr>
        <p:blipFill>
          <a:blip r:embed="rId1"/>
          <a:stretch/>
        </p:blipFill>
        <p:spPr>
          <a:xfrm>
            <a:off x="262080" y="189000"/>
            <a:ext cx="8699400" cy="768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8" name=""/>
          <p:cNvGraphicFramePr/>
          <p:nvPr/>
        </p:nvGraphicFramePr>
        <p:xfrm>
          <a:off x="1523880" y="1397160"/>
          <a:ext cx="6096240" cy="371160"/>
        </p:xfrm>
        <a:graphic>
          <a:graphicData uri="http://schemas.openxmlformats.org/drawingml/2006/table">
            <a:tbl>
              <a:tblPr/>
              <a:tblGrid>
                <a:gridCol w="3048120"/>
                <a:gridCol w="3048120"/>
              </a:tblGrid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604878"/>
                      </a:solidFill>
                    </a:lnL>
                    <a:lnR>
                      <a:noFill/>
                    </a:lnR>
                    <a:lnT w="5760">
                      <a:solidFill>
                        <a:srgbClr val="604878"/>
                      </a:solidFill>
                    </a:lnT>
                    <a:lnB w="5760">
                      <a:solidFill>
                        <a:srgbClr val="604878"/>
                      </a:solidFill>
                    </a:lnB>
                    <a:solidFill>
                      <a:srgbClr val="60487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604878"/>
                      </a:solidFill>
                    </a:lnR>
                    <a:lnT w="5760">
                      <a:solidFill>
                        <a:srgbClr val="604878"/>
                      </a:solidFill>
                    </a:lnT>
                    <a:lnB w="5760">
                      <a:solidFill>
                        <a:srgbClr val="604878"/>
                      </a:solidFill>
                    </a:lnB>
                    <a:solidFill>
                      <a:srgbClr val="60487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29" name=""/>
          <p:cNvGraphicFramePr/>
          <p:nvPr/>
        </p:nvGraphicFramePr>
        <p:xfrm>
          <a:off x="357120" y="1071720"/>
          <a:ext cx="8501040" cy="5543280"/>
        </p:xfrm>
        <a:graphic>
          <a:graphicData uri="http://schemas.openxmlformats.org/drawingml/2006/table">
            <a:tbl>
              <a:tblPr/>
              <a:tblGrid>
                <a:gridCol w="4251240"/>
                <a:gridCol w="424980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гровая деятельн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идактические игры «Пожароопасные предметы», «Что необходимо пожарному». Литературная викторина «Огонь в картинках и загадках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знавательная деятельность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ия «Огонь. Добрый и злой», «Правила поведения при пожаре дома, в ДОУ, в лесу»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витие реч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ставление творческих рассказов «Спичка невеличка и большой пожар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следовательская деятельн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ыты «Опасные спички», «опасная свеча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214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знакомление с научно-популярной и художественной литературо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тение произведений для детей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.Я. Маршак «Пожар», «Рассказ о неизвестном герое», «Кошкин дом»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.Н. Толстой «Пожарные собаки»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. Жидков «Пожар в море», «Дым», «Пожар»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. Чуковский «Путаница»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</a:tbl>
          </a:graphicData>
        </a:graphic>
      </p:graphicFrame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0" name=""/>
          <p:cNvGraphicFramePr/>
          <p:nvPr/>
        </p:nvGraphicFramePr>
        <p:xfrm>
          <a:off x="457200" y="285840"/>
          <a:ext cx="8258040" cy="6167520"/>
        </p:xfrm>
        <a:graphic>
          <a:graphicData uri="http://schemas.openxmlformats.org/drawingml/2006/table">
            <a:tbl>
              <a:tblPr/>
              <a:tblGrid>
                <a:gridCol w="4129200"/>
                <a:gridCol w="4128840"/>
              </a:tblGrid>
              <a:tr h="838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дел программ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ы работ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образительная и продуктивная деятельн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сматривание плакатов и иллюстраций этой тематики, лепка на противопожарную тему, творческие работы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128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ическое развит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вижная игра «пожарные на учении», эстафета «полоса препятствий»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128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бота с родителям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формление стенда «01», беседы «Чтобы не было беды»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128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зыкальная и театрализованная деятельн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сни на противопожарную тему, театрализованные представления «Кошкин дом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</a:tbl>
          </a:graphicData>
        </a:graphic>
      </p:graphicFrame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1" name="Содержимое 2"/>
          <p:cNvGrpSpPr/>
          <p:nvPr/>
        </p:nvGrpSpPr>
        <p:grpSpPr>
          <a:xfrm>
            <a:off x="96840" y="1023840"/>
            <a:ext cx="8802720" cy="5023080"/>
            <a:chOff x="96840" y="1023840"/>
            <a:chExt cx="8802720" cy="5023080"/>
          </a:xfrm>
        </p:grpSpPr>
        <p:pic>
          <p:nvPicPr>
            <p:cNvPr id="232" name="Содержимое 2" descr=""/>
            <p:cNvPicPr/>
            <p:nvPr/>
          </p:nvPicPr>
          <p:blipFill>
            <a:blip r:embed="rId1"/>
            <a:stretch/>
          </p:blipFill>
          <p:spPr>
            <a:xfrm>
              <a:off x="96840" y="1023840"/>
              <a:ext cx="8802720" cy="502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"/>
            <p:cNvSpPr/>
            <p:nvPr/>
          </p:nvSpPr>
          <p:spPr>
            <a:xfrm>
              <a:off x="214200" y="1143000"/>
              <a:ext cx="8572680" cy="478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65040" indent="-255600">
                <a:spcBef>
                  <a:spcPts val="400"/>
                </a:spcBef>
                <a:buClr>
                  <a:srgbClr val="f07f09"/>
                </a:buClr>
                <a:buSzPct val="68000"/>
                <a:buFont typeface="Wingdings 3" charset="2"/>
                <a:buChar char="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Lucida Sans Unicode"/>
              </a:endParaRPr>
            </a:p>
            <a:p>
              <a:pPr marL="365040" indent="-255600">
                <a:spcBef>
                  <a:spcPts val="400"/>
                </a:spcBef>
                <a:buClr>
                  <a:srgbClr val="f07f09"/>
                </a:buClr>
                <a:buSzPct val="68000"/>
                <a:buFont typeface="Wingdings 3" charset="2"/>
                <a:buChar char="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Lucida Sans Unicode"/>
              </a:endParaRPr>
            </a:p>
            <a:p>
              <a:pPr marL="365040" indent="-255600">
                <a:lnSpc>
                  <a:spcPct val="100000"/>
                </a:lnSpc>
                <a:spcBef>
                  <a:spcPts val="400"/>
                </a:spcBef>
                <a:buClr>
                  <a:srgbClr val="f07f09"/>
                </a:buClr>
                <a:buSzPct val="68000"/>
                <a:buFont typeface="Wingdings 3" charset="2"/>
                <a:buChar char="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7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Подготовительный -  (1 - 2 неделя сентября)</a:t>
              </a:r>
              <a:endParaRPr b="0" lang="en-US" sz="2700" spc="-1" strike="noStrike">
                <a:solidFill>
                  <a:srgbClr val="000000"/>
                </a:solidFill>
                <a:latin typeface="Lucida Sans Unicode"/>
              </a:endParaRPr>
            </a:p>
            <a:p>
              <a:pPr marL="365040" indent="-255600">
                <a:lnSpc>
                  <a:spcPct val="100000"/>
                </a:lnSpc>
                <a:spcBef>
                  <a:spcPts val="400"/>
                </a:spcBef>
                <a:buClr>
                  <a:srgbClr val="f07f09"/>
                </a:buClr>
                <a:buSzPct val="68000"/>
                <a:buFont typeface="Wingdings 3" charset="2"/>
                <a:buChar char="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Lucida Sans Unicode"/>
              </a:endParaRPr>
            </a:p>
            <a:p>
              <a:pPr marL="365040" indent="-255600">
                <a:lnSpc>
                  <a:spcPct val="100000"/>
                </a:lnSpc>
                <a:spcBef>
                  <a:spcPts val="400"/>
                </a:spcBef>
                <a:buClr>
                  <a:srgbClr val="f07f09"/>
                </a:buClr>
                <a:buSzPct val="68000"/>
                <a:buFont typeface="Wingdings 3" charset="2"/>
                <a:buChar char="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7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Основной - (3 – 4 неделя сентября, </a:t>
              </a:r>
              <a:endParaRPr b="0" lang="en-US" sz="2700" spc="-1" strike="noStrike">
                <a:solidFill>
                  <a:srgbClr val="000000"/>
                </a:solidFill>
                <a:latin typeface="Lucida Sans Unicode"/>
              </a:endParaRPr>
            </a:p>
            <a:p>
              <a:pPr marL="365040" indent="-255600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7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                       </a:t>
              </a:r>
              <a:r>
                <a:rPr b="1" lang="ru-RU" sz="27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1 – 2 неделя октября)</a:t>
              </a:r>
              <a:endParaRPr b="0" lang="en-US" sz="2700" spc="-1" strike="noStrike">
                <a:solidFill>
                  <a:srgbClr val="000000"/>
                </a:solidFill>
                <a:latin typeface="Lucida Sans Unicode"/>
              </a:endParaRPr>
            </a:p>
            <a:p>
              <a:pPr marL="365040" indent="-255600">
                <a:lnSpc>
                  <a:spcPct val="100000"/>
                </a:lnSpc>
                <a:spcBef>
                  <a:spcPts val="400"/>
                </a:spcBef>
                <a:buClr>
                  <a:srgbClr val="f07f09"/>
                </a:buClr>
                <a:buSzPct val="68000"/>
                <a:buFont typeface="Wingdings 3" charset="2"/>
                <a:buChar char="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Lucida Sans Unicode"/>
              </a:endParaRPr>
            </a:p>
            <a:p>
              <a:pPr marL="365040" indent="-255600">
                <a:lnSpc>
                  <a:spcPct val="100000"/>
                </a:lnSpc>
                <a:spcBef>
                  <a:spcPts val="400"/>
                </a:spcBef>
                <a:buClr>
                  <a:srgbClr val="f07f09"/>
                </a:buClr>
                <a:buSzPct val="68000"/>
                <a:buFont typeface="Wingdings 3" charset="2"/>
                <a:buChar char="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7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Заключительный -  (3 – 4 неделя октября)</a:t>
              </a:r>
              <a:endParaRPr b="0" lang="en-US" sz="2700" spc="-1" strike="noStrike">
                <a:solidFill>
                  <a:srgbClr val="000000"/>
                </a:solidFill>
                <a:latin typeface="Lucida Sans Unicode"/>
              </a:endParaRPr>
            </a:p>
            <a:p>
              <a:pPr marL="365040" indent="-255600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234" name="Заголовок 1" descr=""/>
          <p:cNvPicPr/>
          <p:nvPr/>
        </p:nvPicPr>
        <p:blipFill>
          <a:blip r:embed="rId2"/>
          <a:stretch/>
        </p:blipFill>
        <p:spPr>
          <a:xfrm>
            <a:off x="195120" y="96840"/>
            <a:ext cx="8242560" cy="9097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3T18:54:16Z</dcterms:created>
  <dc:creator>Chosen One</dc:creator>
  <dc:description/>
  <dc:language>en-US</dc:language>
  <cp:lastModifiedBy>user</cp:lastModifiedBy>
  <dcterms:modified xsi:type="dcterms:W3CDTF">2015-03-18T07:07:27Z</dcterms:modified>
  <cp:revision>45</cp:revision>
  <dc:subject/>
  <dc:title>Педагогический проект на тему «Безопасное поведение»</dc:title>
</cp:coreProperties>
</file>