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8179-3451-456C-A0F5-5CDDC36E8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A7E4-7816-42DE-9CFA-5488A841F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CF2-0CC4-4B3A-A426-70D4A590DF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D3E-9AB8-4A82-963F-E92592195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6BD-2CB3-4273-8987-C3AC41C1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B58-A80F-4F85-8B5C-B824E7A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733-93CD-49D6-9EC1-70A81162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8C3-C736-4EDF-AED1-9108238C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C29-6B9F-4DD7-B402-1D153987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707-5B97-4B22-8C74-754D3836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201-E938-419A-9AA5-0C549A1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DF3-8356-4983-80CD-128CD5B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707-7FDF-43E3-AC11-4A526E7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05-9FE9-4B1F-A6BE-A38FCF5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6BD-0A48-4F05-9652-3C31182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1EF-BE87-454D-B54D-67DBC40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5F5-8282-4206-8E54-DEAE09E8A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Я\Рабочий стол\Рисунок1.jpg"/>
          <p:cNvPicPr/>
          <p:nvPr/>
        </p:nvPicPr>
        <p:blipFill>
          <a:blip r:embed="rId1"/>
          <a:srcRect l="0" t="1418" r="138" b="113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228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ая мето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81480" y="228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5800" y="4800600"/>
            <a:ext cx="3733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76320" y="48769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257800" y="4800600"/>
            <a:ext cx="4495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стре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бенка быть самостоятельны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3232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800600" y="3232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3124080" cy="23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685800" y="762120"/>
            <a:ext cx="2895480" cy="241596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низ 13"/>
          <p:cNvSpPr/>
          <p:nvPr/>
        </p:nvSpPr>
        <p:spPr>
          <a:xfrm>
            <a:off x="6477120" y="4419720"/>
            <a:ext cx="53316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14"/>
          <p:cNvSpPr/>
          <p:nvPr/>
        </p:nvSpPr>
        <p:spPr>
          <a:xfrm>
            <a:off x="1676520" y="4419720"/>
            <a:ext cx="53316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53352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ая мето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09480" y="4800600"/>
            <a:ext cx="373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удите об успехах ребенка по одним отметкам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0" y="51055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4495680" y="518148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029200" y="480060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любой успех ребенка, его продвижение к лучшему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0" y="1828800"/>
            <a:ext cx="4800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успехах ребенка судят по отметкам, которые поставил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лятся на  отличников, хорошистов, троечников и дво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419720" y="1828800"/>
            <a:ext cx="4952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может быть и без отметки (без «5»,«4»,«3»,«2»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будут оценивать себя 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может быть лучшим в чем-то свое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486400" y="762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3"/>
          <p:cNvSpPr/>
          <p:nvPr/>
        </p:nvSpPr>
        <p:spPr>
          <a:xfrm>
            <a:off x="6705720" y="1447920"/>
            <a:ext cx="53316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14"/>
          <p:cNvSpPr/>
          <p:nvPr/>
        </p:nvSpPr>
        <p:spPr>
          <a:xfrm>
            <a:off x="1828800" y="1523880"/>
            <a:ext cx="53352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8343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же означает название?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4148280"/>
            <a:ext cx="51544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, в котором мы жив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9640" y="419112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53341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Arial"/>
              </a:rPr>
              <a:t>Живем в настоящем, готовя будущее!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50920" y="1687680"/>
            <a:ext cx="655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Школа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635280" y="2276640"/>
            <a:ext cx="475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763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4140360" y="3048120"/>
            <a:ext cx="1295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7020000" y="3048120"/>
            <a:ext cx="79200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Я\Рабочий стол\Рисунок3.jpg"/>
          <p:cNvPicPr/>
          <p:nvPr/>
        </p:nvPicPr>
        <p:blipFill>
          <a:blip r:embed="rId1"/>
          <a:stretch/>
        </p:blipFill>
        <p:spPr>
          <a:xfrm>
            <a:off x="-6480" y="-76320"/>
            <a:ext cx="915696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19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ть, давать знания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ть ум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788000" y="2873520"/>
            <a:ext cx="4356000" cy="386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08000" y="2892600"/>
            <a:ext cx="4537080" cy="3827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Два пути современной школ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668160"/>
            <a:ext cx="8532720" cy="618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Если в новых условиях продолжать «накачивать» ученика знаниям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Кольцо 13"/>
          <p:cNvSpPr/>
          <p:nvPr/>
        </p:nvSpPr>
        <p:spPr>
          <a:xfrm>
            <a:off x="0" y="-1066680"/>
            <a:ext cx="9144000" cy="8915400"/>
          </a:xfrm>
          <a:prstGeom prst="pie">
            <a:avLst/>
          </a:prstGeom>
          <a:solidFill>
            <a:srgbClr val="66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1355760" cy="330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1801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ить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63680" y="2895480"/>
            <a:ext cx="19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-152280" y="45720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ть забот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других,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равств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172200" y="3352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оваться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400080" y="1371600"/>
            <a:ext cx="27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971800" y="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4724280" y="54100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добыва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разовательная систем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Школа 210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0880" y="243828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чь каждому стать личность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ной решать люб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енные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ваясь при э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ловек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BS02064_"/>
          <p:cNvPicPr/>
          <p:nvPr/>
        </p:nvPicPr>
        <p:blipFill>
          <a:blip r:embed="rId1"/>
          <a:stretch/>
        </p:blipFill>
        <p:spPr>
          <a:xfrm>
            <a:off x="152280" y="367020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низ 202"/>
          <p:cNvSpPr/>
          <p:nvPr/>
        </p:nvSpPr>
        <p:spPr>
          <a:xfrm>
            <a:off x="4038480" y="1447920"/>
            <a:ext cx="990720" cy="99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Я\Рабочий стол\Рисунок2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1295280" y="228600"/>
            <a:ext cx="6629400" cy="10688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и тексты в учебнике даны с избытком – для выб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2362320" y="1828800"/>
            <a:ext cx="4572000" cy="3232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657600" y="3886200"/>
            <a:ext cx="22096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276720" y="21337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457200" y="5562720"/>
            <a:ext cx="81532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8"/>
          <p:cNvSpPr/>
          <p:nvPr/>
        </p:nvSpPr>
        <p:spPr>
          <a:xfrm>
            <a:off x="4419720" y="4876920"/>
            <a:ext cx="609480" cy="7617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верх 19"/>
          <p:cNvSpPr/>
          <p:nvPr/>
        </p:nvSpPr>
        <p:spPr>
          <a:xfrm>
            <a:off x="4343400" y="1371600"/>
            <a:ext cx="6858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User\Рабочий стол\scrn_big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-533520" y="18288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ая мето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6386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6320" y="522936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1008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2280" y="2590920"/>
            <a:ext cx="38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267080" y="2590920"/>
            <a:ext cx="4876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990720" y="0"/>
            <a:ext cx="21333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5486400" y="0"/>
            <a:ext cx="2467080" cy="168768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низ 14"/>
          <p:cNvSpPr/>
          <p:nvPr/>
        </p:nvSpPr>
        <p:spPr>
          <a:xfrm>
            <a:off x="1600200" y="2286000"/>
            <a:ext cx="53352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низ 15"/>
          <p:cNvSpPr/>
          <p:nvPr/>
        </p:nvSpPr>
        <p:spPr>
          <a:xfrm>
            <a:off x="6400800" y="2286000"/>
            <a:ext cx="53352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3-20T12:35:2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