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gif" ContentType="image/gif"/>
  <Override PartName="/ppt/media/image24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5960" y="-36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93400" y="1228680"/>
            <a:ext cx="4421160" cy="331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1120" y="4727160"/>
            <a:ext cx="544680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33084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5960" y="933084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DE4-61D0-484E-88E8-39941D86B6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3760" y="1228680"/>
            <a:ext cx="4421160" cy="3314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7160"/>
            <a:ext cx="544680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55960" y="933120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E98E-AEDB-4EA4-9D48-6C010F010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880-F1FA-4A38-8423-AC15C837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A75-300B-4BC8-B645-089959A8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5E4-38FE-454E-91A7-EC0694EA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341-274B-4818-8173-E0C6A02A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196B-0E8D-4283-B415-4ABCD087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688C-E2C0-450D-95E6-497BF207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A68D-3AF2-420E-AE5A-24DC887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FEA0-77C0-42FA-9A34-55AD5D6B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51E2-9C18-4FFF-BE38-A9A8A2E2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4777-17D1-42BD-8590-F4A41D6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F705-FFAA-451D-88FA-41B3B57E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4A1-A2DD-476A-8E57-9382855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7EC1-3BF7-4B8D-956A-ACECC9C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94AE-B501-48A2-96FE-56DF129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E24E-9F59-4943-94FA-7F62E73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3F7C-02E7-4141-94A2-010A0CC2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0553-74FD-4371-8127-010CB74F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CA88-ED71-48AC-9C41-987B7DC1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E344-66E5-456D-93E4-72419056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C6A1-9ECF-4DC6-850F-472EBE62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E561-52A6-4B0B-AF29-C5ADC89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F539-7D7B-4AC2-8687-1B37AC8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82C-D43E-4BBD-8EF2-9A3E06FF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8461-0F97-41DD-B85B-573E376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558B-40C7-47F1-972B-C7648B1A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E015-F207-44AF-8140-71F1AD1C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CF1E-9376-41D0-B71C-DE8C95F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0747-B680-4DAC-8BBB-DF0B63E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02DB-28D8-4282-9988-4E87658A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82EB-66FC-46A1-BB9E-07BCD363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74E5-6CE3-4F34-8D47-DAF80D6C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853E-4DB5-4BE7-A109-DA9AB9C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6DD7-AEAA-483C-BF77-E684134D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82D-F4D5-41F2-AE6A-0CBD557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93D4-83B8-4B81-B1FF-03F68C3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0D7F-CB70-4DF5-83BB-65DDFAFD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2422-993D-442E-A83F-F5A5FBD4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3685-B938-44BF-8DF3-8D058E8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8060-D2D3-4A83-9842-6F33B0C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E4FF-7296-4913-972F-E13B2E02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FE38-36C7-4834-8DD4-6841D87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C38E-8004-4E41-AB6C-7FED9420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F798-5301-439E-90E1-CB4CBBB3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EBF-6AC5-486A-862A-0070791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44B-7B3A-49F8-8F2B-C22AE3A8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666-092D-4FD4-92FA-8DA8B03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3F7-50FD-4281-821E-F6B64FC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685-1F78-4E93-B207-AF32F6AB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6349-503A-4F23-9F06-28E8F92619E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1F89-1E9E-4164-AD74-8C204C07673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470-973F-4E53-B53C-69B311B7012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AEE7-1EAA-42F9-807A-D3B3703CD20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285840" y="4714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TextBox 4" descr=""/>
          <p:cNvPicPr/>
          <p:nvPr/>
        </p:nvPicPr>
        <p:blipFill>
          <a:blip r:embed="rId1"/>
          <a:stretch/>
        </p:blipFill>
        <p:spPr>
          <a:xfrm>
            <a:off x="1390680" y="-60480"/>
            <a:ext cx="5259240" cy="17607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"/>
          <p:cNvPicPr/>
          <p:nvPr/>
        </p:nvPicPr>
        <p:blipFill>
          <a:blip r:embed="rId2"/>
          <a:stretch/>
        </p:blipFill>
        <p:spPr>
          <a:xfrm>
            <a:off x="2050920" y="1447920"/>
            <a:ext cx="381816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изминут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7" name="Объект 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rebuchet MS"/>
              </a:rPr>
              <a:t>Спасибо за внимание!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rebuchet MS"/>
              </a:rPr>
              <a:t>ЗАГАДКА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9640" y="907920"/>
            <a:ext cx="6345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432a"/>
                </a:solidFill>
                <a:latin typeface="Times New Roman"/>
                <a:ea typeface="Times New Roman"/>
              </a:rPr>
              <a:t>Рыжий зверь в печи сидит, рыжий зверь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432a"/>
                </a:solidFill>
                <a:latin typeface="Times New Roman"/>
                <a:ea typeface="Times New Roman"/>
              </a:rPr>
              <a:t>на всех сердит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432a"/>
                </a:solidFill>
                <a:latin typeface="Times New Roman"/>
                <a:ea typeface="Times New Roman"/>
              </a:rPr>
              <a:t>Он от злобы ест дрова, целый час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432a"/>
                </a:solidFill>
                <a:latin typeface="Times New Roman"/>
                <a:ea typeface="Times New Roman"/>
              </a:rPr>
              <a:t>А может дв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432a"/>
                </a:solidFill>
                <a:latin typeface="Times New Roman"/>
                <a:ea typeface="Times New Roman"/>
              </a:rPr>
              <a:t>Ты рукой его не тронь, искусает всю ладонь.                      </a:t>
            </a:r>
            <a:r>
              <a:rPr b="1" lang="ru-RU" sz="3200" spc="-1" strike="noStrike">
                <a:solidFill>
                  <a:srgbClr val="0b0f11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6842160" y="3002040"/>
            <a:ext cx="2286000" cy="3799080"/>
            <a:chOff x="6842160" y="3002040"/>
            <a:chExt cx="2286000" cy="3799080"/>
          </a:xfrm>
        </p:grpSpPr>
        <p:pic>
          <p:nvPicPr>
            <p:cNvPr id="225" name="Рисунок 3" descr="C:\ресурсы\Картинки\Огонь\i3.gif"/>
            <p:cNvPicPr/>
            <p:nvPr/>
          </p:nvPicPr>
          <p:blipFill>
            <a:blip r:embed="rId1"/>
            <a:stretch/>
          </p:blipFill>
          <p:spPr>
            <a:xfrm>
              <a:off x="6842160" y="3002040"/>
              <a:ext cx="22860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5"/>
            <p:cNvSpPr/>
            <p:nvPr/>
          </p:nvSpPr>
          <p:spPr>
            <a:xfrm>
              <a:off x="6885000" y="6219720"/>
              <a:ext cx="16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3300"/>
                  </a:solidFill>
                  <a:latin typeface="Georgia"/>
                </a:rPr>
                <a:t>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2" descr=""/>
          <p:cNvPicPr/>
          <p:nvPr/>
        </p:nvPicPr>
        <p:blipFill>
          <a:blip r:embed="rId1"/>
          <a:stretch/>
        </p:blipFill>
        <p:spPr>
          <a:xfrm>
            <a:off x="324000" y="927000"/>
            <a:ext cx="4352760" cy="5742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5218200" y="927000"/>
            <a:ext cx="377352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14"/>
          <p:cNvSpPr txBox="1"/>
          <p:nvPr/>
        </p:nvSpPr>
        <p:spPr>
          <a:xfrm>
            <a:off x="1214280" y="260280"/>
            <a:ext cx="5086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д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tretch/>
        </p:blipFill>
        <p:spPr>
          <a:xfrm>
            <a:off x="324000" y="1092240"/>
            <a:ext cx="3311280" cy="28051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"/>
          <p:cNvPicPr/>
          <p:nvPr/>
        </p:nvPicPr>
        <p:blipFill>
          <a:blip r:embed="rId2"/>
          <a:stretch/>
        </p:blipFill>
        <p:spPr>
          <a:xfrm>
            <a:off x="3995640" y="1092240"/>
            <a:ext cx="3529080" cy="2635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3"/>
          <a:stretch/>
        </p:blipFill>
        <p:spPr>
          <a:xfrm>
            <a:off x="2771640" y="3897360"/>
            <a:ext cx="424836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285920" y="476280"/>
            <a:ext cx="5446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вр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Рисунок 3" descr="C:\ресурсы\Картинки\Огонь\i3.gif"/>
          <p:cNvPicPr/>
          <p:nvPr/>
        </p:nvPicPr>
        <p:blipFill>
          <a:blip r:embed="rId1"/>
          <a:stretch/>
        </p:blipFill>
        <p:spPr>
          <a:xfrm>
            <a:off x="6929280" y="4437000"/>
            <a:ext cx="20923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"/>
          <p:cNvPicPr/>
          <p:nvPr/>
        </p:nvPicPr>
        <p:blipFill>
          <a:blip r:embed="rId2"/>
          <a:stretch/>
        </p:blipFill>
        <p:spPr>
          <a:xfrm>
            <a:off x="5130720" y="1357200"/>
            <a:ext cx="3530520" cy="28353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3738600" cy="2774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4"/>
          <a:stretch/>
        </p:blipFill>
        <p:spPr>
          <a:xfrm>
            <a:off x="2050920" y="4206960"/>
            <a:ext cx="4067280" cy="2651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4"/>
          <p:cNvGrpSpPr/>
          <p:nvPr/>
        </p:nvGrpSpPr>
        <p:grpSpPr>
          <a:xfrm>
            <a:off x="2629080" y="3213000"/>
            <a:ext cx="6192720" cy="3423960"/>
            <a:chOff x="2629080" y="3213000"/>
            <a:chExt cx="6192720" cy="3423960"/>
          </a:xfrm>
        </p:grpSpPr>
        <p:pic>
          <p:nvPicPr>
            <p:cNvPr id="242" name="Picture 5" descr=""/>
            <p:cNvPicPr/>
            <p:nvPr/>
          </p:nvPicPr>
          <p:blipFill>
            <a:blip r:embed="rId1"/>
            <a:stretch/>
          </p:blipFill>
          <p:spPr>
            <a:xfrm>
              <a:off x="2629080" y="4670640"/>
              <a:ext cx="619272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6" descr="upsik"/>
            <p:cNvPicPr/>
            <p:nvPr/>
          </p:nvPicPr>
          <p:blipFill>
            <a:blip r:embed="rId2"/>
            <a:stretch/>
          </p:blipFill>
          <p:spPr>
            <a:xfrm>
              <a:off x="3198240" y="5180760"/>
              <a:ext cx="970920" cy="13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7" descr="KIDS01"/>
            <p:cNvPicPr/>
            <p:nvPr/>
          </p:nvPicPr>
          <p:blipFill>
            <a:blip r:embed="rId3"/>
            <a:stretch/>
          </p:blipFill>
          <p:spPr>
            <a:xfrm>
              <a:off x="4621680" y="4732920"/>
              <a:ext cx="2517840" cy="17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baby04"/>
            <p:cNvPicPr/>
            <p:nvPr/>
          </p:nvPicPr>
          <p:blipFill>
            <a:blip r:embed="rId4"/>
            <a:stretch/>
          </p:blipFill>
          <p:spPr>
            <a:xfrm>
              <a:off x="7113240" y="5107680"/>
              <a:ext cx="1636920" cy="14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10"/>
            <p:cNvPicPr/>
            <p:nvPr/>
          </p:nvPicPr>
          <p:blipFill>
            <a:blip r:embed="rId5"/>
            <a:stretch/>
          </p:blipFill>
          <p:spPr>
            <a:xfrm>
              <a:off x="3340440" y="3213000"/>
              <a:ext cx="29894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0" descr="a_singer_e0"/>
            <p:cNvPicPr/>
            <p:nvPr/>
          </p:nvPicPr>
          <p:blipFill>
            <a:blip r:embed="rId6"/>
            <a:stretch/>
          </p:blipFill>
          <p:spPr>
            <a:xfrm>
              <a:off x="6187680" y="3722760"/>
              <a:ext cx="1566000" cy="15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476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физминутка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82240"/>
            <a:ext cx="409104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бы сильным стать и ловки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ступаем к трениров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ше руки, шире плеч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-2-3-4-5 надо руки подним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 зарядки станешь крепче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нешь крепче и силь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А теперь насос включаем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Воду из реки качаем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Раз, два, раз, дв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Потекла ручьём вод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3236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" name="Объект 8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4145040" cy="54594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0" descr=""/>
          <p:cNvPicPr/>
          <p:nvPr/>
        </p:nvPicPr>
        <p:blipFill>
          <a:blip r:embed="rId2"/>
          <a:stretch/>
        </p:blipFill>
        <p:spPr>
          <a:xfrm>
            <a:off x="4857840" y="3500280"/>
            <a:ext cx="3643200" cy="2819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1" descr=""/>
          <p:cNvPicPr/>
          <p:nvPr/>
        </p:nvPicPr>
        <p:blipFill>
          <a:blip r:embed="rId3"/>
          <a:stretch/>
        </p:blipFill>
        <p:spPr>
          <a:xfrm>
            <a:off x="4714920" y="285840"/>
            <a:ext cx="378612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-2332080"/>
            <a:ext cx="7242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5" name="Рисунок 6" descr=""/>
          <p:cNvPicPr/>
          <p:nvPr/>
        </p:nvPicPr>
        <p:blipFill>
          <a:blip r:embed="rId1"/>
          <a:stretch/>
        </p:blipFill>
        <p:spPr>
          <a:xfrm>
            <a:off x="-108000" y="0"/>
            <a:ext cx="9282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44:24Z</dcterms:created>
  <dc:creator>Учительский</dc:creator>
  <dc:description/>
  <dc:language>en-US</dc:language>
  <cp:lastModifiedBy>User</cp:lastModifiedBy>
  <dcterms:modified xsi:type="dcterms:W3CDTF">2015-03-19T11:04:21Z</dcterms:modified>
  <cp:revision>83</cp:revision>
  <dc:subject/>
  <dc:title>Слайд 1</dc:title>
</cp:coreProperties>
</file>