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F16-4AEE-4785-879F-06A652EE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19D-96B6-4D23-AD5C-F2FDA8B7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5EB-A974-4AF0-A73C-0A95A714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B5C-3E00-44CF-83B1-DD244CBF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6FA-886E-4F96-B216-AF7D169A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FA2-6359-4345-A612-E6D54074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54C-02F3-4776-AD9D-0E8F1284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1E8-5DEE-40F7-9B48-951AEF12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6F3-C963-41D9-A65A-069F4310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F7F-81A9-4520-8581-56C2EF4A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37F-9204-4CE2-87B4-5693BF52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9E5-E90D-4FCC-98B2-974D05CB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17A7-EE83-489F-9343-ECC529E4FD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0520" y="333000"/>
            <a:ext cx="8850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ниципальное дошкольное образовательное учреждение «Детский сад №45 общеразвивающего вида»  г. Сыктывка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72880" y="1268280"/>
            <a:ext cx="928872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ahoma"/>
              </a:rPr>
              <a:t>Образовательный проек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ahoma"/>
              </a:rPr>
              <a:t>«Обучение правилам этикета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ahoma"/>
              </a:rPr>
              <a:t>как одно из условий социального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ahoma"/>
              </a:rPr>
              <a:t>развития воспитанников"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80920" y="620640"/>
            <a:ext cx="803448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ы реализации проек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3800" y="1500120"/>
            <a:ext cx="8748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этап – Организацион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этап – Основной. Реализация проек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этап – Аналитико-диагностическ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этап – Подведение ито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6320" y="142920"/>
            <a:ext cx="9644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я реализаци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Организационные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учебной деятельности по этик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развивающ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внеучебной деятельности по этик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ь воспитателей со специалис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работы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 с соци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Учебно-методические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 утверждение перспективно-тематического плана работы по обучению правилам этикета детей старшего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 реализация серии конспектов учебных занятий по этикету для детей старшего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Материальное обеспе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2160" y="0"/>
            <a:ext cx="8915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этап - организацио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23440" y="1071720"/>
            <a:ext cx="8915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в ДОУ атмосферы высокой культуры общения, дизайна, внешнего в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необходимой материально-технической ба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по повышению теоретического уровня педагогов и отработка практических умений по вопросам этик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творческой группой педагогов и утверждение перспективно-тематического плана по обучению правилам этикета детей старших и подготовительных групп, разработка серии конспектов занятий по этик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5800" y="188640"/>
            <a:ext cx="81378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теоретического уровня педагогов через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60160" y="1125000"/>
            <a:ext cx="8489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еминар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онсульта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аботу творческих групп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аботка практических умений производилась посредством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еминаров-практикум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актических занят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идеозаписей ситуац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Фотовыставо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Смотров конк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0160" y="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этап – Основн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549000"/>
            <a:ext cx="891540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зм формирования культуры поведения у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5"/>
          <p:cNvGrpSpPr/>
          <p:nvPr/>
        </p:nvGrpSpPr>
        <p:grpSpPr>
          <a:xfrm>
            <a:off x="809640" y="1143000"/>
            <a:ext cx="8429760" cy="5373720"/>
            <a:chOff x="809640" y="1143000"/>
            <a:chExt cx="8429760" cy="5373720"/>
          </a:xfrm>
        </p:grpSpPr>
        <p:sp>
          <p:nvSpPr>
            <p:cNvPr id="101" name="AutoShape 6"/>
            <p:cNvSpPr/>
            <p:nvPr/>
          </p:nvSpPr>
          <p:spPr>
            <a:xfrm>
              <a:off x="3310560" y="1143000"/>
              <a:ext cx="3246480" cy="771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спользование режимных моментов жизни детского с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7"/>
            <p:cNvSpPr/>
            <p:nvPr/>
          </p:nvSpPr>
          <p:spPr>
            <a:xfrm>
              <a:off x="1417680" y="2169000"/>
              <a:ext cx="3483000" cy="50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тические беседы с воспитанник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8"/>
            <p:cNvSpPr/>
            <p:nvPr/>
          </p:nvSpPr>
          <p:spPr>
            <a:xfrm>
              <a:off x="1224000" y="2929320"/>
              <a:ext cx="3338280" cy="568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зитивный настрой де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9"/>
            <p:cNvSpPr/>
            <p:nvPr/>
          </p:nvSpPr>
          <p:spPr>
            <a:xfrm>
              <a:off x="1009440" y="3752280"/>
              <a:ext cx="3246480" cy="55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Личный пример взросл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0"/>
            <p:cNvSpPr/>
            <p:nvPr/>
          </p:nvSpPr>
          <p:spPr>
            <a:xfrm>
              <a:off x="809640" y="4562640"/>
              <a:ext cx="3246120" cy="529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амовоспитание педаго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11"/>
            <p:cNvSpPr/>
            <p:nvPr/>
          </p:nvSpPr>
          <p:spPr>
            <a:xfrm>
              <a:off x="5138280" y="2169000"/>
              <a:ext cx="3453120" cy="50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здание воспитывающих ситуа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2"/>
            <p:cNvSpPr/>
            <p:nvPr/>
          </p:nvSpPr>
          <p:spPr>
            <a:xfrm>
              <a:off x="5536080" y="2929320"/>
              <a:ext cx="3246120" cy="477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равственно-этикетные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3"/>
            <p:cNvSpPr/>
            <p:nvPr/>
          </p:nvSpPr>
          <p:spPr>
            <a:xfrm>
              <a:off x="5749560" y="3622320"/>
              <a:ext cx="3245400" cy="750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пециальные занятия по этикету в старшей и подготовительной групп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4"/>
            <p:cNvSpPr/>
            <p:nvPr/>
          </p:nvSpPr>
          <p:spPr>
            <a:xfrm>
              <a:off x="5992920" y="4629240"/>
              <a:ext cx="3246480" cy="769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частие родителей в воспитании культуры поведения у реб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5"/>
            <p:cNvSpPr/>
            <p:nvPr/>
          </p:nvSpPr>
          <p:spPr>
            <a:xfrm>
              <a:off x="3293280" y="5743800"/>
              <a:ext cx="3246120" cy="772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елание ребенка поступать в соответствии с правилами этик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6"/>
            <p:cNvGrpSpPr/>
            <p:nvPr/>
          </p:nvGrpSpPr>
          <p:grpSpPr>
            <a:xfrm>
              <a:off x="7088760" y="4373280"/>
              <a:ext cx="222840" cy="255600"/>
              <a:chOff x="7088760" y="4373280"/>
              <a:chExt cx="222840" cy="255600"/>
            </a:xfrm>
          </p:grpSpPr>
          <p:cxnSp>
            <p:nvCxnSpPr>
              <p:cNvPr id="112" name="AutoShape 17"/>
              <p:cNvCxnSpPr/>
              <p:nvPr/>
            </p:nvCxnSpPr>
            <p:spPr>
              <a:xfrm>
                <a:off x="7199640" y="4373280"/>
                <a:ext cx="1080" cy="255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" name="AutoShape 18"/>
              <p:cNvCxnSpPr/>
              <p:nvPr/>
            </p:nvCxnSpPr>
            <p:spPr>
              <a:xfrm>
                <a:off x="7088760" y="4498200"/>
                <a:ext cx="22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14" name="Group 19"/>
            <p:cNvGrpSpPr/>
            <p:nvPr/>
          </p:nvGrpSpPr>
          <p:grpSpPr>
            <a:xfrm>
              <a:off x="6788880" y="3406320"/>
              <a:ext cx="223560" cy="254520"/>
              <a:chOff x="6788880" y="3406320"/>
              <a:chExt cx="223560" cy="254520"/>
            </a:xfrm>
          </p:grpSpPr>
          <p:cxnSp>
            <p:nvCxnSpPr>
              <p:cNvPr id="115" name="AutoShape 20"/>
              <p:cNvCxnSpPr/>
              <p:nvPr/>
            </p:nvCxnSpPr>
            <p:spPr>
              <a:xfrm>
                <a:off x="6900120" y="3406320"/>
                <a:ext cx="1080" cy="254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6" name="AutoShape 21"/>
              <p:cNvCxnSpPr/>
              <p:nvPr/>
            </p:nvCxnSpPr>
            <p:spPr>
              <a:xfrm>
                <a:off x="6788880" y="3530160"/>
                <a:ext cx="223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17" name="Group 22"/>
            <p:cNvGrpSpPr/>
            <p:nvPr/>
          </p:nvGrpSpPr>
          <p:grpSpPr>
            <a:xfrm>
              <a:off x="6427440" y="2673360"/>
              <a:ext cx="223560" cy="255600"/>
              <a:chOff x="6427440" y="2673360"/>
              <a:chExt cx="223560" cy="255600"/>
            </a:xfrm>
          </p:grpSpPr>
          <p:cxnSp>
            <p:nvCxnSpPr>
              <p:cNvPr id="118" name="AutoShape 23"/>
              <p:cNvCxnSpPr/>
              <p:nvPr/>
            </p:nvCxnSpPr>
            <p:spPr>
              <a:xfrm>
                <a:off x="6538680" y="2673360"/>
                <a:ext cx="1080" cy="255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9" name="AutoShape 24"/>
              <p:cNvCxnSpPr/>
              <p:nvPr/>
            </p:nvCxnSpPr>
            <p:spPr>
              <a:xfrm>
                <a:off x="6427440" y="2798280"/>
                <a:ext cx="223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20" name="Group 25"/>
            <p:cNvGrpSpPr/>
            <p:nvPr/>
          </p:nvGrpSpPr>
          <p:grpSpPr>
            <a:xfrm>
              <a:off x="3656160" y="1914840"/>
              <a:ext cx="223560" cy="254520"/>
              <a:chOff x="3656160" y="1914840"/>
              <a:chExt cx="223560" cy="254520"/>
            </a:xfrm>
          </p:grpSpPr>
          <p:cxnSp>
            <p:nvCxnSpPr>
              <p:cNvPr id="121" name="AutoShape 26"/>
              <p:cNvCxnSpPr/>
              <p:nvPr/>
            </p:nvCxnSpPr>
            <p:spPr>
              <a:xfrm>
                <a:off x="3767400" y="1914840"/>
                <a:ext cx="1080" cy="254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2" name="AutoShape 27"/>
              <p:cNvCxnSpPr/>
              <p:nvPr/>
            </p:nvCxnSpPr>
            <p:spPr>
              <a:xfrm>
                <a:off x="3656160" y="2038680"/>
                <a:ext cx="223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23" name="Group 28"/>
            <p:cNvGrpSpPr/>
            <p:nvPr/>
          </p:nvGrpSpPr>
          <p:grpSpPr>
            <a:xfrm>
              <a:off x="3087720" y="2673360"/>
              <a:ext cx="222480" cy="255600"/>
              <a:chOff x="3087720" y="2673360"/>
              <a:chExt cx="222480" cy="255600"/>
            </a:xfrm>
          </p:grpSpPr>
          <p:cxnSp>
            <p:nvCxnSpPr>
              <p:cNvPr id="124" name="AutoShape 29"/>
              <p:cNvCxnSpPr/>
              <p:nvPr/>
            </p:nvCxnSpPr>
            <p:spPr>
              <a:xfrm>
                <a:off x="3198600" y="2673360"/>
                <a:ext cx="1080" cy="255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5" name="AutoShape 30"/>
              <p:cNvCxnSpPr/>
              <p:nvPr/>
            </p:nvCxnSpPr>
            <p:spPr>
              <a:xfrm>
                <a:off x="3087720" y="2798280"/>
                <a:ext cx="222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26" name="Group 31"/>
            <p:cNvGrpSpPr/>
            <p:nvPr/>
          </p:nvGrpSpPr>
          <p:grpSpPr>
            <a:xfrm>
              <a:off x="2739240" y="3497760"/>
              <a:ext cx="223560" cy="254520"/>
              <a:chOff x="2739240" y="3497760"/>
              <a:chExt cx="223560" cy="254520"/>
            </a:xfrm>
          </p:grpSpPr>
          <p:cxnSp>
            <p:nvCxnSpPr>
              <p:cNvPr id="127" name="AutoShape 32"/>
              <p:cNvCxnSpPr/>
              <p:nvPr/>
            </p:nvCxnSpPr>
            <p:spPr>
              <a:xfrm>
                <a:off x="2850480" y="3497760"/>
                <a:ext cx="1080" cy="254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8" name="AutoShape 33"/>
              <p:cNvCxnSpPr/>
              <p:nvPr/>
            </p:nvCxnSpPr>
            <p:spPr>
              <a:xfrm>
                <a:off x="2739240" y="3621600"/>
                <a:ext cx="223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29" name="Group 34"/>
            <p:cNvGrpSpPr/>
            <p:nvPr/>
          </p:nvGrpSpPr>
          <p:grpSpPr>
            <a:xfrm>
              <a:off x="2428560" y="4308120"/>
              <a:ext cx="222840" cy="254520"/>
              <a:chOff x="2428560" y="4308120"/>
              <a:chExt cx="222840" cy="254520"/>
            </a:xfrm>
          </p:grpSpPr>
          <p:cxnSp>
            <p:nvCxnSpPr>
              <p:cNvPr id="130" name="AutoShape 35"/>
              <p:cNvCxnSpPr/>
              <p:nvPr/>
            </p:nvCxnSpPr>
            <p:spPr>
              <a:xfrm>
                <a:off x="2539440" y="4308120"/>
                <a:ext cx="1080" cy="254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1" name="AutoShape 36"/>
              <p:cNvCxnSpPr/>
              <p:nvPr/>
            </p:nvCxnSpPr>
            <p:spPr>
              <a:xfrm>
                <a:off x="2428560" y="4431960"/>
                <a:ext cx="22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32" name="Group 37"/>
            <p:cNvGrpSpPr/>
            <p:nvPr/>
          </p:nvGrpSpPr>
          <p:grpSpPr>
            <a:xfrm>
              <a:off x="6069240" y="1914840"/>
              <a:ext cx="222840" cy="254520"/>
              <a:chOff x="6069240" y="1914840"/>
              <a:chExt cx="222840" cy="254520"/>
            </a:xfrm>
          </p:grpSpPr>
          <p:cxnSp>
            <p:nvCxnSpPr>
              <p:cNvPr id="133" name="AutoShape 38"/>
              <p:cNvCxnSpPr/>
              <p:nvPr/>
            </p:nvCxnSpPr>
            <p:spPr>
              <a:xfrm>
                <a:off x="6180120" y="1914840"/>
                <a:ext cx="1080" cy="254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4" name="AutoShape 39"/>
              <p:cNvCxnSpPr/>
              <p:nvPr/>
            </p:nvCxnSpPr>
            <p:spPr>
              <a:xfrm>
                <a:off x="6069240" y="2038680"/>
                <a:ext cx="22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35" name="Group 40"/>
            <p:cNvGrpSpPr/>
            <p:nvPr/>
          </p:nvGrpSpPr>
          <p:grpSpPr>
            <a:xfrm>
              <a:off x="6069240" y="5533560"/>
              <a:ext cx="266040" cy="126000"/>
              <a:chOff x="6069240" y="5533560"/>
              <a:chExt cx="266040" cy="126000"/>
            </a:xfrm>
          </p:grpSpPr>
          <p:cxnSp>
            <p:nvCxnSpPr>
              <p:cNvPr id="136" name="AutoShape 41"/>
              <p:cNvCxnSpPr/>
              <p:nvPr/>
            </p:nvCxnSpPr>
            <p:spPr>
              <a:xfrm>
                <a:off x="6069240" y="5533560"/>
                <a:ext cx="266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AutoShape 42"/>
              <p:cNvCxnSpPr/>
              <p:nvPr/>
            </p:nvCxnSpPr>
            <p:spPr>
              <a:xfrm>
                <a:off x="6069240" y="5658840"/>
                <a:ext cx="266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5800" y="-360"/>
            <a:ext cx="89949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тоды и приемы, используемые в работе с детьми среднего возраста по знакомству с этикетом :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9800" y="836280"/>
            <a:ext cx="9210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Наглядны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люстрации, фотографии, видеоматериалы (диафильмы, мультфильмы, видеозапис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ловесны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сказ воспитателя из личного опыта, сказка познавательного содержания, вопросы, бес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Практические действия дете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остоятельные действия с чайными и столовыми принадлежностями, изготовление рисунков, аппликаций для подарка близкому человеку, разбор проблемных ситуаций, происшедших с игруш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Игровы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гровые упражнения, дидактические игры, элементы сюжетно-ролевых игр, игры-пута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Взаимодействие со сказочным персонажем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сказать как себя вести, поиграть вместе с ним, помочь ему, подражать 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Использование театр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пектакли (кукольный, настольный, на фланелеграфе), инсценировки в исполнении отдельны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Наблюден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 действиями взрослого, за действиям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Художественное слово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ихи, сказки, загадки, рассказы, послов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Использование музыкального репертуа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. музыкальным руководителем: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ние песен, исполнение танцев,      слушание музыки, игра в оркест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. воспитателем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ушание аудиозаписей, музыкально-дидактически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7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занятий по обучению правилам этикета предусматривает 10 тем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25000"/>
            <a:ext cx="8915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кет – порядок поведения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й этик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кет телефонного разго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 нравиться людям. Культура внешне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кет и мой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этикета в общественных ме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этикета в общественных ме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овый этик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кет межличностных 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дари комплимен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ащение уголка дежур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4520" y="1125000"/>
            <a:ext cx="956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графии воспитан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седневная форма для дежурных (специальная форма для проведения праздничных мероприят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очные картинки сервировки с использованием пластиковой посуды (в средней группе), красочные схемы сервировки стола (в старшей, подготовительной групп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сервировки: скатерти различной формы и цвета, тканевые и бумажные салфетки, оригинальные салфетницы, разнообразные виды посу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ные аранжировки (вазочки, украшения, икебан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ащение «Уголка этикета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тоальбомы с материалами по разным видам этик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ы (сервировки стола, складывания салфето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люстрации и фотографии композиций для украшения сто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дактические игры и упраж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картинок-ситуаций («в театре», «в гостях», «в магазине», «в транспорте», «в кафе», «в музее»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инки-путаницы «что неправильно?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ы мод (детские и взрослы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фоны (игрушечные и самодельн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работы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196640"/>
            <a:ext cx="8915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и воспитателя в работе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бедить их в необходимости обучения детей правилам этик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иться, чтобы им самим хотелось участвовать в этой работе дома и в дошкольном учреж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ить их знания по содержанию этик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ормы работы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еренция «Этикет в нашей жиз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педагогической библиотечки для родителей по обучению этикету (методическая и художественная литерату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ции и бес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стенда с информацией на темы консульт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ные досуги и празд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и с детьми в театр, кино, музей, бассейн, библиотеку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вместе с родителями фотовернисажа «Я и этик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чение родителей к созданию музея «Маркиза этик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работы в «Семейной гостиной» для детей и родителей подготовительной групп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88880" y="115560"/>
            <a:ext cx="8640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ик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порядок поведения, в котором проявляются любовь и уважение к окружающим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6"/>
          <p:cNvGrpSpPr/>
          <p:nvPr/>
        </p:nvGrpSpPr>
        <p:grpSpPr>
          <a:xfrm>
            <a:off x="775440" y="1341360"/>
            <a:ext cx="7633800" cy="5256000"/>
            <a:chOff x="775440" y="1341360"/>
            <a:chExt cx="7633800" cy="5256000"/>
          </a:xfrm>
        </p:grpSpPr>
        <p:sp>
          <p:nvSpPr>
            <p:cNvPr id="45" name="AutoShape 27"/>
            <p:cNvSpPr/>
            <p:nvPr/>
          </p:nvSpPr>
          <p:spPr>
            <a:xfrm>
              <a:off x="1763640" y="1341360"/>
              <a:ext cx="5887080" cy="68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веденческая культу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28"/>
            <p:cNvSpPr/>
            <p:nvPr/>
          </p:nvSpPr>
          <p:spPr>
            <a:xfrm>
              <a:off x="1763640" y="5256360"/>
              <a:ext cx="5887080" cy="134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бычаи, традиции, нравы, порядки, привычки (формирующиеся с появлением человеческого обществ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29"/>
            <p:cNvSpPr/>
            <p:nvPr/>
          </p:nvSpPr>
          <p:spPr>
            <a:xfrm>
              <a:off x="1763640" y="3916440"/>
              <a:ext cx="5887080" cy="91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Этические и эстетические взгляды на поведение челове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30"/>
            <p:cNvSpPr/>
            <p:nvPr/>
          </p:nvSpPr>
          <p:spPr>
            <a:xfrm>
              <a:off x="1763640" y="2681280"/>
              <a:ext cx="5887080" cy="68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Этик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" name="AutoShape 31"/>
            <p:cNvCxnSpPr/>
            <p:nvPr/>
          </p:nvCxnSpPr>
          <p:spPr>
            <a:xfrm>
              <a:off x="7651080" y="4345200"/>
              <a:ext cx="458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" name="AutoShape 32"/>
            <p:cNvCxnSpPr/>
            <p:nvPr/>
          </p:nvCxnSpPr>
          <p:spPr>
            <a:xfrm flipV="1">
              <a:off x="8108640" y="3164400"/>
              <a:ext cx="1080" cy="118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" name="AutoShape 33"/>
            <p:cNvCxnSpPr/>
            <p:nvPr/>
          </p:nvCxnSpPr>
          <p:spPr>
            <a:xfrm flipH="1">
              <a:off x="7650720" y="3164400"/>
              <a:ext cx="458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" name="AutoShape 34"/>
            <p:cNvCxnSpPr/>
            <p:nvPr/>
          </p:nvCxnSpPr>
          <p:spPr>
            <a:xfrm>
              <a:off x="7650720" y="5793120"/>
              <a:ext cx="758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AutoShape 35"/>
            <p:cNvCxnSpPr/>
            <p:nvPr/>
          </p:nvCxnSpPr>
          <p:spPr>
            <a:xfrm flipV="1">
              <a:off x="8408520" y="2861280"/>
              <a:ext cx="1080" cy="2932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" name="AutoShape 36"/>
            <p:cNvCxnSpPr/>
            <p:nvPr/>
          </p:nvCxnSpPr>
          <p:spPr>
            <a:xfrm flipH="1">
              <a:off x="7650360" y="2861640"/>
              <a:ext cx="7585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AutoShape 37"/>
            <p:cNvCxnSpPr/>
            <p:nvPr/>
          </p:nvCxnSpPr>
          <p:spPr>
            <a:xfrm flipH="1">
              <a:off x="1428120" y="3004200"/>
              <a:ext cx="335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AutoShape 38"/>
            <p:cNvCxnSpPr/>
            <p:nvPr/>
          </p:nvCxnSpPr>
          <p:spPr>
            <a:xfrm flipV="1">
              <a:off x="1428120" y="1912680"/>
              <a:ext cx="1080" cy="109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" name="AutoShape 39"/>
            <p:cNvCxnSpPr/>
            <p:nvPr/>
          </p:nvCxnSpPr>
          <p:spPr>
            <a:xfrm>
              <a:off x="1428480" y="1913040"/>
              <a:ext cx="335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AutoShape 40"/>
            <p:cNvCxnSpPr/>
            <p:nvPr/>
          </p:nvCxnSpPr>
          <p:spPr>
            <a:xfrm flipH="1">
              <a:off x="1111320" y="4345200"/>
              <a:ext cx="652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" name="AutoShape 41"/>
            <p:cNvCxnSpPr/>
            <p:nvPr/>
          </p:nvCxnSpPr>
          <p:spPr>
            <a:xfrm flipV="1">
              <a:off x="1111320" y="1698840"/>
              <a:ext cx="1080" cy="264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" name="AutoShape 42"/>
            <p:cNvCxnSpPr/>
            <p:nvPr/>
          </p:nvCxnSpPr>
          <p:spPr>
            <a:xfrm>
              <a:off x="1111680" y="1698480"/>
              <a:ext cx="652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AutoShape 43"/>
            <p:cNvCxnSpPr/>
            <p:nvPr/>
          </p:nvCxnSpPr>
          <p:spPr>
            <a:xfrm flipH="1">
              <a:off x="775440" y="5793120"/>
              <a:ext cx="98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2" name="AutoShape 44"/>
            <p:cNvCxnSpPr/>
            <p:nvPr/>
          </p:nvCxnSpPr>
          <p:spPr>
            <a:xfrm flipV="1">
              <a:off x="775800" y="1466280"/>
              <a:ext cx="1080" cy="432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" name="AutoShape 45"/>
            <p:cNvCxnSpPr/>
            <p:nvPr/>
          </p:nvCxnSpPr>
          <p:spPr>
            <a:xfrm>
              <a:off x="775800" y="1467000"/>
              <a:ext cx="98820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 работы семейной гостиной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89154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. «Портрет маркиза Этик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готовление портрета Маркиза Этикета (использование нетрадиционных техни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ог – портрет Маркиза Этикета для музе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. «Комната Маркиза Этик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никам даются заготовки – плоскостные домики, им предлагается оформить интерьер комнаты Маркиза Этик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ог – модель домика, придуманная история о его обитат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 «Одежда для конкурса красо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ь конструирует костюм или платье для своего ребёнка из нетрадиционного материала (бумага, фольга, целлофан, ленты, верёвочки, шарфики, платочки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ог – дефиле наря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. «Семейная фотограф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никам раздаются трафареты человечков. Взрослый превращает своего человечка в ребёнка, а ребёнок – во взрослого, подбирая причёски, головные уборы, детали костюм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ог – оформление семейной фотографии, придуманная «этикетная» ситуация между изображёнными на фотограф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4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6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7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узей маркиза Этике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980640"/>
            <a:ext cx="89154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лан экспозиц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. Портретная галере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ртретной галерее представлены портреты этикетных и «антиэтикетных» сказочных персонажей. Под каждым портретом – табличка с указанием главных черт характера  и внешнего ви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енные экспонаты: Мальвина, Золушка, Буратино, Карабас-Барабас, Дюймовочка, Дядя Фёдор, дядя Стёпа, Нехочуха, Шапокляк, Бармалей, Василиса, Вовка из тридесятого царства, Маша из сказки «Три медведя»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. Этикетный зоос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ая экспозиция представлена сказочными животными с выраженным этикетным и «антиэтикетным» повед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енные экспонаты: Крокодил Гена, Чебурашка, Золотая рыбка, Кролик из сказки А. Милна «Вини-Пух и все, все, все», мама Коза, волк из мультфильма «Ну, погоди!» и т.д. Представленные экспонаты сделаны руками детей и 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3. Уголок «этикетных предмето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понаты: наборы разнообразной посуды, предметы сервировки, подарочные упаковки, предметы одежды, украшения (для сервировки, одежды)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. Этикетная картограф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ая экспозиция представлена красочной картой, на которой изображена страна Маркиза Этикета. Страна состоит из королевств: королевство вежливости, королевство красоты, гостеприимное королевство, аппетитное королевство, подарочное королевство, королевство общепо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BD21313_"/>
          <p:cNvPicPr/>
          <p:nvPr/>
        </p:nvPicPr>
        <p:blipFill>
          <a:blip r:embed="rId1"/>
          <a:stretch/>
        </p:blipFill>
        <p:spPr>
          <a:xfrm>
            <a:off x="0" y="6237360"/>
            <a:ext cx="990612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P1050208"/>
          <p:cNvPicPr/>
          <p:nvPr/>
        </p:nvPicPr>
        <p:blipFill>
          <a:blip r:embed="rId1"/>
          <a:stretch/>
        </p:blipFill>
        <p:spPr>
          <a:xfrm>
            <a:off x="48888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0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этап – Подведение ит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я музея «маркиза Этикета» (подготовительная группа – апр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овой тренинг для детей «Этикетные ситуации» (в старшей и подготовительной группе – апре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тоговые интегрированные занятия по этикету (в старшей и подготовительной группе – ма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ВН с учениками 1 класса по вопросам этикета (подготовительная группа – ма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ворческий отчет групп (старшей, подготовительной) по реализации образовательного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ференция для родителей с привлечением специалистов социума «Хочется ли нам по-прежнему испытывать неудобство от поведения ребён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лечение с участием родителей «Уроки доброт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0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4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астник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857240"/>
            <a:ext cx="72435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и и специалис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ники средней, старшей, подготовительной групп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т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сты социу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99800" y="333000"/>
            <a:ext cx="94345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5440" y="476280"/>
            <a:ext cx="8659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создание комплексной модели педагогической работы по формированию культуры поведения у детей 4-7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сить уровень теоретических знаний и практических умений педагогов по вопросам этик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ть систему мероприятий по работе с детьми 4-7 лет в учебной и внеучебной деятельности через разнообразные, дифференцированные формы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лечь родителей воспитанников и социум к совместной работе по обучению детей правилам этик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комить воспитанников с правилами этикета. Расширять представления о культуре поведения как о части общей культуры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жнять в применении правил этикета в режиме дня и повседневной жизни, формировать навыки культур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проек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олгосрочный (3 г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72880" y="499680"/>
            <a:ext cx="946656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основу образовательного проекта нами положены следующие принци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й подход в решении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тическое применение знаний и соблюдение педагогом правил этик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упность подобранного дидактического материала в работе с дет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ое построение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ижение осмысления детьми правил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8520" y="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жидаемые результаты. Воспита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8520" y="980640"/>
            <a:ext cx="438156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ессиональные умения и навыки в создании практических ситуаций по социальному развитию воспитанников достиг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е давать практические советы и рекомендации родителям по социальному развитию воспитанников достиг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7"/>
          <p:cNvGraphicFramePr/>
          <p:nvPr/>
        </p:nvGraphicFramePr>
        <p:xfrm>
          <a:off x="5600880" y="3645000"/>
          <a:ext cx="38890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0880" y="3645000"/>
                    <a:ext cx="38890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8"/>
          <p:cNvGraphicFramePr/>
          <p:nvPr/>
        </p:nvGraphicFramePr>
        <p:xfrm>
          <a:off x="5600880" y="620640"/>
          <a:ext cx="3889080" cy="295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0880" y="620640"/>
                    <a:ext cx="38890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0160" y="0"/>
            <a:ext cx="90662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жидаемые результаты. Де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4160" y="1268280"/>
            <a:ext cx="5321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и имеют достаточно знаний о нравственно-ценностных поступк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являют знания в повседневной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7"/>
          <p:cNvGraphicFramePr/>
          <p:nvPr/>
        </p:nvGraphicFramePr>
        <p:xfrm>
          <a:off x="5673600" y="3716280"/>
          <a:ext cx="388800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73600" y="3716280"/>
                    <a:ext cx="3888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8"/>
          <p:cNvGraphicFramePr/>
          <p:nvPr/>
        </p:nvGraphicFramePr>
        <p:xfrm>
          <a:off x="5673600" y="765000"/>
          <a:ext cx="3888000" cy="2951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3600" y="765000"/>
                    <a:ext cx="388800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95000" y="476280"/>
            <a:ext cx="43815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являют достаточно волевых усилий в ситуации, требующей морального выб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ытывают потребность жить в красоте, создавать красоту своими рук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6"/>
          <p:cNvGraphicFramePr/>
          <p:nvPr/>
        </p:nvGraphicFramePr>
        <p:xfrm>
          <a:off x="5529240" y="260280"/>
          <a:ext cx="396072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9240" y="260280"/>
                    <a:ext cx="396072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7"/>
          <p:cNvGraphicFramePr/>
          <p:nvPr/>
        </p:nvGraphicFramePr>
        <p:xfrm>
          <a:off x="5529240" y="3429000"/>
          <a:ext cx="3887640" cy="309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29240" y="3429000"/>
                    <a:ext cx="38876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жидаемые результаты. Роди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539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применять в практическом общении с детьми социальные нормы и правила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6"/>
          <p:cNvGraphicFramePr/>
          <p:nvPr/>
        </p:nvGraphicFramePr>
        <p:xfrm>
          <a:off x="5384880" y="1413000"/>
          <a:ext cx="4248000" cy="357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4880" y="1413000"/>
                    <a:ext cx="424800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8:13:47Z</dcterms:created>
  <dc:creator>Admin</dc:creator>
  <dc:description/>
  <dc:language>en-US</dc:language>
  <cp:lastModifiedBy>sod</cp:lastModifiedBy>
  <dcterms:modified xsi:type="dcterms:W3CDTF">2015-03-20T08:24:11Z</dcterms:modified>
  <cp:revision>36</cp:revision>
  <dc:subject/>
  <dc:title>Образовательный проект «Обучение правилам этикета как одно из условий социального развития воспитанников»</dc:title>
</cp:coreProperties>
</file>