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848-6656-41AC-822E-EF0D939A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145-A340-49B5-BA69-328EAD2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310-7E35-411D-9D1F-29FAD031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63B-D833-4FF3-A2D8-2A16A6A9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62B-9126-492A-97FE-DC9CC8C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62E-F6CE-415F-93A4-A1D587F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10A-4294-4BCC-9E02-9FB4A2B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F31-40AD-4EB4-A407-40226DA7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5D-E0EB-4A1C-A706-6CDAE83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9D2-FBED-46E3-A809-C408055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259-DA6E-40A6-8E03-5349470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0DC-C08E-4436-A555-8C1ECC0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D15-1898-476C-8F5C-298EF8207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Главная страница / Портал образования ЧР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цени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МОУ СОШ 2"/>
          <p:cNvPicPr/>
          <p:nvPr/>
        </p:nvPicPr>
        <p:blipFill>
          <a:blip r:embed="rId1"/>
          <a:stretch/>
        </p:blipFill>
        <p:spPr>
          <a:xfrm>
            <a:off x="1835280" y="1413000"/>
            <a:ext cx="46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базаре купили 3 свёклы и 2 кочана капусты. Сколько овощей куп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базаре купили 3 свёклы и 2 кочана капусты, потому что овощи очень полез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базаре купили 3 свёклы и 2 кочана капусты. Сколько овощей куп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 базаре купили 5 овощей. Из них 2 кочана капусты. Сколько свёклы куп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с учебни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NLZUCAFMIFQKCAVC17ODCA0B337ACA1BV1LUCAROVMFWCA2WDUUNCA0Y5323CA6ORSR7CAJWXY0CCAWFK4JFCAO8RG1TCALX5Z81CAEIVG55CACZ3GDJCALR31RGCAP"/>
          <p:cNvPicPr/>
          <p:nvPr/>
        </p:nvPicPr>
        <p:blipFill>
          <a:blip r:embed="rId1"/>
          <a:stretch/>
        </p:blipFill>
        <p:spPr>
          <a:xfrm>
            <a:off x="1258920" y="1700280"/>
            <a:ext cx="4554360" cy="4754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05640" y="257796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аница 9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цени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МОУ СОШ 2"/>
          <p:cNvPicPr/>
          <p:nvPr/>
        </p:nvPicPr>
        <p:blipFill>
          <a:blip r:embed="rId1"/>
          <a:stretch/>
        </p:blipFill>
        <p:spPr>
          <a:xfrm>
            <a:off x="1835280" y="1413000"/>
            <a:ext cx="46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Статьи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а работы в групп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аботать дру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ыслушивать мнение кажд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Говорить поочере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Соблюдать порядок на рабочем ме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груп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обрать пазлы и получить циф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звать число, которое обозначаем этой цифр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ть характеристику чис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писать состав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 груп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ставить из чисел и знаков одно равенство и одно неравен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читать равенство разными способ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 груп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ставить по рисунку задачу, которая решается слож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писать решение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Ответить на вопрос: «Что такое условие задач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груп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ставить по рисунку задачу, которая решается вычит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писать решение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звать части за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Школа 11 г. Серова - Обучение дошкольников творческому рассказыванию по картинке"/>
          <p:cNvPicPr/>
          <p:nvPr/>
        </p:nvPicPr>
        <p:blipFill>
          <a:blip r:embed="rId1"/>
          <a:stretch/>
        </p:blipFill>
        <p:spPr>
          <a:xfrm>
            <a:off x="539640" y="333360"/>
            <a:ext cx="784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Урок математики в 1-м классе по теме &quot;Решение изученных задач&quot; с использованием электронной доски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0:21:18Z</dcterms:created>
  <dc:creator>Home</dc:creator>
  <dc:description/>
  <dc:language>en-US</dc:language>
  <cp:lastModifiedBy>Home</cp:lastModifiedBy>
  <dcterms:modified xsi:type="dcterms:W3CDTF">2014-11-20T11:09:34Z</dcterms:modified>
  <cp:revision>2</cp:revision>
  <dc:subject/>
  <dc:title>Слайд 1</dc:title>
</cp:coreProperties>
</file>