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1.jpeg" ContentType="image/jpeg"/>
  <Override PartName="/ppt/media/image2.wmf" ContentType="image/x-wmf"/>
  <Override PartName="/ppt/media/image29.png" ContentType="image/png"/>
  <Override PartName="/ppt/media/image36.gif" ContentType="image/gif"/>
  <Override PartName="/ppt/media/image19.jpeg" ContentType="image/jpeg"/>
  <Override PartName="/ppt/media/image18.jpeg" ContentType="image/jpeg"/>
  <Override PartName="/ppt/media/image16.gif" ContentType="image/gif"/>
  <Override PartName="/ppt/media/image28.jpeg" ContentType="image/jpeg"/>
  <Override PartName="/ppt/media/image7.png" ContentType="image/png"/>
  <Override PartName="/ppt/media/image22.jpeg" ContentType="image/jpeg"/>
  <Override PartName="/ppt/media/image20.jpeg" ContentType="image/jpeg"/>
  <Override PartName="/ppt/media/image9.jpeg" ContentType="image/jpeg"/>
  <Override PartName="/ppt/media/image10.png" ContentType="image/png"/>
  <Override PartName="/ppt/media/image30.gif" ContentType="image/gif"/>
  <Override PartName="/ppt/media/image33.png" ContentType="image/png"/>
  <Override PartName="/ppt/media/image8.jpeg" ContentType="image/jpeg"/>
  <Override PartName="/ppt/media/image17.jpeg" ContentType="image/jpeg"/>
  <Override PartName="/ppt/media/image34.gif" ContentType="image/gif"/>
  <Override PartName="/ppt/media/image35.gif" ContentType="image/gif"/>
  <Override PartName="/ppt/media/image38.jpeg" ContentType="image/jpeg"/>
  <Override PartName="/ppt/media/image37.gif" ContentType="image/gif"/>
  <Override PartName="/ppt/media/image12.png" ContentType="image/png"/>
  <Override PartName="/ppt/media/image23.jpeg" ContentType="image/jpeg"/>
  <Override PartName="/ppt/media/image6.png" ContentType="image/png"/>
  <Override PartName="/ppt/media/image26.jpeg" ContentType="image/jpeg"/>
  <Override PartName="/ppt/media/image13.gif" ContentType="image/gif"/>
  <Override PartName="/ppt/media/image4.jpeg" ContentType="image/jpeg"/>
  <Override PartName="/ppt/media/image3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11.wmf" ContentType="image/x-wmf"/>
  <Override PartName="/ppt/media/image5.jpeg" ContentType="image/jpe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2640" y="661680"/>
            <a:ext cx="45543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1546-D975-4B18-A683-2627C2C9F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6975-2C86-4BA3-B515-7106C8B692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78E7-C9C6-40AC-B9CB-412D4F344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5A17A-B51F-4545-8ACC-2EBEB34259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A9177-022E-4ED5-BECB-8C7F8C7E78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8778-294D-4D81-964C-B8D56CBB5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00062-2CAB-42F6-9274-8397B6CD4C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DE36F-AEFA-424A-8E7D-D6CEB872B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1F1B0-C6DC-43D8-A1FA-43934E52B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725E-1C01-4953-923B-E5BEE5772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B3D4E-5F99-49EB-8F24-66ECBCB541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39BE0-DA6F-4073-B8A4-76528796CF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0487-D743-4C02-B484-853FEE29DA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07854-5168-469F-A2BF-BC214CEBE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CD9D-F009-4BA8-9244-F6FF91531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9814F-A922-4A77-BEFA-A75F13208E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F996B-8700-4F58-8CC4-2C3F8DB844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1D41E-183F-413E-A5F7-57066EB0DB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83071-BDBE-47B3-AD69-90251F0219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C6440-E07E-42EC-8C3B-9718E7B694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CAD21-804C-4804-8AB9-095F4B27D5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4D541-F6BF-4B08-A613-642DDAB05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CED0A-A01F-4BCA-A48F-CAD7AFA898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3509-2326-4060-B9B6-A0CA460D8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7DDAC-A04D-4300-A7E7-599A31B34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4EDE-3D5E-47C5-A45C-9D1B651F99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91CED-1A2B-44C4-A9D0-299BCBE8A2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8C2D6-72C2-457A-B7ED-92F0CC0C7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7"/>
          <p:cNvSpPr/>
          <p:nvPr/>
        </p:nvSpPr>
        <p:spPr>
          <a:xfrm>
            <a:off x="3884760" y="868536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E1DAD-84CB-4D5D-A530-631B090DE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B263-DA49-402E-8216-807E21C3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366D-76BF-4D89-8827-26DE838C0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B120-1BA8-4F02-9F1E-4A4D3B29F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1041-4414-43EF-887D-9958029ED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95CC-D47C-40D6-A97D-CA30DABF83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05E9-C89A-42CF-B38F-1F824D53B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3DDC-0300-433A-9155-1EDBA7A2B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69E7-B95C-4705-9331-79F1280A5F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DB28-4E5F-4E85-A165-99C9DD1F91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C31A-EDD6-47E3-8F2C-14CF03E52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0731-2E60-4BF3-9AFF-B821A26C7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0381-FA33-41F6-8CC5-2578E4F93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32F9-4145-47C9-9245-EDC5415437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9BC0-080A-4F3F-8565-70E0AC193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8D30-7186-4520-9082-2715B4DAD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CD18-9845-427C-B759-E429266ECD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D791-A810-47D2-84BE-2990B925B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BB3C-02F0-4483-9770-6173C85A4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647F-1479-4DCC-975E-D548C508D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C632-D050-4602-A0A9-D74FF926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C9B0-DEB4-4713-AD6F-C15395CB7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AABD-3580-4792-BCE6-09806475F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BFEF-B95A-4B41-AE39-1AC0DE678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5667-6F7F-4063-AB41-7D5B2FD66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6fb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f8f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6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11776-62A3-4EE7-9917-06333B655AB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6fb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f8f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D27F2B-2876-4E07-A0D9-22C523602E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685800" y="37944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Охрана животных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2590920"/>
            <a:ext cx="64008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3 «Б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ченко Дар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хозная средняя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428760" y="4429080"/>
            <a:ext cx="226188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5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3125 0.13542 C -0.02083 0.09375 -0.0467 0.02269 -0.03264 -0.04861 C -0.02535 -0.07338 -0.01597 -0.09745 -0.00208 -0.11713 C 0.00747 -0.06088 0.04063 -0.00949 0.09028 0.02269 C 0.09028 -0.04606 0.12813 -0.1125 0.19202 -0.1419 C 0.21337 -0.15417 0.23681 -0.1588 0.26042 -0.16134 C 0.22483 -0.11968 0.2059 -0.06088 0.21337 0.00046 C 0.26493 -0.04352 0.33837 -0.0537 0.40209 -0.02176 C 0.42344 -0.01204 0.44479 0.00556 0.4592 0.02269 C 0.40452 0.01782 0.34792 0.03958 0.30764 0.08403 C 0.37118 0.09884 0.4257 0.15046 0.44219 0.22153 C 0.44705 0.24583 0.44705 0.2706 0.44219 0.29468 C 0.41129 0.24838 0.35972 0.21644 0.30278 0.21157 C 0.3316 0.27315 0.32396 0.34884 0.28177 0.40556 C 0.26493 0.42523 0.24618 0.44213 0.22483 0.45208 C 0.24167 0.39792 0.23212 0.33657 0.20139 0.2875 C 0.17309 0.34884 0.11163 0.39051 0.04063 0.39051 C 0.01493 0.39051 -0.00903 0.38588 -0.03038 0.37569 C 0.02188 0.35602 0.06198 0.30972 0.0809 0.25301 C 0.01493 0.26806 -0.05364 0.24583 -0.09861 0.18935 C -0.11528 0.16736 -0.12465 0.14537 -0.13142 0.1206 C -0.08455 0.15232 -0.02291 0.15764 0.03125 0.13542 Z">
                                      <p:cBhvr>
                                        <p:cTn id="6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"/>
          <p:cNvSpPr/>
          <p:nvPr/>
        </p:nvSpPr>
        <p:spPr>
          <a:xfrm>
            <a:off x="324000" y="260280"/>
            <a:ext cx="1152360" cy="144000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324000" y="2276640"/>
            <a:ext cx="1152360" cy="1439640"/>
          </a:xfrm>
          <a:prstGeom prst="foldedCorner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24000" y="4508640"/>
            <a:ext cx="1223640" cy="151272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835280" y="50832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пределенные виды, мало изученные уче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92360" y="2348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алось спасти в результате мер по их охра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125800" y="4776840"/>
            <a:ext cx="53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чезнувш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4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4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4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539640" y="105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 нашей стране   3 издания, последнее из которых вышло в 1996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468360" y="4475160"/>
            <a:ext cx="57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60360" y="2763720"/>
            <a:ext cx="6480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ое издание включ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 128 видов и подвидов позвон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 18 рыб и круглорот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 3 земновод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 10 пресмыкаю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 57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 40 млекопит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66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66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Красная книга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 много раз переиздавалась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вы думаете почем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3886200"/>
            <a:ext cx="205272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57200" y="27468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О животных, которые занесены в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расную книгу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38560" cy="2519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6659640" y="4724280"/>
            <a:ext cx="208908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5486400" y="533520"/>
            <a:ext cx="365760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анствующий голуб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2"/>
          <p:cNvGrpSpPr/>
          <p:nvPr/>
        </p:nvGrpSpPr>
        <p:grpSpPr>
          <a:xfrm>
            <a:off x="152280" y="2286000"/>
            <a:ext cx="5332680" cy="3701880"/>
            <a:chOff x="152280" y="2286000"/>
            <a:chExt cx="5332680" cy="3701880"/>
          </a:xfrm>
        </p:grpSpPr>
        <p:pic>
          <p:nvPicPr>
            <p:cNvPr id="285" name="Picture 3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5332680" cy="37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4"/>
            <p:cNvSpPr/>
            <p:nvPr/>
          </p:nvSpPr>
          <p:spPr>
            <a:xfrm>
              <a:off x="152280" y="2286000"/>
              <a:ext cx="5332680" cy="37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AutoShape 5"/>
          <p:cNvSpPr/>
          <p:nvPr/>
        </p:nvSpPr>
        <p:spPr>
          <a:xfrm>
            <a:off x="152280" y="304920"/>
            <a:ext cx="7772400" cy="17366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счезнувшие животные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анствующий голуб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мершая птица семейства голубей. До 19-в являлась одной из самых распространённых птиц на Земле, общее количество которых оценивалось в 3-5 млрд. особей. Вымирание странствующего голубя произошло по причине истребления ради получения мяса. Последний раз странствующий голубь в дикой природе был обнаружен в 1899 г. Последний голубь «Марта» умер в зоологическом саду г. Цинциннати (США) 1 сентября 1914 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457200" y="277920"/>
            <a:ext cx="8229600" cy="1006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далось спасти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2"/>
          <p:cNvGrpSpPr/>
          <p:nvPr/>
        </p:nvGrpSpPr>
        <p:grpSpPr>
          <a:xfrm>
            <a:off x="2819520" y="1676520"/>
            <a:ext cx="4037040" cy="3913200"/>
            <a:chOff x="2819520" y="1676520"/>
            <a:chExt cx="4037040" cy="3913200"/>
          </a:xfrm>
        </p:grpSpPr>
        <p:pic>
          <p:nvPicPr>
            <p:cNvPr id="292" name="Picture 3" descr=""/>
            <p:cNvPicPr/>
            <p:nvPr/>
          </p:nvPicPr>
          <p:blipFill>
            <a:blip r:embed="rId1"/>
            <a:stretch/>
          </p:blipFill>
          <p:spPr>
            <a:xfrm>
              <a:off x="2819520" y="1676520"/>
              <a:ext cx="40370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4"/>
            <p:cNvSpPr/>
            <p:nvPr/>
          </p:nvSpPr>
          <p:spPr>
            <a:xfrm>
              <a:off x="2819520" y="1676520"/>
              <a:ext cx="4037040" cy="39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Text Box 5"/>
          <p:cNvSpPr/>
          <p:nvPr/>
        </p:nvSpPr>
        <p:spPr>
          <a:xfrm>
            <a:off x="2743200" y="4952880"/>
            <a:ext cx="403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ечной боб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7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ечной боб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яет берега медленных рек и озер с поросшими лиственным лесом берегами. Живут семьями. В крутых берегах строят норы, а там, где берега плоские — хатки из скрепленных илом сучьев с подводным входом. Плотины достигают 200 м в длину и 7 м в ширину; иногда бобры роют в пологих берегах узкие каналы, по которым сплавляют к водоему кор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57200" y="277920"/>
            <a:ext cx="8229600" cy="976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далось спасти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533520" y="1828800"/>
            <a:ext cx="5408640" cy="3656160"/>
            <a:chOff x="533520" y="1828800"/>
            <a:chExt cx="5408640" cy="3656160"/>
          </a:xfrm>
        </p:grpSpPr>
        <p:pic>
          <p:nvPicPr>
            <p:cNvPr id="300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540864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5"/>
            <p:cNvSpPr/>
            <p:nvPr/>
          </p:nvSpPr>
          <p:spPr>
            <a:xfrm>
              <a:off x="533520" y="1828800"/>
              <a:ext cx="540864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WordArt 6"/>
          <p:cNvSpPr txBox="1"/>
          <p:nvPr/>
        </p:nvSpPr>
        <p:spPr>
          <a:xfrm>
            <a:off x="6324480" y="2743200"/>
            <a:ext cx="2514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7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боль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меет ценный мех. В дневное время плохо видит, зато ночью – очень ловкий. Питается мелкими птицами, зверьками, ягодами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Цель проект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можно больше узнать о животных которые занесены в красную кни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 истории создания красной кни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ужно делать для того, чтобы животные не исчезали. Экологические прави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52280" y="495288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овый фламинго                   Журавль-красавка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457200" y="277920"/>
            <a:ext cx="8229600" cy="1006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дкие животны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457200" y="2031840"/>
            <a:ext cx="4037040" cy="3659400"/>
            <a:chOff x="457200" y="2031840"/>
            <a:chExt cx="4037040" cy="365940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2031840"/>
              <a:ext cx="4037040" cy="36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5"/>
            <p:cNvSpPr/>
            <p:nvPr/>
          </p:nvSpPr>
          <p:spPr>
            <a:xfrm>
              <a:off x="457200" y="2031840"/>
              <a:ext cx="403704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6431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ламинго, Журавль-красавк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40291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птица стала редкой, так как подверглась преследованию ради вкусного мяса, пера и пуха. Розовый фламинго занесен в Красную книгу. Охота на эту птицу запрещена. Живет фламинго 25-30 лет. Тело ее высотой 1,5 метра, вес 4 кг. У фламинго интересные гнезда. Они конической формы или в виде башенки, высотой до 1,5 м. Смешные у них птенцы: ноги толстые, красные, клюв прямой – тоже красный. А пух в птенцов серый, потом будет розовым. Через 4 месяца они вырастают до размеров своих род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38600" y="1600200"/>
            <a:ext cx="40305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авли очень стройные птицы, имеют длинные ноги, шею, большой клюв. Питаются насекомыми, корнями растений, ягодами, и даже мелкими грызу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52280" y="4952880"/>
            <a:ext cx="84582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ебеди                            Выхухо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457200" y="277920"/>
            <a:ext cx="8229600" cy="1006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дкие животны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304920" y="1676520"/>
            <a:ext cx="4570200" cy="3047760"/>
            <a:chOff x="304920" y="1676520"/>
            <a:chExt cx="4570200" cy="3047760"/>
          </a:xfrm>
        </p:grpSpPr>
        <p:pic>
          <p:nvPicPr>
            <p:cNvPr id="317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5702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5"/>
            <p:cNvSpPr/>
            <p:nvPr/>
          </p:nvSpPr>
          <p:spPr>
            <a:xfrm>
              <a:off x="304920" y="1676520"/>
              <a:ext cx="45702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962520" cy="30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Лебедь и выхухол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40291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дна из самых красивых и крупных птиц. Гнездятся лебеди по глухим озёрам, камышам. В неволе быстро становится ручным. Охота на этих птиц запрещ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38600" y="1600200"/>
            <a:ext cx="40305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ята, на территории нашей страны обитает удивительный зверек, занесенный в Международную Красную книгу, и в Красную книгу нашей страны, Он встречается только в нашей стране и нигде больше. Выхухоль – животное из далеких эпох. Сородичи его жили 40 млн. лет назад. Сохранился лишь один вид – русский выхухоль. Это ценный пушной зверек. Его шкурки ценились выше шкурок бобра. Этот зверек водился в речках, но браконьеры сделали свое дело и сейчас он встречается в наших краях ред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52280" y="4952880"/>
            <a:ext cx="84582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 algn="ctr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сь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25280"/>
            <a:ext cx="8229600" cy="131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Сохраняющиеся, но их численность сокращает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2362320" y="1981080"/>
            <a:ext cx="4570200" cy="3424320"/>
            <a:chOff x="2362320" y="1981080"/>
            <a:chExt cx="4570200" cy="3424320"/>
          </a:xfrm>
        </p:grpSpPr>
        <p:pic>
          <p:nvPicPr>
            <p:cNvPr id="326" name="Picture 4" descr=""/>
            <p:cNvPicPr/>
            <p:nvPr/>
          </p:nvPicPr>
          <p:blipFill>
            <a:blip r:embed="rId1"/>
            <a:stretch/>
          </p:blipFill>
          <p:spPr>
            <a:xfrm>
              <a:off x="2362320" y="1981080"/>
              <a:ext cx="4570200" cy="34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5"/>
            <p:cNvSpPr/>
            <p:nvPr/>
          </p:nvSpPr>
          <p:spPr>
            <a:xfrm>
              <a:off x="2362320" y="1981080"/>
              <a:ext cx="4570200" cy="34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ос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ина тела  до 3 м, высота в до 2,3 м, масса 360—600 кг. У самцов огромные рога. Рога лось сбрасывает ежегодно в ноябре — декабре и ходит без них до апреля — мая. Самки безрогие. Лоси населяют различные леса, заросли ивняков по берегам степных рек и озёр, держатся по березнякам и осинникам. Лоси питаются древесно-кустарниковой и травянистой растительностью, а также мхами, лишайниками и гриб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52280" y="4952880"/>
            <a:ext cx="845820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сец                                    Дрофа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457200" y="125280"/>
            <a:ext cx="8229600" cy="131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Сохраняющиеся, но их численность сокращает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3"/>
          <p:cNvGrpSpPr/>
          <p:nvPr/>
        </p:nvGrpSpPr>
        <p:grpSpPr>
          <a:xfrm>
            <a:off x="228600" y="1523880"/>
            <a:ext cx="4570560" cy="3198960"/>
            <a:chOff x="228600" y="1523880"/>
            <a:chExt cx="4570560" cy="3198960"/>
          </a:xfrm>
        </p:grpSpPr>
        <p:pic>
          <p:nvPicPr>
            <p:cNvPr id="333" name="Picture 4" descr=""/>
            <p:cNvPicPr/>
            <p:nvPr/>
          </p:nvPicPr>
          <p:blipFill>
            <a:blip r:embed="rId1"/>
            <a:stretch/>
          </p:blipFill>
          <p:spPr>
            <a:xfrm>
              <a:off x="228600" y="1523880"/>
              <a:ext cx="457056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5"/>
            <p:cNvSpPr/>
            <p:nvPr/>
          </p:nvSpPr>
          <p:spPr>
            <a:xfrm>
              <a:off x="228600" y="1523880"/>
              <a:ext cx="4570560" cy="31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сец и дроф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40291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сец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сравнительно небольшое хищное животное, напоминающее лисицу. По окраске различают обычного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л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луб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есца. Песец всеяден. Питается как выброшенной на берег, так и добытой рыбой, а также растительной пищей: ягодами , травами, водорослями. Не отказывается от падали. На побережье песец часто сопровождает белых медведей, и ему достается часть мяса убитых тюленей. Летом запасает в логове излишки пищи на зиму. У песца хорошо развиты слух и обоняние; несколько слабее — зрение. Голос представляет тявкающий ла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38600" y="1600200"/>
            <a:ext cx="40305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роф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по внешнему виду и образу жизни дрофа напоминает небольшого страуса. У неё длинные, очень мощные ноги, длинная шея, голова с коротким клювом. Она неплохо бегает и летает. Питается растительной пищей — зёрнами и семенами растений, особенно любит  горох,  капусту и горчицу, щиплет молодую траву. Может ловить и мелких млекопитающих, земноводных и некоторых беспозвоночных, в том числе насекомых. В начале  20 века дрофы были одним из многочисленных видов птиц. Однако из-за распашки степей под сельскохозяйственные угодья, численность дроф неуклонно сокращается. Ещё больше этих птиц гибнет от рук браконьеров, так как мясо дроф считается деликате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6629400" y="2743200"/>
            <a:ext cx="2209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кол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пс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228600" y="152280"/>
            <a:ext cx="8609040" cy="1519200"/>
            <a:chOff x="228600" y="152280"/>
            <a:chExt cx="8609040" cy="1519200"/>
          </a:xfrm>
        </p:grpSpPr>
        <p:pic>
          <p:nvPicPr>
            <p:cNvPr id="342" name="Picture 4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860904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5"/>
            <p:cNvSpPr/>
            <p:nvPr/>
          </p:nvSpPr>
          <p:spPr>
            <a:xfrm>
              <a:off x="228600" y="152280"/>
              <a:ext cx="860904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WordArt 6"/>
          <p:cNvSpPr txBox="1"/>
          <p:nvPr/>
        </p:nvSpPr>
        <p:spPr>
          <a:xfrm>
            <a:off x="2133720" y="53352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чезающие 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762120" y="2057400"/>
            <a:ext cx="4417920" cy="3719520"/>
            <a:chOff x="762120" y="2057400"/>
            <a:chExt cx="4417920" cy="3719520"/>
          </a:xfrm>
        </p:grpSpPr>
        <p:pic>
          <p:nvPicPr>
            <p:cNvPr id="346" name="Picture 8" descr=""/>
            <p:cNvPicPr/>
            <p:nvPr/>
          </p:nvPicPr>
          <p:blipFill>
            <a:blip r:embed="rId2"/>
            <a:stretch/>
          </p:blipFill>
          <p:spPr>
            <a:xfrm>
              <a:off x="762120" y="2057400"/>
              <a:ext cx="4417920" cy="371952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sp>
          <p:nvSpPr>
            <p:cNvPr id="347" name="Text Box 9"/>
            <p:cNvSpPr/>
            <p:nvPr/>
          </p:nvSpPr>
          <p:spPr>
            <a:xfrm>
              <a:off x="762120" y="2057400"/>
              <a:ext cx="4417920" cy="37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кол-сапсан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пный сокол, размах крыльев 85-120 см. Обычно сокол охотится на птиц средней величины - голубей, уток, вороновых, но во время выкармливания птенцов самец, на котором лежит забота добывать пищу для выводка, ловит и мелких птиц. В большинстве стран сокол охраняется как памятник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102120" cy="2264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2971800" cy="2109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2627280" cy="2189160"/>
          </a:xfrm>
          <a:prstGeom prst="rect">
            <a:avLst/>
          </a:prstGeom>
          <a:ln w="0">
            <a:noFill/>
          </a:ln>
        </p:spPr>
      </p:pic>
      <p:sp>
        <p:nvSpPr>
          <p:cNvPr id="237" name="WordArt 4"/>
          <p:cNvSpPr txBox="1"/>
          <p:nvPr/>
        </p:nvSpPr>
        <p:spPr>
          <a:xfrm>
            <a:off x="468360" y="4797360"/>
            <a:ext cx="64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1908000" y="551664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3203640" y="4869000"/>
            <a:ext cx="718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5003640" y="558972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7596360" y="5589720"/>
            <a:ext cx="502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6372360" y="4797360"/>
            <a:ext cx="50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8532720" y="4797360"/>
            <a:ext cx="287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6324480" y="2666880"/>
            <a:ext cx="2819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ёрный лебед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228600" y="152280"/>
            <a:ext cx="8609040" cy="1519200"/>
            <a:chOff x="228600" y="152280"/>
            <a:chExt cx="8609040" cy="1519200"/>
          </a:xfrm>
        </p:grpSpPr>
        <p:pic>
          <p:nvPicPr>
            <p:cNvPr id="353" name="Picture 4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860904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5"/>
            <p:cNvSpPr/>
            <p:nvPr/>
          </p:nvSpPr>
          <p:spPr>
            <a:xfrm>
              <a:off x="228600" y="152280"/>
              <a:ext cx="860904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WordArt 6"/>
          <p:cNvSpPr txBox="1"/>
          <p:nvPr/>
        </p:nvSpPr>
        <p:spPr>
          <a:xfrm>
            <a:off x="2133720" y="53352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чезающие 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553068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Чёрный лебед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оперения у этого лебедя черная, и лишь большие маховые перья белые. Имеет очень короткий хвост, тон­кую длинную шею и маленькую голову; клюв без нароста. Перья кра­сиво и пышно закручены. Распространен черный лебедь в Австралии, где прежде был весьма многочислен, а в настоящее время во многих ме­стах истреблен. Живет на обширных болотах и озерах, по­росших растительностью. Гнездо в виде большой кучи бо­лотных растений расположено на небольших островках или на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79280" y="1413000"/>
            <a:ext cx="86756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ечь надо и тех животных, которые не занесены в Красную книг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хорошо нам известные: белка, ёж, синица, дятел, лягушка и другие. Их жизнь зависит от вас, от вашего поведения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Давайте вспомним экологически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280656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разоряй птичьи гнё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одходи близко к гнёздам птиц. По твоим следам их могут отыскать и разорить хищники. Если случайно окажешься около гнезда, не прикасайся к нему, сразу 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ходи. Иначе птиц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дители могут насовс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нуть гнез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WordArt 2"/>
          <p:cNvSpPr txBox="1"/>
          <p:nvPr/>
        </p:nvSpPr>
        <p:spPr>
          <a:xfrm>
            <a:off x="2133720" y="304920"/>
            <a:ext cx="66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400040" cy="123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4"/>
          <a:stretch/>
        </p:blipFill>
        <p:spPr>
          <a:xfrm>
            <a:off x="7010280" y="3524400"/>
            <a:ext cx="23529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1219320" y="1752480"/>
            <a:ext cx="76197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у тебя есть собака, не пускай её гулять в лесу или парке весной или в начале лета. Она легко может  поймать плохо летающих птенцов и беспомощных детёнышей звер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324000" y="3867120"/>
            <a:ext cx="1434960" cy="2990880"/>
          </a:xfrm>
          <a:prstGeom prst="rect">
            <a:avLst/>
          </a:prstGeom>
          <a:ln w="0">
            <a:noFill/>
          </a:ln>
        </p:spPr>
      </p:pic>
      <p:sp>
        <p:nvSpPr>
          <p:cNvPr id="369" name="WordArt 3"/>
          <p:cNvSpPr txBox="1"/>
          <p:nvPr/>
        </p:nvSpPr>
        <p:spPr>
          <a:xfrm>
            <a:off x="1187280" y="333360"/>
            <a:ext cx="66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64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лови и не уноси домой здоровых птенцов и детёнышей зверей. В природе о них позаботятся взрослы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ем подкармливать птиц зимой, а весной с помощью старших будем делать для них д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брывай в лесу паутину и не убивай пау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105520" y="5334120"/>
            <a:ext cx="3240000" cy="17208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3"/>
          <p:cNvSpPr txBox="1"/>
          <p:nvPr/>
        </p:nvSpPr>
        <p:spPr>
          <a:xfrm>
            <a:off x="1187280" y="333360"/>
            <a:ext cx="66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 -6 -3.7037 -7 C 0.07985 -0.03426 0.15989 -0.06875 0.19044 -0.09838 C 0.221 -0.12824 0.18541 -0.15764 0.18333 -0.1794 C 0.18124 -0.20116 0.17604 -0.1912 0.17742 -0.22847 C 0.17881 -0.26574 0.18593 -0.35717 0.19166 -0.40324 C 0.19739 -0.44954 0.21197 -0.46898 0.21197 -0.50486 C 0.21197 -0.54074 0.20538 -0.59236 0.19166 -0.61898 C 0.17794 -0.6456 0.16163 -0.65324 0.12968 -0.66505 C 0.09774 -0.67685 0.03246 -0.68518 -6.66667 -6 -0.69051 C -0.03247 -0.69583 -0.03508 -0.69583 -0.06546 -0.69676 C -0.09584 -0.69768 -0.13803 -0.69653 -0.18212 -0.69676 C -0.22622 -0.69699 -0.28716 -0.69815 -0.32969 -0.69838 C -0.37223 -0.69861 -0.40244 -0.69815 -0.43699 -0.69838 C -0.47153 -0.69861 -0.5066 -0.70046 -0.53699 -0.7 C -0.56737 -0.69954 -0.59983 -0.69768 -0.6191 -0.69514 C -0.63837 -0.69259 -0.64133 -0.69375 -0.65244 -0.68403 C -0.66355 -0.6743 -0.67848 -0.65717 -0.68577 -0.63657 C -0.69306 -0.61597 -0.69358 -0.58704 -0.69636 -0.56042 C -0.69914 -0.5338 -0.69879 -0.55185 -0.70244 -0.47616 C -0.70608 -0.40046 -0.80417 -0.18842 -0.71789 -0.10625 C -0.6316 -0.02407 -0.40817 -0.0037 -0.18456 0.01713">
                                      <p:cBhvr>
                                        <p:cTn id="370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10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разоряй муравейни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1001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100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еги лягушек, жаб и их головасти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WordArt 2"/>
          <p:cNvSpPr txBox="1"/>
          <p:nvPr/>
        </p:nvSpPr>
        <p:spPr>
          <a:xfrm>
            <a:off x="1187280" y="333360"/>
            <a:ext cx="66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 правил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64000" y="4653000"/>
            <a:ext cx="3095640" cy="1503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4"/>
          <a:stretch/>
        </p:blipFill>
        <p:spPr>
          <a:xfrm>
            <a:off x="152280" y="4448160"/>
            <a:ext cx="289584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люди защищают и охраняют животны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2"/>
          <p:cNvGrpSpPr/>
          <p:nvPr/>
        </p:nvGrpSpPr>
        <p:grpSpPr>
          <a:xfrm>
            <a:off x="304920" y="1828800"/>
            <a:ext cx="4037040" cy="3122640"/>
            <a:chOff x="304920" y="1828800"/>
            <a:chExt cx="4037040" cy="3122640"/>
          </a:xfrm>
        </p:grpSpPr>
        <p:pic>
          <p:nvPicPr>
            <p:cNvPr id="379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037040" cy="312264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sp>
          <p:nvSpPr>
            <p:cNvPr id="380" name="Text Box 4"/>
            <p:cNvSpPr/>
            <p:nvPr/>
          </p:nvSpPr>
          <p:spPr>
            <a:xfrm>
              <a:off x="304920" y="1828800"/>
              <a:ext cx="4037040" cy="31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 Box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ют заповед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щают охоту на животных , ловлю ры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ие виды животных разводят в питомни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196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ы на свет родилис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142640"/>
            <a:ext cx="82119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ы на свет родились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 природу любить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 цветы поливать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 деревья растить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 зверей не обидеть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 птиц накормить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ы чистой планету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вою сохранить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ак давайте же реки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Беречь и моря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 ручьи на земле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отекали не зря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ы воздух был чистым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озрачной вода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об планете родной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е грозила бе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1"/>
          <p:cNvSpPr txBox="1"/>
          <p:nvPr/>
        </p:nvSpPr>
        <p:spPr>
          <a:xfrm>
            <a:off x="684360" y="1484280"/>
            <a:ext cx="7920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ая книга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>
            <a:off x="4876920" y="4419720"/>
            <a:ext cx="426708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395280" y="450864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рода создала животное вовсе не для того, чтобы оно нравилось или не нравилось челове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3381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48" name="Text Box 3"/>
          <p:cNvSpPr/>
          <p:nvPr/>
        </p:nvSpPr>
        <p:spPr>
          <a:xfrm>
            <a:off x="5651640" y="450864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365360" cy="32338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5257800" y="4419720"/>
            <a:ext cx="3209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ОН РАВНОВЕСИЯ -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 ПОЛЕЗНЫ И НУЖН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539640" y="765000"/>
            <a:ext cx="79408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Начиная с 1600 года, на нашей планете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ымерло около 150 видов животных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. За малым исключением, все эти животные вымерли по вине челове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26528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7010280" y="4876920"/>
            <a:ext cx="1587600" cy="15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57200" y="254160"/>
            <a:ext cx="8229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Times New Roman"/>
              </a:rPr>
              <a:t>1948 </a:t>
            </a:r>
            <a:r>
              <a:rPr b="0" lang="ru-RU" sz="7200" spc="-1" strike="noStrike">
                <a:solidFill>
                  <a:srgbClr val="0066ff"/>
                </a:solidFill>
                <a:latin typeface="Times New Roman"/>
              </a:rPr>
              <a:t>го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ченые всего мира создали международный союз охраны природы.    По заданию этого союза ученые: биологи, экологи, стали изучать каким представителям нашей планеты помочь в первую очередь, составили списки и издали их в виде книги. Назвали ее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Красная книга фактов»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Это была первая Красная кни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та книга советует, рассказывает какие растения и животные редкие, призывает изучать и предупреждает об их исчезнов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172880" cy="129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7920000" y="4859280"/>
            <a:ext cx="1224000" cy="19987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5"/>
          <p:cNvSpPr txBox="1"/>
          <p:nvPr/>
        </p:nvSpPr>
        <p:spPr>
          <a:xfrm>
            <a:off x="7932600" y="504036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19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66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г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54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54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54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54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cc3399"/>
                </a:solidFill>
                <a:latin typeface="Times New Roman"/>
              </a:rPr>
              <a:t>Была издана в необычном виде. Она состояла из разноцветных страниц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046240" cy="2257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029200" y="4699080"/>
            <a:ext cx="331308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5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274680"/>
            <a:ext cx="1306440" cy="13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124000" y="56052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чезающие 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468360" y="2205000"/>
            <a:ext cx="1306440" cy="14968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979640" y="207792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храняющиеся, но их численность сокращае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468360" y="4292640"/>
            <a:ext cx="1295280" cy="1584360"/>
          </a:xfrm>
          <a:prstGeom prst="foldedCorner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979640" y="4124160"/>
            <a:ext cx="602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находятся под угрозой вымирания, но встречаю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чень ред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20T22:47:27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