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6519-99FE-4FCD-968F-B6D76A30D3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5A6F-5561-4F2D-9D76-81751ACC7F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2A98-229C-4B3C-9180-336D4D419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8058-5073-4872-A957-6B0CF312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AE10-C855-44E1-BDFE-E701BE6D8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1186-7EF6-48BB-A583-1417C1602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A346-21AE-4FA1-9F73-902B2F5B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6A2D-4152-439C-AF24-E0B7C9B8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AD14-B7DD-4B57-8AAA-2597A175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951A-32E2-414C-9DA8-611D8217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65E9-DF8A-4050-8A6A-F616298C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844E-7006-4F19-910E-4F934AF7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67F8-F3AC-4A84-87C4-EEDD88D9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6EA0-0469-4CD7-A9F3-B4B04568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B0DC-C56F-4F56-8832-C0AA98AC56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image" Target="../media/image13.jpeg"/><Relationship Id="rId4" Type="http://schemas.openxmlformats.org/officeDocument/2006/relationships/image" Target="../media/image10.jpeg"/><Relationship Id="rId5" Type="http://schemas.openxmlformats.org/officeDocument/2006/relationships/image" Target="../media/image14.jpeg"/><Relationship Id="rId6" Type="http://schemas.openxmlformats.org/officeDocument/2006/relationships/image" Target="../media/image5.jpeg"/><Relationship Id="rId7" Type="http://schemas.openxmlformats.org/officeDocument/2006/relationships/image" Target="../media/image15.jpeg"/><Relationship Id="rId8" Type="http://schemas.openxmlformats.org/officeDocument/2006/relationships/image" Target="../media/image8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28600" y="4343400"/>
            <a:ext cx="6095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Давайте понаблюдаем за некоторыми из певчих птиц. Посмотрим и послушаем крылатых артистов. Ведь у каждой птицы своя песня и своя неповторимая мелод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WordArt 13"/>
          <p:cNvSpPr txBox="1"/>
          <p:nvPr/>
        </p:nvSpPr>
        <p:spPr>
          <a:xfrm>
            <a:off x="380880" y="304920"/>
            <a:ext cx="556272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687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Птичий концерт</a:t>
            </a:r>
            <a:endParaRPr b="1" lang="en-US" sz="24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6248520" y="838080"/>
            <a:ext cx="289548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П</a:t>
            </a:r>
            <a:r>
              <a:rPr b="0" lang="ru-RU" sz="2000" spc="-1" strike="noStrike">
                <a:solidFill>
                  <a:srgbClr val="ffff99"/>
                </a:solidFill>
                <a:latin typeface="Comic Sans MS"/>
                <a:ea typeface="Arial"/>
              </a:rPr>
              <a:t>тицы и артис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Comic Sans MS"/>
                <a:ea typeface="Arial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Comic Sans MS"/>
                <a:ea typeface="Arial"/>
              </a:rPr>
              <a:t>очень похожи друг на друг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Comic Sans MS"/>
                <a:ea typeface="Arial"/>
              </a:rPr>
              <a:t>Ощущение свободы жизненно необходимы артисту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Comic Sans MS"/>
                <a:ea typeface="Arial"/>
              </a:rPr>
              <a:t>а вдохновение никогда не покидает поющие сердца</a:t>
            </a:r>
            <a:r>
              <a:rPr b="0" lang="ru-RU" sz="2000" spc="-1" strike="noStrike">
                <a:solidFill>
                  <a:srgbClr val="ffff99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7"/>
          <p:cNvSpPr/>
          <p:nvPr/>
        </p:nvSpPr>
        <p:spPr>
          <a:xfrm>
            <a:off x="5638680" y="594216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рспитатель: Скрипко С.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ffcc00"/>
            </a:gs>
            <a:gs pos="100000">
              <a:srgbClr val="66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9" descr="C:\Documents and Settings\gman.RCFIO\Рабочий стол\уроки по интернет\Мы получили письмо\щегол3.jpg"/>
          <p:cNvPicPr/>
          <p:nvPr/>
        </p:nvPicPr>
        <p:blipFill>
          <a:blip r:embed="rId1"/>
          <a:stretch/>
        </p:blipFill>
        <p:spPr>
          <a:xfrm>
            <a:off x="4648320" y="4724280"/>
            <a:ext cx="2438280" cy="1621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8" descr="C:\Documents and Settings\gman.RCFIO\Рабочий стол\уроки по интернет\Мы получили письмо\кукушка.jpg"/>
          <p:cNvPicPr/>
          <p:nvPr/>
        </p:nvPicPr>
        <p:blipFill>
          <a:blip r:embed="rId2"/>
          <a:stretch/>
        </p:blipFill>
        <p:spPr>
          <a:xfrm>
            <a:off x="2209680" y="4038480"/>
            <a:ext cx="2133720" cy="1724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6" descr="C:\Documents and Settings\gman.RCFIO\Рабочий стол\уроки по интернет\Мы получили письмо\pic008.jpg"/>
          <p:cNvPicPr/>
          <p:nvPr/>
        </p:nvPicPr>
        <p:blipFill>
          <a:blip r:embed="rId3"/>
          <a:stretch/>
        </p:blipFill>
        <p:spPr>
          <a:xfrm>
            <a:off x="5029200" y="2057400"/>
            <a:ext cx="1386000" cy="2038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5" descr="C:\Documents and Settings\gman.RCFIO\Рабочий стол\уроки по интернет\Мы получили письмо\снегирь.jpg"/>
          <p:cNvPicPr/>
          <p:nvPr/>
        </p:nvPicPr>
        <p:blipFill>
          <a:blip r:embed="rId4"/>
          <a:stretch/>
        </p:blipFill>
        <p:spPr>
          <a:xfrm>
            <a:off x="7086600" y="3429000"/>
            <a:ext cx="1603440" cy="1295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4" descr="C:\Documents and Settings\gman.RCFIO\Рабочий стол\уроки по интернет\Мы получили письмо\поползень.jpg"/>
          <p:cNvPicPr/>
          <p:nvPr/>
        </p:nvPicPr>
        <p:blipFill>
          <a:blip r:embed="rId5"/>
          <a:stretch/>
        </p:blipFill>
        <p:spPr>
          <a:xfrm>
            <a:off x="380880" y="304920"/>
            <a:ext cx="1760760" cy="1809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0" descr="C:\Documents and Settings\gman.RCFIO\Рабочий стол\уроки по интернет\Мы получили письмо\зяблик.JPG"/>
          <p:cNvPicPr/>
          <p:nvPr/>
        </p:nvPicPr>
        <p:blipFill>
          <a:blip r:embed="rId6"/>
          <a:stretch/>
        </p:blipFill>
        <p:spPr>
          <a:xfrm>
            <a:off x="7162920" y="380880"/>
            <a:ext cx="1782720" cy="1984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9" descr="C:\Documents and Settings\gman.RCFIO\Рабочий стол\уроки по интернет\Мы получили письмо\соловей.JPG"/>
          <p:cNvPicPr/>
          <p:nvPr/>
        </p:nvPicPr>
        <p:blipFill>
          <a:blip r:embed="rId7"/>
          <a:stretch/>
        </p:blipFill>
        <p:spPr>
          <a:xfrm>
            <a:off x="380880" y="3276720"/>
            <a:ext cx="1711440" cy="19047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1"/>
          <p:cNvSpPr/>
          <p:nvPr/>
        </p:nvSpPr>
        <p:spPr>
          <a:xfrm>
            <a:off x="533520" y="5029200"/>
            <a:ext cx="1371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солов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2"/>
          <p:cNvSpPr/>
          <p:nvPr/>
        </p:nvSpPr>
        <p:spPr>
          <a:xfrm>
            <a:off x="7391520" y="2133720"/>
            <a:ext cx="1371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зябл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3"/>
          <p:cNvSpPr/>
          <p:nvPr/>
        </p:nvSpPr>
        <p:spPr>
          <a:xfrm>
            <a:off x="2438280" y="3276720"/>
            <a:ext cx="1371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си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4"/>
          <p:cNvSpPr/>
          <p:nvPr/>
        </p:nvSpPr>
        <p:spPr>
          <a:xfrm>
            <a:off x="457200" y="1752480"/>
            <a:ext cx="1600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пополз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5"/>
          <p:cNvSpPr/>
          <p:nvPr/>
        </p:nvSpPr>
        <p:spPr>
          <a:xfrm>
            <a:off x="7315200" y="4648320"/>
            <a:ext cx="1371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снегир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6"/>
          <p:cNvSpPr/>
          <p:nvPr/>
        </p:nvSpPr>
        <p:spPr>
          <a:xfrm>
            <a:off x="2590920" y="5562720"/>
            <a:ext cx="1371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кукуш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7"/>
          <p:cNvSpPr/>
          <p:nvPr/>
        </p:nvSpPr>
        <p:spPr>
          <a:xfrm>
            <a:off x="4800600" y="6095880"/>
            <a:ext cx="1371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щего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8"/>
          <p:cNvSpPr/>
          <p:nvPr/>
        </p:nvSpPr>
        <p:spPr>
          <a:xfrm>
            <a:off x="5029200" y="3962520"/>
            <a:ext cx="1371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дяте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1" descr="C:\Documents and Settings\gman.RCFIO\Рабочий стол\уроки по интернет\Мы получили письмо\синица.gif"/>
          <p:cNvPicPr/>
          <p:nvPr/>
        </p:nvPicPr>
        <p:blipFill>
          <a:blip r:embed="rId8"/>
          <a:stretch/>
        </p:blipFill>
        <p:spPr>
          <a:xfrm>
            <a:off x="2590920" y="2286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1" descr=""/>
          <p:cNvPicPr/>
          <p:nvPr/>
        </p:nvPicPr>
        <p:blipFill>
          <a:blip r:embed="rId9"/>
          <a:stretch/>
        </p:blipFill>
        <p:spPr>
          <a:xfrm>
            <a:off x="5791320" y="6172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2" descr=""/>
          <p:cNvPicPr/>
          <p:nvPr/>
        </p:nvPicPr>
        <p:blipFill>
          <a:blip r:embed="rId10"/>
          <a:stretch/>
        </p:blipFill>
        <p:spPr>
          <a:xfrm>
            <a:off x="3505320" y="33526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3" descr=""/>
          <p:cNvPicPr/>
          <p:nvPr/>
        </p:nvPicPr>
        <p:blipFill>
          <a:blip r:embed="rId11"/>
          <a:stretch/>
        </p:blipFill>
        <p:spPr>
          <a:xfrm>
            <a:off x="1828800" y="1828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4" descr=""/>
          <p:cNvPicPr/>
          <p:nvPr/>
        </p:nvPicPr>
        <p:blipFill>
          <a:blip r:embed="rId12"/>
          <a:stretch/>
        </p:blipFill>
        <p:spPr>
          <a:xfrm>
            <a:off x="8381880" y="4724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5" descr=""/>
          <p:cNvPicPr/>
          <p:nvPr/>
        </p:nvPicPr>
        <p:blipFill>
          <a:blip r:embed="rId13"/>
          <a:stretch/>
        </p:blipFill>
        <p:spPr>
          <a:xfrm>
            <a:off x="8381880" y="2209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7" name="WordArt 59"/>
          <p:cNvSpPr txBox="1"/>
          <p:nvPr/>
        </p:nvSpPr>
        <p:spPr>
          <a:xfrm>
            <a:off x="2133720" y="304920"/>
            <a:ext cx="5257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mic Sans MS"/>
              </a:rPr>
              <a:t>Артисты</a:t>
            </a:r>
            <a:endParaRPr b="1" lang="en-US" sz="2400" spc="1" strike="noStrike">
              <a:ln w="936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8" name="Picture 63" descr=""/>
          <p:cNvPicPr/>
          <p:nvPr/>
        </p:nvPicPr>
        <p:blipFill>
          <a:blip r:embed="rId14"/>
          <a:stretch/>
        </p:blipFill>
        <p:spPr>
          <a:xfrm>
            <a:off x="1600200" y="5105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4" descr=""/>
          <p:cNvPicPr/>
          <p:nvPr/>
        </p:nvPicPr>
        <p:blipFill>
          <a:blip r:embed="rId15"/>
          <a:stretch/>
        </p:blipFill>
        <p:spPr>
          <a:xfrm>
            <a:off x="3581280" y="563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5" descr=""/>
          <p:cNvPicPr/>
          <p:nvPr/>
        </p:nvPicPr>
        <p:blipFill>
          <a:blip r:embed="rId16"/>
          <a:stretch/>
        </p:blipFill>
        <p:spPr>
          <a:xfrm>
            <a:off x="5943600" y="3962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2" dur="598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7480"/>
                            </p:stCondLst>
                            <p:childTnLst>
                              <p:par>
                                <p:cTn id="2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8480"/>
                            </p:stCondLst>
                            <p:childTnLst>
                              <p:par>
                                <p:cTn id="2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8980"/>
                            </p:stCondLst>
                            <p:childTnLst>
                              <p:par>
                                <p:cTn id="2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7" dur="3042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2022"/>
                            </p:stCondLst>
                            <p:childTnLst>
                              <p:par>
                                <p:cTn id="2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3022"/>
                            </p:stCondLst>
                            <p:childTnLst>
                              <p:par>
                                <p:cTn id="2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3522"/>
                            </p:stCondLst>
                            <p:childTnLst>
                              <p:par>
                                <p:cTn id="2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" dur="2106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628"/>
                            </p:stCondLst>
                            <p:childTnLst>
                              <p:par>
                                <p:cTn id="2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6628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7128"/>
                            </p:stCondLst>
                            <p:childTnLst>
                              <p:par>
                                <p:cTn id="2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7828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4956"/>
                            </p:stCondLst>
                            <p:childTnLst>
                              <p:par>
                                <p:cTn id="2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5956"/>
                            </p:stCondLst>
                            <p:childTnLst>
                              <p:par>
                                <p:cTn id="2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6456"/>
                            </p:stCondLst>
                            <p:childTnLst>
                              <p:par>
                                <p:cTn id="2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2" dur="195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8406"/>
                            </p:stCondLst>
                            <p:childTnLst>
                              <p:par>
                                <p:cTn id="2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9406"/>
                            </p:stCondLst>
                            <p:childTnLst>
                              <p:par>
                                <p:cTn id="3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9906"/>
                            </p:stCondLst>
                            <p:childTnLst>
                              <p:par>
                                <p:cTn id="3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7" dur="260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2506"/>
                            </p:stCondLst>
                            <p:childTnLst>
                              <p:par>
                                <p:cTn id="3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3507"/>
                            </p:stCondLst>
                            <p:childTnLst>
                              <p:par>
                                <p:cTn id="3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4007"/>
                            </p:stCondLst>
                            <p:childTnLst>
                              <p:par>
                                <p:cTn id="3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2" dur="2599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6606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7106"/>
                            </p:stCondLst>
                            <p:childTnLst>
                              <p:par>
                                <p:cTn id="3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7606"/>
                            </p:stCondLst>
                            <p:childTnLst>
                              <p:par>
                                <p:cTn id="3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5" dur="2704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320040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дошел к концу наш птичий концер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ы послушали лишь немногих крылатых артис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наблюдайте за птицами с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пробуйте определить их по голоса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 главное научитесь беречь их. Полюбите и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тицы приносят лесу огромную пользу, охраняя  его от разных вредителе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ни красота нашего леса, его музыка, его душа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72200" y="68544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Солов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51055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Этого певца узнать не очень трудно. Начинает он как обычно к вечеру и поет всю ночь. Чем ближе к утру, тем звонче его песня. Это соловей!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0" y="502920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ислушайтесь. Песня его состоит как бы из отдельных колен.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2"/>
          <a:stretch/>
        </p:blipFill>
        <p:spPr>
          <a:xfrm>
            <a:off x="2895480" y="266688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Object 11"/>
          <p:cNvGraphicFramePr/>
          <p:nvPr/>
        </p:nvGraphicFramePr>
        <p:xfrm>
          <a:off x="3448080" y="5372280"/>
          <a:ext cx="57132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48080" y="5372280"/>
                    <a:ext cx="5713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Text Box 13"/>
          <p:cNvSpPr/>
          <p:nvPr/>
        </p:nvSpPr>
        <p:spPr>
          <a:xfrm>
            <a:off x="0" y="624852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рель.  Дудка.  Раскат . Трещот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7828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828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 presetClass="entr" presetID="0">
                                          <p:stCondLst>
                                            <p:cond evt="begin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cmd type="call" cmd="">
                                      <p:cBhvr>
                                        <p:cTn id="57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ccff"/>
                </a:solidFill>
                <a:uFillTx/>
                <a:latin typeface="Arial"/>
              </a:rPr>
              <a:t>Зябли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0" y="3429000"/>
            <a:ext cx="32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Times New Roman"/>
              </a:rPr>
              <a:t>Гнездится он в лиственных и смешанных лесах и городских парк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4267080" y="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Times New Roman"/>
              </a:rPr>
              <a:t>А почему его так назвали? Наверное потому, что перед ненастьем его удалая песня смолкает, он хохлится, будто зябнет и чуть слышно выговаривает: «рюм-рюм-рю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5715000" y="358128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Times New Roman"/>
              </a:rPr>
              <a:t>В деревнях подметили: зяблик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ccff"/>
                </a:solidFill>
                <a:latin typeface="Times New Roman"/>
              </a:rPr>
              <a:t>«рюмит» к дожд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2106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00"/>
            </a:gs>
            <a:gs pos="50000">
              <a:srgbClr val="ffffff"/>
            </a:gs>
            <a:gs pos="100000">
              <a:srgbClr val="8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Дяте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C:\Documents and Settings\gman.RCFIO\Рабочий стол\уроки по интернет\Мы получили письмо\дятел1.jpg"/>
          <p:cNvPicPr/>
          <p:nvPr/>
        </p:nvPicPr>
        <p:blipFill>
          <a:blip r:embed="rId1"/>
          <a:stretch/>
        </p:blipFill>
        <p:spPr>
          <a:xfrm>
            <a:off x="0" y="1905120"/>
            <a:ext cx="2584440" cy="31701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2819520" y="1066680"/>
            <a:ext cx="6095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33"/>
                </a:solidFill>
                <a:latin typeface="Times New Roman"/>
              </a:rPr>
              <a:t>Есть в лесу и свой доктор – дятел. Он крепким носом-молоточком выстукивает стволы, отыскивая личинки жуков-дровосеков, лечит больные деревья. Увидит гнилой сучок на березе, прицепится лапами к стволу, хвостом подопрется и барабанит.. А голоса, как у певчих птиц у пестрого дятла нет. Вместо песни стуком обходит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8" descr=""/>
          <p:cNvPicPr/>
          <p:nvPr/>
        </p:nvPicPr>
        <p:blipFill>
          <a:blip r:embed="rId2"/>
          <a:stretch/>
        </p:blipFill>
        <p:spPr>
          <a:xfrm>
            <a:off x="2209680" y="4648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260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66"/>
                </a:solidFill>
                <a:uFillTx/>
                <a:latin typeface="Arial"/>
              </a:rPr>
              <a:t>Синиц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3657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Синицу легко узнать по желтой грудке с черным галстуком посередине и черной бархатной шапочке на голове. Во дворе, в саду, в лесу то и дело звенит ее смешная и радостная песенка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029200" y="1752480"/>
            <a:ext cx="4114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имой под глубоким снегом трудно найти корм маленькой птичке. Поэтому синицы прилетают в это время из леса поближе к человеческому жилью. Вот и сделайте для них кормушки и кладите в них сало, семечки, творог и коноплю. Синица подружится с вами. Будет радостной песне приветствоват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C:\Documents and Settings\gman.RCFIO\Рабочий стол\уроки по интернет\Мы получили письмо\синица.gif"/>
          <p:cNvPicPr/>
          <p:nvPr/>
        </p:nvPicPr>
        <p:blipFill>
          <a:blip r:embed="rId2"/>
          <a:stretch/>
        </p:blipFill>
        <p:spPr>
          <a:xfrm>
            <a:off x="7162920" y="1522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3"/>
          <a:stretch/>
        </p:blipFill>
        <p:spPr>
          <a:xfrm>
            <a:off x="8458200" y="1447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2418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48320" y="-3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Поползен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04920" y="0"/>
            <a:ext cx="3657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Если дятел лесной доктор, то поползень -  лесной акробат. Ловкий, смелый, он бегает по стволу мигом. Дятел так не умеет. Поползень живет в нашем лесу круглый год. А песня у него звонкая, далеко слыш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2"/>
          <a:stretch/>
        </p:blipFill>
        <p:spPr>
          <a:xfrm>
            <a:off x="8381880" y="1143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3042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91320" y="-36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0000"/>
                </a:solidFill>
                <a:uFillTx/>
                <a:latin typeface="Arial"/>
              </a:rPr>
              <a:t>Снегир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52480" y="4343400"/>
            <a:ext cx="70106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ступлением холодов, с первым робким снежком к нам на зимовку прилетают с севера снегири. От слова снег и птице название дали – снегирь. Снегирь – самая красивая зимняя птица. А вот песня у него тихая, с грустинкой, словно полозья саней по снегу скрипя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2"/>
          <a:stretch/>
        </p:blipFill>
        <p:spPr>
          <a:xfrm>
            <a:off x="1522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950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Кукуш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867280" y="533520"/>
            <a:ext cx="3276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у, а эту песню вы все, конечно, знаете. С прилетом кукушки начинается настоящее тепло. Даже если случайно завернет холодок, мороза уже не видать. Кукушка его откукуе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0" y="3529080"/>
            <a:ext cx="3200400" cy="38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укушка очень полезная. Она уничтожает вредных мохнатых гусениц, которые другим птицам не по зуба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838188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2599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00800" y="15192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Щего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-360"/>
            <a:ext cx="3657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 березнике звучит переливчатая трель щегла. До чего же нарядный. Видно не даром нарядного франтовато одетого человека щеголем зову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7" descr=""/>
          <p:cNvPicPr/>
          <p:nvPr/>
        </p:nvPicPr>
        <p:blipFill>
          <a:blip r:embed="rId2"/>
          <a:stretch/>
        </p:blipFill>
        <p:spPr>
          <a:xfrm>
            <a:off x="31240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598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0T01:11:23Z</dcterms:created>
  <dc:creator>gman</dc:creator>
  <dc:description/>
  <dc:language>en-US</dc:language>
  <cp:lastModifiedBy>Света</cp:lastModifiedBy>
  <dcterms:modified xsi:type="dcterms:W3CDTF">2015-03-19T21:07:41Z</dcterms:modified>
  <cp:revision>39</cp:revision>
  <dc:subject/>
  <dc:title>Презентация PowerPoint</dc:title>
</cp:coreProperties>
</file>