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A6D-4487-487F-A31D-4E29AAD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113-4046-4410-A652-D8B38D06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9EE-CE37-4CAD-8217-5FFD0F86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29B-0E44-4827-98BF-58D85CF9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199-11AB-40ED-9E1D-30B77FAC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A5B-8573-42DE-96C5-918B2661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2A3-5007-43F1-A30D-8B33B617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6A2-33D4-462A-A6E5-525DBCA3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45C-E973-409B-81C3-A7EF3F27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160-C693-4CFC-A51E-D57CE543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E44-3DE9-4632-8D1F-2891224E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45E-E1C7-4157-ABDE-93EA9E9A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4023-165D-4F92-8C46-ED725F46A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619280" y="1413000"/>
            <a:ext cx="6624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йская импер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рубеже XIX-XX ве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5435640" y="5079960"/>
            <a:ext cx="34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убкина О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БОУ СОШ №6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Домашнее задани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ff"/>
                </a:solidFill>
                <a:latin typeface="Arial"/>
              </a:rPr>
              <a:t>Параграф 1 выучи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765000"/>
            <a:ext cx="9144000" cy="590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рритория Российской империи административное деление  в начал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и российской модерниз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литический строй и структура государственного аппарата в начал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5000"/>
            <a:ext cx="9144000" cy="590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ой период истории России мы изучали в 8 класс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 называлось наше государство в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ве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то из императоров управлял Российской империей в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ве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ие политические события из истории нашего государства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века вы помни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ЦЕЛЬ УРОКА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ff"/>
                </a:solidFill>
                <a:latin typeface="Arial"/>
              </a:rPr>
              <a:t>Выяснить главные особенности политического и экономического развития России в начале </a:t>
            </a:r>
            <a:r>
              <a:rPr b="1" i="1" lang="en-US" sz="4800" spc="-1" strike="noStrike">
                <a:solidFill>
                  <a:srgbClr val="3333ff"/>
                </a:solidFill>
                <a:latin typeface="Arial"/>
              </a:rPr>
              <a:t>XX</a:t>
            </a:r>
            <a:r>
              <a:rPr b="1" i="1" lang="ru-RU" sz="4800" spc="-1" strike="noStrike">
                <a:solidFill>
                  <a:srgbClr val="3333ff"/>
                </a:solidFill>
                <a:latin typeface="Arial"/>
              </a:rPr>
              <a:t> ве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рритория Российской империи и административное деление в начале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X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Задание: прочитать текст учебника стр. 5-6 и 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Какое место в мире занимала Россия по размерам территор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Какое место в мире занимала Россия по числе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На какие территориальные единицы делилась территория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Какое количество народов и народностей проживало на территории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 Какая религия являлась официальной религией государ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. Какие еще религии исповедывало население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 Каким был уровень образования населения в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российской модер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765000"/>
            <a:ext cx="9144000" cy="590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начал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века в России продолж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цесс 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модерниз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Что такое модернизация и индустриализа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Как связаны между собой модернизация и развитие индустриального обще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оссия – 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страна второго эшелон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оссия  - страна второго эше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765000"/>
            <a:ext cx="9144000" cy="590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765000"/>
          <a:ext cx="8497800" cy="5051520"/>
        </p:xfrm>
        <a:graphic>
          <a:graphicData uri="http://schemas.openxmlformats.org/drawingml/2006/table">
            <a:tbl>
              <a:tblPr/>
              <a:tblGrid>
                <a:gridCol w="1152360"/>
                <a:gridCol w="1800360"/>
                <a:gridCol w="2146320"/>
                <a:gridCol w="1698480"/>
                <a:gridCol w="1700280"/>
              </a:tblGrid>
              <a:tr h="79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ше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br>
                        <a:rPr sz="1800"/>
                      </a:b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ежа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о-Венг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ня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ыст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ня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итический ст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623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??Какой политический строй был в России в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XIX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 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Какова была структура государственного аппар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987640" y="1628640"/>
            <a:ext cx="2521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116000" y="2565360"/>
            <a:ext cx="100800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419640" y="2565360"/>
            <a:ext cx="72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916360" y="2565360"/>
            <a:ext cx="100800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5508720" y="3645000"/>
            <a:ext cx="100800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788000" y="2565360"/>
            <a:ext cx="100800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6516720" y="2565360"/>
            <a:ext cx="100800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3419640" y="213372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H="1">
            <a:off x="1692360" y="2133720"/>
            <a:ext cx="2519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4211640" y="2133720"/>
            <a:ext cx="9367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4356000" y="2133720"/>
            <a:ext cx="266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5435640" y="306864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84360" y="4581360"/>
            <a:ext cx="7775280" cy="14565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Восемь министерств, Комитет министров, Государственный Со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Святейший Синод, Император,  Правительствующий Сена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Arial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765000"/>
            <a:ext cx="9144000" cy="590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1. Какое место в мире занимала Россия по размерам территории и по населению в начале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. Каковы особенности политического и экономического строя Российской империи  в начале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9:06:19Z</dcterms:created>
  <dc:creator>1</dc:creator>
  <dc:description/>
  <dc:language>en-US</dc:language>
  <cp:lastModifiedBy>lvl308</cp:lastModifiedBy>
  <dcterms:modified xsi:type="dcterms:W3CDTF">2015-03-20T12:27:10Z</dcterms:modified>
  <cp:revision>9</cp:revision>
  <dc:subject/>
  <dc:title>9 класс</dc:title>
</cp:coreProperties>
</file>