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725C-6595-44C5-8FC5-B28F5822C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E694-EF1C-432A-B93F-008FA86E8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jdthb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4950-3E58-4A99-B38E-133044DA1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BEC-F0C9-4491-B845-346D2DDD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DEF-6879-4558-A6C9-95E59B4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C53-B390-401B-9DF0-73CF7DF3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D36-7887-4F62-AC90-723EA647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992-AE34-4427-A70C-11497D8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134-E7AE-4E1C-A0E4-9C97BF3D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4AE-0D59-41B6-A557-CD074DFE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B9B-9EF4-4194-A6B4-A21A34BB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867-277B-4D98-B08F-2DF91BBE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ECC-8F57-4917-B320-AD610D14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79F-72E1-4F1A-A338-746C8845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133-5D8D-445B-9D17-67F1A4B0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D5F-2633-4C1E-93A1-0AB6905F8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3.jpeg"/><Relationship Id="rId12" Type="http://schemas.openxmlformats.org/officeDocument/2006/relationships/image" Target="../media/image5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гриб1"/>
          <p:cNvPicPr/>
          <p:nvPr/>
        </p:nvPicPr>
        <p:blipFill>
          <a:blip r:embed="rId1"/>
          <a:stretch/>
        </p:blipFill>
        <p:spPr>
          <a:xfrm>
            <a:off x="900000" y="1197000"/>
            <a:ext cx="79236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гриб1"/>
          <p:cNvPicPr/>
          <p:nvPr/>
        </p:nvPicPr>
        <p:blipFill>
          <a:blip r:embed="rId2"/>
          <a:stretch/>
        </p:blipFill>
        <p:spPr>
          <a:xfrm>
            <a:off x="2627280" y="836640"/>
            <a:ext cx="93672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гриб1"/>
          <p:cNvPicPr/>
          <p:nvPr/>
        </p:nvPicPr>
        <p:blipFill>
          <a:blip r:embed="rId3"/>
          <a:stretch/>
        </p:blipFill>
        <p:spPr>
          <a:xfrm>
            <a:off x="3924360" y="1628640"/>
            <a:ext cx="8827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гриб1"/>
          <p:cNvPicPr/>
          <p:nvPr/>
        </p:nvPicPr>
        <p:blipFill>
          <a:blip r:embed="rId4"/>
          <a:stretch/>
        </p:blipFill>
        <p:spPr>
          <a:xfrm>
            <a:off x="4859280" y="404640"/>
            <a:ext cx="792360" cy="83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гриб1"/>
          <p:cNvPicPr/>
          <p:nvPr/>
        </p:nvPicPr>
        <p:blipFill>
          <a:blip r:embed="rId5"/>
          <a:stretch/>
        </p:blipFill>
        <p:spPr>
          <a:xfrm>
            <a:off x="6156360" y="1773360"/>
            <a:ext cx="86364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риб1"/>
          <p:cNvPicPr/>
          <p:nvPr/>
        </p:nvPicPr>
        <p:blipFill>
          <a:blip r:embed="rId6"/>
          <a:stretch/>
        </p:blipFill>
        <p:spPr>
          <a:xfrm>
            <a:off x="6948360" y="333360"/>
            <a:ext cx="86364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гриб1"/>
          <p:cNvPicPr/>
          <p:nvPr/>
        </p:nvPicPr>
        <p:blipFill>
          <a:blip r:embed="rId7"/>
          <a:stretch/>
        </p:blipFill>
        <p:spPr>
          <a:xfrm>
            <a:off x="2195640" y="2492280"/>
            <a:ext cx="647640" cy="68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курочка\Рабочий стол\АйНуРа\0116.jpg"/>
          <p:cNvPicPr/>
          <p:nvPr/>
        </p:nvPicPr>
        <p:blipFill>
          <a:blip r:embed="rId8"/>
          <a:stretch/>
        </p:blipFill>
        <p:spPr>
          <a:xfrm>
            <a:off x="324000" y="5148360"/>
            <a:ext cx="1223640" cy="12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курочка\Рабочий стол\АйНуРа\0116.jpg"/>
          <p:cNvPicPr/>
          <p:nvPr/>
        </p:nvPicPr>
        <p:blipFill>
          <a:blip r:embed="rId9"/>
          <a:stretch/>
        </p:blipFill>
        <p:spPr>
          <a:xfrm>
            <a:off x="2124000" y="4221000"/>
            <a:ext cx="1224000" cy="12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курочка\Рабочий стол\АйНуРа\0116.jpg"/>
          <p:cNvPicPr/>
          <p:nvPr/>
        </p:nvPicPr>
        <p:blipFill>
          <a:blip r:embed="rId10"/>
          <a:stretch/>
        </p:blipFill>
        <p:spPr>
          <a:xfrm>
            <a:off x="3564000" y="4941720"/>
            <a:ext cx="1224000" cy="123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курочка\Рабочий стол\АйНуРа\0116.jpg"/>
          <p:cNvPicPr/>
          <p:nvPr/>
        </p:nvPicPr>
        <p:blipFill>
          <a:blip r:embed="rId11"/>
          <a:stretch/>
        </p:blipFill>
        <p:spPr>
          <a:xfrm>
            <a:off x="4500720" y="2997360"/>
            <a:ext cx="1223640" cy="123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курочка\Рабочий стол\АйНуРа\0116.jpg"/>
          <p:cNvPicPr/>
          <p:nvPr/>
        </p:nvPicPr>
        <p:blipFill>
          <a:blip r:embed="rId12"/>
          <a:stretch/>
        </p:blipFill>
        <p:spPr>
          <a:xfrm>
            <a:off x="6875640" y="3141720"/>
            <a:ext cx="1225440" cy="123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курочка\Рабочий стол\АйНуРа\0116.jpg"/>
          <p:cNvPicPr/>
          <p:nvPr/>
        </p:nvPicPr>
        <p:blipFill>
          <a:blip r:embed="rId13"/>
          <a:stretch/>
        </p:blipFill>
        <p:spPr>
          <a:xfrm>
            <a:off x="5435640" y="4869000"/>
            <a:ext cx="12240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    2,    3,    4,    5,    6,    7,    8,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835280" y="1413000"/>
            <a:ext cx="936360" cy="10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651640" y="1484280"/>
            <a:ext cx="79200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699560" y="2708280"/>
            <a:ext cx="112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+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-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03160" y="2624040"/>
            <a:ext cx="112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+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-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0" y="141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выражения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Рассмотри что изменилос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3419640" y="328464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365080" y="3357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493800" y="47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4284720" y="4149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365800" y="479736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4938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265280" y="5580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5292720" y="623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-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Копия Рассмотри что изменилось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едите глаз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116000" y="285264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651640" y="3860640"/>
            <a:ext cx="647640" cy="64800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68360" y="177336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95280" y="4724280"/>
            <a:ext cx="647640" cy="64800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3851280" y="400536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348000" y="256536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2195640" y="4221000"/>
            <a:ext cx="647640" cy="64800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916360" y="537372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24000" y="148428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076720" y="522936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7451640" y="515772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4788000" y="285264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3780000" y="141300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6659640" y="249228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7451640" y="3860640"/>
            <a:ext cx="647640" cy="64800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5651640" y="155736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7451640" y="134136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631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8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8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9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19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20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1:06:50Z</dcterms:created>
  <dc:creator>Zver</dc:creator>
  <dc:description/>
  <dc:language>en-US</dc:language>
  <cp:lastModifiedBy>32</cp:lastModifiedBy>
  <dcterms:modified xsi:type="dcterms:W3CDTF">2015-03-20T05:51:58Z</dcterms:modified>
  <cp:revision>16</cp:revision>
  <dc:subject/>
  <dc:title>Слайд 1</dc:title>
</cp:coreProperties>
</file>