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85C-9C8C-4349-83C8-ACE19E85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925-C9E9-4FD8-8B1D-E1C9DACC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F8B-7FA5-4276-9350-BE678254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D13-8791-408C-8D68-14D79D03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28CC-AA86-4B96-A9FB-4D76162A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6DB-E4E0-4890-BF17-97FDE2CF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0C86-990F-49B2-8A36-9DF2F4D9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75F1-B845-43F9-A6B5-1F2DFB9C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9881-264F-48E8-A64C-6D1620BC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3F44-636E-4FBA-8138-9CC01214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18EA-A0EA-4960-8A48-F413AB90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903-6FD4-45FB-A64C-44F4BAF3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5D21-38B6-45D1-91BE-9E0F3FB4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9A8E-8C4D-451F-AAEF-D16EF39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ECDA-DB36-4414-8121-84768A9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D39D-9D81-4A52-AF26-D231675C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738B-C683-4A9C-83E4-516607C5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9A2FD-417B-4899-9F3F-3670CD4C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B601-6D98-4565-ACDE-D4AB1008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821C-5F95-46FA-A544-69C2D6AB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14A0-8207-4DD6-8829-B0EDAA85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97FE-0E2A-498C-9DA3-F0BC2844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936-137D-47CF-9B09-15876C84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29D0-A781-49F7-9125-5E9782E4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F2BA-2A92-41F2-891D-F29E9A0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CA521-FB53-4254-B6E1-292CF86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82AD-AEE5-44ED-8C28-DF720DF0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3955-3A37-48AB-8A10-F6CA99B1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C85B-4173-4187-9F97-1FF2DF82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9FB3-D15F-4191-BFCA-FA2AF166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0A679-02B0-4B79-A67F-EB39E9E0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528D6-E3A3-4D38-BF53-D643DBE0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DEFBD-0C53-48C4-961F-C975BB84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55B-7028-47FD-9ADD-3AADA77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8812B-4A08-4523-96B2-7DB79282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5AB4C-9E49-4F5C-83B3-A40733C9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0BBCF-777B-487F-B7D3-CF679092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FE76C-C2A1-4673-BBFA-1AAE7641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BD3DF-B500-49E1-9533-1E895A7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3A250-1021-4950-A2E4-B0C14B3D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DF493-425C-4AF3-85EC-F4F8D15B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DA748-ECA9-4F4D-8BDC-9FEFB7A8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52732-6423-4898-8ACD-0B5C51AD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582-C8EC-4CD5-AC3F-5C626EBA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997-E1A5-43FE-8B7C-AF40EF84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C57-D0A3-4BDA-899A-6B630883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457-4C0D-479B-AD24-D3027AE3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15D-6842-4CE5-9759-CED2D4FF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60BB-D782-45F9-85A0-F6DD7D50B5D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06B8-DCF7-4DA6-98B9-B6244D3B2D4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C63B-0F27-4B9D-B09A-965E5FC08C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D688-D4E3-4D56-8BE5-A9779B3E5E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88;&#1072;&#1089;&#1085;&#1099;&#1081;%20&#1092;&#1083;&#1072;&#1075;&amp;fp=1&amp;img_url=http%3A%2F%2Fi.obozrevatel.ua%2F8%2F1271300%2F411763.jpg&amp;pos=50&amp;uinfo=ww-1423-wh-671-fw-1198-fh-465-pd-1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433" name="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>
            <a:hlinkClick r:id="rId3"/>
          </p:cNvPr>
          <p:cNvSpPr/>
          <p:nvPr/>
        </p:nvSpPr>
        <p:spPr>
          <a:xfrm>
            <a:off x="0" y="37162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-1260360" y="-603360"/>
            <a:ext cx="11017080" cy="8696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95280" y="2448000"/>
            <a:ext cx="88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2708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cc00"/>
                </a:solidFill>
                <a:uFillTx/>
                <a:latin typeface="Arial Black"/>
              </a:rPr>
              <a:t>Государственный флаг России</a:t>
            </a:r>
            <a:endParaRPr b="0" lang="en-US" sz="8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Спасибо 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Tahoma"/>
              </a:rPr>
              <a:t>внимание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элай  Николай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ff"/>
                </a:solidFill>
                <a:latin typeface="Arial Black"/>
              </a:rPr>
              <a:t>Первый флаг в России появился при Алексее Михайловиче в 16 век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7596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685800" y="5595480"/>
            <a:ext cx="3780000" cy="389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rmAutofit fontScale="89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 Black"/>
              </a:rPr>
              <a:t>Рисунок Петра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1440" y="5595480"/>
            <a:ext cx="3780000" cy="389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rmAutofit fontScale="89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Петровская флотилия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3" name="Содержимое 6" descr="h_1297025976_749fe96a7f.jpeg"/>
          <p:cNvPicPr/>
          <p:nvPr/>
        </p:nvPicPr>
        <p:blipFill>
          <a:blip r:embed="rId1"/>
          <a:stretch/>
        </p:blipFill>
        <p:spPr>
          <a:xfrm>
            <a:off x="1224000" y="2066760"/>
            <a:ext cx="2703600" cy="349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4" name="Содержимое 7" descr="6e7fee635198.jpg"/>
          <p:cNvPicPr/>
          <p:nvPr/>
        </p:nvPicPr>
        <p:blipFill>
          <a:blip r:embed="rId2"/>
          <a:stretch/>
        </p:blipFill>
        <p:spPr>
          <a:xfrm>
            <a:off x="4681440" y="2692440"/>
            <a:ext cx="3780000" cy="22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5" name=""/>
          <p:cNvSpPr/>
          <p:nvPr/>
        </p:nvSpPr>
        <p:spPr>
          <a:xfrm>
            <a:off x="1042920" y="476280"/>
            <a:ext cx="587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В 1705 году Петр 1 передал этот флаг торговому флоту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Arial Black"/>
              </a:rPr>
              <a:t>В 1712 году для военного флота был утвержден Андреевский флаг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8317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620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Лишь в 1883 году вышло  высочайшее повеление царя Александра 3, в котором было сказано: «В торжественных случаях, когда признаётся возможным дозволить украшение зданий флагами, употреблять исключительно русский флаг, состоящий из трёх полос белый, синий, красных цветов.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340000" y="4653000"/>
            <a:ext cx="3456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После революции  8 апреля 1918г  было предложено утвердить боевой красный флаг национальным Российским флагом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7920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А 21 августа 1991г. Верховный совет РСФСР поставил считать флаг России полотнищем Российской Федерации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9:52:59Z</dcterms:created>
  <dc:creator>Детский дом 39</dc:creator>
  <dc:description/>
  <dc:language>en-US</dc:language>
  <cp:lastModifiedBy>Детский дом 39</cp:lastModifiedBy>
  <cp:lastPrinted>2013-11-19T11:26:33Z</cp:lastPrinted>
  <dcterms:modified xsi:type="dcterms:W3CDTF">2015-03-14T09:08:20Z</dcterms:modified>
  <cp:revision>7</cp:revision>
  <dc:subject/>
  <dc:title>Слайд 1</dc:title>
</cp:coreProperties>
</file>