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24A-8FEF-4A57-B193-5A9E4864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43F-734F-446C-BF77-6979D86B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D66-A2C1-4031-9F7D-B32A1228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561-9353-48B7-98FE-36583D7D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149-BA80-4468-8276-437F6318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0D6-C8AE-4A81-A724-B6225B09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2D1-A51E-455E-B661-ADAB7ED6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502-C222-40F6-9E9F-61505BE3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349-DAB8-42E5-83AE-C5D7782D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5FD-9152-4AF4-9D36-69A70E7A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ABC-B75C-4174-A35E-A272B43E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637-6620-4869-838A-AABBDA4E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3030-A811-4D0E-8147-D5CD8CC595F7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ниципальное бюджетное дошкольное 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сад «Колокольчик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амбовской области  п.Прям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  <a:ea typeface="Aharon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Тема: </a:t>
            </a:r>
            <a:r>
              <a:rPr b="0" lang="ru-RU" sz="5400" spc="-1" strike="noStrike">
                <a:solidFill>
                  <a:srgbClr val="ff0000"/>
                </a:solidFill>
                <a:latin typeface="Arial Black"/>
                <a:ea typeface="Aharoni"/>
              </a:rPr>
              <a:t>«Фрукты»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haroni"/>
              </a:rPr>
              <a:t>воспитат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haron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haroni"/>
              </a:rPr>
              <a:t>Теплякова Зинаида Иван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и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8358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апель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500040" y="1428840"/>
            <a:ext cx="74296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071720" y="1428840"/>
            <a:ext cx="75913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инагр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8286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ерс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85920" y="1143000"/>
            <a:ext cx="657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абрик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1643040" y="1500120"/>
            <a:ext cx="6500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ябло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5786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гру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75484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иш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2000160" y="1071720"/>
            <a:ext cx="5143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манда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571760" y="1477800"/>
            <a:ext cx="585792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л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8643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лим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785880" y="1357200"/>
            <a:ext cx="7786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анана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86000" y="1071720"/>
            <a:ext cx="41911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ан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7858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4:20:48Z</dcterms:created>
  <dc:creator>Дмитрий</dc:creator>
  <dc:description/>
  <dc:language>en-US</dc:language>
  <cp:lastModifiedBy>User</cp:lastModifiedBy>
  <dcterms:modified xsi:type="dcterms:W3CDTF">2015-03-21T20:13:38Z</dcterms:modified>
  <cp:revision>238</cp:revision>
  <dc:subject/>
  <dc:title>Педагогический проект </dc:title>
</cp:coreProperties>
</file>