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8.png" ContentType="image/png"/>
  <Override PartName="/ppt/media/image11.jpeg" ContentType="image/jpeg"/>
  <Override PartName="/ppt/media/image9.png" ContentType="image/png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D3D2-1B2D-41F1-ACCD-8B3630613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2B16-FDBB-4C5E-8A52-BD44C91A4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92AB-B8E2-443C-A3D3-B64AB12AC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32C7-E13D-4122-A189-033848B2B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F5AFD-FCE7-4321-9449-4F43B62E4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C1A2D-D5FE-437B-B93A-B009B4C96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184E2-DE48-49E8-B8A5-F127D93E1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FC8D8-342A-4E4E-93ED-618462245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9A1C2-AC91-4009-8198-A7390E1A8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1CD3A-27EC-4892-8DEB-122F46FAB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C1DC1-1002-4F44-A0C5-9449B76C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3CB4-7061-45CE-926B-153E14EFB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8D48B-C801-4974-A988-6A5A11062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CD2D0-29D4-49DF-9A11-48196F6C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F2813-8BC4-4402-9D4C-187C4D4BB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7807F-FFBE-40A2-B645-125B76284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2ED10-10B9-4368-9C86-8912A5DA4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9149-2A9B-47E7-9C40-B5911E1D7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68E9-4BCB-4344-BAAA-5949C5105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4553-4274-4E06-BA14-10B60F733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FBAC-2036-4900-B25A-5EFD5ED86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9DAA-B803-4FE8-AF4C-1E38D57B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2E96-5AE6-4F35-86AA-BC175F7A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056E-343A-4B4F-998E-E04F87EA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5CA84-FB3A-4AE5-A6A1-A2C13B19707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B2BB4-7AA7-4472-A997-39A9D77BAE2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1557000"/>
            <a:ext cx="798984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99cc00"/>
                </a:solidFill>
                <a:latin typeface="Tahoma"/>
              </a:rPr>
              <a:t>Гербы России</a:t>
            </a:r>
            <a:endParaRPr b="1" lang="en-US" sz="9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42560" y="333360"/>
            <a:ext cx="7543800" cy="7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Герб РСФСР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3" name="Picture 4" descr="герб РСФСР"/>
          <p:cNvPicPr/>
          <p:nvPr/>
        </p:nvPicPr>
        <p:blipFill>
          <a:blip r:embed="rId1"/>
          <a:stretch/>
        </p:blipFill>
        <p:spPr>
          <a:xfrm>
            <a:off x="0" y="1844640"/>
            <a:ext cx="4500720" cy="45370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788000" y="1814400"/>
            <a:ext cx="4105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1918 году сов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кое правительств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ешило порват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 старой сим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кой и созда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бсолютно нов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ерб, как симво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овой жизн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708360" y="333000"/>
            <a:ext cx="5153040" cy="482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Новый герб РФ действует с 2000 года. Составные части его традиционны и отражают разные этапы истории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6" name="Picture 6" descr="gerb_l"/>
          <p:cNvPicPr/>
          <p:nvPr/>
        </p:nvPicPr>
        <p:blipFill>
          <a:blip r:embed="rId1"/>
          <a:stretch/>
        </p:blipFill>
        <p:spPr>
          <a:xfrm>
            <a:off x="0" y="2565360"/>
            <a:ext cx="369396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85760" y="2271600"/>
            <a:ext cx="688968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80000"/>
              </a:lnSpc>
              <a:spcBef>
                <a:spcPts val="15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 u="sng">
                <a:solidFill>
                  <a:srgbClr val="ff0000"/>
                </a:solidFill>
                <a:uFillTx/>
                <a:latin typeface="Tahoma"/>
              </a:rPr>
              <a:t>СПАСИБО ЗА ВНИМАНИЕ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-360" y="1341000"/>
            <a:ext cx="6227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Двуглавый орел как герб Московского государства впервые появился на печати Ивана III в 1497 году после его женитьбы на византийской принцессе Софье Палеолог: изображение двуглавого орла (герб Византии) соединили с московским гербом, в результате чего на одной половине герба изображался орел, на другой - всадник, попирающий дракона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4" descr="ив 3"/>
          <p:cNvPicPr/>
          <p:nvPr/>
        </p:nvPicPr>
        <p:blipFill>
          <a:blip r:embed="rId1"/>
          <a:stretch/>
        </p:blipFill>
        <p:spPr>
          <a:xfrm>
            <a:off x="5796000" y="2060640"/>
            <a:ext cx="3024000" cy="3816360"/>
          </a:xfrm>
          <a:prstGeom prst="rect">
            <a:avLst/>
          </a:prstGeom>
          <a:ln w="0">
            <a:noFill/>
          </a:ln>
        </p:spPr>
      </p:pic>
      <p:sp>
        <p:nvSpPr>
          <p:cNvPr id="113" name="WordArt 5"/>
          <p:cNvSpPr txBox="1"/>
          <p:nvPr/>
        </p:nvSpPr>
        <p:spPr>
          <a:xfrm>
            <a:off x="3132000" y="549360"/>
            <a:ext cx="2762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Первый герб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11280" y="1484280"/>
            <a:ext cx="85327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ahoma"/>
              </a:rPr>
              <a:t>В щите на груди орла</a:t>
            </a: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,</a:t>
            </a:r>
            <a:r>
              <a:rPr b="0" lang="ru-RU" sz="3200" spc="-1" strike="noStrike">
                <a:solidFill>
                  <a:srgbClr val="eaeaea"/>
                </a:solidFill>
                <a:latin typeface="Tahoma"/>
              </a:rPr>
              <a:t> коронованного одной или двумя коронами</a:t>
            </a: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, </a:t>
            </a:r>
            <a:r>
              <a:rPr b="0" lang="ru-RU" sz="3200" spc="-1" strike="noStrike">
                <a:solidFill>
                  <a:srgbClr val="eaeaea"/>
                </a:solidFill>
                <a:latin typeface="Tahoma"/>
              </a:rPr>
              <a:t>появилось изображение Георгия Победоносца</a:t>
            </a: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, </a:t>
            </a:r>
            <a:r>
              <a:rPr b="0" lang="ru-RU" sz="3200" spc="-1" strike="noStrike">
                <a:solidFill>
                  <a:srgbClr val="eaeaea"/>
                </a:solidFill>
                <a:latin typeface="Tahoma"/>
              </a:rPr>
              <a:t>борющегося со змее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WordArt 4"/>
          <p:cNvSpPr txBox="1"/>
          <p:nvPr/>
        </p:nvSpPr>
        <p:spPr>
          <a:xfrm>
            <a:off x="2195640" y="476280"/>
            <a:ext cx="5857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Герб при Иване IV Грозно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116" name="Picture 6" descr="федор иванович"/>
          <p:cNvPicPr/>
          <p:nvPr/>
        </p:nvPicPr>
        <p:blipFill>
          <a:blip r:embed="rId3"/>
          <a:stretch/>
        </p:blipFill>
        <p:spPr>
          <a:xfrm>
            <a:off x="5219640" y="2565360"/>
            <a:ext cx="360036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560" y="692280"/>
            <a:ext cx="8488440" cy="107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В 1625 году впервые двуглавый орёл изображается под тремя коронами.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8" name="Picture 14" descr="михаил фед"/>
          <p:cNvPicPr/>
          <p:nvPr/>
        </p:nvPicPr>
        <p:blipFill>
          <a:blip r:embed="rId1"/>
          <a:stretch/>
        </p:blipFill>
        <p:spPr>
          <a:xfrm>
            <a:off x="2124000" y="1628640"/>
            <a:ext cx="511200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348000" y="2133360"/>
            <a:ext cx="539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C 1699 </a:t>
            </a:r>
            <a:r>
              <a:rPr b="0" lang="ru-RU" sz="3200" spc="-1" strike="noStrike">
                <a:solidFill>
                  <a:srgbClr val="eaeaea"/>
                </a:solidFill>
                <a:latin typeface="Tahoma"/>
              </a:rPr>
              <a:t>года появляется изображение двуглавого орла</a:t>
            </a: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, </a:t>
            </a:r>
            <a:r>
              <a:rPr b="0" lang="ru-RU" sz="3200" spc="-1" strike="noStrike">
                <a:solidFill>
                  <a:srgbClr val="eaeaea"/>
                </a:solidFill>
                <a:latin typeface="Tahoma"/>
              </a:rPr>
              <a:t>окружённого цепью со знаком Андреевского ордена. Цвет орла – коричневый или черный. Триаду корон объединяет голубая лент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WordArt 4"/>
          <p:cNvSpPr txBox="1"/>
          <p:nvPr/>
        </p:nvSpPr>
        <p:spPr>
          <a:xfrm>
            <a:off x="2987640" y="549360"/>
            <a:ext cx="3591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Герб при Петре 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121" name="Picture 5" descr="петр 1"/>
          <p:cNvPicPr/>
          <p:nvPr/>
        </p:nvPicPr>
        <p:blipFill>
          <a:blip r:embed="rId3"/>
          <a:stretch/>
        </p:blipFill>
        <p:spPr>
          <a:xfrm>
            <a:off x="0" y="3141720"/>
            <a:ext cx="313200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При Павле I в герб было внесено изображение Мальтийского креста.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3" name="Picture 4" descr="павел 1"/>
          <p:cNvPicPr/>
          <p:nvPr/>
        </p:nvPicPr>
        <p:blipFill>
          <a:blip r:embed="rId1"/>
          <a:stretch/>
        </p:blipFill>
        <p:spPr>
          <a:xfrm>
            <a:off x="2268360" y="1484280"/>
            <a:ext cx="446436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4537080" cy="633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Александр</a:t>
            </a: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I</a:t>
            </a: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 повелел убрать из когтей орла скипетр и державу</a:t>
            </a: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, </a:t>
            </a: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заменив их на стрелы-молнии</a:t>
            </a: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,</a:t>
            </a: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 факел и лавровый венок.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25" name="Object 4"/>
          <p:cNvGraphicFramePr/>
          <p:nvPr/>
        </p:nvGraphicFramePr>
        <p:xfrm>
          <a:off x="1908000" y="1989000"/>
          <a:ext cx="628200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1989000"/>
                    <a:ext cx="628200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7" name="Picture 6" descr="александр 1"/>
          <p:cNvPicPr/>
          <p:nvPr/>
        </p:nvPicPr>
        <p:blipFill>
          <a:blip r:embed="rId3"/>
          <a:stretch/>
        </p:blipFill>
        <p:spPr>
          <a:xfrm>
            <a:off x="4716360" y="1197000"/>
            <a:ext cx="417672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26920" y="404640"/>
            <a:ext cx="39592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ahoma"/>
              </a:rPr>
              <a:t>В 1830 году Император Николай вернул прежний облик орла</a:t>
            </a: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,</a:t>
            </a:r>
            <a:r>
              <a:rPr b="0" lang="ru-RU" sz="3200" spc="-1" strike="noStrike">
                <a:solidFill>
                  <a:srgbClr val="eaeaea"/>
                </a:solidFill>
                <a:latin typeface="Tahoma"/>
              </a:rPr>
              <a:t> поместив на его крыльях щиты с гербами государств</a:t>
            </a: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,</a:t>
            </a:r>
            <a:r>
              <a:rPr b="0" lang="ru-RU" sz="3200" spc="-1" strike="noStrike">
                <a:solidFill>
                  <a:srgbClr val="eaeaea"/>
                </a:solidFill>
                <a:latin typeface="Tahoma"/>
              </a:rPr>
              <a:t> входящих в состав Российской импер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4" descr="николай1"/>
          <p:cNvPicPr/>
          <p:nvPr/>
        </p:nvPicPr>
        <p:blipFill>
          <a:blip r:embed="rId1"/>
          <a:stretch/>
        </p:blipFill>
        <p:spPr>
          <a:xfrm>
            <a:off x="4788000" y="765000"/>
            <a:ext cx="4356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510400" cy="132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Большой герб Российской империи</a:t>
            </a: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,</a:t>
            </a: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 утверждённый Александром </a:t>
            </a: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III.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1" name="Picture 4" descr="11"/>
          <p:cNvPicPr/>
          <p:nvPr/>
        </p:nvPicPr>
        <p:blipFill>
          <a:blip r:embed="rId1"/>
          <a:stretch/>
        </p:blipFill>
        <p:spPr>
          <a:xfrm>
            <a:off x="2411280" y="1341360"/>
            <a:ext cx="496908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2T10:19:54Z</dcterms:created>
  <dc:creator>Детский дом 39</dc:creator>
  <dc:description/>
  <dc:language>en-US</dc:language>
  <cp:lastModifiedBy>Детский дом 39</cp:lastModifiedBy>
  <dcterms:modified xsi:type="dcterms:W3CDTF">2015-03-14T09:09:17Z</dcterms:modified>
  <cp:revision>4</cp:revision>
  <dc:subject/>
  <dc:title>Герба России</dc:title>
</cp:coreProperties>
</file>