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6.gif" ContentType="image/gif"/>
  <Override PartName="/ppt/media/image58.png" ContentType="image/png"/>
  <Override PartName="/ppt/media/image46.jpeg" ContentType="image/jpeg"/>
  <Override PartName="/ppt/media/image57.gif" ContentType="image/gif"/>
  <Override PartName="/ppt/media/image27.jpeg" ContentType="image/jpeg"/>
  <Override PartName="/ppt/media/image86.jpeg" ContentType="image/jpeg"/>
  <Override PartName="/ppt/media/image55.jpeg" ContentType="image/jpeg"/>
  <Override PartName="/ppt/media/image43.png" ContentType="image/png"/>
  <Override PartName="/ppt/media/image40.gif" ContentType="image/gif"/>
  <Override PartName="/ppt/media/image53.gif" ContentType="image/gif"/>
  <Override PartName="/ppt/media/image47.jpeg" ContentType="image/jpeg"/>
  <Override PartName="/ppt/media/image65.gif" ContentType="image/gif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36.png" ContentType="image/png"/>
  <Override PartName="/ppt/media/image35.jpeg" ContentType="image/jpeg"/>
  <Override PartName="/ppt/media/image41.gif" ContentType="image/gif"/>
  <Override PartName="/ppt/media/image34.png" ContentType="image/png"/>
  <Override PartName="/ppt/media/image31.gif" ContentType="image/gif"/>
  <Override PartName="/ppt/media/image39.gif" ContentType="image/gif"/>
  <Override PartName="/ppt/media/image9.gif" ContentType="image/gif"/>
  <Override PartName="/ppt/media/image89.png" ContentType="image/png"/>
  <Override PartName="/ppt/media/image48.jpeg" ContentType="image/jpeg"/>
  <Override PartName="/ppt/media/image13.gif" ContentType="image/gif"/>
  <Override PartName="/ppt/media/image1.gif" ContentType="image/gif"/>
  <Override PartName="/ppt/media/image81.png" ContentType="image/png"/>
  <Override PartName="/ppt/media/image38.gif" ContentType="image/gif"/>
  <Override PartName="/ppt/media/image8.gif" ContentType="image/gif"/>
  <Override PartName="/ppt/media/image49.jpeg" ContentType="image/jpeg"/>
  <Override PartName="/ppt/media/image30.png" ContentType="image/png"/>
  <Override PartName="/ppt/media/image3.jpeg" ContentType="image/jpeg"/>
  <Override PartName="/ppt/media/image37.gif" ContentType="image/gif"/>
  <Override PartName="/ppt/media/image84.jpeg" ContentType="image/jpeg"/>
  <Override PartName="/ppt/media/image7.gif" ContentType="image/gif"/>
  <Override PartName="/ppt/media/image11.gif" ContentType="image/gif"/>
  <Override PartName="/ppt/media/image72.jpeg" ContentType="image/jpeg"/>
  <Override PartName="/ppt/media/image108.gif" ContentType="image/gif"/>
  <Override PartName="/ppt/media/image10.gif" ContentType="image/gif"/>
  <Override PartName="/ppt/media/image5.gif" ContentType="image/gif"/>
  <Override PartName="/ppt/media/image102.jpeg" ContentType="image/jpeg"/>
  <Override PartName="/ppt/media/image54.png" ContentType="image/png"/>
  <Override PartName="/ppt/media/image76.jpeg" ContentType="image/jpeg"/>
  <Override PartName="/ppt/media/image14.jpeg" ContentType="image/jpeg"/>
  <Override PartName="/ppt/media/image97.gif" ContentType="image/gif"/>
  <Override PartName="/ppt/media/image33.jpeg" ContentType="image/jpeg"/>
  <Override PartName="/ppt/media/image88.gif" ContentType="image/gif"/>
  <Override PartName="/ppt/media/image4.gif" ContentType="image/gif"/>
  <Override PartName="/ppt/media/image16.gif" ContentType="image/gif"/>
  <Override PartName="/ppt/media/image25.gif" ContentType="image/gif"/>
  <Override PartName="/ppt/media/image90.gif" ContentType="image/gif"/>
  <Override PartName="/ppt/media/image32.jpeg" ContentType="image/jpeg"/>
  <Override PartName="/ppt/media/image24.gif" ContentType="image/gif"/>
  <Override PartName="/ppt/media/image70.jpeg" ContentType="image/jpeg"/>
  <Override PartName="/ppt/media/image71.jpeg" ContentType="image/jpeg"/>
  <Override PartName="/ppt/media/image73.png" ContentType="image/png"/>
  <Override PartName="/ppt/media/image69.gif" ContentType="image/gif"/>
  <Override PartName="/ppt/media/image19.jpeg" ContentType="image/jpeg"/>
  <Override PartName="/ppt/media/image42.jpeg" ContentType="image/jpeg"/>
  <Override PartName="/ppt/media/image75.png" ContentType="image/png"/>
  <Override PartName="/ppt/media/image77.jpeg" ContentType="image/jpeg"/>
  <Override PartName="/ppt/media/image83.jpeg" ContentType="image/jpeg"/>
  <Override PartName="/ppt/media/image109.jpeg" ContentType="image/jpeg"/>
  <Override PartName="/ppt/media/image22.gif" ContentType="image/gif"/>
  <Override PartName="/ppt/media/image18.jpeg" ContentType="image/jpeg"/>
  <Override PartName="/ppt/media/image91.jpeg" ContentType="image/jpeg"/>
  <Override PartName="/ppt/media/image93.gif" ContentType="image/gif"/>
  <Override PartName="/ppt/media/image95.gif" ContentType="image/gif"/>
  <Override PartName="/ppt/media/image115.gif" ContentType="image/gif"/>
  <Override PartName="/ppt/media/image103.gif" ContentType="image/gif"/>
  <Override PartName="/ppt/media/image50.jpeg" ContentType="image/jpeg"/>
  <Override PartName="/ppt/media/image94.gif" ContentType="image/gif"/>
  <Override PartName="/ppt/media/image114.gif" ContentType="image/gif"/>
  <Override PartName="/ppt/media/image101.png" ContentType="image/png"/>
  <Override PartName="/ppt/media/image85.jpeg" ContentType="image/jpeg"/>
  <Override PartName="/ppt/media/image63.png" ContentType="image/png"/>
  <Override PartName="/ppt/media/image112.gif" ContentType="image/gif"/>
  <Override PartName="/ppt/media/image61.png" ContentType="image/png"/>
  <Override PartName="/ppt/media/image104.png" ContentType="image/png"/>
  <Override PartName="/ppt/media/image111.gif" ContentType="image/gif"/>
  <Override PartName="/ppt/media/image60.png" ContentType="image/png"/>
  <Override PartName="/ppt/media/image98.gif" ContentType="image/gif"/>
  <Override PartName="/ppt/media/image105.gif" ContentType="image/gif"/>
  <Override PartName="/ppt/media/image110.gif" ContentType="image/gif"/>
  <Override PartName="/ppt/media/image106.gif" ContentType="image/gif"/>
  <Override PartName="/ppt/media/image74.png" ContentType="image/png"/>
  <Override PartName="/ppt/media/image78.jpeg" ContentType="image/jpeg"/>
  <Override PartName="/ppt/media/image100.png" ContentType="image/png"/>
  <Override PartName="/ppt/media/image96.gif" ContentType="image/gif"/>
  <Override PartName="/ppt/media/image99.png" ContentType="image/png"/>
  <Override PartName="/ppt/media/image62.png" ContentType="image/png"/>
  <Override PartName="/ppt/media/image51.jpeg" ContentType="image/jpeg"/>
  <Override PartName="/ppt/media/image79.png" ContentType="image/png"/>
  <Override PartName="/ppt/media/image68.jpeg" ContentType="image/jpeg"/>
  <Override PartName="/ppt/media/image66.png" ContentType="image/png"/>
  <Override PartName="/ppt/media/image64.gif" ContentType="image/gif"/>
  <Override PartName="/ppt/media/image107.jpeg" ContentType="image/jpeg"/>
  <Override PartName="/ppt/media/image28.jpeg" ContentType="image/jpeg"/>
  <Override PartName="/ppt/media/image87.jpeg" ContentType="image/jpeg"/>
  <Override PartName="/ppt/media/image67.gif" ContentType="image/gif"/>
  <Override PartName="/ppt/media/image21.jpeg" ContentType="image/jpeg"/>
  <Override PartName="/ppt/media/image6.gif" ContentType="image/gif"/>
  <Override PartName="/ppt/media/image26.gif" ContentType="image/gif"/>
  <Override PartName="/ppt/media/image29.png" ContentType="image/png"/>
  <Override PartName="/ppt/media/image2.gif" ContentType="image/gif"/>
  <Override PartName="/ppt/media/image82.png" ContentType="image/png"/>
  <Override PartName="/ppt/media/image23.gif" ContentType="image/gif"/>
  <Override PartName="/ppt/media/image113.gif" ContentType="image/gif"/>
  <Override PartName="/ppt/media/image17.jpeg" ContentType="image/jpeg"/>
  <Override PartName="/ppt/media/image12.gif" ContentType="image/gif"/>
  <Override PartName="/ppt/media/image15.png" ContentType="image/png"/>
  <Override PartName="/ppt/media/image92.jpeg" ContentType="image/jpe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5DF-E6EB-45EA-83D5-47C3BC162D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4AA-FC85-452C-97FD-36DF0E4CDD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ГРАФИЯ С РАДИ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1E77-BD81-4E55-BEC0-BC16FBD3CD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 лове динамит шанс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7225-FE48-4082-A9EA-EE65A790BA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имущества и недостатки ради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7FEA-25C0-4184-8EAD-C9094887EE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рамма кан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ECA-03E0-4980-A330-ACBCEB90E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рамма с 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0BD8-4073-417B-A1A6-D575B25D62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имущества и недостатки телеви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3713-A7BE-4592-8371-345E6CACEC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ные каналы и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860-8AC7-4161-AE68-E668574E87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комить со С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xplain what MM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видах получаемой информ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tell about kinds of information we 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значит «свободная пресса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hat “free press”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местных С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inform about local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преимущества и недостатки С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find out advantiges and disadvantiges of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1616-3E2A-466B-B6F3-987CF34B99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AF91-D0F2-474F-88A7-010704F37E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26A7-9D9F-44BA-AAF4-1728DC17D3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ОЖКА АНГЛИЙСКОГО ЖУР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847-4BC4-44AE-BD0C-67CC7D9164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имущества и недостатки газет и журн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D0A-B2EA-4F11-9DAB-29441D9F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E94-3B99-4AB9-B560-0890A6A9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4A5-E125-4F99-B32B-04BA1624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3BF-D711-4110-888D-405F003D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012-DC2D-40B4-88AD-2D6FA619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3DE-FDD9-4AEA-995C-99BE911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234-95F6-4D9F-A666-A8BA839D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C7C-7B0F-4D0A-B1F6-4201BB4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A39-F3A1-455F-8248-4E9C7988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706-9AE1-4FC5-86DF-3BF9981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5C3-8FFA-4655-8184-FCE339C4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AD5-34F3-45FC-9C61-9C30F17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D3DC-00BC-42C1-A5ED-BA07AD17A8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vbut"/>
          <p:cNvPicPr/>
          <p:nvPr/>
        </p:nvPicPr>
        <p:blipFill>
          <a:blip r:embed="rId2"/>
          <a:stretch/>
        </p:blipFill>
        <p:spPr>
          <a:xfrm>
            <a:off x="8459640" y="40464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but"/>
          <p:cNvPicPr/>
          <p:nvPr/>
        </p:nvPicPr>
        <p:blipFill>
          <a:blip r:embed="rId3"/>
          <a:stretch/>
        </p:blipFill>
        <p:spPr>
          <a:xfrm>
            <a:off x="8101080" y="189000"/>
            <a:ext cx="61128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image" Target="../media/image6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gif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jpeg"/><Relationship Id="rId10" Type="http://schemas.openxmlformats.org/officeDocument/2006/relationships/image" Target="../media/image84.jpeg"/><Relationship Id="rId11" Type="http://schemas.openxmlformats.org/officeDocument/2006/relationships/image" Target="../media/image85.jpeg"/><Relationship Id="rId12" Type="http://schemas.openxmlformats.org/officeDocument/2006/relationships/image" Target="../media/image86.jpeg"/><Relationship Id="rId13" Type="http://schemas.openxmlformats.org/officeDocument/2006/relationships/image" Target="../media/image8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88.gif"/><Relationship Id="rId3" Type="http://schemas.openxmlformats.org/officeDocument/2006/relationships/image" Target="../media/image89.png"/><Relationship Id="rId4" Type="http://schemas.openxmlformats.org/officeDocument/2006/relationships/image" Target="../media/image9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gif"/><Relationship Id="rId4" Type="http://schemas.openxmlformats.org/officeDocument/2006/relationships/image" Target="../media/image94.gif"/><Relationship Id="rId5" Type="http://schemas.openxmlformats.org/officeDocument/2006/relationships/image" Target="../media/image95.gif"/><Relationship Id="rId6" Type="http://schemas.openxmlformats.org/officeDocument/2006/relationships/image" Target="../media/image96.gif"/><Relationship Id="rId7" Type="http://schemas.openxmlformats.org/officeDocument/2006/relationships/image" Target="../media/image97.gif"/><Relationship Id="rId8" Type="http://schemas.openxmlformats.org/officeDocument/2006/relationships/image" Target="../media/image98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4.png"/><Relationship Id="rId3" Type="http://schemas.openxmlformats.org/officeDocument/2006/relationships/image" Target="../media/image105.gif"/><Relationship Id="rId4" Type="http://schemas.openxmlformats.org/officeDocument/2006/relationships/image" Target="../media/image106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9.jpeg"/><Relationship Id="rId3" Type="http://schemas.openxmlformats.org/officeDocument/2006/relationships/image" Target="../media/image110.gif"/><Relationship Id="rId4" Type="http://schemas.openxmlformats.org/officeDocument/2006/relationships/image" Target="../media/image111.gif"/><Relationship Id="rId5" Type="http://schemas.openxmlformats.org/officeDocument/2006/relationships/image" Target="../media/image112.gif"/><Relationship Id="rId6" Type="http://schemas.openxmlformats.org/officeDocument/2006/relationships/image" Target="../media/image113.gif"/><Relationship Id="rId7" Type="http://schemas.openxmlformats.org/officeDocument/2006/relationships/image" Target="../media/image114.gi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hyperlink" Target="http://www.klimov-design.ru/cover/madame/madame.shtml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www.klimov-design.ru/cover/egoist/egoist.shtml" TargetMode="External"/><Relationship Id="rId8" Type="http://schemas.openxmlformats.org/officeDocument/2006/relationships/image" Target="../media/image46.jpeg"/><Relationship Id="rId9" Type="http://schemas.openxmlformats.org/officeDocument/2006/relationships/hyperlink" Target="http://www.klimov-design.ru/cover/mc/mc.shtml" TargetMode="External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image" Target="../media/image5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baby06"/>
          <p:cNvPicPr/>
          <p:nvPr/>
        </p:nvPicPr>
        <p:blipFill>
          <a:blip r:embed="rId2"/>
          <a:stretch/>
        </p:blipFill>
        <p:spPr>
          <a:xfrm>
            <a:off x="6300720" y="4508640"/>
            <a:ext cx="165744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5f5ebc8a9e978b59bd5ba96035bdb0d3"/>
          <p:cNvPicPr/>
          <p:nvPr/>
        </p:nvPicPr>
        <p:blipFill>
          <a:blip r:embed="rId3"/>
          <a:stretch/>
        </p:blipFill>
        <p:spPr>
          <a:xfrm>
            <a:off x="1908000" y="765000"/>
            <a:ext cx="5226120" cy="108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n"/>
          <p:cNvPicPr/>
          <p:nvPr/>
        </p:nvPicPr>
        <p:blipFill>
          <a:blip r:embed="rId4"/>
          <a:stretch/>
        </p:blipFill>
        <p:spPr>
          <a:xfrm>
            <a:off x="2417760" y="2212920"/>
            <a:ext cx="865080" cy="75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w"/>
          <p:cNvPicPr/>
          <p:nvPr/>
        </p:nvPicPr>
        <p:blipFill>
          <a:blip r:embed="rId5"/>
          <a:stretch/>
        </p:blipFill>
        <p:spPr>
          <a:xfrm>
            <a:off x="4500720" y="2276640"/>
            <a:ext cx="798480" cy="70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v"/>
          <p:cNvPicPr/>
          <p:nvPr/>
        </p:nvPicPr>
        <p:blipFill>
          <a:blip r:embed="rId6"/>
          <a:stretch/>
        </p:blipFill>
        <p:spPr>
          <a:xfrm>
            <a:off x="2195640" y="3719520"/>
            <a:ext cx="774720" cy="71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"/>
          <p:cNvPicPr/>
          <p:nvPr/>
        </p:nvPicPr>
        <p:blipFill>
          <a:blip r:embed="rId7"/>
          <a:stretch/>
        </p:blipFill>
        <p:spPr>
          <a:xfrm>
            <a:off x="5940360" y="37180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"/>
          <p:cNvPicPr/>
          <p:nvPr/>
        </p:nvPicPr>
        <p:blipFill>
          <a:blip r:embed="rId8"/>
          <a:stretch/>
        </p:blipFill>
        <p:spPr>
          <a:xfrm>
            <a:off x="5573880" y="2205000"/>
            <a:ext cx="664920" cy="75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n"/>
          <p:cNvPicPr/>
          <p:nvPr/>
        </p:nvPicPr>
        <p:blipFill>
          <a:blip r:embed="rId9"/>
          <a:stretch/>
        </p:blipFill>
        <p:spPr>
          <a:xfrm>
            <a:off x="4068720" y="3141720"/>
            <a:ext cx="504720" cy="43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w"/>
          <p:cNvPicPr/>
          <p:nvPr/>
        </p:nvPicPr>
        <p:blipFill>
          <a:blip r:embed="rId10"/>
          <a:stretch/>
        </p:blipFill>
        <p:spPr>
          <a:xfrm>
            <a:off x="4932360" y="3719520"/>
            <a:ext cx="774720" cy="71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i"/>
          <p:cNvPicPr/>
          <p:nvPr/>
        </p:nvPicPr>
        <p:blipFill>
          <a:blip r:embed="rId11"/>
          <a:stretch/>
        </p:blipFill>
        <p:spPr>
          <a:xfrm>
            <a:off x="3203640" y="3719520"/>
            <a:ext cx="622080" cy="7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e"/>
          <p:cNvPicPr/>
          <p:nvPr/>
        </p:nvPicPr>
        <p:blipFill>
          <a:blip r:embed="rId12"/>
          <a:stretch/>
        </p:blipFill>
        <p:spPr>
          <a:xfrm>
            <a:off x="3995640" y="371808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e"/>
          <p:cNvPicPr/>
          <p:nvPr/>
        </p:nvPicPr>
        <p:blipFill>
          <a:blip r:embed="rId13"/>
          <a:stretch/>
        </p:blipFill>
        <p:spPr>
          <a:xfrm>
            <a:off x="3486240" y="2286000"/>
            <a:ext cx="731880" cy="68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d"/>
          <p:cNvPicPr/>
          <p:nvPr/>
        </p:nvPicPr>
        <p:blipFill>
          <a:blip r:embed="rId14"/>
          <a:stretch/>
        </p:blipFill>
        <p:spPr>
          <a:xfrm>
            <a:off x="4861080" y="3141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a"/>
          <p:cNvPicPr/>
          <p:nvPr/>
        </p:nvPicPr>
        <p:blipFill>
          <a:blip r:embed="rId15"/>
          <a:stretch/>
        </p:blipFill>
        <p:spPr>
          <a:xfrm>
            <a:off x="3421080" y="3141720"/>
            <a:ext cx="4348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611280" y="2997360"/>
            <a:ext cx="37447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We can listen to: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different programm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weather forecas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aily horoscop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oved musi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talk sho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5" descr="5e85e491bf68304f0d13321266e7dac1"/>
          <p:cNvPicPr/>
          <p:nvPr/>
        </p:nvPicPr>
        <p:blipFill>
          <a:blip r:embed="rId2"/>
          <a:stretch/>
        </p:blipFill>
        <p:spPr>
          <a:xfrm>
            <a:off x="1116000" y="4005360"/>
            <a:ext cx="1368360" cy="1230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611280" y="170028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adio was invented by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.S.Popov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in 1895, but the term started being used in the first decade of the XXth centu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7" descr="foto"/>
          <p:cNvPicPr/>
          <p:nvPr/>
        </p:nvPicPr>
        <p:blipFill>
          <a:blip r:embed="rId3"/>
          <a:stretch/>
        </p:blipFill>
        <p:spPr>
          <a:xfrm>
            <a:off x="4500720" y="1197000"/>
            <a:ext cx="3887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f0f2d41d91ec15ff0d22"/>
          <p:cNvPicPr/>
          <p:nvPr/>
        </p:nvPicPr>
        <p:blipFill>
          <a:blip r:embed="rId2"/>
          <a:stretch/>
        </p:blipFill>
        <p:spPr>
          <a:xfrm>
            <a:off x="468360" y="4221000"/>
            <a:ext cx="2987640" cy="187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Лого_Макс"/>
          <p:cNvPicPr/>
          <p:nvPr/>
        </p:nvPicPr>
        <p:blipFill>
          <a:blip r:embed="rId3"/>
          <a:stretch/>
        </p:blipFill>
        <p:spPr>
          <a:xfrm>
            <a:off x="3059280" y="1700280"/>
            <a:ext cx="2995560" cy="32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Лого_ХИТ"/>
          <p:cNvPicPr/>
          <p:nvPr/>
        </p:nvPicPr>
        <p:blipFill>
          <a:blip r:embed="rId4"/>
          <a:stretch/>
        </p:blipFill>
        <p:spPr>
          <a:xfrm>
            <a:off x="5219640" y="4508640"/>
            <a:ext cx="3573360" cy="1523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Лого_Рус_Радио"/>
          <p:cNvPicPr/>
          <p:nvPr/>
        </p:nvPicPr>
        <p:blipFill>
          <a:blip r:embed="rId5"/>
          <a:stretch/>
        </p:blipFill>
        <p:spPr>
          <a:xfrm>
            <a:off x="3780000" y="5013360"/>
            <a:ext cx="1368360" cy="923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лого_ЛОве"/>
          <p:cNvPicPr/>
          <p:nvPr/>
        </p:nvPicPr>
        <p:blipFill>
          <a:blip r:embed="rId6"/>
          <a:stretch/>
        </p:blipFill>
        <p:spPr>
          <a:xfrm>
            <a:off x="395280" y="1628640"/>
            <a:ext cx="2160720" cy="20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ЛОго_АвтоРадио"/>
          <p:cNvPicPr/>
          <p:nvPr/>
        </p:nvPicPr>
        <p:blipFill>
          <a:blip r:embed="rId7"/>
          <a:stretch/>
        </p:blipFill>
        <p:spPr>
          <a:xfrm>
            <a:off x="6443640" y="191628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20"/>
          <p:cNvSpPr/>
          <p:nvPr/>
        </p:nvSpPr>
        <p:spPr>
          <a:xfrm>
            <a:off x="1332000" y="692280"/>
            <a:ext cx="6624720" cy="1079280"/>
          </a:xfrm>
          <a:custGeom>
            <a:avLst/>
            <a:gdLst>
              <a:gd name="textAreaLeft" fmla="*/ 1656000 w 6624720"/>
              <a:gd name="textAreaRight" fmla="*/ 4968720 w 6624720"/>
              <a:gd name="textAreaTop" fmla="*/ 31680 h 1079280"/>
              <a:gd name="textAreaBottom" fmla="*/ 80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7f7a7"/>
              </a:gs>
              <a:gs pos="100000">
                <a:srgbClr val="ff00ff"/>
              </a:gs>
            </a:gsLst>
            <a:lin ang="27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0063"/>
                </a:solidFill>
                <a:latin typeface="Monotype Corsiva"/>
              </a:rPr>
              <a:t>POPULAR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7ic4"/>
          <p:cNvPicPr/>
          <p:nvPr/>
        </p:nvPicPr>
        <p:blipFill>
          <a:blip r:embed="rId2"/>
          <a:stretch/>
        </p:blipFill>
        <p:spPr>
          <a:xfrm>
            <a:off x="5867280" y="836640"/>
            <a:ext cx="863640" cy="84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8ic6"/>
          <p:cNvPicPr/>
          <p:nvPr/>
        </p:nvPicPr>
        <p:blipFill>
          <a:blip r:embed="rId3"/>
          <a:stretch/>
        </p:blipFill>
        <p:spPr>
          <a:xfrm>
            <a:off x="1835280" y="83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11280" y="1989000"/>
            <a:ext cx="38163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you may get many useful information such as news, currency, horo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can listen to radio in a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adiostations playing different kinds of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usic dictates m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27640" y="1989000"/>
            <a:ext cx="41767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ot’s of advertisements but not enough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impossible to listen to radio wherever you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programmes are held  by famous people, but not  qualified D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ad behavior of D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8" descr="fot1"/>
          <p:cNvPicPr/>
          <p:nvPr/>
        </p:nvPicPr>
        <p:blipFill>
          <a:blip r:embed="rId8"/>
          <a:stretch/>
        </p:blipFill>
        <p:spPr>
          <a:xfrm>
            <a:off x="2916360" y="429264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39640" y="285264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Television is the most popular part of mass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539640" y="16286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The first TV sets', screens were as big as a pocketbook, and they were black-and-white. Now having a colour TV set is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7" descr="4m6"/>
          <p:cNvPicPr/>
          <p:nvPr/>
        </p:nvPicPr>
        <p:blipFill>
          <a:blip r:embed="rId2"/>
          <a:stretch/>
        </p:blipFill>
        <p:spPr>
          <a:xfrm>
            <a:off x="4859280" y="1052640"/>
            <a:ext cx="3457800" cy="4752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PanelsDeploy_hr"/>
          <p:cNvPicPr/>
          <p:nvPr/>
        </p:nvPicPr>
        <p:blipFill>
          <a:blip r:embed="rId3"/>
          <a:stretch/>
        </p:blipFill>
        <p:spPr>
          <a:xfrm>
            <a:off x="1042920" y="3933720"/>
            <a:ext cx="26640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диаграмма2"/>
          <p:cNvPicPr/>
          <p:nvPr/>
        </p:nvPicPr>
        <p:blipFill>
          <a:blip r:embed="rId2"/>
          <a:stretch/>
        </p:blipFill>
        <p:spPr>
          <a:xfrm>
            <a:off x="1835280" y="1413000"/>
            <a:ext cx="5518080" cy="41558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1979640" y="907920"/>
            <a:ext cx="170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Relaxation and pl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20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580000" y="90792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Energy and free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093080" y="292428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Status and prest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7,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08720" y="5229360"/>
            <a:ext cx="177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Intellect and eru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18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547640" y="5157720"/>
            <a:ext cx="17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Calmness and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15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468360" y="285264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Family and 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6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643280" y="1989000"/>
            <a:ext cx="15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is the source for keeping up with activity and ener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508720" y="299736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helps to demonstrate the compe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68360" y="2997360"/>
            <a:ext cx="15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s the cause to gather with the whole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132000" y="198900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s the way of spending fre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348000" y="414972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helps to feel  yourself comf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43280" y="4149720"/>
            <a:ext cx="10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lays the role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food for brain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692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V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1" descr="диаграмма"/>
          <p:cNvPicPr/>
          <p:nvPr/>
        </p:nvPicPr>
        <p:blipFill>
          <a:blip r:embed="rId2"/>
          <a:stretch/>
        </p:blipFill>
        <p:spPr>
          <a:xfrm>
            <a:off x="1835280" y="1844640"/>
            <a:ext cx="5543280" cy="3371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971640" y="2924280"/>
            <a:ext cx="1332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Family and 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6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268360" y="4941720"/>
            <a:ext cx="187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Calmness and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15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268360" y="1125360"/>
            <a:ext cx="144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Relaxation and  pl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20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364000" y="119700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Energy and free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659640" y="2708280"/>
            <a:ext cx="161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Status and prest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7,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508720" y="4869000"/>
            <a:ext cx="136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Intellect and eru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18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hannel’s sta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Диаграмма_Дети"/>
          <p:cNvPicPr/>
          <p:nvPr/>
        </p:nvPicPr>
        <p:blipFill>
          <a:blip r:embed="rId2"/>
          <a:stretch/>
        </p:blipFill>
        <p:spPr>
          <a:xfrm>
            <a:off x="0" y="1052640"/>
            <a:ext cx="5292720" cy="3968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Диаграмма_Взрослые"/>
          <p:cNvPicPr/>
          <p:nvPr/>
        </p:nvPicPr>
        <p:blipFill>
          <a:blip r:embed="rId3"/>
          <a:stretch/>
        </p:blipFill>
        <p:spPr>
          <a:xfrm>
            <a:off x="2556000" y="765000"/>
            <a:ext cx="9165960" cy="7332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цвета_как_нибудь"/>
          <p:cNvPicPr/>
          <p:nvPr/>
        </p:nvPicPr>
        <p:blipFill>
          <a:blip r:embed="rId4"/>
          <a:stretch/>
        </p:blipFill>
        <p:spPr>
          <a:xfrm>
            <a:off x="0" y="4429080"/>
            <a:ext cx="2664000" cy="2428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2195640" y="47628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Follow-up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564000" y="263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042920" y="35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84360" y="213372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403280" y="141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97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7740720" y="270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38036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5508720" y="4724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788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94036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19280" y="4797360"/>
            <a:ext cx="3960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watching films on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watching sport on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watching music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watching documentaries on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watching news and current affairs program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692360" y="407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from 2 till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796000" y="1413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from 26 till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21"/>
          <p:cNvPicPr/>
          <p:nvPr/>
        </p:nvPicPr>
        <p:blipFill>
          <a:blip r:embed="rId2"/>
          <a:stretch/>
        </p:blipFill>
        <p:spPr>
          <a:xfrm>
            <a:off x="2340000" y="3500280"/>
            <a:ext cx="1657440" cy="908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20070213131817"/>
          <p:cNvPicPr/>
          <p:nvPr/>
        </p:nvPicPr>
        <p:blipFill>
          <a:blip r:embed="rId3"/>
          <a:stretch/>
        </p:blipFill>
        <p:spPr>
          <a:xfrm>
            <a:off x="539640" y="4653000"/>
            <a:ext cx="1224000" cy="919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PR20060404164733"/>
          <p:cNvPicPr/>
          <p:nvPr/>
        </p:nvPicPr>
        <p:blipFill>
          <a:blip r:embed="rId4"/>
          <a:stretch/>
        </p:blipFill>
        <p:spPr>
          <a:xfrm>
            <a:off x="539640" y="3500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первый"/>
          <p:cNvPicPr/>
          <p:nvPr/>
        </p:nvPicPr>
        <p:blipFill>
          <a:blip r:embed="rId5"/>
          <a:stretch/>
        </p:blipFill>
        <p:spPr>
          <a:xfrm>
            <a:off x="395280" y="2060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нтв"/>
          <p:cNvPicPr/>
          <p:nvPr/>
        </p:nvPicPr>
        <p:blipFill>
          <a:blip r:embed="rId6"/>
          <a:stretch/>
        </p:blipFill>
        <p:spPr>
          <a:xfrm>
            <a:off x="2340000" y="2133720"/>
            <a:ext cx="1657440" cy="116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мтв"/>
          <p:cNvPicPr/>
          <p:nvPr/>
        </p:nvPicPr>
        <p:blipFill>
          <a:blip r:embed="rId7"/>
          <a:stretch/>
        </p:blipFill>
        <p:spPr>
          <a:xfrm>
            <a:off x="6948360" y="2060640"/>
            <a:ext cx="1584360" cy="1251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4" descr="muztv"/>
          <p:cNvPicPr/>
          <p:nvPr/>
        </p:nvPicPr>
        <p:blipFill>
          <a:blip r:embed="rId8"/>
          <a:stretch/>
        </p:blipFill>
        <p:spPr>
          <a:xfrm>
            <a:off x="4500720" y="2133720"/>
            <a:ext cx="1904760" cy="1125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89474301540e39ae048b78e087029"/>
          <p:cNvPicPr/>
          <p:nvPr/>
        </p:nvPicPr>
        <p:blipFill>
          <a:blip r:embed="rId9"/>
          <a:stretch/>
        </p:blipFill>
        <p:spPr>
          <a:xfrm>
            <a:off x="4788000" y="3500280"/>
            <a:ext cx="1439640" cy="865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programma-maximum"/>
          <p:cNvPicPr/>
          <p:nvPr/>
        </p:nvPicPr>
        <p:blipFill>
          <a:blip r:embed="rId10"/>
          <a:stretch/>
        </p:blipFill>
        <p:spPr>
          <a:xfrm>
            <a:off x="2340000" y="4653000"/>
            <a:ext cx="165744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8" descr="89474301540e39ae048b78e08702"/>
          <p:cNvPicPr/>
          <p:nvPr/>
        </p:nvPicPr>
        <p:blipFill>
          <a:blip r:embed="rId11"/>
          <a:stretch/>
        </p:blipFill>
        <p:spPr>
          <a:xfrm>
            <a:off x="4788000" y="4653000"/>
            <a:ext cx="1439640" cy="93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" descr="2fc498b9-0922-4aad-95c6-2b5eea894b25"/>
          <p:cNvPicPr/>
          <p:nvPr/>
        </p:nvPicPr>
        <p:blipFill>
          <a:blip r:embed="rId12"/>
          <a:stretch/>
        </p:blipFill>
        <p:spPr>
          <a:xfrm>
            <a:off x="7020000" y="4653000"/>
            <a:ext cx="1297080" cy="93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0" descr="3a024b42-bf62-4968-bded-b72a733b07c2"/>
          <p:cNvPicPr/>
          <p:nvPr/>
        </p:nvPicPr>
        <p:blipFill>
          <a:blip r:embed="rId13"/>
          <a:stretch/>
        </p:blipFill>
        <p:spPr>
          <a:xfrm>
            <a:off x="7020000" y="3500280"/>
            <a:ext cx="1295280" cy="8636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8"/>
          <p:cNvSpPr/>
          <p:nvPr/>
        </p:nvSpPr>
        <p:spPr>
          <a:xfrm>
            <a:off x="1187280" y="692280"/>
            <a:ext cx="6840720" cy="1150920"/>
          </a:xfrm>
          <a:custGeom>
            <a:avLst/>
            <a:gdLst>
              <a:gd name="textAreaLeft" fmla="*/ 1710000 w 6840720"/>
              <a:gd name="textAreaRight" fmla="*/ 5130720 w 6840720"/>
              <a:gd name="textAreaTop" fmla="*/ 287640 h 1150920"/>
              <a:gd name="textAreaBottom" fmla="*/ 11170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27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POPULAR 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AND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remove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1" descr="грустный котик"/>
          <p:cNvPicPr/>
          <p:nvPr/>
        </p:nvPicPr>
        <p:blipFill>
          <a:blip r:embed="rId2"/>
          <a:stretch/>
        </p:blipFill>
        <p:spPr>
          <a:xfrm>
            <a:off x="5580000" y="836640"/>
            <a:ext cx="927000" cy="1297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кот рыжик"/>
          <p:cNvPicPr/>
          <p:nvPr/>
        </p:nvPicPr>
        <p:blipFill>
          <a:blip r:embed="rId3"/>
          <a:stretch/>
        </p:blipFill>
        <p:spPr>
          <a:xfrm>
            <a:off x="1763640" y="907920"/>
            <a:ext cx="10605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0"/>
          <p:cNvSpPr/>
          <p:nvPr/>
        </p:nvSpPr>
        <p:spPr>
          <a:xfrm>
            <a:off x="4572000" y="2349360"/>
            <a:ext cx="367200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V'S BAD FOR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Much violence on 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"BEAUTIFUL PEOPLE" synd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V disrupt local culture and social ties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611280" y="2349360"/>
            <a:ext cx="36734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You can get a lot of useful information of the educational channels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V has a lot of channels and everybody can watch the programmes he likes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V shows us a lot of films of different countries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V helps us to relax after a hard day's work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2" descr="6c15c029aa716820face4d27a397cadd"/>
          <p:cNvPicPr/>
          <p:nvPr/>
        </p:nvPicPr>
        <p:blipFill>
          <a:blip r:embed="rId4"/>
          <a:stretch/>
        </p:blipFill>
        <p:spPr>
          <a:xfrm>
            <a:off x="5148360" y="4508640"/>
            <a:ext cx="1942920" cy="1403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5"/>
          <p:cNvSpPr/>
          <p:nvPr/>
        </p:nvSpPr>
        <p:spPr>
          <a:xfrm>
            <a:off x="1908000" y="549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558000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Agai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35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o explain what Mass Media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o tell about kinds of information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hat “free press”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o inform about local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o find out advantiges and disadvantiges of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52"/>
          <p:cNvPicPr/>
          <p:nvPr/>
        </p:nvPicPr>
        <p:blipFill>
          <a:blip r:embed="rId7"/>
          <a:stretch/>
        </p:blipFill>
        <p:spPr>
          <a:xfrm>
            <a:off x="6588000" y="1700280"/>
            <a:ext cx="1960560" cy="10983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3"/>
          <p:cNvSpPr/>
          <p:nvPr/>
        </p:nvSpPr>
        <p:spPr>
          <a:xfrm>
            <a:off x="1403280" y="836640"/>
            <a:ext cx="6193080" cy="792000"/>
          </a:xfrm>
          <a:custGeom>
            <a:avLst/>
            <a:gdLst>
              <a:gd name="textAreaLeft" fmla="*/ 1548360 w 6193080"/>
              <a:gd name="textAreaRight" fmla="*/ 4645080 w 6193080"/>
              <a:gd name="textAreaTop" fmla="*/ 0 h 792000"/>
              <a:gd name="textAreaBottom" fmla="*/ 69300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6f656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THE AIM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s_33123"/>
          <p:cNvPicPr/>
          <p:nvPr/>
        </p:nvPicPr>
        <p:blipFill>
          <a:blip r:embed="rId2"/>
          <a:stretch/>
        </p:blipFill>
        <p:spPr>
          <a:xfrm>
            <a:off x="3780000" y="2781360"/>
            <a:ext cx="1520640" cy="1728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84360" y="549000"/>
            <a:ext cx="39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d11c"/>
                </a:solidFill>
                <a:latin typeface="Monotype Corsiva"/>
              </a:rPr>
              <a:t>FREE P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3" descr="2ic6"/>
          <p:cNvPicPr/>
          <p:nvPr/>
        </p:nvPicPr>
        <p:blipFill>
          <a:blip r:embed="rId3"/>
          <a:stretch/>
        </p:blipFill>
        <p:spPr>
          <a:xfrm rot="747600">
            <a:off x="1692000" y="1844640"/>
            <a:ext cx="1584360" cy="843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1" descr="55"/>
          <p:cNvPicPr/>
          <p:nvPr/>
        </p:nvPicPr>
        <p:blipFill>
          <a:blip r:embed="rId4"/>
          <a:stretch/>
        </p:blipFill>
        <p:spPr>
          <a:xfrm>
            <a:off x="4211640" y="155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5" descr="21ic3"/>
          <p:cNvPicPr/>
          <p:nvPr/>
        </p:nvPicPr>
        <p:blipFill>
          <a:blip r:embed="rId5"/>
          <a:stretch/>
        </p:blipFill>
        <p:spPr>
          <a:xfrm>
            <a:off x="5940360" y="1989000"/>
            <a:ext cx="1728720" cy="93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7" descr="4new6"/>
          <p:cNvPicPr/>
          <p:nvPr/>
        </p:nvPicPr>
        <p:blipFill>
          <a:blip r:embed="rId6"/>
          <a:stretch/>
        </p:blipFill>
        <p:spPr>
          <a:xfrm rot="20460600">
            <a:off x="1839960" y="4976640"/>
            <a:ext cx="1566720" cy="738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9" descr="4ic2"/>
          <p:cNvPicPr/>
          <p:nvPr/>
        </p:nvPicPr>
        <p:blipFill>
          <a:blip r:embed="rId7"/>
          <a:stretch/>
        </p:blipFill>
        <p:spPr>
          <a:xfrm rot="1762800">
            <a:off x="5508360" y="5157360"/>
            <a:ext cx="1655640" cy="511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3" descr="11ic2"/>
          <p:cNvPicPr/>
          <p:nvPr/>
        </p:nvPicPr>
        <p:blipFill>
          <a:blip r:embed="rId8"/>
          <a:stretch/>
        </p:blipFill>
        <p:spPr>
          <a:xfrm>
            <a:off x="6227640" y="3645000"/>
            <a:ext cx="1440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0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7"/>
          <p:cNvSpPr/>
          <p:nvPr/>
        </p:nvSpPr>
        <p:spPr>
          <a:xfrm>
            <a:off x="2124000" y="2133720"/>
            <a:ext cx="4824360" cy="2592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50000">
                <a:srgbClr val="cc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THE ROL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THE FREE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AutoShape 8"/>
          <p:cNvGrpSpPr/>
          <p:nvPr/>
        </p:nvGrpSpPr>
        <p:grpSpPr>
          <a:xfrm>
            <a:off x="603360" y="3060720"/>
            <a:ext cx="1384200" cy="663480"/>
            <a:chOff x="603360" y="3060720"/>
            <a:chExt cx="1384200" cy="663480"/>
          </a:xfrm>
        </p:grpSpPr>
        <p:pic>
          <p:nvPicPr>
            <p:cNvPr id="232" name="AutoShape 8" descr=""/>
            <p:cNvPicPr/>
            <p:nvPr/>
          </p:nvPicPr>
          <p:blipFill>
            <a:blip r:embed="rId2"/>
            <a:stretch/>
          </p:blipFill>
          <p:spPr>
            <a:xfrm>
              <a:off x="603360" y="3060720"/>
              <a:ext cx="13842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42960" y="3100320"/>
              <a:ext cx="13050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educatio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view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AutoShape 9"/>
          <p:cNvGrpSpPr/>
          <p:nvPr/>
        </p:nvGrpSpPr>
        <p:grpSpPr>
          <a:xfrm>
            <a:off x="3773520" y="1189080"/>
            <a:ext cx="1378080" cy="663480"/>
            <a:chOff x="3773520" y="1189080"/>
            <a:chExt cx="1378080" cy="663480"/>
          </a:xfrm>
        </p:grpSpPr>
        <p:pic>
          <p:nvPicPr>
            <p:cNvPr id="235" name="AutoShape 9" descr=""/>
            <p:cNvPicPr/>
            <p:nvPr/>
          </p:nvPicPr>
          <p:blipFill>
            <a:blip r:embed="rId3"/>
            <a:stretch/>
          </p:blipFill>
          <p:spPr>
            <a:xfrm>
              <a:off x="3773520" y="1189080"/>
              <a:ext cx="13780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811680" y="1228680"/>
              <a:ext cx="13032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politi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view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AutoShape 10"/>
          <p:cNvGrpSpPr/>
          <p:nvPr/>
        </p:nvGrpSpPr>
        <p:grpSpPr>
          <a:xfrm>
            <a:off x="3846600" y="5005440"/>
            <a:ext cx="1377720" cy="663480"/>
            <a:chOff x="3846600" y="5005440"/>
            <a:chExt cx="1377720" cy="663480"/>
          </a:xfrm>
        </p:grpSpPr>
        <p:pic>
          <p:nvPicPr>
            <p:cNvPr id="238" name="AutoShape 10" descr=""/>
            <p:cNvPicPr/>
            <p:nvPr/>
          </p:nvPicPr>
          <p:blipFill>
            <a:blip r:embed="rId4"/>
            <a:stretch/>
          </p:blipFill>
          <p:spPr>
            <a:xfrm>
              <a:off x="3846600" y="5005440"/>
              <a:ext cx="13777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882960" y="5045040"/>
              <a:ext cx="13035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economi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view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AutoShape 11"/>
          <p:cNvGrpSpPr/>
          <p:nvPr/>
        </p:nvGrpSpPr>
        <p:grpSpPr>
          <a:xfrm>
            <a:off x="7089840" y="3060720"/>
            <a:ext cx="1377720" cy="663480"/>
            <a:chOff x="7089840" y="3060720"/>
            <a:chExt cx="1377720" cy="663480"/>
          </a:xfrm>
        </p:grpSpPr>
        <p:pic>
          <p:nvPicPr>
            <p:cNvPr id="241" name="AutoShape 11" descr=""/>
            <p:cNvPicPr/>
            <p:nvPr/>
          </p:nvPicPr>
          <p:blipFill>
            <a:blip r:embed="rId5"/>
            <a:stretch/>
          </p:blipFill>
          <p:spPr>
            <a:xfrm>
              <a:off x="7089840" y="3060720"/>
              <a:ext cx="13777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124760" y="3100320"/>
              <a:ext cx="13032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soci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onotype Corsiva"/>
                </a:rPr>
                <a:t>view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12"/>
          <p:cNvSpPr/>
          <p:nvPr/>
        </p:nvSpPr>
        <p:spPr>
          <a:xfrm>
            <a:off x="468360" y="1557360"/>
            <a:ext cx="244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Newspapers can be used  in the classroom as they provide curren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46836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The information in newspapers is not always reliable or 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476360" y="55897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Keep the public informed  about changing economic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5076720" y="5516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Mis-reporting an event or overemphasising insignificant details can have negative effects on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443640" y="1773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Keep public aware of events all over the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372360" y="4292640"/>
            <a:ext cx="234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Smaller events are not publicised because might not be seen as newswort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476360" y="620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Reveals the truth about politicians’ int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4788000" y="549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Articles might not be objective because the newspaper favours a certain political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1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2"/>
          <p:cNvSpPr/>
          <p:nvPr/>
        </p:nvSpPr>
        <p:spPr>
          <a:xfrm>
            <a:off x="7812000" y="3716280"/>
            <a:ext cx="0" cy="64944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3"/>
          <p:cNvSpPr/>
          <p:nvPr/>
        </p:nvSpPr>
        <p:spPr>
          <a:xfrm flipV="1">
            <a:off x="1332000" y="2420640"/>
            <a:ext cx="0" cy="64764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4"/>
          <p:cNvSpPr/>
          <p:nvPr/>
        </p:nvSpPr>
        <p:spPr>
          <a:xfrm flipV="1">
            <a:off x="7812000" y="2420640"/>
            <a:ext cx="0" cy="64764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5"/>
          <p:cNvSpPr/>
          <p:nvPr/>
        </p:nvSpPr>
        <p:spPr>
          <a:xfrm>
            <a:off x="5219640" y="5300640"/>
            <a:ext cx="1081080" cy="289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6"/>
          <p:cNvSpPr/>
          <p:nvPr/>
        </p:nvSpPr>
        <p:spPr>
          <a:xfrm flipV="1">
            <a:off x="5148360" y="1196640"/>
            <a:ext cx="1008000" cy="36036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2771280" y="5300640"/>
            <a:ext cx="1079640" cy="289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8"/>
          <p:cNvSpPr/>
          <p:nvPr/>
        </p:nvSpPr>
        <p:spPr>
          <a:xfrm flipH="1" flipV="1">
            <a:off x="2771280" y="1196640"/>
            <a:ext cx="1008360" cy="36036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4"/>
          <p:cNvSpPr/>
          <p:nvPr/>
        </p:nvSpPr>
        <p:spPr>
          <a:xfrm>
            <a:off x="1332000" y="692280"/>
            <a:ext cx="6478560" cy="1079280"/>
          </a:xfrm>
          <a:custGeom>
            <a:avLst/>
            <a:gdLst>
              <a:gd name="textAreaLeft" fmla="*/ 1619640 w 6478560"/>
              <a:gd name="textAreaRight" fmla="*/ 4858920 w 6478560"/>
              <a:gd name="textAreaTop" fmla="*/ 13464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PRACTICAL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39640" y="3933720"/>
            <a:ext cx="6769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cc99"/>
                </a:solidFill>
                <a:latin typeface="Comic Sans MS"/>
              </a:rPr>
              <a:t>A.........................................newspaper contains a lot of sensational news and generally sells more copies than the larger and more serious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"Cosmpolitan" is a monthly.........................................aimed at young women and is full of glossy pictures and advertis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ccccff"/>
                </a:solidFill>
                <a:latin typeface="Comic Sans MS"/>
              </a:rPr>
              <a:t>"The Beano" is a popular.........................................for children containing cartoon characters like "Dennis the Menace" and "Desperate Dan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99ff"/>
                </a:solidFill>
                <a:latin typeface="Comic Sans MS"/>
              </a:rPr>
              <a:t>A lot of Sunday newspapers now have a glossy magazine which is called a....................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Comic Sans MS"/>
              </a:rPr>
              <a:t>The more "quality" newspapers are normally bigger than the popular ones and are called .........................................because of their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cccc"/>
                </a:solidFill>
                <a:latin typeface="Comic Sans MS"/>
              </a:rPr>
              <a:t>A.........................................is an academic magazine written on a specialist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780000" y="2421000"/>
            <a:ext cx="4895640" cy="936720"/>
          </a:xfrm>
          <a:prstGeom prst="cloudCallout">
            <a:avLst>
              <a:gd name="adj1" fmla="val -83949"/>
              <a:gd name="adj2" fmla="val 73726"/>
            </a:avLst>
          </a:prstGeom>
          <a:gradFill rotWithShape="0">
            <a:gsLst>
              <a:gs pos="0">
                <a:srgbClr val="99ccff"/>
              </a:gs>
              <a:gs pos="50000">
                <a:srgbClr val="ffcc99"/>
              </a:gs>
              <a:gs pos="100000">
                <a:srgbClr val="99ccff"/>
              </a:gs>
            </a:gsLst>
            <a:lin ang="2700000"/>
          </a:gradFill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roadsheet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ff00ff"/>
                </a:solidFill>
                <a:latin typeface="Comic Sans MS"/>
              </a:rPr>
              <a:t>supplement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comic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journal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400" spc="-1" strike="noStrike">
                <a:solidFill>
                  <a:srgbClr val="00ffff"/>
                </a:solidFill>
                <a:latin typeface="Comic Sans MS"/>
              </a:rPr>
              <a:t> magazin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abl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539640" y="1989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omic Sans MS"/>
              </a:rPr>
              <a:t>Fill in the blanks with the words below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8" descr="booc005"/>
          <p:cNvPicPr/>
          <p:nvPr/>
        </p:nvPicPr>
        <p:blipFill>
          <a:blip r:embed="rId2"/>
          <a:stretch/>
        </p:blipFill>
        <p:spPr>
          <a:xfrm>
            <a:off x="7524720" y="458136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5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>
            <a:off x="1332000" y="692280"/>
            <a:ext cx="6478560" cy="1079280"/>
          </a:xfrm>
          <a:custGeom>
            <a:avLst/>
            <a:gdLst>
              <a:gd name="textAreaLeft" fmla="*/ 1619640 w 6478560"/>
              <a:gd name="textAreaRight" fmla="*/ 4858920 w 6478560"/>
              <a:gd name="textAreaTop" fmla="*/ 13464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PRACTICAL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55640" y="1989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Courier New"/>
              </a:rPr>
              <a:t>Discuss with your partner the following ques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755640" y="2637000"/>
            <a:ext cx="44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Courier New"/>
              </a:rPr>
              <a:t>1. How old were you when you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Courier New"/>
              </a:rPr>
              <a:t>using a compu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Courier New"/>
              </a:rPr>
              <a:t>2. Are computers suitable for all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Courier New"/>
              </a:rPr>
              <a:t>3. Should computing be taught in schoo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99ff"/>
                </a:solidFill>
                <a:latin typeface="Courier New"/>
              </a:rPr>
              <a:t>4. What would your perfect computer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99ff"/>
                </a:solidFill>
                <a:latin typeface="Courier New"/>
              </a:rPr>
              <a:t>able to do for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cc"/>
                </a:solidFill>
                <a:latin typeface="Courier New"/>
              </a:rPr>
              <a:t>5. Which area do you think has benef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cc"/>
                </a:solidFill>
                <a:latin typeface="Courier New"/>
              </a:rPr>
              <a:t>most from the introduction of computers?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095640" cy="20113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68" name="Picture 9" descr="b9780831b33ea9bbb0a0e669ea0e403f"/>
          <p:cNvPicPr/>
          <p:nvPr/>
        </p:nvPicPr>
        <p:blipFill>
          <a:blip r:embed="rId3"/>
          <a:stretch/>
        </p:blipFill>
        <p:spPr>
          <a:xfrm>
            <a:off x="2195640" y="4724280"/>
            <a:ext cx="1582560" cy="1406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45"/>
          <p:cNvPicPr/>
          <p:nvPr/>
        </p:nvPicPr>
        <p:blipFill>
          <a:blip r:embed="rId4"/>
          <a:stretch/>
        </p:blipFill>
        <p:spPr>
          <a:xfrm>
            <a:off x="6156360" y="458136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2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755640" y="1700280"/>
            <a:ext cx="676908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CE 1 , V.Evans, J.Mi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CE 2, V.Evans, J.Mi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ssion , V.Evans, J.Doo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ish 10 – 11, V.Kuzov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stream ( intermediate, prof),  V.Evans, J.Doo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Against!, P.Daley, M.S.Dah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 Out (2000 – 2007), Glossa – 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0 Topics, G.Kubarkov, B.Timoshch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’s Discuss (9 – 10), I.Andreas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tv-transit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google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kniga_6"/>
          <p:cNvPicPr/>
          <p:nvPr/>
        </p:nvPicPr>
        <p:blipFill>
          <a:blip r:embed="rId2"/>
          <a:stretch/>
        </p:blipFill>
        <p:spPr>
          <a:xfrm>
            <a:off x="5148360" y="3933720"/>
            <a:ext cx="3097080" cy="20876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4"/>
          <p:cNvSpPr/>
          <p:nvPr/>
        </p:nvSpPr>
        <p:spPr>
          <a:xfrm>
            <a:off x="1332000" y="476280"/>
            <a:ext cx="6480000" cy="1081080"/>
          </a:xfrm>
          <a:custGeom>
            <a:avLst/>
            <a:gdLst>
              <a:gd name="textAreaLeft" fmla="*/ 1620000 w 6480000"/>
              <a:gd name="textAreaRight" fmla="*/ 4860000 w 6480000"/>
              <a:gd name="textAreaTop" fmla="*/ 270360 h 1081080"/>
              <a:gd name="textAreaBottom" fmla="*/ 10494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USED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0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2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4320"/>
                            </p:stCondLst>
                            <p:childTnLst>
                              <p:par>
                                <p:cTn id="10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4" descr="2007г 104"/>
          <p:cNvPicPr/>
          <p:nvPr/>
        </p:nvPicPr>
        <p:blipFill>
          <a:blip r:embed="rId2"/>
          <a:stretch/>
        </p:blipFill>
        <p:spPr>
          <a:xfrm>
            <a:off x="2627280" y="2349360"/>
            <a:ext cx="3673440" cy="2756160"/>
          </a:xfrm>
          <a:prstGeom prst="rect">
            <a:avLst/>
          </a:prstGeom>
          <a:ln w="25560">
            <a:solidFill>
              <a:srgbClr val="ffcccc"/>
            </a:solidFill>
            <a:miter/>
          </a:ln>
        </p:spPr>
      </p:pic>
      <p:pic>
        <p:nvPicPr>
          <p:cNvPr id="274" name="Picture 4" descr="thank you"/>
          <p:cNvPicPr/>
          <p:nvPr/>
        </p:nvPicPr>
        <p:blipFill>
          <a:blip r:embed="rId3"/>
          <a:stretch/>
        </p:blipFill>
        <p:spPr>
          <a:xfrm>
            <a:off x="2484360" y="907920"/>
            <a:ext cx="3889440" cy="1121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Entertainment-02"/>
          <p:cNvPicPr/>
          <p:nvPr/>
        </p:nvPicPr>
        <p:blipFill>
          <a:blip r:embed="rId4"/>
          <a:stretch/>
        </p:blipFill>
        <p:spPr>
          <a:xfrm>
            <a:off x="7020000" y="4724280"/>
            <a:ext cx="1582560" cy="1522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fae803c7c7302345efdef00833f17672"/>
          <p:cNvPicPr/>
          <p:nvPr/>
        </p:nvPicPr>
        <p:blipFill>
          <a:blip r:embed="rId5"/>
          <a:stretch/>
        </p:blipFill>
        <p:spPr>
          <a:xfrm>
            <a:off x="2124000" y="4365720"/>
            <a:ext cx="984240" cy="108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9de92734454d38d8a296073e38321e13"/>
          <p:cNvPicPr/>
          <p:nvPr/>
        </p:nvPicPr>
        <p:blipFill>
          <a:blip r:embed="rId6"/>
          <a:stretch/>
        </p:blipFill>
        <p:spPr>
          <a:xfrm>
            <a:off x="971640" y="1341360"/>
            <a:ext cx="1247760" cy="1476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16m2"/>
          <p:cNvPicPr/>
          <p:nvPr/>
        </p:nvPicPr>
        <p:blipFill>
          <a:blip r:embed="rId7"/>
          <a:stretch/>
        </p:blipFill>
        <p:spPr>
          <a:xfrm>
            <a:off x="611280" y="4149720"/>
            <a:ext cx="117000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8" descr="11m1"/>
          <p:cNvPicPr/>
          <p:nvPr/>
        </p:nvPicPr>
        <p:blipFill>
          <a:blip r:embed="rId8"/>
          <a:stretch/>
        </p:blipFill>
        <p:spPr>
          <a:xfrm>
            <a:off x="5940360" y="2035080"/>
            <a:ext cx="936720" cy="793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7"/>
          <p:cNvSpPr/>
          <p:nvPr/>
        </p:nvSpPr>
        <p:spPr>
          <a:xfrm>
            <a:off x="4788000" y="5661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By Oksana Bel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0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00000" y="1989000"/>
          <a:ext cx="7345440" cy="2668680"/>
        </p:xfrm>
        <a:graphic>
          <a:graphicData uri="http://schemas.openxmlformats.org/drawingml/2006/table">
            <a:tbl>
              <a:tblPr/>
              <a:tblGrid>
                <a:gridCol w="1192320"/>
                <a:gridCol w="1001880"/>
                <a:gridCol w="1101600"/>
                <a:gridCol w="1028520"/>
                <a:gridCol w="1167120"/>
                <a:gridCol w="823680"/>
                <a:gridCol w="10303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ewspapers and magaz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a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he Int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ocal 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Free 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«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Fo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and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«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agains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280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f6f656"/>
                    </a:solidFill>
                  </a:tcPr>
                </a:tc>
              </a:tr>
              <a:tr h="22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ain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eli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Pop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Special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ain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eli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eli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ews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agaz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he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2808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28080">
                      <a:solidFill>
                        <a:srgbClr val="00ff00"/>
                      </a:solidFill>
                    </a:lnB>
                    <a:gradFill rotWithShape="0">
                      <a:gsLst>
                        <a:gs pos="0">
                          <a:srgbClr val="f6f656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68" name="Picture 64" descr="96277"/>
          <p:cNvPicPr/>
          <p:nvPr/>
        </p:nvPicPr>
        <p:blipFill>
          <a:blip r:embed="rId2"/>
          <a:stretch/>
        </p:blipFill>
        <p:spPr>
          <a:xfrm>
            <a:off x="900000" y="4869000"/>
            <a:ext cx="1297080" cy="118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7" descr="press4"/>
          <p:cNvPicPr/>
          <p:nvPr/>
        </p:nvPicPr>
        <p:blipFill>
          <a:blip r:embed="rId3"/>
          <a:stretch/>
        </p:blipFill>
        <p:spPr>
          <a:xfrm>
            <a:off x="7236000" y="4797360"/>
            <a:ext cx="91260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7" descr="4002909339"/>
          <p:cNvPicPr/>
          <p:nvPr/>
        </p:nvPicPr>
        <p:blipFill>
          <a:blip r:embed="rId4"/>
          <a:stretch/>
        </p:blipFill>
        <p:spPr>
          <a:xfrm>
            <a:off x="5651640" y="4869000"/>
            <a:ext cx="1368360" cy="101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0" descr="86"/>
          <p:cNvPicPr/>
          <p:nvPr/>
        </p:nvPicPr>
        <p:blipFill>
          <a:blip r:embed="rId5"/>
          <a:stretch/>
        </p:blipFill>
        <p:spPr>
          <a:xfrm>
            <a:off x="3924360" y="4869000"/>
            <a:ext cx="1368360" cy="1028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6" descr="Копия 8"/>
          <p:cNvPicPr/>
          <p:nvPr/>
        </p:nvPicPr>
        <p:blipFill>
          <a:blip r:embed="rId6"/>
          <a:stretch/>
        </p:blipFill>
        <p:spPr>
          <a:xfrm>
            <a:off x="2484360" y="4869000"/>
            <a:ext cx="1224000" cy="10411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38"/>
          <p:cNvSpPr/>
          <p:nvPr/>
        </p:nvSpPr>
        <p:spPr>
          <a:xfrm>
            <a:off x="1332000" y="836640"/>
            <a:ext cx="6480000" cy="719280"/>
          </a:xfrm>
          <a:custGeom>
            <a:avLst/>
            <a:gdLst>
              <a:gd name="textAreaLeft" fmla="*/ 1620000 w 6480000"/>
              <a:gd name="textAreaRight" fmla="*/ 4860000 w 6480000"/>
              <a:gd name="textAreaTop" fmla="*/ 0 h 719280"/>
              <a:gd name="textAreaBottom" fmla="*/ 629640 h 719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66"/>
              </a:gs>
              <a:gs pos="100000">
                <a:srgbClr val="00ff00"/>
              </a:gs>
            </a:gsLst>
            <a:lin ang="2700000"/>
          </a:gra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MASS MEDIA</a:t>
            </a:r>
            <a:br>
              <a:rPr sz="2400"/>
            </a:br>
            <a:r>
              <a:rPr b="1" i="1" lang="ru-RU" sz="14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th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53" descr="sakuralittle"/>
          <p:cNvPicPr/>
          <p:nvPr/>
        </p:nvPicPr>
        <p:blipFill>
          <a:blip r:embed="rId7"/>
          <a:stretch/>
        </p:blipFill>
        <p:spPr>
          <a:xfrm>
            <a:off x="7885080" y="1484280"/>
            <a:ext cx="3621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0463 C -0.000870000000000003 -0.00417 -0.0349 -0.00301 -0.0691 -0.00325 C -0.16597 -0.00371 -0.35347 0.02523 -0.35347 0.02546 C -0.40834 0.01898 -0.55399 -0.01343 -0.65347 -0.01436 C -0.69879 -0.01621 -0.7441 -0.0169 -0.78924 -0.01274 C -0.79445 -0.01042 -0.76441 0.01412 -0.76667 0.0206 C -0.76771 0.02361 -0.80035 0.00949 -0.80122 0.01273 C -0.80156 0.01435 -0.80243 0.01759 -0.80243 0.01782 C -0.80712 0.08194 -0.80209 0.00902 -0.80469 0.17777 C -0.80486 0.19166 -0.80816 0.20555 -0.81077 0.21898 C -0.81372 0.23449 -0.81459 0.25092 -0.81667 0.26666 C -0.8184 0.29907 -0.82552 0.3375 -0.81424 0.36666 C -0.81406 0.36875 -0.81233 0.40138 -0.81181 0.40486 C -0.81146 0.4081 -0.78368 0.38888 -0.78334 0.39212 C -0.78299 0.39537 -0.80938 0.42106 -0.80834 0.42384 C -0.8066 0.42824 -0.79913 0.42916 -0.79636 0.43009 C -0.78837 0.43287 -0.79757 0.43009 -0.78924 0.43495 C -0.78524 0.43726 -0.77483 0.43796 -0.77257 0.43819 C -0.75834 0.4449 -0.74965 0.4449 -0.73334 0.44606 C -0.57448 0.48217 -0.39636 0.42222 -0.31424 0.42708 C -0.28681 0.4206 -0.05139 0.43912 0.02378 0.43819 C 0.03298 0.43402 0.03767 0.4243 0.04288 0.41435 C 0.04323 0.35995 0.04357 0.30532 0.0441 0.25092 C 0.04462 0.1949 0.05052 0.12384 0.04166 0.06666 C 0.04097 0.04467 0.03923 0.02337 0.03923 0.00162 L 0.03333 -0.00463 Z">
                                      <p:cBhvr>
                                        <p:cTn id="85" dur="1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fm_radio"/>
          <p:cNvPicPr/>
          <p:nvPr/>
        </p:nvPicPr>
        <p:blipFill>
          <a:blip r:embed="rId2"/>
          <a:stretch/>
        </p:blipFill>
        <p:spPr>
          <a:xfrm>
            <a:off x="6948360" y="4941720"/>
            <a:ext cx="1440000" cy="1132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7" descr="5de050a9f3521f1e224842bf44b90705"/>
          <p:cNvPicPr/>
          <p:nvPr/>
        </p:nvPicPr>
        <p:blipFill>
          <a:blip r:embed="rId3"/>
          <a:stretch/>
        </p:blipFill>
        <p:spPr>
          <a:xfrm>
            <a:off x="539640" y="4941720"/>
            <a:ext cx="1368360" cy="11829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2"/>
          <p:cNvSpPr/>
          <p:nvPr/>
        </p:nvSpPr>
        <p:spPr>
          <a:xfrm>
            <a:off x="1187280" y="2924280"/>
            <a:ext cx="6480360" cy="861840"/>
          </a:xfrm>
          <a:custGeom>
            <a:avLst/>
            <a:gdLst>
              <a:gd name="textAreaLeft" fmla="*/ 1620000 w 6480360"/>
              <a:gd name="textAreaRight" fmla="*/ 4860360 w 6480360"/>
              <a:gd name="textAreaTop" fmla="*/ 0 h 861840"/>
              <a:gd name="textAreaBottom" fmla="*/ 754200 h 861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66"/>
              </a:gs>
              <a:gs pos="100000">
                <a:srgbClr val="00ff00"/>
              </a:gs>
            </a:gsLst>
            <a:lin ang="2700000"/>
          </a:gra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HOW TO BRO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THE MIND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7" descr="TV-01"/>
          <p:cNvPicPr/>
          <p:nvPr/>
        </p:nvPicPr>
        <p:blipFill>
          <a:blip r:embed="rId4"/>
          <a:stretch/>
        </p:blipFill>
        <p:spPr>
          <a:xfrm>
            <a:off x="5435640" y="692280"/>
            <a:ext cx="1584360" cy="12459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2"/>
          <p:cNvSpPr/>
          <p:nvPr/>
        </p:nvSpPr>
        <p:spPr>
          <a:xfrm flipH="1" flipV="1" rot="21416400">
            <a:off x="7379640" y="1699920"/>
            <a:ext cx="718920" cy="1945080"/>
          </a:xfrm>
          <a:custGeom>
            <a:avLst/>
            <a:gdLst>
              <a:gd name="textAreaLeft" fmla="*/ 96120 w 718920"/>
              <a:gd name="textAreaRight" fmla="*/ 622800 w 718920"/>
              <a:gd name="textAreaTop" fmla="*/ 348840 h 1945080"/>
              <a:gd name="textAreaBottom" fmla="*/ 1456200 h 19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56" stAng="-5400000" swAng="-5400000"/>
                <a:lnTo>
                  <a:pt x="0" y="12296"/>
                </a:lnTo>
                <a:arcTo wR="21600" hR="7756" stAng="10800000" swAng="-1231496"/>
                <a:lnTo>
                  <a:pt x="6649" y="19442"/>
                </a:lnTo>
                <a:lnTo>
                  <a:pt x="21600" y="17781"/>
                </a:lnTo>
                <a:lnTo>
                  <a:pt x="6649" y="11804"/>
                </a:lnTo>
                <a:lnTo>
                  <a:pt x="6649" y="13353"/>
                </a:lnTo>
                <a:arcTo wR="21600" hR="7756" stAng="9568504" swAng="855178"/>
                <a:lnTo>
                  <a:pt x="946" y="10026"/>
                </a:lnTo>
                <a:arcTo wR="21600" hR="7756" stAng="-10423682" swAng="5023682"/>
                <a:close/>
              </a:path>
              <a:path fill="darkenLess" w="21600" h="21600">
                <a:moveTo>
                  <a:pt x="21600" y="0"/>
                </a:moveTo>
                <a:arcTo wR="21600" hR="7756" stAng="-5400000" swAng="-5400000"/>
                <a:lnTo>
                  <a:pt x="0" y="7756"/>
                </a:lnTo>
                <a:arcTo wR="21600" hR="7756" stAng="10800000" swAng="-376318"/>
                <a:lnTo>
                  <a:pt x="946" y="10026"/>
                </a:lnTo>
                <a:arcTo wR="21600" hR="7756" stAng="-10423682" swAng="5023682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586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6"/>
          <p:cNvSpPr/>
          <p:nvPr/>
        </p:nvSpPr>
        <p:spPr>
          <a:xfrm flipH="1" flipV="1" rot="11152200">
            <a:off x="6802920" y="3212280"/>
            <a:ext cx="719280" cy="1962720"/>
          </a:xfrm>
          <a:custGeom>
            <a:avLst/>
            <a:gdLst>
              <a:gd name="textAreaLeft" fmla="*/ 96120 w 719280"/>
              <a:gd name="textAreaRight" fmla="*/ 623160 w 719280"/>
              <a:gd name="textAreaTop" fmla="*/ 356400 h 1962720"/>
              <a:gd name="textAreaBottom" fmla="*/ 1466280 h 19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38" stAng="-5400000" swAng="-5400000"/>
                <a:lnTo>
                  <a:pt x="0" y="12214"/>
                </a:lnTo>
                <a:arcTo wR="21600" hR="7838" stAng="10800000" swAng="-1243416"/>
                <a:lnTo>
                  <a:pt x="6649" y="19419"/>
                </a:lnTo>
                <a:lnTo>
                  <a:pt x="21600" y="17863"/>
                </a:lnTo>
                <a:lnTo>
                  <a:pt x="6649" y="11945"/>
                </a:lnTo>
                <a:lnTo>
                  <a:pt x="6649" y="13494"/>
                </a:lnTo>
                <a:arcTo wR="21600" hR="7838" stAng="9556584" swAng="882103"/>
                <a:lnTo>
                  <a:pt x="859" y="10026"/>
                </a:lnTo>
                <a:arcTo wR="21600" hR="7838" stAng="-10438687" swAng="5038687"/>
                <a:close/>
              </a:path>
              <a:path fill="darkenLess" w="21600" h="21600">
                <a:moveTo>
                  <a:pt x="21600" y="0"/>
                </a:moveTo>
                <a:arcTo wR="21600" hR="7838" stAng="-5400000" swAng="-5400000"/>
                <a:lnTo>
                  <a:pt x="0" y="7838"/>
                </a:lnTo>
                <a:arcTo wR="21600" hR="7838" stAng="10800000" swAng="-361313"/>
                <a:lnTo>
                  <a:pt x="859" y="10026"/>
                </a:lnTo>
                <a:arcTo wR="21600" hR="7838" stAng="-10438687" swAng="5038687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5846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7"/>
          <p:cNvSpPr/>
          <p:nvPr/>
        </p:nvSpPr>
        <p:spPr>
          <a:xfrm flipV="1" rot="11230800">
            <a:off x="1331640" y="3284280"/>
            <a:ext cx="649080" cy="1962000"/>
          </a:xfrm>
          <a:custGeom>
            <a:avLst/>
            <a:gdLst>
              <a:gd name="textAreaLeft" fmla="*/ 86760 w 649080"/>
              <a:gd name="textAreaRight" fmla="*/ 562320 w 649080"/>
              <a:gd name="textAreaTop" fmla="*/ 352440 h 1962000"/>
              <a:gd name="textAreaBottom" fmla="*/ 146952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56" stAng="-5400000" swAng="-5400000"/>
                <a:lnTo>
                  <a:pt x="0" y="12296"/>
                </a:lnTo>
                <a:arcTo wR="21600" hR="7756" stAng="10800000" swAng="-1231496"/>
                <a:lnTo>
                  <a:pt x="6649" y="19442"/>
                </a:lnTo>
                <a:lnTo>
                  <a:pt x="21600" y="17781"/>
                </a:lnTo>
                <a:lnTo>
                  <a:pt x="6649" y="11804"/>
                </a:lnTo>
                <a:lnTo>
                  <a:pt x="6649" y="13353"/>
                </a:lnTo>
                <a:arcTo wR="21600" hR="7756" stAng="9568504" swAng="855178"/>
                <a:lnTo>
                  <a:pt x="946" y="10026"/>
                </a:lnTo>
                <a:arcTo wR="21600" hR="7756" stAng="-10423682" swAng="5023682"/>
                <a:close/>
              </a:path>
              <a:path fill="darkenLess" w="21600" h="21600">
                <a:moveTo>
                  <a:pt x="21600" y="0"/>
                </a:moveTo>
                <a:arcTo wR="21600" hR="7756" stAng="-5400000" swAng="-5400000"/>
                <a:lnTo>
                  <a:pt x="0" y="7756"/>
                </a:lnTo>
                <a:arcTo wR="21600" hR="7756" stAng="10800000" swAng="-376318"/>
                <a:lnTo>
                  <a:pt x="946" y="10026"/>
                </a:lnTo>
                <a:arcTo wR="21600" hR="7756" stAng="-10423682" swAng="5023682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6632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8"/>
          <p:cNvSpPr/>
          <p:nvPr/>
        </p:nvSpPr>
        <p:spPr>
          <a:xfrm flipV="1" rot="71400">
            <a:off x="971280" y="1699920"/>
            <a:ext cx="649080" cy="1961640"/>
          </a:xfrm>
          <a:custGeom>
            <a:avLst/>
            <a:gdLst>
              <a:gd name="textAreaLeft" fmla="*/ 86760 w 649080"/>
              <a:gd name="textAreaRight" fmla="*/ 562320 w 649080"/>
              <a:gd name="textAreaTop" fmla="*/ 351720 h 1961640"/>
              <a:gd name="textAreaBottom" fmla="*/ 1468440 h 196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56" stAng="-5400000" swAng="-5400000"/>
                <a:lnTo>
                  <a:pt x="0" y="12296"/>
                </a:lnTo>
                <a:arcTo wR="21600" hR="7756" stAng="10800000" swAng="-1231496"/>
                <a:lnTo>
                  <a:pt x="6649" y="19442"/>
                </a:lnTo>
                <a:lnTo>
                  <a:pt x="21600" y="17781"/>
                </a:lnTo>
                <a:lnTo>
                  <a:pt x="6649" y="11804"/>
                </a:lnTo>
                <a:lnTo>
                  <a:pt x="6649" y="13353"/>
                </a:lnTo>
                <a:arcTo wR="21600" hR="7756" stAng="9568504" swAng="855178"/>
                <a:lnTo>
                  <a:pt x="946" y="10026"/>
                </a:lnTo>
                <a:arcTo wR="21600" hR="7756" stAng="-10423682" swAng="5023682"/>
                <a:close/>
              </a:path>
              <a:path fill="darkenLess" w="21600" h="21600">
                <a:moveTo>
                  <a:pt x="21600" y="0"/>
                </a:moveTo>
                <a:arcTo wR="21600" hR="7756" stAng="-5400000" swAng="-5400000"/>
                <a:lnTo>
                  <a:pt x="0" y="7756"/>
                </a:lnTo>
                <a:arcTo wR="21600" hR="7756" stAng="10800000" swAng="-376318"/>
                <a:lnTo>
                  <a:pt x="946" y="10026"/>
                </a:lnTo>
                <a:arcTo wR="21600" hR="7756" stAng="-10423682" swAng="5023682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72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5508720" y="19162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Watching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1692360" y="1844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Reading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1908000" y="5157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Using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3"/>
          <p:cNvSpPr/>
          <p:nvPr/>
        </p:nvSpPr>
        <p:spPr>
          <a:xfrm>
            <a:off x="5292720" y="5157720"/>
            <a:ext cx="15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Listening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4" descr="d4"/>
          <p:cNvPicPr/>
          <p:nvPr/>
        </p:nvPicPr>
        <p:blipFill>
          <a:blip r:embed="rId5"/>
          <a:stretch/>
        </p:blipFill>
        <p:spPr>
          <a:xfrm>
            <a:off x="1835280" y="620640"/>
            <a:ext cx="1368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MI"/>
          <p:cNvPicPr/>
          <p:nvPr/>
        </p:nvPicPr>
        <p:blipFill>
          <a:blip r:embed="rId2"/>
          <a:stretch/>
        </p:blipFill>
        <p:spPr>
          <a:xfrm>
            <a:off x="4427640" y="981000"/>
            <a:ext cx="381636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5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Monotype Corsiva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Страница газеты"/>
          <p:cNvPicPr/>
          <p:nvPr/>
        </p:nvPicPr>
        <p:blipFill>
          <a:blip r:embed="rId3"/>
          <a:stretch/>
        </p:blipFill>
        <p:spPr>
          <a:xfrm>
            <a:off x="3492360" y="2421000"/>
            <a:ext cx="1944720" cy="1654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39640" y="16286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The first Russian newspaper was issued in 1702 on the initiative of </a:t>
            </a:r>
            <a:r>
              <a:rPr b="1" lang="en-US" sz="2400" spc="-1" strike="noStrike">
                <a:solidFill>
                  <a:srgbClr val="3333cc"/>
                </a:solidFill>
                <a:latin typeface="Monotype Corsiva"/>
              </a:rPr>
              <a:t>Peter the Great</a:t>
            </a:r>
            <a:r>
              <a:rPr b="1" lang="en-US" sz="2400" spc="-1" strike="noStrike">
                <a:solidFill>
                  <a:srgbClr val="3333cc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57"/>
          <p:cNvPicPr/>
          <p:nvPr/>
        </p:nvPicPr>
        <p:blipFill>
          <a:blip r:embed="rId4"/>
          <a:stretch/>
        </p:blipFill>
        <p:spPr>
          <a:xfrm>
            <a:off x="1187280" y="4869000"/>
            <a:ext cx="2016360" cy="688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611280" y="3500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It was entitled </a:t>
            </a:r>
            <a:r>
              <a:rPr b="1" lang="ru-RU" sz="2400" spc="-1" strike="noStrike">
                <a:solidFill>
                  <a:srgbClr val="3333cc"/>
                </a:solidFill>
                <a:latin typeface="Monotype Corsiva"/>
              </a:rPr>
              <a:t>«</a:t>
            </a:r>
            <a:r>
              <a:rPr b="1" lang="en-US" sz="2400" spc="-1" strike="noStrike">
                <a:solidFill>
                  <a:srgbClr val="3333cc"/>
                </a:solidFill>
                <a:latin typeface="Monotype Corsiva"/>
              </a:rPr>
              <a:t>Gazette</a:t>
            </a:r>
            <a:r>
              <a:rPr b="1" lang="ru-RU" sz="2400" spc="-1" strike="noStrike">
                <a:solidFill>
                  <a:srgbClr val="3333cc"/>
                </a:solidFill>
                <a:latin typeface="Monotype Corsiva"/>
              </a:rPr>
              <a:t>»</a:t>
            </a: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 («</a:t>
            </a: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Vedomosty</a:t>
            </a: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4" descr="money002"/>
          <p:cNvPicPr/>
          <p:nvPr/>
        </p:nvPicPr>
        <p:blipFill>
          <a:blip r:embed="rId5"/>
          <a:stretch/>
        </p:blipFill>
        <p:spPr>
          <a:xfrm>
            <a:off x="3564000" y="5013360"/>
            <a:ext cx="1800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59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9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3"/>
          <p:cNvSpPr/>
          <p:nvPr/>
        </p:nvSpPr>
        <p:spPr>
          <a:xfrm>
            <a:off x="5148360" y="4797360"/>
            <a:ext cx="1439640" cy="129564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2"/>
          <p:cNvSpPr/>
          <p:nvPr/>
        </p:nvSpPr>
        <p:spPr>
          <a:xfrm>
            <a:off x="2050920" y="4797360"/>
            <a:ext cx="1584360" cy="12956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7" descr="4241088983"/>
          <p:cNvPicPr/>
          <p:nvPr/>
        </p:nvPicPr>
        <p:blipFill>
          <a:blip r:embed="rId2"/>
          <a:stretch/>
        </p:blipFill>
        <p:spPr>
          <a:xfrm>
            <a:off x="755640" y="2565360"/>
            <a:ext cx="1441440" cy="13208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98" name="Picture 11" descr="01-01-00_0112"/>
          <p:cNvPicPr/>
          <p:nvPr/>
        </p:nvPicPr>
        <p:blipFill>
          <a:blip r:embed="rId3"/>
          <a:stretch/>
        </p:blipFill>
        <p:spPr>
          <a:xfrm>
            <a:off x="3635280" y="2708280"/>
            <a:ext cx="1441440" cy="12891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99" name="Picture 24" descr="Безымянный1"/>
          <p:cNvPicPr/>
          <p:nvPr/>
        </p:nvPicPr>
        <p:blipFill>
          <a:blip r:embed="rId4"/>
          <a:stretch/>
        </p:blipFill>
        <p:spPr>
          <a:xfrm>
            <a:off x="6732720" y="2637000"/>
            <a:ext cx="1439640" cy="13017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100" name="Text Box 25"/>
          <p:cNvSpPr/>
          <p:nvPr/>
        </p:nvSpPr>
        <p:spPr>
          <a:xfrm>
            <a:off x="900000" y="1557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Monotype Corsiva"/>
              </a:rPr>
              <a:t>tab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2050920" y="3860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Monotype Corsiva"/>
              </a:rPr>
              <a:t>sports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3419640" y="17002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Monotype Corsiva"/>
              </a:rPr>
              <a:t>business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148360" y="3860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Monotype Corsiva"/>
              </a:rPr>
              <a:t>kids’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6516720" y="1628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Monotype Corsiva"/>
              </a:rPr>
              <a:t>political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1332000" y="1916280"/>
            <a:ext cx="215640" cy="576000"/>
          </a:xfrm>
          <a:prstGeom prst="upDownArrow">
            <a:avLst>
              <a:gd name="adj1" fmla="val 50000"/>
              <a:gd name="adj2" fmla="val 53175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4284720" y="2060640"/>
            <a:ext cx="216000" cy="576360"/>
          </a:xfrm>
          <a:prstGeom prst="upDownArrow">
            <a:avLst>
              <a:gd name="adj1" fmla="val 50000"/>
              <a:gd name="adj2" fmla="val 53119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7308720" y="1989000"/>
            <a:ext cx="216000" cy="576360"/>
          </a:xfrm>
          <a:prstGeom prst="upDownArrow">
            <a:avLst>
              <a:gd name="adj1" fmla="val 50000"/>
              <a:gd name="adj2" fmla="val 53119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5"/>
          <p:cNvSpPr/>
          <p:nvPr/>
        </p:nvSpPr>
        <p:spPr>
          <a:xfrm>
            <a:off x="2771640" y="4221000"/>
            <a:ext cx="216000" cy="576360"/>
          </a:xfrm>
          <a:prstGeom prst="upDownArrow">
            <a:avLst>
              <a:gd name="adj1" fmla="val 50000"/>
              <a:gd name="adj2" fmla="val 53119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6"/>
          <p:cNvSpPr/>
          <p:nvPr/>
        </p:nvSpPr>
        <p:spPr>
          <a:xfrm>
            <a:off x="5796000" y="4221000"/>
            <a:ext cx="216000" cy="576360"/>
          </a:xfrm>
          <a:prstGeom prst="upDownArrow">
            <a:avLst>
              <a:gd name="adj1" fmla="val 50000"/>
              <a:gd name="adj2" fmla="val 53119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7" descr="апоаповап"/>
          <p:cNvPicPr/>
          <p:nvPr/>
        </p:nvPicPr>
        <p:blipFill>
          <a:blip r:embed="rId5"/>
          <a:stretch/>
        </p:blipFill>
        <p:spPr>
          <a:xfrm>
            <a:off x="5435640" y="4869000"/>
            <a:ext cx="84924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9" descr="Imaрge64"/>
          <p:cNvPicPr/>
          <p:nvPr/>
        </p:nvPicPr>
        <p:blipFill>
          <a:blip r:embed="rId6"/>
          <a:stretch/>
        </p:blipFill>
        <p:spPr>
          <a:xfrm>
            <a:off x="2411280" y="4869000"/>
            <a:ext cx="82404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6" descr="baby01"/>
          <p:cNvPicPr/>
          <p:nvPr/>
        </p:nvPicPr>
        <p:blipFill>
          <a:blip r:embed="rId7"/>
          <a:stretch/>
        </p:blipFill>
        <p:spPr>
          <a:xfrm>
            <a:off x="7451640" y="4724280"/>
            <a:ext cx="1130400" cy="13417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3"/>
          <p:cNvSpPr/>
          <p:nvPr/>
        </p:nvSpPr>
        <p:spPr>
          <a:xfrm>
            <a:off x="1187280" y="692280"/>
            <a:ext cx="6626520" cy="936360"/>
          </a:xfrm>
          <a:custGeom>
            <a:avLst/>
            <a:gdLst>
              <a:gd name="textAreaLeft" fmla="*/ 1656720 w 6626520"/>
              <a:gd name="textAreaRight" fmla="*/ 4970160 w 66265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27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Corsiva"/>
              </a:rPr>
              <a:t>KINDS OF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14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66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539640" y="1916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Great Britain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 there are no official government newspapers. Most of the English newspapers are very proud of their peculiarities, their individual sty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1916280"/>
            <a:ext cx="280836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  <a:ea typeface="Times New Roman"/>
              </a:rPr>
              <a:t>In the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  <a:ea typeface="Times New Roman"/>
              </a:rPr>
              <a:t>USA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  <a:ea typeface="Times New Roman"/>
              </a:rPr>
              <a:t> daily newspapers are published in 34 different langu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  <a:ea typeface="Times New Roman"/>
              </a:rPr>
              <a:t>"The New York Times", "The Washington Post" the "Los Angeles Times" are the best news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084720" y="1844640"/>
            <a:ext cx="244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Today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Russia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can be proud of the variety of newspapers circulating throughout the country. On the news stalls one can find newspapers of all ki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4"/>
          <p:cNvPicPr/>
          <p:nvPr/>
        </p:nvPicPr>
        <p:blipFill>
          <a:blip r:embed="rId2"/>
          <a:stretch/>
        </p:blipFill>
        <p:spPr>
          <a:xfrm>
            <a:off x="5435640" y="1628640"/>
            <a:ext cx="755640" cy="151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5454a7f6abc2de16a47402fb23bd5a18"/>
          <p:cNvPicPr/>
          <p:nvPr/>
        </p:nvPicPr>
        <p:blipFill>
          <a:blip r:embed="rId3"/>
          <a:stretch/>
        </p:blipFill>
        <p:spPr>
          <a:xfrm>
            <a:off x="468360" y="4724280"/>
            <a:ext cx="1873080" cy="127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a74a7c02b410aaf3a98cf8e0a1f7f986"/>
          <p:cNvPicPr/>
          <p:nvPr/>
        </p:nvPicPr>
        <p:blipFill>
          <a:blip r:embed="rId4"/>
          <a:stretch/>
        </p:blipFill>
        <p:spPr>
          <a:xfrm>
            <a:off x="3276720" y="4724280"/>
            <a:ext cx="1944720" cy="131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fad7216fa6f1cd1013fba98e1e5e707b"/>
          <p:cNvPicPr/>
          <p:nvPr/>
        </p:nvPicPr>
        <p:blipFill>
          <a:blip r:embed="rId5"/>
          <a:stretch/>
        </p:blipFill>
        <p:spPr>
          <a:xfrm>
            <a:off x="6227640" y="4365720"/>
            <a:ext cx="2303640" cy="1871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1"/>
          <p:cNvSpPr/>
          <p:nvPr/>
        </p:nvSpPr>
        <p:spPr>
          <a:xfrm>
            <a:off x="1187280" y="692280"/>
            <a:ext cx="6626520" cy="936360"/>
          </a:xfrm>
          <a:custGeom>
            <a:avLst/>
            <a:gdLst>
              <a:gd name="textAreaLeft" fmla="*/ 1656720 w 6626520"/>
              <a:gd name="textAreaRight" fmla="*/ 4970160 w 66265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27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Corsiva"/>
              </a:rPr>
              <a:t>UK, US, RUS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Corsiva"/>
              </a:rPr>
              <a:t>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1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1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0" descr="mc_sent_1999"/>
          <p:cNvPicPr/>
          <p:nvPr/>
        </p:nvPicPr>
        <p:blipFill>
          <a:blip r:embed="rId2"/>
          <a:stretch/>
        </p:blipFill>
        <p:spPr>
          <a:xfrm>
            <a:off x="5219640" y="836640"/>
            <a:ext cx="1441440" cy="201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716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Monotype Corsiva"/>
              </a:rPr>
              <a:t>MAGAZ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1"/>
          <p:cNvPicPr/>
          <p:nvPr/>
        </p:nvPicPr>
        <p:blipFill>
          <a:blip r:embed="rId3"/>
          <a:stretch/>
        </p:blipFill>
        <p:spPr>
          <a:xfrm rot="328200">
            <a:off x="6012000" y="112536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interview_jurnal_tv7_photo02"/>
          <p:cNvPicPr/>
          <p:nvPr/>
        </p:nvPicPr>
        <p:blipFill>
          <a:blip r:embed="rId4"/>
          <a:stretch/>
        </p:blipFill>
        <p:spPr>
          <a:xfrm rot="20617800">
            <a:off x="4572000" y="1412640"/>
            <a:ext cx="1671480" cy="215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adame Figaro">
            <a:hlinkClick r:id="rId5"/>
          </p:cNvPr>
          <p:cNvPicPr/>
          <p:nvPr/>
        </p:nvPicPr>
        <p:blipFill>
          <a:blip r:embed="rId6"/>
          <a:stretch/>
        </p:blipFill>
        <p:spPr>
          <a:xfrm rot="2057400">
            <a:off x="6516360" y="2708280"/>
            <a:ext cx="1701720" cy="227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Эгоист generation">
            <a:hlinkClick r:id="rId7"/>
          </p:cNvPr>
          <p:cNvPicPr/>
          <p:nvPr/>
        </p:nvPicPr>
        <p:blipFill>
          <a:blip r:embed="rId8"/>
          <a:stretch/>
        </p:blipFill>
        <p:spPr>
          <a:xfrm rot="21187800">
            <a:off x="4211640" y="2420640"/>
            <a:ext cx="157644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arie Clair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2781360"/>
            <a:ext cx="1576440" cy="215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gq5_2001"/>
          <p:cNvPicPr/>
          <p:nvPr/>
        </p:nvPicPr>
        <p:blipFill>
          <a:blip r:embed="rId11"/>
          <a:stretch/>
        </p:blipFill>
        <p:spPr>
          <a:xfrm>
            <a:off x="4572000" y="3860640"/>
            <a:ext cx="1555920" cy="204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th_9670"/>
          <p:cNvPicPr/>
          <p:nvPr/>
        </p:nvPicPr>
        <p:blipFill>
          <a:blip r:embed="rId12"/>
          <a:stretch/>
        </p:blipFill>
        <p:spPr>
          <a:xfrm>
            <a:off x="5651640" y="4365720"/>
            <a:ext cx="1290600" cy="174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mm1_2002"/>
          <p:cNvPicPr/>
          <p:nvPr/>
        </p:nvPicPr>
        <p:blipFill>
          <a:blip r:embed="rId13"/>
          <a:stretch/>
        </p:blipFill>
        <p:spPr>
          <a:xfrm>
            <a:off x="6659640" y="4076640"/>
            <a:ext cx="1407960" cy="1800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4"/>
          <p:cNvSpPr/>
          <p:nvPr/>
        </p:nvSpPr>
        <p:spPr>
          <a:xfrm>
            <a:off x="539640" y="155736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There are a lot of magazines to all tas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684360" y="2349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There are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daily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weekly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monthly 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guartely 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magaz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684360" y="314172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Tell the difference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male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female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 and </a:t>
            </a:r>
            <a:r>
              <a:rPr b="1" lang="en-US" sz="2000" spc="-1" strike="noStrike">
                <a:solidFill>
                  <a:srgbClr val="3333cc"/>
                </a:solidFill>
                <a:latin typeface="Monotype Corsiva"/>
              </a:rPr>
              <a:t>teenagers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 magaz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7" descr="папараци"/>
          <p:cNvPicPr/>
          <p:nvPr/>
        </p:nvPicPr>
        <p:blipFill>
          <a:blip r:embed="rId14"/>
          <a:stretch/>
        </p:blipFill>
        <p:spPr>
          <a:xfrm>
            <a:off x="684360" y="4076640"/>
            <a:ext cx="331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540"/>
                            </p:stCondLst>
                            <p:childTnLst>
                              <p:par>
                                <p:cTn id="3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vopr0019"/>
          <p:cNvPicPr/>
          <p:nvPr/>
        </p:nvPicPr>
        <p:blipFill>
          <a:blip r:embed="rId2"/>
          <a:stretch/>
        </p:blipFill>
        <p:spPr>
          <a:xfrm flipH="1">
            <a:off x="2771640" y="765000"/>
            <a:ext cx="2952720" cy="1151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4356000" y="1916280"/>
            <a:ext cx="439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ome newspapers are boring, and news can be not inter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xistence of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yellow press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oubtfu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ninteresting design of news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ncomfortable to use due to big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agazines force out news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11280" y="1916280"/>
            <a:ext cx="35290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it is possible to get information while staying in th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vailability of TV-prog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can be read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include as world as local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d10f1c1012cd06af88462100cbce55a"/>
          <p:cNvPicPr/>
          <p:nvPr/>
        </p:nvPicPr>
        <p:blipFill>
          <a:blip r:embed="rId3"/>
          <a:stretch/>
        </p:blipFill>
        <p:spPr>
          <a:xfrm rot="2386200">
            <a:off x="6156000" y="4941720"/>
            <a:ext cx="129528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0_0_4_1054108917"/>
          <p:cNvPicPr/>
          <p:nvPr/>
        </p:nvPicPr>
        <p:blipFill>
          <a:blip r:embed="rId4"/>
          <a:stretch/>
        </p:blipFill>
        <p:spPr>
          <a:xfrm>
            <a:off x="1403280" y="4149720"/>
            <a:ext cx="1636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5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5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5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сликова Наталья Николаевна</dc:creator>
  <dc:description/>
  <dc:language>en-US</dc:language>
  <cp:lastModifiedBy>Масликова Наталья Николаевна</cp:lastModifiedBy>
  <dcterms:modified xsi:type="dcterms:W3CDTF">2015-03-21T12:09:45Z</dcterms:modified>
  <cp:revision>31</cp:revision>
  <dc:subject/>
  <dc:title>PowerPoint Presentation</dc:title>
</cp:coreProperties>
</file>