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1FBE-2D05-4687-AE16-E793A648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CC0B-F190-4AB3-994F-A354BE05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CC10-C564-46FA-A781-A891638D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056F-78B4-4242-8DDC-BF879DBC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D973-D670-413C-8905-B5C4C14A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8936-65CF-4B9A-8F6C-78E713B5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7D73-FB89-4103-80E6-42D2B556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D879-9207-47D9-ACFE-C519CAAF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A7C9-9BF4-4EA7-8387-698685E1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DEA1-FB55-49EE-8D8E-D30E0103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9AF1-A282-4C04-B1FE-5994F176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1189-D0DD-4B9D-B623-DA5068B2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0BD8-B869-41A3-B993-66E36F23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97C3-2B91-48AA-A6CA-111B4A3E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A424-A15D-4089-B45F-D23DF5D2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8500-8F77-45EF-A22A-5C3E4129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B463-A12A-4BDD-A636-D33238BE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5FA4-D8F0-41FF-84C0-B53A593D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DF2C-0848-4E35-8418-54DFCDCA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8B75-30F8-4D70-B2C0-4B8B7ABE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16A7-D460-4A40-87D8-3B607C37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7553-7FCA-4432-9216-A137206C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5C7A-8433-4D38-94CF-84ACC412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D5C3-39B2-47FE-A077-5A3ED2B7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87E6-3F81-47A7-BEF2-96BF4AC5ED3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3FFF-46FC-433F-873A-97DDA82A559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2012olimpiada.ru/wp-content/uploads/2012/04/sport.jp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2012olimpiada.ru/wp-content/uploads/2012/04/final-triplw-reflect_2627581.jp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Олимпийские игры 201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1" name="Рисунок 1" descr="http://2012olimpiada.ru/wp-content/uploads/2012/04/cropped-london2012olimpiada.jpg"/>
          <p:cNvPicPr/>
          <p:nvPr/>
        </p:nvPicPr>
        <p:blipFill>
          <a:blip r:embed="rId1"/>
          <a:stretch/>
        </p:blipFill>
        <p:spPr>
          <a:xfrm>
            <a:off x="1258920" y="3141720"/>
            <a:ext cx="67294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Рисунок 16" descr="Фото наших спортсменов на Олимпийских играх в Лондоне (39 фото)"/>
          <p:cNvPicPr/>
          <p:nvPr/>
        </p:nvPicPr>
        <p:blipFill>
          <a:blip r:embed="rId1"/>
          <a:stretch/>
        </p:blipFill>
        <p:spPr>
          <a:xfrm>
            <a:off x="1258920" y="907920"/>
            <a:ext cx="66675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17" descr="Фото наших спортсменов на Олимпийских играх в Лондоне (39 фото)"/>
          <p:cNvPicPr/>
          <p:nvPr/>
        </p:nvPicPr>
        <p:blipFill>
          <a:blip r:embed="rId1"/>
          <a:stretch/>
        </p:blipFill>
        <p:spPr>
          <a:xfrm>
            <a:off x="1116000" y="1125360"/>
            <a:ext cx="66675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18" descr="Фото наших спортсменов на Олимпийских играх в Лондоне (39 фото)"/>
          <p:cNvPicPr/>
          <p:nvPr/>
        </p:nvPicPr>
        <p:blipFill>
          <a:blip r:embed="rId1"/>
          <a:stretch/>
        </p:blipFill>
        <p:spPr>
          <a:xfrm>
            <a:off x="1258920" y="836640"/>
            <a:ext cx="6667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19" descr="Фото наших спортсменов на Олимпийских играх в Лондоне (39 фото)"/>
          <p:cNvPicPr/>
          <p:nvPr/>
        </p:nvPicPr>
        <p:blipFill>
          <a:blip r:embed="rId1"/>
          <a:stretch/>
        </p:blipFill>
        <p:spPr>
          <a:xfrm>
            <a:off x="1332000" y="692280"/>
            <a:ext cx="666756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20" descr="Фото наших спортсменов на Олимпийских играх в Лондоне (39 фото)"/>
          <p:cNvPicPr/>
          <p:nvPr/>
        </p:nvPicPr>
        <p:blipFill>
          <a:blip r:embed="rId1"/>
          <a:stretch/>
        </p:blipFill>
        <p:spPr>
          <a:xfrm>
            <a:off x="1187280" y="1197000"/>
            <a:ext cx="66675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21" descr="Фото наших спортсменов на Олимпийских играх в Лондоне (39 фото)"/>
          <p:cNvPicPr/>
          <p:nvPr/>
        </p:nvPicPr>
        <p:blipFill>
          <a:blip r:embed="rId1"/>
          <a:stretch/>
        </p:blipFill>
        <p:spPr>
          <a:xfrm>
            <a:off x="1187280" y="1413000"/>
            <a:ext cx="66675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23" descr="Фото наших спортсменов на Олимпийских играх в Лондоне (39 фото)"/>
          <p:cNvPicPr/>
          <p:nvPr/>
        </p:nvPicPr>
        <p:blipFill>
          <a:blip r:embed="rId1"/>
          <a:stretch/>
        </p:blipFill>
        <p:spPr>
          <a:xfrm>
            <a:off x="1042920" y="1413000"/>
            <a:ext cx="66675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25" descr="Фото наших спортсменов на Олимпийских играх в Лондоне (39 фото)"/>
          <p:cNvPicPr/>
          <p:nvPr/>
        </p:nvPicPr>
        <p:blipFill>
          <a:blip r:embed="rId1"/>
          <a:stretch/>
        </p:blipFill>
        <p:spPr>
          <a:xfrm>
            <a:off x="1258920" y="907920"/>
            <a:ext cx="666756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27" descr="Фото наших спортсменов на Олимпийских играх в Лондоне (39 фото)"/>
          <p:cNvPicPr/>
          <p:nvPr/>
        </p:nvPicPr>
        <p:blipFill>
          <a:blip r:embed="rId1"/>
          <a:stretch/>
        </p:blipFill>
        <p:spPr>
          <a:xfrm>
            <a:off x="1258920" y="620640"/>
            <a:ext cx="666756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30" descr="Фото наших спортсменов на Олимпийских играх в Лондоне (39 фото)"/>
          <p:cNvPicPr/>
          <p:nvPr/>
        </p:nvPicPr>
        <p:blipFill>
          <a:blip r:embed="rId1"/>
          <a:stretch/>
        </p:blipFill>
        <p:spPr>
          <a:xfrm>
            <a:off x="1187280" y="1052640"/>
            <a:ext cx="66675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Виды спор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3" name="Рисунок 2" descr="Олимпиада 2012 виды спорт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20720" y="1766880"/>
            <a:ext cx="590256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31" descr="Фото наших спортсменов на Олимпийских играх в Лондоне (39 фото)"/>
          <p:cNvPicPr/>
          <p:nvPr/>
        </p:nvPicPr>
        <p:blipFill>
          <a:blip r:embed="rId1"/>
          <a:stretch/>
        </p:blipFill>
        <p:spPr>
          <a:xfrm>
            <a:off x="1332000" y="1052640"/>
            <a:ext cx="666756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32" descr="Фото наших спортсменов на Олимпийских играх в Лондоне (39 фото)"/>
          <p:cNvPicPr/>
          <p:nvPr/>
        </p:nvPicPr>
        <p:blipFill>
          <a:blip r:embed="rId1"/>
          <a:stretch/>
        </p:blipFill>
        <p:spPr>
          <a:xfrm>
            <a:off x="1187280" y="1341360"/>
            <a:ext cx="6667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33" descr="Фото наших спортсменов на Олимпийских играх в Лондоне (39 фото)"/>
          <p:cNvPicPr/>
          <p:nvPr/>
        </p:nvPicPr>
        <p:blipFill>
          <a:blip r:embed="rId1"/>
          <a:stretch/>
        </p:blipFill>
        <p:spPr>
          <a:xfrm>
            <a:off x="1258920" y="1052640"/>
            <a:ext cx="66675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Рисунок 34" descr="Фото наших спортсменов на Олимпийских играх в Лондоне (39 фото)"/>
          <p:cNvPicPr/>
          <p:nvPr/>
        </p:nvPicPr>
        <p:blipFill>
          <a:blip r:embed="rId1"/>
          <a:stretch/>
        </p:blipFill>
        <p:spPr>
          <a:xfrm>
            <a:off x="2050920" y="0"/>
            <a:ext cx="450540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Рисунок 35" descr="Фото наших спортсменов на Олимпийских играх в Лондоне (39 фото)"/>
          <p:cNvPicPr/>
          <p:nvPr/>
        </p:nvPicPr>
        <p:blipFill>
          <a:blip r:embed="rId1"/>
          <a:stretch/>
        </p:blipFill>
        <p:spPr>
          <a:xfrm>
            <a:off x="1258920" y="981000"/>
            <a:ext cx="66675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Рисунок 37" descr="Фото наших спортсменов на Олимпийских играх в Лондоне (39 фото)"/>
          <p:cNvPicPr/>
          <p:nvPr/>
        </p:nvPicPr>
        <p:blipFill>
          <a:blip r:embed="rId1"/>
          <a:stretch/>
        </p:blipFill>
        <p:spPr>
          <a:xfrm>
            <a:off x="1403280" y="981000"/>
            <a:ext cx="666756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42" descr="Фото наших спортсменов на Олимпийских играх в Лондоне (39 фото)"/>
          <p:cNvPicPr/>
          <p:nvPr/>
        </p:nvPicPr>
        <p:blipFill>
          <a:blip r:embed="rId1"/>
          <a:stretch/>
        </p:blipFill>
        <p:spPr>
          <a:xfrm>
            <a:off x="1403280" y="907920"/>
            <a:ext cx="66675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Рисунок 43" descr="Фото наших спортсменов на Олимпийских играх в Лондоне (39 фото)"/>
          <p:cNvPicPr/>
          <p:nvPr/>
        </p:nvPicPr>
        <p:blipFill>
          <a:blip r:embed="rId1"/>
          <a:stretch/>
        </p:blipFill>
        <p:spPr>
          <a:xfrm>
            <a:off x="1116000" y="981000"/>
            <a:ext cx="666756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Результаты олимпиад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оссия в олимпиаде заняла 4 мест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Олимпиада 2012 виды спор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Футбол / Теннис / Тяжёлая атлетика   /   Бокс    /  Гимнастика -Спортивная, Художественная, Прыжки на батуте    / Лёгкая атлетика    /    Борьба   /   Прыжки в воду    /  Синхронное плавание   /   Лёгкая атлетика   /      Велоспорт   /   Плавание    /    Хоккей на траве   /    Академическая гребля   /   Бадминтон   /   Баскетбол  /   Водное поло  /  Волейбол   /  Гандбол  /   Гребля на байдарках и каноэ  /   Дзюдо  /   Конный спорт  /  Настольный теннис   /  Парусный спорт  /   Современное пятиборье  /  Стрельба  /  Стрельба из лука  /   Триатлон  /   Тхэквондо   /  Фехтование   /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Медали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Олимпиада 2012 медал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7" name="Рисунок 5" descr="Медали Олимпиада 2012 Лондо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4120" y="1600200"/>
            <a:ext cx="6035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Медали Олимпиада 2012 Лондон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85 миллиметров в диаметре и толщиной 7 миллиметров, вес медалей 375-400 граммов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втор — ведущий дизайнер Дэвид Уоткинс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общей сложности около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2100 медале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будут вручены на всех 302 церемониях награждения участников  на более чем тридцати спортивных объектах Олимпиады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 лицевой стороне медали изображение греческой богини победы Ники, которая выходит из Парфенон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 оборотной стороне главная эмблема игр 2012 года в городе Лондоне, как «новое архитектурное выражение, метафора современного английского города» на выпуклом фоне медали , напоминающем амфитеатр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зображённые пересекающиеся прямые символизируют единство и спортсменов, излучающих энергию, а река Темза символизирует город Лондон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Фотографии наших олимпийцев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1" name="Рисунок 7" descr="Фото наших спортсменов на Олимпийских играх в Лондоне (39 фото)"/>
          <p:cNvPicPr/>
          <p:nvPr/>
        </p:nvPicPr>
        <p:blipFill>
          <a:blip r:embed="rId1"/>
          <a:stretch/>
        </p:blipFill>
        <p:spPr>
          <a:xfrm>
            <a:off x="3019320" y="1600200"/>
            <a:ext cx="31035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9" descr="Фото наших спортсменов на Олимпийских играх в Лондоне (39 фото)"/>
          <p:cNvPicPr/>
          <p:nvPr/>
        </p:nvPicPr>
        <p:blipFill>
          <a:blip r:embed="rId1"/>
          <a:stretch/>
        </p:blipFill>
        <p:spPr>
          <a:xfrm>
            <a:off x="1258920" y="1125360"/>
            <a:ext cx="6248520" cy="452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10" descr="Фото наших спортсменов на Олимпийских играх в Лондоне (39 фото)"/>
          <p:cNvPicPr/>
          <p:nvPr/>
        </p:nvPicPr>
        <p:blipFill>
          <a:blip r:embed="rId1"/>
          <a:stretch/>
        </p:blipFill>
        <p:spPr>
          <a:xfrm>
            <a:off x="1116000" y="981000"/>
            <a:ext cx="66675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15" descr="Фото наших спортсменов на Олимпийских играх в Лондоне (39 фото)"/>
          <p:cNvPicPr/>
          <p:nvPr/>
        </p:nvPicPr>
        <p:blipFill>
          <a:blip r:embed="rId1"/>
          <a:stretch/>
        </p:blipFill>
        <p:spPr>
          <a:xfrm>
            <a:off x="1258920" y="765000"/>
            <a:ext cx="666756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17:34:16Z</dcterms:created>
  <dc:creator>Admin</dc:creator>
  <dc:description/>
  <dc:language>en-US</dc:language>
  <cp:lastModifiedBy>Admin</cp:lastModifiedBy>
  <dcterms:modified xsi:type="dcterms:W3CDTF">2012-08-31T18:22:28Z</dcterms:modified>
  <cp:revision>2</cp:revision>
  <dc:subject/>
  <dc:title>Олимпийские игры 2012</dc:title>
</cp:coreProperties>
</file>