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B21A-83D3-4ABD-88A6-8632EF073E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0B30-6C78-457C-97C5-E3602C0B29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8702-E460-433D-A161-AA74A617C7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88C4F-6023-4FFA-BD50-4CC2BADA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2441C-403F-43B9-96B0-FF81B603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78FC8-B24B-4473-9BAE-99F54D6F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FDB9C-3D29-4477-BBBA-B7DCA657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E043-2DB4-424E-A3AB-C10BE660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A1AD-3F7A-4D2F-9B7D-F1000589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473E-B1F9-49BC-B612-3249CC88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06F0-44DA-4315-8267-9D630286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87DC-6873-4D24-A6A3-4C8F05DC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6287-C9BE-408D-94C6-96640283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C3D8-B32B-4ADD-BB43-C9E08F80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58E1B-C03E-4B9E-A630-14EAFDD0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50C9-8E9F-412D-8674-DF696491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A83C-8CB6-4012-8564-B04EF2C8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07FE-ED7D-4BA3-ACC1-63D83BB8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55B9-4571-4C69-9B1A-FD8DCDE1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1D55-48B0-4F38-8E54-D3576A97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9E7DE-CEDB-42DD-A2EB-6FC677EA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D697F-D493-48E4-A550-BB6CA6D5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18889-125B-4F2C-B8C0-E44FC1FB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85424-E6F7-4DEF-A579-86C55242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3D454-93DD-41B1-A4AE-E9628812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8704F-7258-4322-A8B4-894E1D38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31E05-564D-4E37-92CF-FA78CC85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A4EF-7586-4897-8A31-94BDFC66B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79DE-F98B-4225-AA4B-9086188114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http://900igr.net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9160" y="299880"/>
            <a:ext cx="795636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Arial"/>
              </a:rPr>
              <a:t>Что изображено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Picture 12" descr="02"/>
          <p:cNvPicPr/>
          <p:nvPr/>
        </p:nvPicPr>
        <p:blipFill>
          <a:blip r:embed="rId1"/>
          <a:stretch/>
        </p:blipFill>
        <p:spPr>
          <a:xfrm>
            <a:off x="826920" y="1700280"/>
            <a:ext cx="2194200" cy="1450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9" name="Picture 13" descr="01"/>
          <p:cNvPicPr/>
          <p:nvPr/>
        </p:nvPicPr>
        <p:blipFill>
          <a:blip r:embed="rId2"/>
          <a:stretch/>
        </p:blipFill>
        <p:spPr>
          <a:xfrm>
            <a:off x="6012000" y="1844640"/>
            <a:ext cx="2193840" cy="1447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10" name="Picture 15" descr="03"/>
          <p:cNvPicPr/>
          <p:nvPr/>
        </p:nvPicPr>
        <p:blipFill>
          <a:blip r:embed="rId3"/>
          <a:stretch/>
        </p:blipFill>
        <p:spPr>
          <a:xfrm>
            <a:off x="3492360" y="3789360"/>
            <a:ext cx="2194200" cy="15177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11" name="Picture 16" descr="04"/>
          <p:cNvPicPr/>
          <p:nvPr/>
        </p:nvPicPr>
        <p:blipFill>
          <a:blip r:embed="rId4"/>
          <a:stretch/>
        </p:blipFill>
        <p:spPr>
          <a:xfrm>
            <a:off x="6516720" y="5157720"/>
            <a:ext cx="2193840" cy="1451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12" name="Picture 17" descr="05"/>
          <p:cNvPicPr/>
          <p:nvPr/>
        </p:nvPicPr>
        <p:blipFill>
          <a:blip r:embed="rId5"/>
          <a:stretch/>
        </p:blipFill>
        <p:spPr>
          <a:xfrm>
            <a:off x="395280" y="5157720"/>
            <a:ext cx="2193840" cy="1457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3" name="Text Box 18"/>
          <p:cNvSpPr/>
          <p:nvPr/>
        </p:nvSpPr>
        <p:spPr>
          <a:xfrm>
            <a:off x="3915720" y="645156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Восстановление Озонового Сло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отя человечеством были приняты меры по ограничению выбросов хлоро и бромосодержащих фреонов путём перехода на другие вещества, например фторсодержащие фреоны, процесс восстановления озонового слоя займёт несколько десятилетий. Прежде всего это обусловлено огромным объёмом уже накопленных в атмосфере фреонов, которые имеют время жизни десятки и даже сотни лет. Поэтому затягивание озоновой дыры не стоит ожидать ранее 2048 го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6:27:23Z</dcterms:created>
  <dc:creator>SysAdmin</dc:creator>
  <dc:description>festival.1september.ru</dc:description>
  <dc:language>en-US</dc:language>
  <cp:lastModifiedBy>User</cp:lastModifiedBy>
  <dcterms:modified xsi:type="dcterms:W3CDTF">2014-11-11T06:34:24Z</dcterms:modified>
  <cp:revision>9</cp:revision>
  <dc:subject/>
  <dc:title>Озоновые дыр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9000000000001024140</vt:lpwstr>
  </property>
</Properties>
</file>