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gif" ContentType="image/gif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F7-EB6E-4AC0-8F1D-9AB2263D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DBD-069B-43B8-BBEC-7419CBC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115-5F4D-44CA-98DE-B6A73C4C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7E3-F161-4F1A-80F3-5D6876F0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4D0-C65B-4F54-BA01-2C5797B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D48-2631-41B0-8C84-D67CD239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4CF-B0B5-45AD-A867-C35B7D8D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A18-4890-48A9-BA67-57BF5D8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325-F9C4-425C-A39C-A3BC2BE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DE9-29AB-436C-B08B-7B2EF89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4F7-132B-4A6D-B496-41F7B86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FC9-4C8F-46EC-B662-A0A22C8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7469-5E87-4B11-8C65-0083101A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ассный ча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Первые икон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 первые храмы древней Руси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335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рковь Спаса на Нередиц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2690074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70436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1280" y="1125000"/>
            <a:ext cx="3035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митриевский собор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0246_photo1_big" descr=""/>
          <p:cNvPicPr/>
          <p:nvPr/>
        </p:nvPicPr>
        <p:blipFill>
          <a:blip r:embed="rId2"/>
          <a:stretch/>
        </p:blipFill>
        <p:spPr>
          <a:xfrm>
            <a:off x="911160" y="260280"/>
            <a:ext cx="430848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2664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ргиевский соб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7d78ffe98c701e48628daa7d99014a34_full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75272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8720" y="691920"/>
            <a:ext cx="324000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овая икона – Святой Георг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yuryev1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3836880" cy="607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2952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рков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а и Павл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жев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0_799ec_5a1e43c1_XL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27968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рковь Воскресения Христова в Пск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0507_20100626_020514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27380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2592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жский монаст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0264126509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542304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8083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рковь Покрова на Нер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nerl_1b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428616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5876640"/>
            <a:ext cx="76546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несенская церковь в Коломен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228755734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416720" cy="556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549000"/>
            <a:ext cx="289080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кон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жией Матери «Державная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f6c9664229e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3795840" cy="6319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6093000"/>
            <a:ext cx="6264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ртина Левитана «Вечерний зв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B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345440" cy="551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58766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 Василия Блаженног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6 xram vasilia blazennogo 1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4Утренняя молитва 2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848360" cy="56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27367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линдрический барабан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окнами, освещающими внутреннее пространств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_50b5d_5947bd15_XL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5056200" cy="604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женская церковь в Киж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serkovPreobrazhenijaGospodnja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4957920" cy="561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6165360"/>
            <a:ext cx="7775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ангельский собор в Крем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806616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19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фийский собор в Новгород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(95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561440" cy="546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5950080"/>
            <a:ext cx="62643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еска Софийского соб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Novgorodsky_Kreml-_Sofiysky_sobor_interjer2_19-07-04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578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пенский собор во Владими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267710476_uspensky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626160" cy="552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6920" y="1484280"/>
            <a:ext cx="280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кона Владимирская Богоматер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ladimirskaya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431964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9:07:38Z</dcterms:created>
  <dc:creator>Ирина</dc:creator>
  <dc:description/>
  <dc:language>en-US</dc:language>
  <cp:lastModifiedBy>Ирина</cp:lastModifiedBy>
  <dcterms:modified xsi:type="dcterms:W3CDTF">2014-12-06T15:55:23Z</dcterms:modified>
  <cp:revision>9</cp:revision>
  <dc:subject/>
  <dc:title>Классный час:</dc:title>
</cp:coreProperties>
</file>