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2.gif" ContentType="image/gif"/>
  <Override PartName="/ppt/media/image10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gif" ContentType="image/gif"/>
  <Override PartName="/ppt/media/image28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9D64-7485-4360-BD58-B775FAF12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76AE-6FB5-466E-95D2-7BDE3AA2C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53A-5BA8-48B8-83DB-77136F992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B79-470D-4AB5-A5DF-4FA223BAD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2CA-566A-4291-9A98-2D718F33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220-C393-4F8E-9240-2D754BC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417-FDBA-4F82-B41A-5D92DDEB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9F9-9FD5-4A4A-94D3-3A80BFA4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66D-72A5-4EC7-9FB9-DABB10B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25C-FFC6-4ADD-82E5-2E51171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4EB-A267-4E18-988C-80A3CC2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973-EB1A-4990-B4A1-A0B3E9B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52F-4350-4B79-88C0-7B9E2B1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171-66F6-48D7-84FD-A271431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CEA-E29B-4AD2-87C2-4179403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BCD-D247-4457-B243-12F617F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A17-27F0-4C36-B30A-4253FF575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uchen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843280" y="404640"/>
            <a:ext cx="346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математ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5"/>
          <p:cNvSpPr/>
          <p:nvPr/>
        </p:nvSpPr>
        <p:spPr>
          <a:xfrm flipH="1">
            <a:off x="8893080" y="6858000"/>
            <a:ext cx="4608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Новотроицкая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рова Л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6300720" y="5445000"/>
            <a:ext cx="24955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131" name="gold915.wav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403280" y="1773360"/>
            <a:ext cx="59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611280" y="2205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357200" y="2500200"/>
            <a:ext cx="66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4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924360" y="1773360"/>
            <a:ext cx="71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7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3419640" y="2060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3995640" y="242100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5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47640" y="476280"/>
            <a:ext cx="568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и числовые выра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7000920" y="1857240"/>
            <a:ext cx="73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6215040" y="207180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7020000" y="2492280"/>
            <a:ext cx="59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1332000" y="3141720"/>
            <a:ext cx="71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7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1116000" y="3860640"/>
            <a:ext cx="73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4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971640" y="4508640"/>
            <a:ext cx="59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3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7"/>
          <p:cNvSpPr txBox="1"/>
          <p:nvPr/>
        </p:nvSpPr>
        <p:spPr>
          <a:xfrm>
            <a:off x="971640" y="5157720"/>
            <a:ext cx="1066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8095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18"/>
          <p:cNvSpPr txBox="1"/>
          <p:nvPr/>
        </p:nvSpPr>
        <p:spPr>
          <a:xfrm>
            <a:off x="468360" y="393372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3924360" y="2997360"/>
            <a:ext cx="70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492360" y="3573360"/>
            <a:ext cx="89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9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21"/>
          <p:cNvSpPr txBox="1"/>
          <p:nvPr/>
        </p:nvSpPr>
        <p:spPr>
          <a:xfrm>
            <a:off x="3492360" y="4221000"/>
            <a:ext cx="66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5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22"/>
          <p:cNvSpPr txBox="1"/>
          <p:nvPr/>
        </p:nvSpPr>
        <p:spPr>
          <a:xfrm>
            <a:off x="3132000" y="350028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3492360" y="4941720"/>
            <a:ext cx="11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626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25"/>
          <p:cNvSpPr txBox="1"/>
          <p:nvPr/>
        </p:nvSpPr>
        <p:spPr>
          <a:xfrm>
            <a:off x="6732720" y="3141720"/>
            <a:ext cx="906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53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6659640" y="3789360"/>
            <a:ext cx="73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27"/>
          <p:cNvSpPr txBox="1"/>
          <p:nvPr/>
        </p:nvSpPr>
        <p:spPr>
          <a:xfrm>
            <a:off x="6443640" y="4437000"/>
            <a:ext cx="73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28"/>
          <p:cNvSpPr txBox="1"/>
          <p:nvPr/>
        </p:nvSpPr>
        <p:spPr>
          <a:xfrm>
            <a:off x="6516720" y="5157720"/>
            <a:ext cx="108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826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29"/>
          <p:cNvSpPr txBox="1"/>
          <p:nvPr/>
        </p:nvSpPr>
        <p:spPr>
          <a:xfrm>
            <a:off x="5940360" y="407664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116000" y="333360"/>
            <a:ext cx="684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WordArt 5" descr=""/>
          <p:cNvPicPr/>
          <p:nvPr/>
        </p:nvPicPr>
        <p:blipFill>
          <a:blip r:embed="rId1"/>
          <a:stretch/>
        </p:blipFill>
        <p:spPr>
          <a:xfrm>
            <a:off x="1463760" y="2048040"/>
            <a:ext cx="2442960" cy="16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5"/>
          <p:cNvGraphicFramePr/>
          <p:nvPr/>
        </p:nvGraphicFramePr>
        <p:xfrm>
          <a:off x="5580000" y="1916280"/>
          <a:ext cx="1957320" cy="33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916280"/>
                    <a:ext cx="195732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2195640" y="476280"/>
            <a:ext cx="43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1332000" y="1700280"/>
            <a:ext cx="87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9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611280" y="2276640"/>
            <a:ext cx="5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1547640" y="2349360"/>
            <a:ext cx="6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1332000" y="2997360"/>
            <a:ext cx="89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72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1042920" y="3645000"/>
            <a:ext cx="87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8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755640" y="4292640"/>
            <a:ext cx="94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7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395280" y="3429000"/>
            <a:ext cx="4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0" name="WordArt 12" descr=""/>
          <p:cNvPicPr/>
          <p:nvPr/>
        </p:nvPicPr>
        <p:blipFill>
          <a:blip r:embed="rId1"/>
          <a:stretch/>
        </p:blipFill>
        <p:spPr>
          <a:xfrm>
            <a:off x="743040" y="4998960"/>
            <a:ext cx="1396800" cy="6206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3"/>
          <p:cNvSpPr txBox="1"/>
          <p:nvPr/>
        </p:nvSpPr>
        <p:spPr>
          <a:xfrm>
            <a:off x="4211640" y="1773360"/>
            <a:ext cx="982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6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3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14"/>
          <p:cNvSpPr txBox="1"/>
          <p:nvPr/>
        </p:nvSpPr>
        <p:spPr>
          <a:xfrm>
            <a:off x="3851280" y="2133720"/>
            <a:ext cx="28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5"/>
          <p:cNvSpPr txBox="1"/>
          <p:nvPr/>
        </p:nvSpPr>
        <p:spPr>
          <a:xfrm>
            <a:off x="4286160" y="3141720"/>
            <a:ext cx="928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6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16"/>
          <p:cNvSpPr txBox="1"/>
          <p:nvPr/>
        </p:nvSpPr>
        <p:spPr>
          <a:xfrm>
            <a:off x="3924360" y="3789360"/>
            <a:ext cx="1004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0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7"/>
          <p:cNvSpPr txBox="1"/>
          <p:nvPr/>
        </p:nvSpPr>
        <p:spPr>
          <a:xfrm>
            <a:off x="3500280" y="4437000"/>
            <a:ext cx="1071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3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8"/>
          <p:cNvSpPr txBox="1"/>
          <p:nvPr/>
        </p:nvSpPr>
        <p:spPr>
          <a:xfrm>
            <a:off x="3635280" y="3429000"/>
            <a:ext cx="1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3429000" y="5157720"/>
            <a:ext cx="164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877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C:\Documents and Settings\Admin\Рабочий стол\Новая папка (2)\qq.gif"/>
          <p:cNvPicPr/>
          <p:nvPr/>
        </p:nvPicPr>
        <p:blipFill>
          <a:blip r:embed="rId1"/>
          <a:stretch/>
        </p:blipFill>
        <p:spPr>
          <a:xfrm>
            <a:off x="0" y="500040"/>
            <a:ext cx="4030560" cy="592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843000" y="922680"/>
            <a:ext cx="3346920" cy="18867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4427640" y="765000"/>
            <a:ext cx="2361960" cy="13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ите задачу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Содержимое 3" descr="book15.gif"/>
          <p:cNvPicPr/>
          <p:nvPr/>
        </p:nvPicPr>
        <p:blipFill>
          <a:blip r:embed="rId2"/>
          <a:stretch/>
        </p:blipFill>
        <p:spPr>
          <a:xfrm>
            <a:off x="2000160" y="2500200"/>
            <a:ext cx="2857680" cy="2928960"/>
          </a:xfrm>
          <a:prstGeom prst="rect">
            <a:avLst/>
          </a:prstGeom>
          <a:ln w="0">
            <a:noFill/>
          </a:ln>
        </p:spPr>
      </p:pic>
      <p:sp>
        <p:nvSpPr>
          <p:cNvPr id="183" name="WordArt 8"/>
          <p:cNvSpPr txBox="1"/>
          <p:nvPr/>
        </p:nvSpPr>
        <p:spPr>
          <a:xfrm>
            <a:off x="5724360" y="3933720"/>
            <a:ext cx="243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.41 №2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7040" y="1523880"/>
            <a:ext cx="88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тер плывет  по со скоростью 32 км/ч. Какое расстояние он преодолеет через 17 ча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-131760" y="5172120"/>
            <a:ext cx="9275760" cy="1685880"/>
            <a:chOff x="-131760" y="5172120"/>
            <a:chExt cx="9275760" cy="1685880"/>
          </a:xfrm>
        </p:grpSpPr>
        <p:grpSp>
          <p:nvGrpSpPr>
            <p:cNvPr id="186" name="Group 4"/>
            <p:cNvGrpSpPr/>
            <p:nvPr/>
          </p:nvGrpSpPr>
          <p:grpSpPr>
            <a:xfrm>
              <a:off x="-77040" y="5172120"/>
              <a:ext cx="9218520" cy="248760"/>
              <a:chOff x="-77040" y="5172120"/>
              <a:chExt cx="9218520" cy="248760"/>
            </a:xfrm>
          </p:grpSpPr>
          <p:sp>
            <p:nvSpPr>
              <p:cNvPr id="187" name="Freeform 5"/>
              <p:cNvSpPr/>
              <p:nvPr/>
            </p:nvSpPr>
            <p:spPr>
              <a:xfrm flipH="1" rot="27600">
                <a:off x="-76320" y="5181480"/>
                <a:ext cx="2324160" cy="176040"/>
              </a:xfrm>
              <a:custGeom>
                <a:avLst/>
                <a:gdLst>
                  <a:gd name="textAreaLeft" fmla="*/ 360 w 2324160"/>
                  <a:gd name="textAreaRight" fmla="*/ 2324880 w 2324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6"/>
              <p:cNvSpPr/>
              <p:nvPr/>
            </p:nvSpPr>
            <p:spPr>
              <a:xfrm flipH="1" rot="27600">
                <a:off x="2225160" y="5199120"/>
                <a:ext cx="2324160" cy="176040"/>
              </a:xfrm>
              <a:custGeom>
                <a:avLst/>
                <a:gdLst>
                  <a:gd name="textAreaLeft" fmla="*/ 360 w 2324160"/>
                  <a:gd name="textAreaRight" fmla="*/ 2324880 w 2324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7"/>
              <p:cNvSpPr/>
              <p:nvPr/>
            </p:nvSpPr>
            <p:spPr>
              <a:xfrm flipH="1" rot="27600">
                <a:off x="4514400" y="5217840"/>
                <a:ext cx="2324160" cy="176400"/>
              </a:xfrm>
              <a:custGeom>
                <a:avLst/>
                <a:gdLst>
                  <a:gd name="textAreaLeft" fmla="*/ 360 w 2324160"/>
                  <a:gd name="textAreaRight" fmla="*/ 2324880 w 23241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8"/>
              <p:cNvSpPr/>
              <p:nvPr/>
            </p:nvSpPr>
            <p:spPr>
              <a:xfrm flipH="1" rot="27600">
                <a:off x="6816240" y="5235480"/>
                <a:ext cx="2324160" cy="176040"/>
              </a:xfrm>
              <a:custGeom>
                <a:avLst/>
                <a:gdLst>
                  <a:gd name="textAreaLeft" fmla="*/ 360 w 2324160"/>
                  <a:gd name="textAreaRight" fmla="*/ 2324880 w 23241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9"/>
            <p:cNvSpPr/>
            <p:nvPr/>
          </p:nvSpPr>
          <p:spPr>
            <a:xfrm>
              <a:off x="-131760" y="5333760"/>
              <a:ext cx="9275760" cy="1524240"/>
            </a:xfrm>
            <a:custGeom>
              <a:avLst/>
              <a:gdLst>
                <a:gd name="textAreaLeft" fmla="*/ 0 w 9275760"/>
                <a:gd name="textAreaRight" fmla="*/ 9276120 w 927576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0"/>
          <p:cNvGrpSpPr/>
          <p:nvPr/>
        </p:nvGrpSpPr>
        <p:grpSpPr>
          <a:xfrm>
            <a:off x="5808600" y="400680"/>
            <a:ext cx="2712600" cy="2019960"/>
            <a:chOff x="5808600" y="400680"/>
            <a:chExt cx="2712600" cy="2019960"/>
          </a:xfrm>
        </p:grpSpPr>
        <p:sp>
          <p:nvSpPr>
            <p:cNvPr id="193" name="Freeform 11"/>
            <p:cNvSpPr/>
            <p:nvPr/>
          </p:nvSpPr>
          <p:spPr>
            <a:xfrm rot="19272600">
              <a:off x="7324560" y="597240"/>
              <a:ext cx="986760" cy="101772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 rot="19272600">
              <a:off x="6552360" y="885600"/>
              <a:ext cx="1155600" cy="98532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 rot="19272600">
              <a:off x="5943600" y="1374120"/>
              <a:ext cx="1056960" cy="80388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1139760" y="-56520"/>
            <a:ext cx="2712600" cy="2019960"/>
            <a:chOff x="1139760" y="-56520"/>
            <a:chExt cx="2712600" cy="2019960"/>
          </a:xfrm>
        </p:grpSpPr>
        <p:sp>
          <p:nvSpPr>
            <p:cNvPr id="197" name="Freeform 15"/>
            <p:cNvSpPr/>
            <p:nvPr/>
          </p:nvSpPr>
          <p:spPr>
            <a:xfrm rot="19272600">
              <a:off x="2655720" y="140040"/>
              <a:ext cx="986760" cy="101772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 rot="19272600">
              <a:off x="1883520" y="428400"/>
              <a:ext cx="1155600" cy="98532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 rot="19272600">
              <a:off x="1274760" y="916920"/>
              <a:ext cx="1056960" cy="80388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992320" y="483120"/>
            <a:ext cx="2712600" cy="2019960"/>
            <a:chOff x="2992320" y="483120"/>
            <a:chExt cx="2712600" cy="2019960"/>
          </a:xfrm>
        </p:grpSpPr>
        <p:sp>
          <p:nvSpPr>
            <p:cNvPr id="201" name="Freeform 19"/>
            <p:cNvSpPr/>
            <p:nvPr/>
          </p:nvSpPr>
          <p:spPr>
            <a:xfrm rot="19272600">
              <a:off x="4508280" y="679680"/>
              <a:ext cx="986760" cy="101772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 rot="19272600">
              <a:off x="3736080" y="968040"/>
              <a:ext cx="1155600" cy="98532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 rot="19272600">
              <a:off x="3127320" y="1456560"/>
              <a:ext cx="1056960" cy="80388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2"/>
          <p:cNvSpPr/>
          <p:nvPr/>
        </p:nvSpPr>
        <p:spPr>
          <a:xfrm>
            <a:off x="6845400" y="237960"/>
            <a:ext cx="2154240" cy="676440"/>
          </a:xfrm>
          <a:prstGeom prst="cloudCallout">
            <a:avLst>
              <a:gd name="adj1" fmla="val -14703"/>
              <a:gd name="adj2" fmla="val 4342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3581280" y="4267080"/>
            <a:ext cx="1473480" cy="115596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928" h="728">
                <a:moveTo>
                  <a:pt x="0" y="32"/>
                </a:moveTo>
                <a:lnTo>
                  <a:pt x="3" y="728"/>
                </a:lnTo>
                <a:lnTo>
                  <a:pt x="912" y="728"/>
                </a:lnTo>
                <a:lnTo>
                  <a:pt x="928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5">
            <a:hlinkClick r:id="" action="ppaction://hlinkshowjump?jump=nextslide"/>
          </p:cNvPr>
          <p:cNvSpPr/>
          <p:nvPr/>
        </p:nvSpPr>
        <p:spPr>
          <a:xfrm>
            <a:off x="8458200" y="62485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4876920" y="3581280"/>
            <a:ext cx="1763280" cy="685800"/>
            <a:chOff x="4876920" y="3581280"/>
            <a:chExt cx="1763280" cy="685800"/>
          </a:xfrm>
        </p:grpSpPr>
        <p:sp>
          <p:nvSpPr>
            <p:cNvPr id="209" name="Line 31"/>
            <p:cNvSpPr/>
            <p:nvPr/>
          </p:nvSpPr>
          <p:spPr>
            <a:xfrm>
              <a:off x="5029200" y="42670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2"/>
            <p:cNvSpPr/>
            <p:nvPr/>
          </p:nvSpPr>
          <p:spPr>
            <a:xfrm>
              <a:off x="4876920" y="3581280"/>
              <a:ext cx="159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32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км/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6"/>
          <p:cNvGrpSpPr/>
          <p:nvPr/>
        </p:nvGrpSpPr>
        <p:grpSpPr>
          <a:xfrm>
            <a:off x="4952880" y="4876920"/>
            <a:ext cx="534960" cy="753480"/>
            <a:chOff x="4952880" y="4876920"/>
            <a:chExt cx="534960" cy="753480"/>
          </a:xfrm>
        </p:grpSpPr>
        <p:sp>
          <p:nvSpPr>
            <p:cNvPr id="212" name="Freeform 37"/>
            <p:cNvSpPr/>
            <p:nvPr/>
          </p:nvSpPr>
          <p:spPr>
            <a:xfrm>
              <a:off x="5106960" y="4876920"/>
              <a:ext cx="380880" cy="4870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240" h="307">
                  <a:moveTo>
                    <a:pt x="9" y="195"/>
                  </a:moveTo>
                  <a:lnTo>
                    <a:pt x="240" y="186"/>
                  </a:lnTo>
                  <a:lnTo>
                    <a:pt x="0" y="0"/>
                  </a:lnTo>
                  <a:lnTo>
                    <a:pt x="31" y="307"/>
                  </a:lnTo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8"/>
            <p:cNvSpPr/>
            <p:nvPr/>
          </p:nvSpPr>
          <p:spPr>
            <a:xfrm>
              <a:off x="4952880" y="5325840"/>
              <a:ext cx="457200" cy="304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32" h="344">
                  <a:moveTo>
                    <a:pt x="48" y="240"/>
                  </a:moveTo>
                  <a:lnTo>
                    <a:pt x="192" y="0"/>
                  </a:lnTo>
                  <a:lnTo>
                    <a:pt x="432" y="288"/>
                  </a:lnTo>
                  <a:lnTo>
                    <a:pt x="352" y="344"/>
                  </a:lnTo>
                  <a:lnTo>
                    <a:pt x="256" y="344"/>
                  </a:lnTo>
                  <a:lnTo>
                    <a:pt x="160" y="344"/>
                  </a:lnTo>
                  <a:lnTo>
                    <a:pt x="64" y="328"/>
                  </a:lnTo>
                  <a:lnTo>
                    <a:pt x="0" y="288"/>
                  </a:lnTo>
                  <a:lnTo>
                    <a:pt x="192" y="0"/>
                  </a:lnTo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ff0000"/>
                </a:gs>
                <a:gs pos="100000">
                  <a:srgbClr val="cc0000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2"/>
          <p:cNvGrpSpPr/>
          <p:nvPr/>
        </p:nvGrpSpPr>
        <p:grpSpPr>
          <a:xfrm>
            <a:off x="4177800" y="4267080"/>
            <a:ext cx="2083680" cy="2052360"/>
            <a:chOff x="4177800" y="4267080"/>
            <a:chExt cx="2083680" cy="2052360"/>
          </a:xfrm>
        </p:grpSpPr>
        <p:pic>
          <p:nvPicPr>
            <p:cNvPr id="215" name="Picture 43" descr="sailboat"/>
            <p:cNvPicPr/>
            <p:nvPr/>
          </p:nvPicPr>
          <p:blipFill>
            <a:blip r:embed="rId3"/>
            <a:stretch/>
          </p:blipFill>
          <p:spPr>
            <a:xfrm flipH="1" rot="21552000">
              <a:off x="4190760" y="4419000"/>
              <a:ext cx="20574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Oval 44"/>
            <p:cNvSpPr/>
            <p:nvPr/>
          </p:nvSpPr>
          <p:spPr>
            <a:xfrm flipH="1">
              <a:off x="5388840" y="4267080"/>
              <a:ext cx="490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116 L -0.16979 0.00231 E">
                                      <p:cBhvr>
                                        <p:cTn id="689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0232 L -0.325 -0.00324 E">
                                      <p:cBhvr>
                                        <p:cTn id="692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00324 L -0.4842 -0.00509 E">
                                      <p:cBhvr>
                                        <p:cTn id="695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509 L -0.63038 -0.0088 E">
                                      <p:cBhvr>
                                        <p:cTn id="698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38 -0.0088 L -0.74879 -0.0088 E">
                                      <p:cBhvr>
                                        <p:cTn id="701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3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4" dur="2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8.88889E-006 L 0.35 -8.88889E-006 E">
                                      <p:cBhvr>
                                        <p:cTn id="7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755640" y="404640"/>
            <a:ext cx="345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116000" y="1413000"/>
            <a:ext cx="7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11280" y="191628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1187280" y="2060640"/>
            <a:ext cx="5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1116000" y="2781360"/>
            <a:ext cx="792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1116000" y="299736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2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684360" y="342900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11"/>
          <p:cNvSpPr txBox="1"/>
          <p:nvPr/>
        </p:nvSpPr>
        <p:spPr>
          <a:xfrm>
            <a:off x="1143000" y="3643200"/>
            <a:ext cx="47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1042920" y="4292640"/>
            <a:ext cx="792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13"/>
          <p:cNvSpPr txBox="1"/>
          <p:nvPr/>
        </p:nvSpPr>
        <p:spPr>
          <a:xfrm>
            <a:off x="1116000" y="4508640"/>
            <a:ext cx="70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4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WordArt 15" descr=""/>
          <p:cNvPicPr/>
          <p:nvPr/>
        </p:nvPicPr>
        <p:blipFill>
          <a:blip r:embed="rId1"/>
          <a:stretch/>
        </p:blipFill>
        <p:spPr>
          <a:xfrm>
            <a:off x="2036880" y="4572000"/>
            <a:ext cx="4029120" cy="6159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6"/>
          <p:cNvSpPr txBox="1"/>
          <p:nvPr/>
        </p:nvSpPr>
        <p:spPr>
          <a:xfrm>
            <a:off x="1116000" y="5300640"/>
            <a:ext cx="436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твет: 544 километр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плыл катер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4" descr=""/>
          <p:cNvPicPr/>
          <p:nvPr/>
        </p:nvPicPr>
        <p:blipFill>
          <a:blip r:embed="rId1"/>
          <a:stretch/>
        </p:blipFill>
        <p:spPr>
          <a:xfrm>
            <a:off x="603360" y="1152360"/>
            <a:ext cx="7954920" cy="5291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685440" y="16430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Segoe UI"/>
              </a:rPr>
              <a:t>Волшебная лестниц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:\Мои рисунки\Детские\портфель.gif"/>
          <p:cNvPicPr/>
          <p:nvPr/>
        </p:nvPicPr>
        <p:blipFill>
          <a:blip r:embed="rId1"/>
          <a:stretch/>
        </p:blipFill>
        <p:spPr>
          <a:xfrm>
            <a:off x="6858000" y="2714760"/>
            <a:ext cx="1905120" cy="20952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5"/>
          <p:cNvSpPr txBox="1"/>
          <p:nvPr/>
        </p:nvSpPr>
        <p:spPr>
          <a:xfrm>
            <a:off x="1042920" y="1557360"/>
            <a:ext cx="4608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/з с. 43 № 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4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5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7705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755640" y="981000"/>
            <a:ext cx="6480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Если человек за ден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 получил ни каких знаний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начит день прошел зря...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ются числа при умн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елимое, делитель, час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лагаемое, слагаемое, су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множитель, множитель,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Чему равна площадь прямоугольника. Его длинна 10см, а ширина 9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9м б)38м в)90м.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ему равно произведение чисел 32 и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96 б) б0  в)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ыраз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56=..с…д…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3=…с…д…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ются числа при умн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множитель, множитель,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Чему равна площадь прямоугольника. Его длинна 10см, а ширина 9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90м.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ему равно произведение чисел 32 и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ыраз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56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3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dArt 2" descr=""/>
          <p:cNvPicPr/>
          <p:nvPr/>
        </p:nvPicPr>
        <p:blipFill>
          <a:blip r:embed="rId1"/>
          <a:stretch/>
        </p:blipFill>
        <p:spPr>
          <a:xfrm>
            <a:off x="426960" y="1347840"/>
            <a:ext cx="4108680" cy="81576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285840" y="2205000"/>
            <a:ext cx="44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. Умножаю первый множитель на число  един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WordArt 4" descr=""/>
          <p:cNvPicPr/>
          <p:nvPr/>
        </p:nvPicPr>
        <p:blipFill>
          <a:blip r:embed="rId2"/>
          <a:stretch/>
        </p:blipFill>
        <p:spPr>
          <a:xfrm>
            <a:off x="274680" y="2766960"/>
            <a:ext cx="4546440" cy="622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755640" y="3429000"/>
            <a:ext cx="345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.Сложу неполные произведенияи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755640" y="4076640"/>
            <a:ext cx="338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. Читаю ответ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785880" y="4714920"/>
            <a:ext cx="230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2214720" y="500040"/>
            <a:ext cx="5257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горитм умно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WordArt 12" descr=""/>
          <p:cNvPicPr/>
          <p:nvPr/>
        </p:nvPicPr>
        <p:blipFill>
          <a:blip r:embed="rId3"/>
          <a:stretch/>
        </p:blipFill>
        <p:spPr>
          <a:xfrm>
            <a:off x="4919760" y="1590840"/>
            <a:ext cx="3035160" cy="16588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3"/>
          <p:cNvSpPr txBox="1"/>
          <p:nvPr/>
        </p:nvSpPr>
        <p:spPr>
          <a:xfrm>
            <a:off x="5508720" y="335772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076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14"/>
          <p:cNvSpPr txBox="1"/>
          <p:nvPr/>
        </p:nvSpPr>
        <p:spPr>
          <a:xfrm>
            <a:off x="4500720" y="422100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38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15"/>
          <p:cNvSpPr txBox="1"/>
          <p:nvPr/>
        </p:nvSpPr>
        <p:spPr>
          <a:xfrm>
            <a:off x="4284720" y="5300640"/>
            <a:ext cx="39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456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971640" y="836640"/>
            <a:ext cx="221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ема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042920" y="2060640"/>
            <a:ext cx="6782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множение многозначного числ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трех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5" descr="C:\Documents and Settings\Admin\Рабочий стол\Новая папка (2)\v1.gif"/>
          <p:cNvPicPr/>
          <p:nvPr/>
        </p:nvPicPr>
        <p:blipFill>
          <a:blip r:embed="rId1"/>
          <a:stretch/>
        </p:blipFill>
        <p:spPr>
          <a:xfrm>
            <a:off x="539640" y="3214800"/>
            <a:ext cx="4103640" cy="3643200"/>
          </a:xfrm>
          <a:prstGeom prst="rect">
            <a:avLst/>
          </a:prstGeom>
          <a:ln w="0">
            <a:noFill/>
          </a:ln>
        </p:spPr>
      </p:pic>
      <p:sp>
        <p:nvSpPr>
          <p:cNvPr id="74" name="WordArt 8"/>
          <p:cNvSpPr txBox="1"/>
          <p:nvPr/>
        </p:nvSpPr>
        <p:spPr>
          <a:xfrm>
            <a:off x="3419640" y="4437000"/>
            <a:ext cx="115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2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6084720" y="2276640"/>
            <a:ext cx="94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6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5580000" y="263700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17"/>
          <p:cNvSpPr txBox="1"/>
          <p:nvPr/>
        </p:nvSpPr>
        <p:spPr>
          <a:xfrm>
            <a:off x="6372360" y="2924280"/>
            <a:ext cx="71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2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18"/>
          <p:cNvSpPr txBox="1"/>
          <p:nvPr/>
        </p:nvSpPr>
        <p:spPr>
          <a:xfrm>
            <a:off x="6877080" y="357336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19"/>
          <p:cNvSpPr txBox="1"/>
          <p:nvPr/>
        </p:nvSpPr>
        <p:spPr>
          <a:xfrm>
            <a:off x="6588000" y="3573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6300720" y="357336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6012000" y="357336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22"/>
          <p:cNvSpPr txBox="1"/>
          <p:nvPr/>
        </p:nvSpPr>
        <p:spPr>
          <a:xfrm>
            <a:off x="6588000" y="422100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23"/>
          <p:cNvSpPr txBox="1"/>
          <p:nvPr/>
        </p:nvSpPr>
        <p:spPr>
          <a:xfrm>
            <a:off x="6300720" y="422100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24"/>
          <p:cNvSpPr txBox="1"/>
          <p:nvPr/>
        </p:nvSpPr>
        <p:spPr>
          <a:xfrm>
            <a:off x="6012000" y="422100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5715000" y="4221000"/>
            <a:ext cx="212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26"/>
          <p:cNvSpPr txBox="1"/>
          <p:nvPr/>
        </p:nvSpPr>
        <p:spPr>
          <a:xfrm>
            <a:off x="5292720" y="4869000"/>
            <a:ext cx="1219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84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27"/>
          <p:cNvSpPr txBox="1"/>
          <p:nvPr/>
        </p:nvSpPr>
        <p:spPr>
          <a:xfrm>
            <a:off x="5292720" y="3716280"/>
            <a:ext cx="244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28"/>
          <p:cNvSpPr txBox="1"/>
          <p:nvPr/>
        </p:nvSpPr>
        <p:spPr>
          <a:xfrm>
            <a:off x="6929280" y="5516640"/>
            <a:ext cx="21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29"/>
          <p:cNvSpPr txBox="1"/>
          <p:nvPr/>
        </p:nvSpPr>
        <p:spPr>
          <a:xfrm>
            <a:off x="6572160" y="5516640"/>
            <a:ext cx="214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30"/>
          <p:cNvSpPr txBox="1"/>
          <p:nvPr/>
        </p:nvSpPr>
        <p:spPr>
          <a:xfrm>
            <a:off x="6286680" y="5516640"/>
            <a:ext cx="214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31"/>
          <p:cNvSpPr txBox="1"/>
          <p:nvPr/>
        </p:nvSpPr>
        <p:spPr>
          <a:xfrm>
            <a:off x="5929200" y="5516640"/>
            <a:ext cx="28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2"/>
          <p:cNvSpPr txBox="1"/>
          <p:nvPr/>
        </p:nvSpPr>
        <p:spPr>
          <a:xfrm>
            <a:off x="5643720" y="5516640"/>
            <a:ext cx="214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3"/>
          <p:cNvSpPr txBox="1"/>
          <p:nvPr/>
        </p:nvSpPr>
        <p:spPr>
          <a:xfrm>
            <a:off x="5357880" y="5500800"/>
            <a:ext cx="285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34"/>
          <p:cNvSpPr txBox="1"/>
          <p:nvPr/>
        </p:nvSpPr>
        <p:spPr>
          <a:xfrm>
            <a:off x="5292720" y="5516640"/>
            <a:ext cx="142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38"/>
          <p:cNvSpPr txBox="1"/>
          <p:nvPr/>
        </p:nvSpPr>
        <p:spPr>
          <a:xfrm>
            <a:off x="1979640" y="549360"/>
            <a:ext cx="428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горитм умно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WordArt 39" descr=""/>
          <p:cNvPicPr/>
          <p:nvPr/>
        </p:nvPicPr>
        <p:blipFill>
          <a:blip r:embed="rId1"/>
          <a:stretch/>
        </p:blipFill>
        <p:spPr>
          <a:xfrm>
            <a:off x="828720" y="1542960"/>
            <a:ext cx="4067280" cy="620640"/>
          </a:xfrm>
          <a:prstGeom prst="rect">
            <a:avLst/>
          </a:prstGeom>
          <a:ln w="0">
            <a:noFill/>
          </a:ln>
        </p:spPr>
      </p:pic>
      <p:pic>
        <p:nvPicPr>
          <p:cNvPr id="98" name="WordArt 40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2889360" cy="407880"/>
          </a:xfrm>
          <a:prstGeom prst="rect">
            <a:avLst/>
          </a:prstGeom>
          <a:ln w="0">
            <a:noFill/>
          </a:ln>
        </p:spPr>
      </p:pic>
      <p:pic>
        <p:nvPicPr>
          <p:cNvPr id="99" name="WordArt 41" descr=""/>
          <p:cNvPicPr/>
          <p:nvPr/>
        </p:nvPicPr>
        <p:blipFill>
          <a:blip r:embed="rId3"/>
          <a:stretch/>
        </p:blipFill>
        <p:spPr>
          <a:xfrm>
            <a:off x="890640" y="2481120"/>
            <a:ext cx="3717720" cy="55404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42" descr=""/>
          <p:cNvPicPr/>
          <p:nvPr/>
        </p:nvPicPr>
        <p:blipFill>
          <a:blip r:embed="rId4"/>
          <a:stretch/>
        </p:blipFill>
        <p:spPr>
          <a:xfrm>
            <a:off x="890640" y="2987640"/>
            <a:ext cx="4151160" cy="6206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43" descr=""/>
          <p:cNvPicPr/>
          <p:nvPr/>
        </p:nvPicPr>
        <p:blipFill>
          <a:blip r:embed="rId5"/>
          <a:stretch/>
        </p:blipFill>
        <p:spPr>
          <a:xfrm>
            <a:off x="890640" y="3706920"/>
            <a:ext cx="4224240" cy="48096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44" descr=""/>
          <p:cNvPicPr/>
          <p:nvPr/>
        </p:nvPicPr>
        <p:blipFill>
          <a:blip r:embed="rId6"/>
          <a:stretch/>
        </p:blipFill>
        <p:spPr>
          <a:xfrm>
            <a:off x="774720" y="4632480"/>
            <a:ext cx="4187880" cy="579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6"/>
          <p:cNvSpPr txBox="1"/>
          <p:nvPr/>
        </p:nvSpPr>
        <p:spPr>
          <a:xfrm>
            <a:off x="1143000" y="5500800"/>
            <a:ext cx="25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.Читаю отв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258920" y="0"/>
            <a:ext cx="122544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484360" y="0"/>
            <a:ext cx="1440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51280" y="0"/>
            <a:ext cx="12970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14836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16720" y="0"/>
            <a:ext cx="12952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77564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Картинка 31 из 978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549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а 31 из 978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451640" y="404640"/>
            <a:ext cx="1101960" cy="1101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31 из 9787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728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Картинка 31 из 978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1128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Картинка 31 из 9787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2472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Картинка 31 из 9787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067280" y="404640"/>
            <a:ext cx="1101600" cy="11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Картинка 31 из 9787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14036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Картинка 31 из 9787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37236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Картинка 31 из 9787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1547640" y="2708280"/>
            <a:ext cx="1101960" cy="1101600"/>
          </a:xfrm>
          <a:prstGeom prst="rect">
            <a:avLst/>
          </a:prstGeom>
          <a:ln w="0">
            <a:noFill/>
          </a:ln>
        </p:spPr>
      </p:pic>
      <p:pic>
        <p:nvPicPr>
          <p:cNvPr id="120" name="Футб821.wav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1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9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7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1" nodeType="afterEffect" fill="hold" presetClass="path" presetID="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712 -0.00208 L 0.01823 -0.34282 L 0.2941 -0.00208 L 0.01823 0.33935 L -0.25712 -0.00208 Z">
                                      <p:cBhvr>
                                        <p:cTn id="342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00:21Z</dcterms:created>
  <dc:creator>poBEDA</dc:creator>
  <dc:description/>
  <dc:language>en-US</dc:language>
  <cp:lastModifiedBy>User</cp:lastModifiedBy>
  <dcterms:modified xsi:type="dcterms:W3CDTF">2015-03-17T18:56:20Z</dcterms:modified>
  <cp:revision>35</cp:revision>
  <dc:subject/>
  <dc:title>Слайд 1</dc:title>
</cp:coreProperties>
</file>