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58A8-1C1B-440F-84DF-50B2EFE7ED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C5AB-AF1E-4D85-B8DB-0228048296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5A59-424B-4BA9-BD25-74F32D127A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144-3542-4AFD-BAB2-AD5D5A0D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B77-1E85-4E19-A3DE-E7A85BB5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F6A-BA54-44DB-A024-F0DEFC4B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1BD-A2DB-4591-8C38-C3557015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5D61-779D-4220-84EE-0EB9261C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5928-194A-406C-A8DF-282E2039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BFD8-ECBC-462E-9EB0-537A54A2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6392-382B-4BAB-933D-C882645C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8EF9-F044-4A5D-B7A3-B7C13E44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DF4B-E05A-4E8B-8B0E-3A1590C2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0BC2-50B3-46C0-872F-A0CC729C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666-65BF-4CE6-8A29-B9AB7560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F049-E6AE-4305-8740-C4C6329C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5DEF-EEB1-4314-8051-ADB8B9C2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DDC1-5536-4702-B92A-7CECE2A3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914D-E834-44B6-BA11-9D05938D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3A43-DB80-4F85-8A58-4AC5F24B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8FF6B-B75B-4CF0-9827-E42EE436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D5FD1-13B7-418C-A7E9-875FCF8A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A7853-79AB-4D7F-8D30-92B7C189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2A0DC-5915-4AA0-8697-FDD1A2D1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A3199-417C-4A3D-AFDA-2E3365BE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FE2-3B55-4CEE-B68A-6D3C9B6C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44E23-A41C-4831-A085-664B4423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774CE-E306-4885-B034-9A78425C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7A15E-73AD-4535-A968-ABC5C318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EA281-8977-45F5-8824-E8243182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EE69F-BB3D-4E88-88AD-AFFB6889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02416-686C-4E45-81B8-4207CF13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48094-7706-4B50-8D9C-9C0FB9E0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3E12C-B0E3-417E-BED9-25AB15A0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2539A-AE36-4BB3-BCBD-034DB6C5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D9E3C-DE0F-4204-B826-B42B58ED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099-2A0B-4EBB-93AE-9FB5E852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03790-83FD-47C1-B89F-F0A49B71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02123-6BC6-4823-AAA6-70C4F09C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AE8CB-6DAB-41FE-B312-68DF5C02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D0623-AB30-445B-BCB3-BF821212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592E5-4CF2-4C84-BCBB-9258FDAC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31EB0-BE24-4BA5-974A-6E54BF3A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E5547-C214-4C2E-867A-D6C4737E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1F05D-DD84-4047-91AD-48D880F2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32F19-2892-4D93-9904-76892056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6CB76-3415-4C3C-9ACF-6349E264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6B2-E878-43FE-A24D-E6D297A2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FF708-8515-45A1-9478-CB9F0A54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55218-7DAB-4362-9EA8-56B49F7F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51442-4BFE-4114-9426-FB44CFF7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5CF50-C20F-42B5-BF05-7B128172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2B0B3-679B-426D-BC0B-70F13D4B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ED2B9-3F0A-4743-A767-4C80D032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9D165-A53A-416A-B1E9-A01E9E74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C991F-4EEC-4317-90D0-A9DAA335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23B5C-D742-4D0D-817B-821CC03E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F381E-D045-48BD-9933-DE6B283E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E205-33C0-423F-B29A-3A2CE55B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1B6EA-A14D-48DD-8965-3D1A8764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B5A33-07EB-49C7-8EB5-F79A7E91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D171B-FFC9-4E42-8B9D-CC831865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95407-40F9-4131-ADCA-6298538A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B63F1-7057-401C-98F6-A4A1823F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36D2F-CE0F-47EA-80F9-984F5AC0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6CDC2-C65A-4E2B-8FBE-E3A32D21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1CD8E-B4FE-40A7-84B2-49D18866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01309-41E1-4FD7-A0EA-38E558E9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6FBA4-69FA-49A1-9055-DC898CBC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F4E-BA32-4A20-B9A9-018720CE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4D6C5-B798-475A-BC51-89005911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F838E-4572-46CC-9D1C-4231B0B2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68835-E105-419B-8733-127EBA97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20060-519C-4098-9C56-79AF22AE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D10AE-B34D-4985-BAEC-CC63674C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9559D-6BD2-4036-9AEB-561DD462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9B38C-4EF2-44A3-8F60-9AA3CF50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D0537-29C8-4D89-8634-711E8BAC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04419-F999-4E43-A675-9F8647CA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1F69F-54AA-4D26-8E3A-9FBF0336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2BF-342D-43F0-A524-B9A313C3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0315F-1582-4F3E-9B07-8056D685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D1779-4C3D-4059-9C7A-4B7F7778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1EE06-8616-4F35-9D7D-4DC2000F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534B5-AF7F-4292-B5E8-BC7B4604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8825B-EAB1-4F7B-A458-CC53723B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C29-95C9-4C9E-B437-C4FF9476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B02B-D966-4A02-A87A-DA886DCB4C0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3799-49D9-459F-91D0-184459AEB09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5967-4C70-4A31-A876-72A90E6C94B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D376-8113-45D6-988C-B79C668642E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54B3-302B-411F-B1D7-E22EC4E90B5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7563-875A-4934-AC51-8956B37DC4F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4120-0A5B-4088-B972-B8E18F8796C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jpeg"/><Relationship Id="rId3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999720"/>
            <a:ext cx="702936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ема:</a:t>
            </a: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пределение степени с натуральным показателем.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3928680"/>
            <a:ext cx="7407000" cy="1857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ласс: 7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Учитель: Боднар Е.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357120" y="5143680"/>
          <a:ext cx="8643960" cy="1285560"/>
        </p:xfrm>
        <a:graphic>
          <a:graphicData uri="http://schemas.openxmlformats.org/drawingml/2006/table">
            <a:tbl>
              <a:tblPr/>
              <a:tblGrid>
                <a:gridCol w="804960"/>
                <a:gridCol w="803160"/>
                <a:gridCol w="811440"/>
                <a:gridCol w="803160"/>
                <a:gridCol w="723960"/>
                <a:gridCol w="745920"/>
                <a:gridCol w="803520"/>
                <a:gridCol w="811080"/>
                <a:gridCol w="746280"/>
                <a:gridCol w="803160"/>
                <a:gridCol w="78732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44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998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9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998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8/27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998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998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9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998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9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998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/16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998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998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998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1/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9988"/>
                    </a:solidFill>
                  </a:tcPr>
                </a:tc>
              </a:tr>
              <a:tr h="58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cc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c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cc3"/>
                    </a:solidFill>
                  </a:tcPr>
                </a:tc>
              </a:tr>
            </a:tbl>
          </a:graphicData>
        </a:graphic>
      </p:graphicFrame>
      <p:sp>
        <p:nvSpPr>
          <p:cNvPr id="328" name="TextBox 4"/>
          <p:cNvSpPr/>
          <p:nvPr/>
        </p:nvSpPr>
        <p:spPr>
          <a:xfrm>
            <a:off x="4929120" y="5000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TextBox 10" descr=""/>
          <p:cNvPicPr/>
          <p:nvPr/>
        </p:nvPicPr>
        <p:blipFill>
          <a:blip r:embed="rId1"/>
          <a:stretch/>
        </p:blipFill>
        <p:spPr>
          <a:xfrm>
            <a:off x="480960" y="128520"/>
            <a:ext cx="884160" cy="676440"/>
          </a:xfrm>
          <a:prstGeom prst="rect">
            <a:avLst/>
          </a:prstGeom>
          <a:ln w="0">
            <a:noFill/>
          </a:ln>
        </p:spPr>
      </p:pic>
      <p:pic>
        <p:nvPicPr>
          <p:cNvPr id="330" name="Прямоугольник 11" descr=""/>
          <p:cNvPicPr/>
          <p:nvPr/>
        </p:nvPicPr>
        <p:blipFill>
          <a:blip r:embed="rId2"/>
          <a:stretch/>
        </p:blipFill>
        <p:spPr>
          <a:xfrm>
            <a:off x="554040" y="1414440"/>
            <a:ext cx="774720" cy="676440"/>
          </a:xfrm>
          <a:prstGeom prst="rect">
            <a:avLst/>
          </a:prstGeom>
          <a:ln w="0">
            <a:noFill/>
          </a:ln>
        </p:spPr>
      </p:pic>
      <p:pic>
        <p:nvPicPr>
          <p:cNvPr id="331" name="Прямоугольник 12" descr=""/>
          <p:cNvPicPr/>
          <p:nvPr/>
        </p:nvPicPr>
        <p:blipFill>
          <a:blip r:embed="rId3"/>
          <a:stretch/>
        </p:blipFill>
        <p:spPr>
          <a:xfrm>
            <a:off x="554040" y="768240"/>
            <a:ext cx="768240" cy="68256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оугольник 13" descr=""/>
          <p:cNvPicPr/>
          <p:nvPr/>
        </p:nvPicPr>
        <p:blipFill>
          <a:blip r:embed="rId4"/>
          <a:stretch/>
        </p:blipFill>
        <p:spPr>
          <a:xfrm>
            <a:off x="480960" y="2700360"/>
            <a:ext cx="798480" cy="676080"/>
          </a:xfrm>
          <a:prstGeom prst="rect">
            <a:avLst/>
          </a:prstGeom>
          <a:ln w="0">
            <a:noFill/>
          </a:ln>
        </p:spPr>
      </p:pic>
      <p:pic>
        <p:nvPicPr>
          <p:cNvPr id="333" name="Прямоугольник 14" descr=""/>
          <p:cNvPicPr/>
          <p:nvPr/>
        </p:nvPicPr>
        <p:blipFill>
          <a:blip r:embed="rId5"/>
          <a:stretch/>
        </p:blipFill>
        <p:spPr>
          <a:xfrm>
            <a:off x="480960" y="3413160"/>
            <a:ext cx="781200" cy="677880"/>
          </a:xfrm>
          <a:prstGeom prst="rect">
            <a:avLst/>
          </a:prstGeom>
          <a:ln w="0">
            <a:noFill/>
          </a:ln>
        </p:spPr>
      </p:pic>
      <p:pic>
        <p:nvPicPr>
          <p:cNvPr id="334" name="Прямоугольник 15" descr=""/>
          <p:cNvPicPr/>
          <p:nvPr/>
        </p:nvPicPr>
        <p:blipFill>
          <a:blip r:embed="rId6"/>
          <a:stretch/>
        </p:blipFill>
        <p:spPr>
          <a:xfrm>
            <a:off x="554040" y="2054160"/>
            <a:ext cx="750960" cy="676440"/>
          </a:xfrm>
          <a:prstGeom prst="rect">
            <a:avLst/>
          </a:prstGeom>
          <a:ln w="0">
            <a:noFill/>
          </a:ln>
        </p:spPr>
      </p:pic>
      <p:grpSp>
        <p:nvGrpSpPr>
          <p:cNvPr id="335" name="Группа 40"/>
          <p:cNvGrpSpPr/>
          <p:nvPr/>
        </p:nvGrpSpPr>
        <p:grpSpPr>
          <a:xfrm>
            <a:off x="1357200" y="142920"/>
            <a:ext cx="1344600" cy="3970440"/>
            <a:chOff x="1357200" y="142920"/>
            <a:chExt cx="1344600" cy="3970440"/>
          </a:xfrm>
        </p:grpSpPr>
        <p:pic>
          <p:nvPicPr>
            <p:cNvPr id="336" name="TextBox 18" descr=""/>
            <p:cNvPicPr/>
            <p:nvPr/>
          </p:nvPicPr>
          <p:blipFill>
            <a:blip r:embed="rId7"/>
            <a:stretch/>
          </p:blipFill>
          <p:spPr>
            <a:xfrm>
              <a:off x="1644840" y="142920"/>
              <a:ext cx="684720" cy="7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Прямоугольник 25" descr=""/>
            <p:cNvPicPr/>
            <p:nvPr/>
          </p:nvPicPr>
          <p:blipFill>
            <a:blip r:embed="rId8"/>
            <a:stretch/>
          </p:blipFill>
          <p:spPr>
            <a:xfrm>
              <a:off x="1471320" y="761400"/>
              <a:ext cx="937800" cy="7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Прямоугольник 26" descr=""/>
            <p:cNvPicPr/>
            <p:nvPr/>
          </p:nvPicPr>
          <p:blipFill>
            <a:blip r:embed="rId9"/>
            <a:stretch/>
          </p:blipFill>
          <p:spPr>
            <a:xfrm>
              <a:off x="1530720" y="1456560"/>
              <a:ext cx="937800" cy="7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Прямоугольник 28" descr=""/>
            <p:cNvPicPr/>
            <p:nvPr/>
          </p:nvPicPr>
          <p:blipFill>
            <a:blip r:embed="rId10"/>
            <a:stretch/>
          </p:blipFill>
          <p:spPr>
            <a:xfrm>
              <a:off x="1357200" y="2075040"/>
              <a:ext cx="1344600" cy="7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Прямоугольник 29" descr=""/>
            <p:cNvPicPr/>
            <p:nvPr/>
          </p:nvPicPr>
          <p:blipFill>
            <a:blip r:embed="rId11"/>
            <a:stretch/>
          </p:blipFill>
          <p:spPr>
            <a:xfrm>
              <a:off x="1416600" y="2764440"/>
              <a:ext cx="1091520" cy="7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Прямоугольник 30" descr=""/>
            <p:cNvPicPr/>
            <p:nvPr/>
          </p:nvPicPr>
          <p:blipFill>
            <a:blip r:embed="rId12"/>
            <a:stretch/>
          </p:blipFill>
          <p:spPr>
            <a:xfrm>
              <a:off x="1471320" y="3389040"/>
              <a:ext cx="873360" cy="72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2" name="Прямоугольник 32" descr=""/>
          <p:cNvPicPr/>
          <p:nvPr/>
        </p:nvPicPr>
        <p:blipFill>
          <a:blip r:embed="rId13"/>
          <a:stretch/>
        </p:blipFill>
        <p:spPr>
          <a:xfrm>
            <a:off x="6126120" y="85680"/>
            <a:ext cx="774720" cy="67644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33" descr=""/>
          <p:cNvPicPr/>
          <p:nvPr/>
        </p:nvPicPr>
        <p:blipFill>
          <a:blip r:embed="rId14"/>
          <a:stretch/>
        </p:blipFill>
        <p:spPr>
          <a:xfrm>
            <a:off x="6126120" y="798480"/>
            <a:ext cx="817560" cy="67644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оугольник 34" descr=""/>
          <p:cNvPicPr/>
          <p:nvPr/>
        </p:nvPicPr>
        <p:blipFill>
          <a:blip r:embed="rId15"/>
          <a:stretch/>
        </p:blipFill>
        <p:spPr>
          <a:xfrm>
            <a:off x="6126120" y="1657440"/>
            <a:ext cx="817560" cy="677880"/>
          </a:xfrm>
          <a:prstGeom prst="rect">
            <a:avLst/>
          </a:prstGeom>
          <a:ln w="0">
            <a:noFill/>
          </a:ln>
        </p:spPr>
      </p:pic>
      <p:pic>
        <p:nvPicPr>
          <p:cNvPr id="345" name="Прямоугольник 35" descr=""/>
          <p:cNvPicPr/>
          <p:nvPr/>
        </p:nvPicPr>
        <p:blipFill>
          <a:blip r:embed="rId16"/>
          <a:stretch/>
        </p:blipFill>
        <p:spPr>
          <a:xfrm>
            <a:off x="6126120" y="2444760"/>
            <a:ext cx="798480" cy="67644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оугольник 36" descr=""/>
          <p:cNvPicPr/>
          <p:nvPr/>
        </p:nvPicPr>
        <p:blipFill>
          <a:blip r:embed="rId17"/>
          <a:stretch/>
        </p:blipFill>
        <p:spPr>
          <a:xfrm>
            <a:off x="6126120" y="3230640"/>
            <a:ext cx="817560" cy="67608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оугольник 37" descr=""/>
          <p:cNvPicPr/>
          <p:nvPr/>
        </p:nvPicPr>
        <p:blipFill>
          <a:blip r:embed="rId18"/>
          <a:stretch/>
        </p:blipFill>
        <p:spPr>
          <a:xfrm>
            <a:off x="6126120" y="3870360"/>
            <a:ext cx="792360" cy="677880"/>
          </a:xfrm>
          <a:prstGeom prst="rect">
            <a:avLst/>
          </a:prstGeom>
          <a:ln w="0">
            <a:noFill/>
          </a:ln>
        </p:spPr>
      </p:pic>
      <p:grpSp>
        <p:nvGrpSpPr>
          <p:cNvPr id="348" name="Группа 41"/>
          <p:cNvGrpSpPr/>
          <p:nvPr/>
        </p:nvGrpSpPr>
        <p:grpSpPr>
          <a:xfrm>
            <a:off x="6858000" y="214200"/>
            <a:ext cx="1427040" cy="4373640"/>
            <a:chOff x="6858000" y="214200"/>
            <a:chExt cx="1427040" cy="4373640"/>
          </a:xfrm>
        </p:grpSpPr>
        <p:pic>
          <p:nvPicPr>
            <p:cNvPr id="349" name="Прямоугольник 38" descr=""/>
            <p:cNvPicPr/>
            <p:nvPr/>
          </p:nvPicPr>
          <p:blipFill>
            <a:blip r:embed="rId19"/>
            <a:stretch/>
          </p:blipFill>
          <p:spPr>
            <a:xfrm>
              <a:off x="6917760" y="214200"/>
              <a:ext cx="1367280" cy="73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Прямоугольник 39" descr=""/>
            <p:cNvPicPr/>
            <p:nvPr/>
          </p:nvPicPr>
          <p:blipFill>
            <a:blip r:embed="rId20"/>
            <a:stretch/>
          </p:blipFill>
          <p:spPr>
            <a:xfrm>
              <a:off x="6858000" y="769680"/>
              <a:ext cx="1357200" cy="73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Прямоугольник 40" descr=""/>
            <p:cNvPicPr/>
            <p:nvPr/>
          </p:nvPicPr>
          <p:blipFill>
            <a:blip r:embed="rId21"/>
            <a:stretch/>
          </p:blipFill>
          <p:spPr>
            <a:xfrm>
              <a:off x="6917760" y="1612440"/>
              <a:ext cx="1367280" cy="73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Прямоугольник 41" descr=""/>
            <p:cNvPicPr/>
            <p:nvPr/>
          </p:nvPicPr>
          <p:blipFill>
            <a:blip r:embed="rId22"/>
            <a:stretch/>
          </p:blipFill>
          <p:spPr>
            <a:xfrm>
              <a:off x="6972840" y="2454840"/>
              <a:ext cx="1287000" cy="73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Прямоугольник 42" descr=""/>
            <p:cNvPicPr/>
            <p:nvPr/>
          </p:nvPicPr>
          <p:blipFill>
            <a:blip r:embed="rId23"/>
            <a:stretch/>
          </p:blipFill>
          <p:spPr>
            <a:xfrm>
              <a:off x="7153200" y="3291480"/>
              <a:ext cx="946440" cy="73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Прямоугольник 43" descr=""/>
            <p:cNvPicPr/>
            <p:nvPr/>
          </p:nvPicPr>
          <p:blipFill>
            <a:blip r:embed="rId24"/>
            <a:stretch/>
          </p:blipFill>
          <p:spPr>
            <a:xfrm>
              <a:off x="7098120" y="3853080"/>
              <a:ext cx="1101600" cy="73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5" name="Группа 42"/>
          <p:cNvGrpSpPr/>
          <p:nvPr/>
        </p:nvGrpSpPr>
        <p:grpSpPr>
          <a:xfrm>
            <a:off x="4071960" y="857160"/>
            <a:ext cx="1108080" cy="2659320"/>
            <a:chOff x="4071960" y="857160"/>
            <a:chExt cx="1108080" cy="2659320"/>
          </a:xfrm>
        </p:grpSpPr>
        <p:pic>
          <p:nvPicPr>
            <p:cNvPr id="356" name="Прямоугольник 44" descr=""/>
            <p:cNvPicPr/>
            <p:nvPr/>
          </p:nvPicPr>
          <p:blipFill>
            <a:blip r:embed="rId25"/>
            <a:stretch/>
          </p:blipFill>
          <p:spPr>
            <a:xfrm>
              <a:off x="4071960" y="857160"/>
              <a:ext cx="1108080" cy="72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Прямоугольник 45" descr=""/>
            <p:cNvPicPr/>
            <p:nvPr/>
          </p:nvPicPr>
          <p:blipFill>
            <a:blip r:embed="rId26"/>
            <a:stretch/>
          </p:blipFill>
          <p:spPr>
            <a:xfrm>
              <a:off x="4071960" y="2791440"/>
              <a:ext cx="1041120" cy="72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Прямоугольник 46" descr=""/>
            <p:cNvPicPr/>
            <p:nvPr/>
          </p:nvPicPr>
          <p:blipFill>
            <a:blip r:embed="rId27"/>
            <a:stretch/>
          </p:blipFill>
          <p:spPr>
            <a:xfrm>
              <a:off x="4071960" y="1824120"/>
              <a:ext cx="1108080" cy="72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9" name="Прямоугольник 48" descr=""/>
          <p:cNvPicPr/>
          <p:nvPr/>
        </p:nvPicPr>
        <p:blipFill>
          <a:blip r:embed="rId28"/>
          <a:stretch/>
        </p:blipFill>
        <p:spPr>
          <a:xfrm>
            <a:off x="3413160" y="1841400"/>
            <a:ext cx="750960" cy="67644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оугольник 38" descr=""/>
          <p:cNvPicPr/>
          <p:nvPr/>
        </p:nvPicPr>
        <p:blipFill>
          <a:blip r:embed="rId29"/>
          <a:stretch/>
        </p:blipFill>
        <p:spPr>
          <a:xfrm>
            <a:off x="3413160" y="768240"/>
            <a:ext cx="774720" cy="682560"/>
          </a:xfrm>
          <a:prstGeom prst="rect">
            <a:avLst/>
          </a:prstGeom>
          <a:ln w="0">
            <a:noFill/>
          </a:ln>
        </p:spPr>
      </p:pic>
      <p:pic>
        <p:nvPicPr>
          <p:cNvPr id="361" name="Прямоугольник 39" descr=""/>
          <p:cNvPicPr/>
          <p:nvPr/>
        </p:nvPicPr>
        <p:blipFill>
          <a:blip r:embed="rId30"/>
          <a:stretch/>
        </p:blipFill>
        <p:spPr>
          <a:xfrm>
            <a:off x="3340080" y="2766960"/>
            <a:ext cx="774720" cy="6825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C:\Documents and Settings\Завуч\Рабочий стол\decart.jpg"/>
          <p:cNvPicPr/>
          <p:nvPr/>
        </p:nvPicPr>
        <p:blipFill>
          <a:blip r:embed="rId31"/>
          <a:stretch/>
        </p:blipFill>
        <p:spPr>
          <a:xfrm>
            <a:off x="2857680" y="214200"/>
            <a:ext cx="35002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22 0.01829 C -0.02778 0.00903 -0.02813 0.00857 -0.03386 0.00371 C -0.04723 0.00556 -0.04619 0.00718 -0.05678 0.01181 C -0.0724 0.04306 -0.05122 0.08542 -0.0665 0.11597 C -0.06841 0.12639 -0.07257 0.13496 -0.07744 0.14352 C -0.07935 0.15625 -0.08299 0.16829 -0.0849 0.18102 C -0.0856 0.24468 -0.08525 0.30695 -0.09462 0.36945 C -0.09428 0.43287 -0.0941 0.4963 -0.09341 0.55972 C -0.09323 0.5706 -0.09237 0.56783 -0.0849 0.56922 C -0.08386 0.60047 -0.08542 0.60556 -0.075 0.62616 C -0.07466 0.62847 -0.075 0.63148 -0.07379 0.63287 C -0.07188 0.63496 -0.0665 0.63611 -0.0665 0.63611 C -0.04462 0.65625 -0.03421 0.6456 0.00296 0.64769 C 0.02119 0.64722 0.03959 0.64815 0.05782 0.64584 C 0.05886 0.64584 0.05834 0.64236 0.05886 0.64097 C 0.05955 0.63982 0.06042 0.63889 0.06129 0.63773 C 0.0632 0.63079 0.06268 0.63426 0.06268 0.62616 E">
                                      <p:cBhvr>
                                        <p:cTn id="6" dur="5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46 -0.00208 C 0.01771 -0.00092 0.0217 0.00023 0.02743 0.00301 C 0.03333 0.01505 0.03056 0.00972 0.03594 0.01922 C 0.03524 0.10255 0.03594 0.13426 0.03229 0.19792 C 0.03368 0.25417 0.03611 0.28588 0.03837 0.33449 C 0.03872 0.35625 0.03906 0.37778 0.03958 0.39954 C 0.03993 0.41366 0.03924 0.42801 0.0408 0.4419 C 0.04132 0.44584 0.04566 0.45162 0.04566 0.45185 C 0.04531 0.46945 0.04705 0.48773 0.04444 0.50533 C 0.04392 0.50857 0.03958 0.50741 0.03715 0.50857 C 0.02483 0.51412 0.01111 0.50903 -0.00191 0.51019 C -0.01076 0.51065 -0.01979 0.51135 -0.02865 0.51181 C -0.03368 0.51412 -0.03576 0.51968 -0.03976 0.52477 C -0.04375 0.53565 -0.0474 0.54167 -0.05313 0.55093 C -0.06215 0.56551 -0.06875 0.58496 -0.07257 0.60301 C -0.07222 0.60741 -0.07448 0.61505 -0.07135 0.61597 C -0.06736 0.61713 -0.06493 0.60949 -0.06163 0.60625 C -0.05625 0.60093 -0.05052 0.59653 -0.04462 0.59306 C -0.04045 0.59074 -0.03663 0.58681 -0.03229 0.58496 C -0.02986 0.58357 -0.025 0.58172 -0.025 0.58195 C -0.02465 0.5801 -0.02465 0.57755 -0.02378 0.57685 C -0.02292 0.5757 -0.02031 0.57685 -0.02014 0.57523 C -0.01892 0.56297 -0.02014 0.55047 -0.02014 0.5375 E">
                                      <p:cBhvr>
                                        <p:cTn id="10" dur="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 0.00417 C -0.00034 0.00324 0.01945 0.00209 0.03993 -0.00069 C 0.04601 0.00047 0.05209 0.00116 0.05816 0.00255 C 0.06476 0.00394 0.07778 0.00741 0.07778 0.00764 C 0.09202 0.00695 0.10625 0.00648 0.12049 0.00579 C 0.12986 0.00533 0.13924 0.00556 0.14844 0.00417 C 0.15105 0.00371 0.15573 0.00093 0.15573 0.00116 C 0.17118 0.00209 0.20105 -0.00069 0.21927 0.00903 C 0.22431 0.01574 0.2283 0.0176 0.23507 0.0206 C 0.24028 0.02755 0.24688 0.02986 0.25209 0.03681 C 0.25434 0.05185 0.25973 0.04885 0.26806 0.05625 C 0.27188 0.06389 0.27118 0.07269 0.27414 0.08056 C 0.27726 0.08935 0.28316 0.09584 0.2875 0.10347 C 0.28716 0.15278 0.28837 0.20209 0.28629 0.25139 C 0.28611 0.2544 0.28143 0.24792 0.28143 0.24491 C 0.28143 0.2426 0.28473 0.24283 0.28629 0.24167 C 0.28542 0.24329 0.28525 0.24653 0.28386 0.24653 C 0.28264 0.24653 0.28143 0.24236 0.28264 0.24167 C 0.28455 0.24051 0.28664 0.24283 0.28872 0.24329 C 0.29375 0.25 0.29584 0.2544 0.30209 0.25949 C 0.31893 0.25625 0.30834 0.26019 0.3033 0.25787 C 0.30591 0.25324 0.30677 0.24769 0.31198 0.25301 C 0.31302 0.25417 0.31268 0.25625 0.3132 0.25787 C 0.31389 0.25972 0.31702 0.26273 0.31563 0.26273 C 0.31389 0.26273 0.3132 0.25949 0.31198 0.25787 C 0.31164 0.25949 0.31198 0.26273 0.31077 0.26273 C 0.30903 0.26273 0.30712 0.25556 0.30695 0.25787 C 0.3066 0.2625 0.3099 0.28079 0.31198 0.28727 C 0.3125 0.28912 0.31545 0.29074 0.31441 0.29213 C 0.31337 0.29352 0.31198 0.29005 0.31077 0.28889 C 0.31042 0.29051 0.30903 0.29213 0.30955 0.29375 C 0.31007 0.2956 0.31233 0.2956 0.3132 0.29699 C 0.31893 0.30625 0.31198 0.30185 0.31927 0.3051 C 0.32014 0.30672 0.32066 0.3088 0.3217 0.30996 C 0.32309 0.31158 0.32535 0.31135 0.32657 0.3132 C 0.329 0.31713 0.32761 0.32315 0.329 0.32778 C 0.32952 0.32963 0.33073 0.33079 0.33143 0.33264 C 0.33247 0.33519 0.33247 0.33843 0.33386 0.34074 C 0.33611 0.34422 0.34028 0.34398 0.34358 0.3456 C 0.35018 0.35486 0.35 0.35417 0.36077 0.35232 C 0.36771 0.34236 0.35938 0.34329 0.37535 0.3456 C 0.37153 0.3382 0.36459 0.33449 0.35955 0.32778 C 0.35486 0.33658 0.35938 0.3338 0.36563 0.33588 C 0.37292 0.34329 0.38143 0.34815 0.38872 0.35556 C 0.39306 0.35996 0.3915 0.36181 0.39723 0.36366 C 0.40209 0.36528 0.40712 0.36574 0.41198 0.3669 C 0.41511 0.36968 0.43021 0.375 0.41927 0.36528 C 0.41736 0.35764 0.41719 0.34398 0.40955 0.34398 E">
                                      <p:cBhvr>
                                        <p:cTn id="14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1967 C 0.01667 -0.02153 0.0316 -0.02592 0.04705 -0.03102 C 0.04827 -0.03148 0.04948 -0.03194 0.0507 -0.03264 C 0.05209 -0.03356 0.05296 -0.03541 0.05435 -0.03588 C 0.06632 -0.04028 0.08126 -0.03958 0.0934 -0.04074 C 0.11945 -0.0456 0.11546 -0.04352 0.15799 -0.04074 C 0.16441 -0.03727 0.17084 -0.0331 0.17744 -0.03102 C 0.18664 -0.01875 0.19723 -0.00949 0.20799 -2.59259E-006 C 0.22275 0.0132 0.19966 -0.00301 0.2165 0.0081 C 0.21685 0.00972 0.21685 0.01158 0.21771 0.01297 C 0.21858 0.01459 0.22066 0.01459 0.22136 0.01621 C 0.22275 0.01968 0.22257 0.02408 0.22379 0.02755 C 0.22466 0.0301 0.22622 0.03195 0.22744 0.03403 C 0.24289 0.11597 0.2257 0.21806 0.21893 0.30394 C 0.21754 0.32199 0.21928 0.34653 0.20678 0.35764 C 0.20487 0.36528 0.19879 0.36829 0.19462 0.37385 C 0.19237 0.38079 0.18976 0.38889 0.18473 0.39329 C 0.18126 0.3963 0.17726 0.39607 0.17379 0.4 C 0.16702 0.4081 0.1665 0.41181 0.15799 0.41459 C 0.15348 0.41852 0.15278 0.42361 0.14827 0.42755 C 0.14115 0.44236 0.14584 0.43935 0.13716 0.44213 C 0.12414 0.4551 0.11494 0.47361 0.10556 0.49097 C 0.10139 0.49885 0.09079 0.51204 0.09079 0.51227 C 0.08628 0.52431 0.07969 0.53195 0.07257 0.54144 C 0.06355 0.55347 0.07379 0.54352 0.06528 0.55116 C 0.06355 0.55463 0.05053 0.57778 0.04948 0.58195 C 0.04914 0.58357 0.04914 0.58542 0.04827 0.58681 C 0.04601 0.59051 0.04202 0.59283 0.03959 0.59676 C 0.03611 0.60232 0.03455 0.60903 0.03108 0.61459 C 0.02639 0.62222 0.02223 0.62917 0.01771 0.63727 C 0.0132 0.64537 0.00348 0.66551 -0.00295 0.66829 C -0.00364 0.66945 -0.00729 0.67685 -0.0092 0.67801 C -0.01146 0.67963 -0.0165 0.68125 -0.0165 0.68148 C -0.02136 0.69097 -0.03334 0.69607 -0.04202 0.69908 C -0.03924 0.69352 -0.03334 0.68611 -0.04322 0.6926 C -0.04237 0.69097 -0.04166 0.68912 -0.0408 0.68773 C -0.03975 0.68588 -0.03542 0.68287 -0.03715 0.68287 C -0.03959 0.68287 -0.04098 0.68727 -0.04322 0.68773 C -0.05053 0.68935 -0.05799 0.68889 -0.06528 0.68935 C -0.0731 0.70486 -0.07013 0.70672 -0.07013 0.73172 E">
                                      <p:cBhvr>
                                        <p:cTn id="18" dur="5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92 C 0.00243 -0.00208 0.00521 -0.00231 0.00729 -0.00393 C 0.00851 -0.00509 0.00955 -0.00625 0.01094 -0.00694 C 0.0158 -0.00926 0.02257 -0.01041 0.02743 -0.01157 C 0.03872 -0.0206 0.04219 -0.01528 0.06024 -0.01319 C 0.06979 -0.00717 0.07986 -0.0081 0.09028 -0.00555 C 0.09809 -0.00347 0.10312 -0.00023 0.11042 0.00232 C 0.11424 0.00371 0.11788 0.00417 0.1217 0.00556 C 0.12552 0.00695 0.13299 0.00996 0.13299 0.01019 C 0.13611 0.01297 0.13854 0.01644 0.14167 0.01945 C 0.14618 0.02338 0.14635 0.0206 0.14948 0.02547 C 0.15122 0.02824 0.15451 0.03472 0.15451 0.03496 C 0.15608 0.04283 0.15851 0.05185 0.16319 0.05764 C 0.16441 0.06551 0.16424 0.07199 0.17083 0.07477 C 0.1717 0.07894 0.17205 0.08334 0.17326 0.08704 C 0.17413 0.08982 0.17622 0.0919 0.17691 0.09491 C 0.1809 0.11019 0.18108 0.12709 0.18455 0.1426 C 0.18854 0.15972 0.19427 0.1757 0.19705 0.19329 C 0.19792 0.22246 0.19861 0.25185 0.19965 0.28102 C 0.20087 0.31667 0.20052 0.3669 0.21979 0.39815 C 0.22448 0.41898 0.22917 0.45741 0.24115 0.47199 C 0.2441 0.4831 0.23993 0.47014 0.24601 0.48148 C 0.2467 0.48264 0.24635 0.48496 0.24722 0.48588 C 0.24844 0.48704 0.25017 0.48704 0.25139 0.4875 C 0.25486 0.50301 0.26337 0.51181 0.26753 0.52778 C 0.26788 0.52917 0.26997 0.52871 0.27135 0.52917 C 0.27448 0.53079 0.27708 0.53357 0.28003 0.53519 C 0.29618 0.55996 0.31997 0.55741 0.3441 0.55996 C 0.3651 0.56551 0.38594 0.56713 0.40729 0.56922 C 0.4191 0.56852 0.43993 0.57523 0.43993 0.56135 E">
                                      <p:cBhvr>
                                        <p:cTn id="22" dur="5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36 -0.03264 C 0.025 -0.03218 0.02882 -0.03287 0.03229 -0.03102 C 0.0342 -0.03009 0.03455 -0.02662 0.03594 -0.02454 C 0.04566 -0.00972 0.03594 -0.02755 0.04566 -0.00833 C 0.04948 -0.00046 0.04792 0.00718 0.05417 0.01273 C 0.06007 0.02454 0.06233 0.04213 0.07136 0.05023 C 0.07292 0.05671 0.07622 0.06065 0.07865 0.06643 C 0.08282 0.07685 0.08559 0.08634 0.0908 0.09583 C 0.09341 0.10995 0.09584 0.12546 0.10174 0.13796 C 0.10261 0.13981 0.10434 0.14097 0.10538 0.14282 C 0.11163 0.1537 0.11875 0.16597 0.12257 0.1787 C 0.12344 0.18889 0.12448 0.1993 0.125 0.20949 C 0.12604 0.23287 0.12587 0.25625 0.12743 0.2794 C 0.12778 0.28588 0.13108 0.2912 0.13229 0.29745 C 0.13577 0.31574 0.13507 0.31551 0.13716 0.33796 C 0.13681 0.34514 0.13785 0.35255 0.13594 0.35926 C 0.13525 0.36134 0.13403 0.35486 0.13229 0.35417 C 0.13108 0.3537 0.12986 0.35532 0.12865 0.35579 C 0.13038 0.35833 0.13299 0.35995 0.13472 0.3625 C 0.14393 0.37639 0.13629 0.37245 0.14566 0.37546 C 0.15 0.3794 0.15643 0.38287 0.16146 0.38518 C 0.16354 0.39074 0.16441 0.3956 0.16771 0.39977 C 0.17188 0.41643 0.16858 0.41065 0.175 0.41921 C 0.17761 0.4294 0.18108 0.42824 0.18837 0.43565 C 0.18993 0.43727 0.19167 0.43889 0.19323 0.44051 C 0.19445 0.44167 0.19653 0.4456 0.19688 0.44375 C 0.19827 0.43588 0.19688 0.42731 0.19688 0.41921 E">
                                      <p:cBhvr>
                                        <p:cTn id="26" dur="5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-0.01088 C 0.0125 -0.01134 0.01701 -0.01157 0.02135 -0.0125 C 0.02396 -0.0132 0.02865 -0.01574 0.02865 -0.01551 C 0.05938 -0.00764 0.02101 -0.0169 0.08351 -0.00926 C 0.0908 -0.00833 0.0974 -0.00347 0.10434 -0.00116 C 0.11128 0.0081 0.12101 0.00555 0.12986 0.01018 C 0.13316 0.01204 0.13958 0.01667 0.13958 0.0169 C 0.14288 0.02338 0.16007 0.04005 0.16649 0.04444 C 0.17014 0.05116 0.175 0.06111 0.17986 0.06551 C 0.1849 0.08588 0.18698 0.10694 0.19201 0.12731 C 0.19392 0.13472 0.20035 0.14143 0.20434 0.14676 C 0.20833 0.15741 0.21337 0.16667 0.21649 0.17778 C 0.21979 0.18912 0.22118 0.2 0.22622 0.21018 C 0.22535 0.2706 0.21337 0.39514 0.23351 0.4412 C 0.24566 0.53079 0.24028 0.62986 0.23351 0.72083 C 0.23316 0.7544 0.23299 0.78796 0.23229 0.82153 C 0.23212 0.82546 0.22986 0.83287 0.22986 0.8331 E">
                                      <p:cBhvr>
                                        <p:cTn id="30" dur="5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51 -0.00324 C -0.04045 -0.00255 -0.05208 -0.00463 -0.0625 4.07407E-006 C -0.06528 0.00115 -0.06719 0.0037 -0.06979 0.00486 C -0.07274 0.01064 -0.07691 0.01504 -0.07951 0.02129 C -0.08055 0.02384 -0.08073 0.02685 -0.08194 0.02939 C -0.08437 0.03472 -0.08906 0.04051 -0.09167 0.0456 C -0.09375 0.05393 -0.09983 0.05972 -0.10399 0.06666 C -0.10677 0.07801 -0.1125 0.08379 -0.11858 0.0912 C -0.12118 0.09421 -0.12344 0.09768 -0.12587 0.10092 C -0.12743 0.10301 -0.13073 0.1074 -0.13073 0.10763 C -0.13229 0.11388 -0.13437 0.11713 -0.13802 0.12199 C -0.14392 0.14143 -0.1368 0.12083 -0.1441 0.13495 C -0.1467 0.14004 -0.15139 0.15115 -0.15139 0.15138 C -0.15278 0.16111 -0.15365 0.16134 -0.15885 0.16759 C -0.16146 0.1706 -0.16615 0.17731 -0.16615 0.17754 C -0.16944 0.19027 -0.16458 0.17523 -0.17101 0.18379 C -0.17378 0.1875 -0.17621 0.19213 -0.1783 0.19676 C -0.18368 0.20856 -0.18733 0.22106 -0.19288 0.23263 C -0.19531 0.23773 -0.19583 0.24444 -0.19896 0.24884 C -0.20087 0.25185 -0.20642 0.25532 -0.20642 0.25555 C -0.20816 0.25879 -0.21076 0.26157 -0.2125 0.26504 C -0.21719 0.27453 -0.2092 0.26597 -0.21736 0.27314 C -0.22153 0.28125 -0.22882 0.28472 -0.23437 0.2912 C -0.2401 0.29768 -0.24549 0.30439 -0.25017 0.31226 C -0.25642 0.32291 -0.26319 0.33287 -0.26979 0.34305 C -0.275 0.35115 -0.27865 0.35995 -0.28437 0.36759 C -0.28646 0.37592 -0.29236 0.37801 -0.29653 0.38541 C -0.30608 0.40254 -0.29375 0.38171 -0.30521 0.39676 C -0.3066 0.39861 -0.30729 0.40138 -0.30885 0.40324 C -0.31302 0.4081 -0.31962 0.41088 -0.32344 0.4162 C -0.32882 0.42361 -0.3342 0.43171 -0.34167 0.43426 C -0.34635 0.44351 -0.35538 0.45092 -0.36128 0.45856 C -0.36528 0.46388 -0.36632 0.46898 -0.37101 0.47314 C -0.37187 0.47476 -0.3724 0.47662 -0.37344 0.47801 C -0.37483 0.47986 -0.37708 0.48078 -0.3783 0.48287 C -0.37917 0.48426 -0.37865 0.48657 -0.37951 0.48796 C -0.3816 0.49166 -0.3868 0.49768 -0.3868 0.49791 C -0.38906 0.50671 -0.39809 0.5074 -0.40399 0.51226 C -0.41076 0.51782 -0.41736 0.52199 -0.42465 0.52685 C -0.42674 0.52824 -0.4276 0.53171 -0.42951 0.53333 C -0.43333 0.53657 -0.43837 0.53564 -0.44288 0.53657 C -0.44462 0.53726 -0.4493 0.53888 -0.45017 0.54143 C -0.45174 0.5456 -0.45139 0.55046 -0.4526 0.55463 C -0.45694 0.56944 -0.45833 0.58194 -0.45885 0.59838 C -0.45903 0.60324 -0.45885 0.6081 -0.45885 0.61296 E">
                                      <p:cBhvr>
                                        <p:cTn id="34" dur="5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1 -0.0007 C 0.01215 -0.00949 0.01771 -0.00648 0.02378 -0.00532 C 0.03177 0.01412 0.02257 0.04051 0.03038 0.05972 C 0.03941 0.11088 0.03489 0.16898 0.02934 0.22176 C 0.02864 0.24884 0.02812 0.2713 0.02465 0.29722 C 0.02726 0.3125 0.02691 0.32731 0.02378 0.34213 C 0.02292 0.35625 0.02309 0.37523 0.01996 0.38866 C 0.01875 0.39329 0.01649 0.39792 0.0151 0.40231 C 0.01354 0.40787 0.01319 0.41389 0.01128 0.41944 C 0.01059 0.42847 0.00885 0.44236 0.00573 0.45023 C 0.00538 0.45231 0.00555 0.45486 0.00469 0.45648 C 0.00312 0.45926 -0.00122 0.46273 -0.00122 0.46296 C -0.0033 0.46805 -0.00504 0.47153 -0.00868 0.47338 C -0.0099 0.47639 -0.01007 0.48032 -0.01163 0.48264 C -0.01597 0.48981 -0.01892 0.48727 -0.02483 0.48727 E">
                                      <p:cBhvr>
                                        <p:cTn id="38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03 -0.0331 C 0.03958 -0.03032 0.03906 -0.03356 0.07274 -0.01852 C 0.07691 -0.01296 0.07986 -0.01111 0.08246 -0.00393 C 0.08211 0.07732 0.08316 0.1588 0.08125 0.24005 C 0.08107 0.24769 0.07031 0.26227 0.06545 0.26435 C 0.06441 0.26875 0.0618 0.27547 0.0618 0.28079 E">
                                      <p:cBhvr>
                                        <p:cTn id="42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6840" y="571320"/>
            <a:ext cx="380988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1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1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е Декарт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1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«…Для того чтобы совершенствовать ум, надо больше размышлять, чем заучивать…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2" descr="C:\Documents and Settings\Завуч\Рабочий стол\decart.jpg"/>
          <p:cNvPicPr/>
          <p:nvPr/>
        </p:nvPicPr>
        <p:blipFill>
          <a:blip r:embed="rId1"/>
          <a:stretch/>
        </p:blipFill>
        <p:spPr>
          <a:xfrm>
            <a:off x="4500720" y="642960"/>
            <a:ext cx="421452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3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3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стно: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, что (- 1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.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но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ешений имеет уравнение?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Прямоугольник 1" descr=""/>
          <p:cNvPicPr/>
          <p:nvPr/>
        </p:nvPicPr>
        <p:blipFill>
          <a:blip r:embed="rId1"/>
          <a:stretch/>
        </p:blipFill>
        <p:spPr>
          <a:xfrm>
            <a:off x="633240" y="324000"/>
            <a:ext cx="8017200" cy="815760"/>
          </a:xfrm>
          <a:prstGeom prst="rect">
            <a:avLst/>
          </a:prstGeom>
          <a:ln w="0">
            <a:noFill/>
          </a:ln>
        </p:spPr>
      </p:pic>
      <p:pic>
        <p:nvPicPr>
          <p:cNvPr id="368" name="TextBox 4" descr=""/>
          <p:cNvPicPr/>
          <p:nvPr/>
        </p:nvPicPr>
        <p:blipFill>
          <a:blip r:embed="rId2"/>
          <a:stretch/>
        </p:blipFill>
        <p:spPr>
          <a:xfrm>
            <a:off x="2084400" y="1566720"/>
            <a:ext cx="1176480" cy="7495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6"/>
          <p:cNvSpPr/>
          <p:nvPr/>
        </p:nvSpPr>
        <p:spPr>
          <a:xfrm>
            <a:off x="4500720" y="1571760"/>
            <a:ext cx="2857320" cy="65448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- 28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Прямоугольник 10" descr=""/>
          <p:cNvPicPr/>
          <p:nvPr/>
        </p:nvPicPr>
        <p:blipFill>
          <a:blip r:embed="rId3"/>
          <a:stretch/>
        </p:blipFill>
        <p:spPr>
          <a:xfrm>
            <a:off x="2298600" y="2066760"/>
            <a:ext cx="798480" cy="749520"/>
          </a:xfrm>
          <a:prstGeom prst="rect">
            <a:avLst/>
          </a:prstGeom>
          <a:ln w="0">
            <a:noFill/>
          </a:ln>
        </p:spPr>
      </p:pic>
      <p:sp>
        <p:nvSpPr>
          <p:cNvPr id="371" name="TextBox 11"/>
          <p:cNvSpPr/>
          <p:nvPr/>
        </p:nvSpPr>
        <p:spPr>
          <a:xfrm>
            <a:off x="4357800" y="2071800"/>
            <a:ext cx="3000240" cy="654480"/>
          </a:xfrm>
          <a:prstGeom prst="rect">
            <a:avLst/>
          </a:prstGeom>
          <a:solidFill>
            <a:srgbClr val="d599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- 28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TextBox 12" descr=""/>
          <p:cNvPicPr/>
          <p:nvPr/>
        </p:nvPicPr>
        <p:blipFill>
          <a:blip r:embed="rId4"/>
          <a:stretch/>
        </p:blipFill>
        <p:spPr>
          <a:xfrm>
            <a:off x="1725480" y="2567160"/>
            <a:ext cx="2035440" cy="749160"/>
          </a:xfrm>
          <a:prstGeom prst="rect">
            <a:avLst/>
          </a:prstGeom>
          <a:ln w="0">
            <a:noFill/>
          </a:ln>
        </p:spPr>
      </p:pic>
      <p:sp>
        <p:nvSpPr>
          <p:cNvPr id="373" name="TextBox 14"/>
          <p:cNvSpPr/>
          <p:nvPr/>
        </p:nvSpPr>
        <p:spPr>
          <a:xfrm>
            <a:off x="4286160" y="2714760"/>
            <a:ext cx="2500560" cy="654480"/>
          </a:xfrm>
          <a:prstGeom prst="rect">
            <a:avLst/>
          </a:prstGeom>
          <a:solidFill>
            <a:srgbClr val="f886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28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TextBox 16" descr=""/>
          <p:cNvPicPr/>
          <p:nvPr/>
        </p:nvPicPr>
        <p:blipFill>
          <a:blip r:embed="rId5"/>
          <a:stretch/>
        </p:blipFill>
        <p:spPr>
          <a:xfrm>
            <a:off x="1725480" y="3067200"/>
            <a:ext cx="2005200" cy="749160"/>
          </a:xfrm>
          <a:prstGeom prst="rect">
            <a:avLst/>
          </a:prstGeom>
          <a:ln w="0">
            <a:noFill/>
          </a:ln>
        </p:spPr>
      </p:pic>
      <p:sp>
        <p:nvSpPr>
          <p:cNvPr id="375" name="TextBox 17"/>
          <p:cNvSpPr/>
          <p:nvPr/>
        </p:nvSpPr>
        <p:spPr>
          <a:xfrm>
            <a:off x="4857840" y="3214800"/>
            <a:ext cx="4000320" cy="654480"/>
          </a:xfrm>
          <a:prstGeom prst="rect">
            <a:avLst/>
          </a:prstGeom>
          <a:solidFill>
            <a:srgbClr val="b0ba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- 37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&gt; (- 37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TextBox 18" descr=""/>
          <p:cNvPicPr/>
          <p:nvPr/>
        </p:nvPicPr>
        <p:blipFill>
          <a:blip r:embed="rId6"/>
          <a:stretch/>
        </p:blipFill>
        <p:spPr>
          <a:xfrm>
            <a:off x="1878120" y="3565440"/>
            <a:ext cx="1779480" cy="750960"/>
          </a:xfrm>
          <a:prstGeom prst="rect">
            <a:avLst/>
          </a:prstGeom>
          <a:ln w="0">
            <a:noFill/>
          </a:ln>
        </p:spPr>
      </p:pic>
      <p:sp>
        <p:nvSpPr>
          <p:cNvPr id="377" name="TextBox 19"/>
          <p:cNvSpPr/>
          <p:nvPr/>
        </p:nvSpPr>
        <p:spPr>
          <a:xfrm>
            <a:off x="4214880" y="3714840"/>
            <a:ext cx="3714840" cy="654480"/>
          </a:xfrm>
          <a:prstGeom prst="rect">
            <a:avLst/>
          </a:prstGeom>
          <a:solidFill>
            <a:srgbClr val="faa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 - 37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 - 37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TextBox 20" descr=""/>
          <p:cNvPicPr/>
          <p:nvPr/>
        </p:nvPicPr>
        <p:blipFill>
          <a:blip r:embed="rId7"/>
          <a:stretch/>
        </p:blipFill>
        <p:spPr>
          <a:xfrm>
            <a:off x="1090440" y="4065480"/>
            <a:ext cx="3256200" cy="7509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21"/>
          <p:cNvSpPr/>
          <p:nvPr/>
        </p:nvSpPr>
        <p:spPr>
          <a:xfrm>
            <a:off x="4236480" y="4286160"/>
            <a:ext cx="2629800" cy="654480"/>
          </a:xfrm>
          <a:prstGeom prst="rect">
            <a:avLst/>
          </a:prstGeom>
          <a:solidFill>
            <a:srgbClr val="a9d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 - 0,1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TextBox 22" descr=""/>
          <p:cNvPicPr/>
          <p:nvPr/>
        </p:nvPicPr>
        <p:blipFill>
          <a:blip r:embed="rId8"/>
          <a:stretch/>
        </p:blipFill>
        <p:spPr>
          <a:xfrm>
            <a:off x="1731960" y="4638600"/>
            <a:ext cx="2157480" cy="750960"/>
          </a:xfrm>
          <a:prstGeom prst="rect">
            <a:avLst/>
          </a:prstGeom>
          <a:ln w="0">
            <a:noFill/>
          </a:ln>
        </p:spPr>
      </p:pic>
      <p:sp>
        <p:nvSpPr>
          <p:cNvPr id="381" name="TextBox 23"/>
          <p:cNvSpPr/>
          <p:nvPr/>
        </p:nvSpPr>
        <p:spPr>
          <a:xfrm>
            <a:off x="4731840" y="4857840"/>
            <a:ext cx="2366280" cy="6544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( 0,1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Прямоугольник 25" descr=""/>
          <p:cNvPicPr/>
          <p:nvPr/>
        </p:nvPicPr>
        <p:blipFill>
          <a:blip r:embed="rId9"/>
          <a:stretch/>
        </p:blipFill>
        <p:spPr>
          <a:xfrm>
            <a:off x="1511280" y="5278320"/>
            <a:ext cx="2603520" cy="75096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27"/>
          <p:cNvSpPr/>
          <p:nvPr/>
        </p:nvSpPr>
        <p:spPr>
          <a:xfrm>
            <a:off x="4374720" y="5429160"/>
            <a:ext cx="2570760" cy="654480"/>
          </a:xfrm>
          <a:prstGeom prst="rect">
            <a:avLst/>
          </a:prstGeom>
          <a:solidFill>
            <a:srgbClr val="d7d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( 0,1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8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&lt;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56840" y="500040"/>
            <a:ext cx="74977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амостоятельная работа: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.                           2 вариант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1)  3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5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2)  7 - 7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1)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-1)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3)  (-1)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-1)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*5/6)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4)  (4*3/8)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*(0,3)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(-2)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5)  3000*(0,2) – (-2)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3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571680"/>
            <a:ext cx="74995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шение: 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.                                            2 вариант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6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36+8=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4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1)  3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27+25=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2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2 - 2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2-32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=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3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2)  7 - 7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7-49=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(-1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-1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-1+1=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3)  (-1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-1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1+1=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 (3*5/6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(5/2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5/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4)  (4*3/8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3/2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9/4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2000*(0,3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(-2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                         5)  3000*(0,2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(-2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000*0,0081-16=16,2-16=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2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=3000*0,008-64=24-64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=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40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3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499680"/>
            <a:ext cx="74995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не Декарт: </a:t>
            </a:r>
            <a:br>
              <a:rPr sz="6000"/>
            </a:b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«…Разум – это зажигательное стекло, которое, воспламеняя, само остается холодным…»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3:11:19Z</dcterms:created>
  <dc:creator>Завуч</dc:creator>
  <dc:description/>
  <dc:language>en-US</dc:language>
  <cp:lastModifiedBy>Пользователь Windows</cp:lastModifiedBy>
  <dcterms:modified xsi:type="dcterms:W3CDTF">2013-02-28T23:18:40Z</dcterms:modified>
  <cp:revision>21</cp:revision>
  <dc:subject/>
  <dc:title>Слайд 1</dc:title>
</cp:coreProperties>
</file>