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comments/comment7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Ильсея" initials="И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<Relationship Id="rId27" Type="http://schemas.openxmlformats.org/officeDocument/2006/relationships/commentAuthors" Target="commentAuthors.xml"/>
</Relationships>
</file>

<file path=ppt/comments/comment7.xml><?xml version="1.0" encoding="utf-8"?>
<p:cmLst xmlns:p="http://schemas.openxmlformats.org/presentationml/2006/main">
  <p:cm authorId="0" dt="2013-03-21T21:57:17.500000000" idx="1">
    <p:pos x="10" y="1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7130-200C-499C-BD62-DA8D405A3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A8B6-D521-41CB-B66A-7B95D090B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FFE8-8655-49C9-BCE6-76D5ADE13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128B-ED89-46F7-A48D-C1AAB393A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56452-E722-409B-9380-FF0AD03A6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78936-0833-42E4-B5AD-684D6648C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7AE04-85FF-4A95-9D7F-C3ED071C5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AB121-9AE6-48FA-AF8C-9A05ACC18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4AD0A-CDD1-4C5B-A66C-EA9A8C5DA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635FC-8897-4FFB-9673-C659B9BE2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49A26-CD80-4891-814F-5A49552A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3D58-8DEA-4A17-820E-6A5D57659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5538C-B16F-41AF-B4CB-ADB1B4C8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A37E9-441D-4686-A0F9-C2F4A6C8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F296C-8AA0-43AB-8F27-ABFA702D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48AE6-2DB3-4B4D-A0C9-0308538B9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A0840-EF1F-4D73-977A-3A9549577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03C01-0F04-48EE-957B-A84257E44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E237B-6B33-493F-86AD-549B23AB4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ED16D-5668-4F39-A0D5-378FC8DFC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6002C-A5B9-49C8-AC7B-F2CDF1BC5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436FD-7ABA-4ECD-8AAA-9CE0E2C25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4F45-998B-4EDE-9899-3B1485B09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B57ED-004A-4E74-8E67-5943B0298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5EAB1-8FE6-40A3-9DA1-BF53728E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F87C7-D381-4622-A383-5E3BD5FF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1F6D6-EAA0-467D-8407-B483AB66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E90F8-3D59-4C45-94E5-76E6B8C99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82DF7-92A7-498D-958F-2D8AACE20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99EB7-8800-46DB-913F-AB1C45493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E2C2D-CE2A-4AB0-9D38-676DC3FB7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1DA4B-9565-4B4E-B6BE-F6AACC467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51A22-4960-4827-8388-9723D218C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EA5A-8DF2-4549-B7F4-6CC49EF61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7E7CF-F06C-47BE-A18B-5C02D4D78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BE42A-3B95-425E-87C1-C1D7A07A2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FCAA1-457A-461A-A9FA-5BB2B31F1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CDFB7-65F8-4CAA-82FA-4ECA457C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44409-F538-4088-BF28-3F9BB1A3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CA874-D91F-4D9C-A3BB-61B86715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2EF3A-8955-4EE6-976B-A28161513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93BE7-A1D9-4278-9CE1-98BA198CC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3B0F5-730C-4BD8-89C4-51084ADF6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34B7F-7F24-4A28-B7D6-B8442C302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3638-FAAD-4D65-8671-450441564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5AFCC-81DE-45D0-9565-5E75A6654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5AD94-E2F8-4388-9D7B-E08FAB2F2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5BF0A-1C9B-4D4B-A4E4-BF8DF001B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3F0C8-0C1B-4FEC-88ED-F0733F59D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D7F7F-158C-4F3A-8689-F59CBA54B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017A0-A74A-4191-B856-7DF9509B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655FD-D34A-440B-B4F4-E0AE5469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0B685-C598-4687-8581-D2BC266C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0F53F-E6F6-4CBC-98C5-9BAC1C7B7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A3639-0FEB-46F2-9672-995E3CBC9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906C-56E7-4149-99DE-5F24F3E49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DBCC9-D596-4C6E-AA5A-33423C8BE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389BB5-5105-4279-9CCA-F14C8DB1A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5CF971-2B89-47A8-9855-B417EE42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BC666C-0602-4E5A-8675-220567563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6AC0E7-E687-4696-8148-E0796A98E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38653F-DF28-41BC-9B6D-54FBC6F15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0AF24D-B273-44E5-8BC2-62309859F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B3C37F-98EE-42FF-ACB6-E82FD4DC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79D459-546A-4AE8-ABE9-128FE16E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B1604B-29F1-43F6-8B78-A8F159C7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AE85-4926-4D61-B329-94DA65F4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606334-EFC1-4E5A-B016-51DD5D17E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BA3A61-A930-4217-B3EE-EA90DB6E0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82D8F0-010F-43D2-A90C-F422E0ACB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921432-1743-4D4F-A217-68E6C4C1F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0D9C8A-45ED-4248-8506-C05324A0A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0EEDFC-9FD7-4DBB-929C-F04F8EF32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9113BF-3CD2-469A-9C0F-E13251381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FA868C-B4B1-4D5A-9AD2-F48D718E4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9F799E-EAC1-405B-B78C-CACD0B27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DF3613-883A-4169-AAE5-1156796C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E010-F6E0-4ECD-A7A3-16805045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6A294C-CDF7-47DF-A3B8-0BA4FDFE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B22B99-9ED7-4FCC-B6E0-D4F46AC7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C39C53-AD2E-47FE-90F3-AAF370B3E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7FAA61-8E63-4A77-A058-4A57626F2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04F673-DBD0-4553-AFF3-CBD250BA6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7B66-89CD-43C1-9219-B37B9A28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CD8E3-1C0D-43A9-9914-068736288BCD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639A8-222F-478E-A501-4D806F670750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DE9F0-91A8-46A4-9120-D822EA113C47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5D7FE-1F3E-41B6-81FA-AF446EDA1F96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8474E-EB9A-45E1-AB19-B22A3EC1A546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1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ftr" idx="16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7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143C4-2326-4E39-A4C8-0F32493FCD06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dt" idx="18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65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ftr" idx="19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sldNum" idx="20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EAB7-D872-4342-935D-BFD1AE1B6011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dt" idx="2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Rectangle 2" descr=""/>
          <p:cNvPicPr/>
          <p:nvPr/>
        </p:nvPicPr>
        <p:blipFill>
          <a:blip r:embed="rId1"/>
          <a:stretch/>
        </p:blipFill>
        <p:spPr>
          <a:xfrm>
            <a:off x="1895400" y="1547640"/>
            <a:ext cx="727236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Rectangle 2" descr=""/>
          <p:cNvPicPr/>
          <p:nvPr/>
        </p:nvPicPr>
        <p:blipFill>
          <a:blip r:embed="rId1"/>
          <a:stretch/>
        </p:blipFill>
        <p:spPr>
          <a:xfrm>
            <a:off x="1212840" y="182520"/>
            <a:ext cx="7937640" cy="115272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468000" y="1196640"/>
            <a:ext cx="4032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rebuchet MS"/>
              </a:rPr>
              <a:t>башлангыч сыйныф: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711360" indent="-71136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711360" indent="-711360">
              <a:lnSpc>
                <a:spcPct val="8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Минем гаиләм             ( стенд)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711360" indent="-711360">
              <a:lnSpc>
                <a:spcPct val="8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Үсемлекләр              (рәсемле таблица)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711360" indent="-711360">
              <a:lnSpc>
                <a:spcPct val="8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Шәһәрләр (карта)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711360" indent="-711360">
              <a:lnSpc>
                <a:spcPct val="8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Килеш кушымчалары              ( ярдәмлек)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711360" indent="-711360">
              <a:lnSpc>
                <a:spcPct val="8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Татар костюмы        (презентация)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4788000" y="1700280"/>
            <a:ext cx="40320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4859280" y="1125360"/>
            <a:ext cx="4032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5-8 нче сыйныф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711360" indent="-71136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711360" indent="-711360">
              <a:spcBef>
                <a:spcPts val="550"/>
              </a:spcBef>
              <a:buClr>
                <a:srgbClr val="b13f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Татар һәм рус бәйрәмнәре ( таблица, мәкалә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711360" indent="-711360">
              <a:spcBef>
                <a:spcPts val="550"/>
              </a:spcBef>
              <a:buClr>
                <a:srgbClr val="b13f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Истәлекле урыннар              ( доклад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711360" indent="-711360">
              <a:spcBef>
                <a:spcPts val="550"/>
              </a:spcBef>
              <a:buClr>
                <a:srgbClr val="b13f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Безнең шәһәр                       ( презентация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711360" indent="-711360">
              <a:spcBef>
                <a:spcPts val="550"/>
              </a:spcBef>
              <a:buClr>
                <a:srgbClr val="b13f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Татар теле үзенчәлекләре                     ( чагыштырма схемалар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711360" indent="-711360">
              <a:spcBef>
                <a:spcPts val="550"/>
              </a:spcBef>
              <a:buClr>
                <a:srgbClr val="b13f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иноним сүзләр                  (сүзлекчә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711360" indent="-71136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Rectangle 2" descr=""/>
          <p:cNvPicPr/>
          <p:nvPr/>
        </p:nvPicPr>
        <p:blipFill>
          <a:blip r:embed="rId1"/>
          <a:stretch/>
        </p:blipFill>
        <p:spPr>
          <a:xfrm>
            <a:off x="536400" y="255600"/>
            <a:ext cx="8242560" cy="138420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468000" y="1341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rebuchet MS"/>
              </a:rPr>
              <a:t>9 – 11 нче сыйныф: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Чаллы язучылары  ( доклад –презентация)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Татарлар чыгышы ( альбом, мәкалә)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Бәйлек сүзләр ( таблица)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Сүзләр тарихы ( сүзлек)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Кушма җөмлә ( ярдәмлек)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Татарларның язу  тарихы (күрсәтмә-доклад)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Алынма сүзләр ( доклад –презентация)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Rectangle 2" descr=""/>
          <p:cNvPicPr/>
          <p:nvPr/>
        </p:nvPicPr>
        <p:blipFill>
          <a:blip r:embed="rId1"/>
          <a:stretch/>
        </p:blipFill>
        <p:spPr>
          <a:xfrm>
            <a:off x="884160" y="189000"/>
            <a:ext cx="8266320" cy="234144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539280" y="2362320"/>
            <a:ext cx="820908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Trebuchet MS"/>
              </a:rPr>
              <a:t>    </a:t>
            </a:r>
            <a:r>
              <a:rPr b="1" i="1" lang="ru-RU" sz="2600" spc="-1" strike="noStrike">
                <a:solidFill>
                  <a:srgbClr val="ffffff"/>
                </a:solidFill>
                <a:latin typeface="Trebuchet MS"/>
              </a:rPr>
              <a:t>проект методын</a:t>
            </a: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  куллану – ул алган белем һәм күнекмәләрне системалаштыру, «белү һәм белмәү» зонасында мөстәкыйль эшчәнлек кору, фәннәр арасында бәйләнеш табу, дулкынлардырган проблеманы билгеләү, чишү юлларын табу, эш нәтиҗәсен тәкъдим итә алу. 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Rectangle 2" descr=""/>
          <p:cNvPicPr/>
          <p:nvPr/>
        </p:nvPicPr>
        <p:blipFill>
          <a:blip r:embed="rId1"/>
          <a:stretch/>
        </p:blipFill>
        <p:spPr>
          <a:xfrm>
            <a:off x="317520" y="0"/>
            <a:ext cx="8204040" cy="11700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826560" y="1196640"/>
            <a:ext cx="727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rebuchet MS"/>
              </a:rPr>
              <a:t>Эзләнү этабы 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611280" y="1844640"/>
          <a:ext cx="8208720" cy="4713480"/>
        </p:xfrm>
        <a:graphic>
          <a:graphicData uri="http://schemas.openxmlformats.org/drawingml/2006/table">
            <a:tbl>
              <a:tblPr/>
              <a:tblGrid>
                <a:gridCol w="4105080"/>
                <a:gridCol w="4103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куч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кытучы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9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b13f9a"/>
                        </a:buClr>
                        <a:buSzPct val="7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ызыксындырга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рауны билгели, үз  фикерен дәлилли;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b13f9a"/>
                        </a:buClr>
                        <a:buSzPct val="7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формацио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ыганаклар туплый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b13f9a"/>
                        </a:buClr>
                        <a:buSzPct val="7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үзаллауны киңәйтүч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алар тәкъдим итә;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b13f9a"/>
                        </a:buClr>
                        <a:buSzPct val="7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блемал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итуацияләр тудыра;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b13f9a"/>
                        </a:buClr>
                        <a:buSzPct val="7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кучыларның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рауларына җавап табу  өчен тематик чикләрне билгели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Rectangle 16" descr=""/>
          <p:cNvPicPr/>
          <p:nvPr/>
        </p:nvPicPr>
        <p:blipFill>
          <a:blip r:embed="rId1"/>
          <a:stretch/>
        </p:blipFill>
        <p:spPr>
          <a:xfrm>
            <a:off x="603360" y="182520"/>
            <a:ext cx="8242200" cy="1384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9" name=""/>
          <p:cNvGraphicFramePr/>
          <p:nvPr/>
        </p:nvGraphicFramePr>
        <p:xfrm>
          <a:off x="611280" y="1557360"/>
          <a:ext cx="7848360" cy="5361120"/>
        </p:xfrm>
        <a:graphic>
          <a:graphicData uri="http://schemas.openxmlformats.org/drawingml/2006/table">
            <a:tbl>
              <a:tblPr/>
              <a:tblGrid>
                <a:gridCol w="3924360"/>
                <a:gridCol w="3924000"/>
              </a:tblGrid>
              <a:tr h="82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куч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кытучы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3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b13f9a"/>
                        </a:buClr>
                        <a:buSzPct val="7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информацияне системалаштыра;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 булачак «туачак» продуктны кузаллап тасвирлый;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 эш планын төзи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b13f9a"/>
                        </a:buClr>
                        <a:buSzPct val="7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күзәтә, алга этәрүче сорау һәм ситуацияләр булдыра;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 укучының хронологик тәртиптә эш итүе  белән идарә итү;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 консультацияләр оештыр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Rectangle 2" descr=""/>
          <p:cNvPicPr/>
          <p:nvPr/>
        </p:nvPicPr>
        <p:blipFill>
          <a:blip r:embed="rId1"/>
          <a:stretch/>
        </p:blipFill>
        <p:spPr>
          <a:xfrm>
            <a:off x="963720" y="255600"/>
            <a:ext cx="7935840" cy="115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1" name=""/>
          <p:cNvGraphicFramePr/>
          <p:nvPr/>
        </p:nvGraphicFramePr>
        <p:xfrm>
          <a:off x="684360" y="1700280"/>
          <a:ext cx="8135640" cy="5138640"/>
        </p:xfrm>
        <a:graphic>
          <a:graphicData uri="http://schemas.openxmlformats.org/drawingml/2006/table">
            <a:tbl>
              <a:tblPr/>
              <a:tblGrid>
                <a:gridCol w="4068720"/>
                <a:gridCol w="4066920"/>
              </a:tblGrid>
              <a:tr h="93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куч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кытучы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b13f9a"/>
                        </a:buClr>
                        <a:buSzPct val="7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мөстәкыйль рәвештә план буенча эшли;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 эшнең  барышы белән  уртаклаш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 мөстәкыйль эшләү мөмкинлекләрен булдыра;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 эш барышына  карата анализ ясый;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 «проект дәфтәре»  булдыру эшен оештыр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Rectangle 2" descr=""/>
          <p:cNvPicPr/>
          <p:nvPr/>
        </p:nvPicPr>
        <p:blipFill>
          <a:blip r:embed="rId1"/>
          <a:stretch/>
        </p:blipFill>
        <p:spPr>
          <a:xfrm>
            <a:off x="963720" y="328680"/>
            <a:ext cx="7935840" cy="115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3" name=""/>
          <p:cNvGraphicFramePr/>
          <p:nvPr/>
        </p:nvGraphicFramePr>
        <p:xfrm>
          <a:off x="900000" y="1773360"/>
          <a:ext cx="7693200" cy="4464000"/>
        </p:xfrm>
        <a:graphic>
          <a:graphicData uri="http://schemas.openxmlformats.org/drawingml/2006/table">
            <a:tbl>
              <a:tblPr/>
              <a:tblGrid>
                <a:gridCol w="3846600"/>
                <a:gridCol w="3846600"/>
              </a:tblGrid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куч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кытучы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5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b13f9a"/>
                        </a:buClr>
                        <a:buSzPct val="7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роектны презентацияләү формасын сайлый;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b13f9a"/>
                        </a:buClr>
                        <a:buSzPct val="7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эксперт ролен үти (башка  укучыларга карата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b13f9a"/>
                        </a:buClr>
                        <a:buSzPct val="7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бәхәс тудыручы сораулар әзерли;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b13f9a"/>
                        </a:buClr>
                        <a:buSzPct val="7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роектны кабул итәргә әзер  булган аудитория әзерл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Rectangle 2" descr=""/>
          <p:cNvPicPr/>
          <p:nvPr/>
        </p:nvPicPr>
        <p:blipFill>
          <a:blip r:embed="rId1"/>
          <a:stretch/>
        </p:blipFill>
        <p:spPr>
          <a:xfrm>
            <a:off x="536400" y="328680"/>
            <a:ext cx="8242560" cy="914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5" name=""/>
          <p:cNvGraphicFramePr/>
          <p:nvPr/>
        </p:nvGraphicFramePr>
        <p:xfrm>
          <a:off x="900000" y="1700280"/>
          <a:ext cx="7502760" cy="4295880"/>
        </p:xfrm>
        <a:graphic>
          <a:graphicData uri="http://schemas.openxmlformats.org/drawingml/2006/table">
            <a:tbl>
              <a:tblPr/>
              <a:tblGrid>
                <a:gridCol w="3753000"/>
                <a:gridCol w="3749760"/>
              </a:tblGrid>
              <a:tr h="105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куч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кытучы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3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 бәяләү нормаларына  туры китереп, проектка үзбәя бирә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«проект дәфтәре»  булдыру эшен йомгаклый;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 алдагы үсеш юлларын ачыкл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Rectangle 2" descr=""/>
          <p:cNvPicPr/>
          <p:nvPr/>
        </p:nvPicPr>
        <p:blipFill>
          <a:blip r:embed="rId1"/>
          <a:stretch/>
        </p:blipFill>
        <p:spPr>
          <a:xfrm>
            <a:off x="450720" y="450720"/>
            <a:ext cx="8242560" cy="9144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610920" y="1413000"/>
            <a:ext cx="794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Trebuchet MS"/>
              </a:rPr>
              <a:t>«Укучыларның проект эше белән идарә итү»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ffffff"/>
                </a:solidFill>
                <a:latin typeface="Trebuchet MS"/>
              </a:rPr>
              <a:t>проект өстендә эшләү</a:t>
            </a:r>
            <a:r>
              <a:rPr b="0" lang="ru-RU" sz="3400" spc="-1" strike="noStrike">
                <a:solidFill>
                  <a:srgbClr val="ffffff"/>
                </a:solidFill>
                <a:latin typeface="Trebuchet MS"/>
              </a:rPr>
              <a:t> –  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0" lang="ru-RU" sz="3400" spc="-1" strike="noStrike">
                <a:solidFill>
                  <a:srgbClr val="ffffff"/>
                </a:solidFill>
                <a:latin typeface="Trebuchet MS"/>
              </a:rPr>
              <a:t>ул әле булмаган әйберләр булдыру, ягъни булдыру ысулларын күрсәтү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4920" y="404640"/>
            <a:ext cx="8139240" cy="56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54400" indent="-554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rebuchet MS"/>
              </a:rPr>
              <a:t>            </a:t>
            </a:r>
            <a:r>
              <a:rPr b="1" lang="ru-RU" sz="2800" spc="-1" strike="noStrike">
                <a:solidFill>
                  <a:srgbClr val="ffffff"/>
                </a:solidFill>
                <a:latin typeface="Trebuchet MS"/>
              </a:rPr>
              <a:t>Максат: </a:t>
            </a:r>
            <a:r>
              <a:rPr b="0" i="1" lang="ru-RU" sz="2800" spc="-1" strike="noStrike">
                <a:solidFill>
                  <a:srgbClr val="ffffff"/>
                </a:solidFill>
                <a:latin typeface="Trebuchet MS"/>
              </a:rPr>
              <a:t>Татар теле һәм әдәбият                         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554400" indent="-554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rebuchet MS"/>
              </a:rPr>
              <a:t>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Trebuchet MS"/>
              </a:rPr>
              <a:t>дәресләрендә фәнни эзләнү 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554400" indent="-554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rebuchet MS"/>
              </a:rPr>
              <a:t>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Trebuchet MS"/>
              </a:rPr>
              <a:t>эшчәнлеге  методларын куллану 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554400" indent="-554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rebuchet MS"/>
              </a:rPr>
              <a:t>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Trebuchet MS"/>
              </a:rPr>
              <a:t>эше тәҗрибәсе белән  уртаклашу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554400" indent="-554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rebuchet MS"/>
              </a:rPr>
              <a:t>Бурычлар</a:t>
            </a: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554400" indent="-554400">
              <a:spcBef>
                <a:spcPts val="601"/>
              </a:spcBef>
              <a:buClr>
                <a:srgbClr val="f4e7ed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rebuchet MS"/>
              </a:rPr>
              <a:t>Проект эзләнү эшенең төрләре  белән  таныштыру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554400" indent="-554400">
              <a:spcBef>
                <a:spcPts val="601"/>
              </a:spcBef>
              <a:buClr>
                <a:srgbClr val="f4e7ed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rebuchet MS"/>
              </a:rPr>
              <a:t>Проект эшчәнлегенең эш  этапларына  күзәтү  ясау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554400" indent="-554400">
              <a:spcBef>
                <a:spcPts val="601"/>
              </a:spcBef>
              <a:buClr>
                <a:srgbClr val="f4e7ed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rebuchet MS"/>
              </a:rPr>
              <a:t>Проект эшен булдыру  практик  күнекмәләр  формалаштыру</a:t>
            </a:r>
            <a:r>
              <a:rPr b="1" i="1" lang="ru-RU" sz="2800" spc="-1" strike="noStrike">
                <a:solidFill>
                  <a:srgbClr val="ffffff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1331640" y="24922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   </a:t>
            </a:r>
            <a:r>
              <a:rPr b="0" lang="ru-RU" sz="3700" spc="-1" strike="noStrike">
                <a:solidFill>
                  <a:srgbClr val="ffffff"/>
                </a:solidFill>
                <a:latin typeface="Trebuchet MS"/>
              </a:rPr>
              <a:t>Укучыларның дөньяны танып белү мөмкинлекләрен,акыл эшчәнлеге мөстәкыйльлеген үстерүнең төп нигезе</a:t>
            </a:r>
            <a:endParaRPr b="0" lang="en-US" sz="37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3" name="Rectangle 5"/>
          <p:cNvSpPr/>
          <p:nvPr/>
        </p:nvSpPr>
        <p:spPr>
          <a:xfrm>
            <a:off x="2411280" y="62064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4e7ed"/>
                </a:solidFill>
                <a:latin typeface="Arial"/>
              </a:rPr>
              <a:t>ФЭ   методы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Line 6"/>
          <p:cNvSpPr/>
          <p:nvPr/>
        </p:nvSpPr>
        <p:spPr>
          <a:xfrm>
            <a:off x="4788000" y="1268280"/>
            <a:ext cx="0" cy="1224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Rectangle 2" descr=""/>
          <p:cNvPicPr/>
          <p:nvPr/>
        </p:nvPicPr>
        <p:blipFill>
          <a:blip r:embed="rId1"/>
          <a:stretch/>
        </p:blipFill>
        <p:spPr>
          <a:xfrm>
            <a:off x="450720" y="158760"/>
            <a:ext cx="7255080" cy="130968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610920" y="1916280"/>
            <a:ext cx="794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01"/>
              </a:spcBef>
              <a:buClr>
                <a:srgbClr val="f4e7ed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rebuchet MS"/>
              </a:rPr>
              <a:t>Укучыларның югары теоретик белеме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  <a:p>
            <a:pPr marL="571680" indent="-571680">
              <a:spcBef>
                <a:spcPts val="601"/>
              </a:spcBef>
              <a:buClr>
                <a:srgbClr val="f4e7ed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rebuchet MS"/>
              </a:rPr>
              <a:t>Белемнәрне гомумиләштерү өчен эш алымнарын  үзләштерү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  <a:p>
            <a:pPr marL="571680" indent="-571680">
              <a:spcBef>
                <a:spcPts val="601"/>
              </a:spcBef>
              <a:buClr>
                <a:srgbClr val="f4e7ed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rebuchet MS"/>
              </a:rPr>
              <a:t>Фикер йөртүгә фәннилек кертү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  <a:p>
            <a:pPr marL="571680" indent="-571680">
              <a:spcBef>
                <a:spcPts val="601"/>
              </a:spcBef>
              <a:buClr>
                <a:srgbClr val="f4e7ed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rebuchet MS"/>
              </a:rPr>
              <a:t>Фәнни хезмәтне яклау ысуллары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Rectangle 2" descr=""/>
          <p:cNvPicPr/>
          <p:nvPr/>
        </p:nvPicPr>
        <p:blipFill>
          <a:blip r:embed="rId1"/>
          <a:stretch/>
        </p:blipFill>
        <p:spPr>
          <a:xfrm>
            <a:off x="450720" y="450720"/>
            <a:ext cx="8242560" cy="78768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179280" y="1557360"/>
            <a:ext cx="41767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rebuchet MS"/>
              </a:rPr>
              <a:t>ПРОЕКТ</a:t>
            </a: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       </a:t>
            </a: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Проектның асылы –  белем алу шартларында туган проблеманы чишү ысулларын ачыклау 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9" name="Line 4"/>
          <p:cNvSpPr/>
          <p:nvPr/>
        </p:nvSpPr>
        <p:spPr>
          <a:xfrm>
            <a:off x="5003640" y="1125360"/>
            <a:ext cx="792360" cy="648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Line 5"/>
          <p:cNvSpPr/>
          <p:nvPr/>
        </p:nvSpPr>
        <p:spPr>
          <a:xfrm flipH="1">
            <a:off x="3203640" y="1125360"/>
            <a:ext cx="720720" cy="648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4788000" y="1484280"/>
            <a:ext cx="396072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ЭЗЛӘНҮ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Эзләнүнең асылы – алган белемгә таянып билгеле бер объектка юнәлтелгән теория һәм практиканы гомумиләштереп фараз (гипотеза) яклау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8"/>
          <p:cNvSpPr/>
          <p:nvPr/>
        </p:nvSpPr>
        <p:spPr>
          <a:xfrm>
            <a:off x="2268360" y="5734080"/>
            <a:ext cx="4608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4e7ed"/>
                </a:solidFill>
                <a:latin typeface="Arial"/>
              </a:rPr>
              <a:t>Үзенчәлеге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179280" y="620280"/>
            <a:ext cx="4392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Проект эшчәнлегендә  нәтиҗәдә һәрвакыт продукт бул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Проект кыска вакытлы булырга мөмкин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Проект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rebuchet MS"/>
              </a:rPr>
              <a:t>Проблема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rebuchet MS"/>
              </a:rPr>
              <a:t>Гамәлгә ашыру нияте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rebuchet MS"/>
              </a:rPr>
              <a:t>Реализация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rebuchet MS"/>
              </a:rPr>
              <a:t>Рефлексия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rebuchet MS"/>
              </a:rPr>
              <a:t>Презентация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Продукт: реферат, спектакль,доклад,газета, фильм,ярдәмлекләр,альбомнар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4500720" y="692280"/>
            <a:ext cx="439236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зләнү эшчәнлегенең  төп продукты – ул яңа белемнә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шрак эзләнү озак вакытны таләп ит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злән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ac66bb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ызыксындырган сора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ac66bb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ипотеза чыгар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ac66bb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ыганаклардан эзлән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ac66bb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оретик белемнәрне гомумиләштереп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ac66bb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упланган һәм эшкәртелгән мәгълүматларга таянган чыгыш  яса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610920" y="134136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мөстәкыйль фикер йөртү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төрле ситуацияләрдә белемнәрен куллана белү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көндәлек проблемаларга иҗади һәм фәнни карау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максат кую һәм эш тәртибен билгеләү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фәнни мәгълүматларга таянып  үз фикерләрен дәлилләү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өстәмә информацион чыганаклар эзләу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табылган мәгълүматларны куллану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билгеле бер проблеманы яктырткан информацияне гомумиләштерү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мөстәкыйль эшчәнлек алып бару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1908000" y="189000"/>
            <a:ext cx="58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4e7ed"/>
                </a:solidFill>
                <a:latin typeface="Arial"/>
              </a:rPr>
              <a:t>НӘТИҖӘ                           </a:t>
            </a:r>
            <a:r>
              <a:rPr b="1" lang="ru-RU" sz="2800" spc="-1" strike="noStrike">
                <a:solidFill>
                  <a:srgbClr val="f4e7ed"/>
                </a:solidFill>
                <a:latin typeface="Arial"/>
              </a:rPr>
              <a:t>ГББК формалаштыру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Group 4"/>
          <p:cNvGrpSpPr/>
          <p:nvPr/>
        </p:nvGrpSpPr>
        <p:grpSpPr>
          <a:xfrm>
            <a:off x="3851280" y="3573360"/>
            <a:ext cx="1584360" cy="649440"/>
            <a:chOff x="3851280" y="3573360"/>
            <a:chExt cx="1584360" cy="649440"/>
          </a:xfrm>
        </p:grpSpPr>
        <p:grpSp>
          <p:nvGrpSpPr>
            <p:cNvPr id="328" name="Group 5"/>
            <p:cNvGrpSpPr/>
            <p:nvPr/>
          </p:nvGrpSpPr>
          <p:grpSpPr>
            <a:xfrm>
              <a:off x="3851280" y="3573360"/>
              <a:ext cx="287280" cy="649440"/>
              <a:chOff x="3851280" y="3573360"/>
              <a:chExt cx="287280" cy="649440"/>
            </a:xfrm>
          </p:grpSpPr>
          <p:sp>
            <p:nvSpPr>
              <p:cNvPr id="329" name="Oval 6"/>
              <p:cNvSpPr/>
              <p:nvPr/>
            </p:nvSpPr>
            <p:spPr>
              <a:xfrm>
                <a:off x="3851280" y="3573360"/>
                <a:ext cx="287280" cy="216000"/>
              </a:xfrm>
              <a:prstGeom prst="ellipse">
                <a:avLst/>
              </a:prstGeom>
              <a:solidFill>
                <a:srgbClr val="b83d68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AutoShape 7"/>
              <p:cNvSpPr/>
              <p:nvPr/>
            </p:nvSpPr>
            <p:spPr>
              <a:xfrm>
                <a:off x="3851280" y="3862440"/>
                <a:ext cx="287280" cy="360360"/>
              </a:xfrm>
              <a:prstGeom prst="triangle">
                <a:avLst>
                  <a:gd name="adj" fmla="val 50000"/>
                </a:avLst>
              </a:prstGeom>
              <a:solidFill>
                <a:srgbClr val="b83d68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1" name="Group 8"/>
            <p:cNvGrpSpPr/>
            <p:nvPr/>
          </p:nvGrpSpPr>
          <p:grpSpPr>
            <a:xfrm>
              <a:off x="5148360" y="3573360"/>
              <a:ext cx="287280" cy="649440"/>
              <a:chOff x="5148360" y="3573360"/>
              <a:chExt cx="287280" cy="649440"/>
            </a:xfrm>
          </p:grpSpPr>
          <p:sp>
            <p:nvSpPr>
              <p:cNvPr id="332" name="Oval 9"/>
              <p:cNvSpPr/>
              <p:nvPr/>
            </p:nvSpPr>
            <p:spPr>
              <a:xfrm>
                <a:off x="5148360" y="3573360"/>
                <a:ext cx="287280" cy="216000"/>
              </a:xfrm>
              <a:prstGeom prst="ellipse">
                <a:avLst/>
              </a:prstGeom>
              <a:solidFill>
                <a:srgbClr val="b83d68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AutoShape 10"/>
              <p:cNvSpPr/>
              <p:nvPr/>
            </p:nvSpPr>
            <p:spPr>
              <a:xfrm>
                <a:off x="5148360" y="3862440"/>
                <a:ext cx="287280" cy="360360"/>
              </a:xfrm>
              <a:prstGeom prst="triangle">
                <a:avLst>
                  <a:gd name="adj" fmla="val 50000"/>
                </a:avLst>
              </a:prstGeom>
              <a:solidFill>
                <a:srgbClr val="b83d68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4" name="Line 11"/>
            <p:cNvSpPr/>
            <p:nvPr/>
          </p:nvSpPr>
          <p:spPr>
            <a:xfrm>
              <a:off x="4284720" y="4005360"/>
              <a:ext cx="792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5" name="Line 12"/>
          <p:cNvSpPr/>
          <p:nvPr/>
        </p:nvSpPr>
        <p:spPr>
          <a:xfrm flipH="1">
            <a:off x="4284360" y="3789360"/>
            <a:ext cx="718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Line 13"/>
          <p:cNvSpPr/>
          <p:nvPr/>
        </p:nvSpPr>
        <p:spPr>
          <a:xfrm flipH="1">
            <a:off x="4284360" y="4221000"/>
            <a:ext cx="718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15"/>
          <p:cNvSpPr/>
          <p:nvPr/>
        </p:nvSpPr>
        <p:spPr>
          <a:xfrm>
            <a:off x="539640" y="3213000"/>
            <a:ext cx="2374920" cy="1079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4e7ed"/>
                </a:solidFill>
                <a:latin typeface="Arial"/>
              </a:rPr>
              <a:t>проблемал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4e7ed"/>
                </a:solidFill>
                <a:latin typeface="Arial"/>
              </a:rPr>
              <a:t>ситуациялә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16"/>
          <p:cNvSpPr/>
          <p:nvPr/>
        </p:nvSpPr>
        <p:spPr>
          <a:xfrm>
            <a:off x="3492360" y="2492280"/>
            <a:ext cx="2521080" cy="947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4e7ed"/>
                </a:solidFill>
                <a:latin typeface="Arial"/>
              </a:rPr>
              <a:t>Дәре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17"/>
          <p:cNvSpPr/>
          <p:nvPr/>
        </p:nvSpPr>
        <p:spPr>
          <a:xfrm>
            <a:off x="3492360" y="4941720"/>
            <a:ext cx="244800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4e7ed"/>
                </a:solidFill>
                <a:latin typeface="Arial"/>
              </a:rPr>
              <a:t>Диалог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 Box 18"/>
          <p:cNvSpPr/>
          <p:nvPr/>
        </p:nvSpPr>
        <p:spPr>
          <a:xfrm>
            <a:off x="6588000" y="2997360"/>
            <a:ext cx="2305080" cy="13737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4e7ed"/>
                </a:solidFill>
                <a:latin typeface="Arial"/>
              </a:rPr>
              <a:t>Мөстәкыйль фәнн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4e7ed"/>
                </a:solidFill>
                <a:latin typeface="Arial"/>
              </a:rPr>
              <a:t>фике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Line 20"/>
          <p:cNvSpPr/>
          <p:nvPr/>
        </p:nvSpPr>
        <p:spPr>
          <a:xfrm flipV="1">
            <a:off x="2916360" y="3068280"/>
            <a:ext cx="576000" cy="46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Line 21"/>
          <p:cNvSpPr/>
          <p:nvPr/>
        </p:nvSpPr>
        <p:spPr>
          <a:xfrm>
            <a:off x="2916360" y="3537000"/>
            <a:ext cx="1511280" cy="14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Line 23"/>
          <p:cNvSpPr/>
          <p:nvPr/>
        </p:nvSpPr>
        <p:spPr>
          <a:xfrm flipV="1">
            <a:off x="5076720" y="3467160"/>
            <a:ext cx="1511280" cy="147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Line 24"/>
          <p:cNvSpPr/>
          <p:nvPr/>
        </p:nvSpPr>
        <p:spPr>
          <a:xfrm>
            <a:off x="6012000" y="2997360"/>
            <a:ext cx="576000" cy="469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Line 27"/>
          <p:cNvSpPr/>
          <p:nvPr/>
        </p:nvSpPr>
        <p:spPr>
          <a:xfrm flipH="1">
            <a:off x="2842920" y="2852640"/>
            <a:ext cx="64764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28"/>
          <p:cNvSpPr/>
          <p:nvPr/>
        </p:nvSpPr>
        <p:spPr>
          <a:xfrm>
            <a:off x="1763640" y="549360"/>
            <a:ext cx="61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4e7ed"/>
                </a:solidFill>
                <a:latin typeface="Arial"/>
              </a:rPr>
              <a:t>Әзерлек   эш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5T16:14:12Z</dcterms:created>
  <dc:creator>User</dc:creator>
  <dc:description/>
  <dc:language>en-US</dc:language>
  <cp:lastModifiedBy>Лилия_2</cp:lastModifiedBy>
  <dcterms:modified xsi:type="dcterms:W3CDTF">2015-03-21T09:50:49Z</dcterms:modified>
  <cp:revision>13</cp:revision>
  <dc:subject/>
  <dc:title>Проект методы- татар телен өйрәнүгә  мотивацияне үстерүче  төп ысул.</dc:title>
</cp:coreProperties>
</file>