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958-D7FF-48E4-AA54-7E3E4F9E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62E-3389-49B1-A13E-EF462C25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F791A-9588-4A7B-BD3B-AC875F3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5F35B-BA10-48A8-8119-F987F1EE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6ED2B-AE85-41A6-B212-A272A1ED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63D31-C17C-4524-A982-9D513DB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5FDF6-9E6A-487D-92A7-AECE4F3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B169E-D375-4FBD-B587-8B31B79D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363BB-8343-47E1-A68D-1FC72C9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56D5E-8901-43B2-93A5-E75804AA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1E1BD-BFEA-4A97-A65D-4FDA6893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CFE59-DCAB-4644-8BD9-8EB04246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D78-5CBC-419F-B71A-5A62752A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8DF7-E817-4C83-A286-6821EDB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09833-07BE-4DAF-A356-5CA80479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731F-AD44-44D2-A82E-2106C23D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10451-F1CD-4943-9604-4385AAF2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78AE0-933C-44F1-9C37-2ADDD631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5AA4D-A102-4AFA-8892-6C414AD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643B4-EB97-4DCB-AB78-9DEB667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5E079-2DC9-41B4-AC4F-2516D48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57B97-4655-4489-B9B4-1BCD00E5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18BEE-2998-4DBA-8FAF-40BD998A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C51-A03D-4BA9-BE1A-C1019FBD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749FC-C369-47FD-8DCA-824C05DD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34804-14CC-4596-B945-DD3A5F83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B8423-CC65-4EFF-A52F-9C8C14F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EC471-FBBF-49A9-9E3F-9F6960ED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D8C4-9228-4425-AE6D-1EDA0C1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29309-8606-4AA6-8F57-597275E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6AF10-7CAC-4444-BCA7-E382B432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34460-D33B-48C2-9D9A-4291EA9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F52F7-EAEB-4D20-850C-57CEF14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778BB-1BFA-43D0-9223-C4E8FCE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5967-B84B-4E4D-87D3-8AC7D5AE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5AFE1-1795-4B6D-8E53-56BDD3E4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45999-4A76-4BE2-A2C2-8FAA00F3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E16F8-E7D2-4A16-9090-C4660EE8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55F73-8804-4E89-BBBD-48BA1E0C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7FDF7-B705-4373-BCD7-4B947709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BC736-CD43-4832-B787-C25E886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22D9D-9FB8-43B1-A95C-3B19D0DB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50058-50F4-4B4D-A09D-15A7DADA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7573B-66F9-4D46-92C8-264800C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D7F4E-82EB-444A-9BFB-3026E03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31E2-DB31-4EB2-8C9F-7BCEB684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A9B16-3027-4AF2-8264-517ECC7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C7E4E-CAEE-453B-8F56-04073CE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5E009-6589-45F7-92D2-4057ED3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A4199-EA14-4C67-A0D7-3F30E46A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0F2C-4648-428A-AD35-8F5D109B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43FA-876C-4805-81D6-DA01BE6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0F6D-1234-4527-BDC6-B0A6CA21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C966-A477-46E1-82D0-612D35E5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9D54-B1F6-44B3-9567-C2A44524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2B02-F9DD-4FC9-8D6E-BE846C7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DF1-A015-45BC-969E-3EB43F92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FCD-5835-4EED-B14A-848F08F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7EBA-0403-4342-A420-D7A047E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FA81-29A2-4DE2-876B-BCDC1253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BDF0-E17F-4D18-B60F-37564439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158-CB91-47A5-AAFA-1245BAD3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BF1A-0B3D-4D65-BDB2-67C48AEA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26AC-9193-4852-9F1A-E810D1BF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CDC2-3C21-43F8-9421-F411256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401D-D520-43EA-957F-C7C8DB9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C8FF-37C8-468E-BEB2-69062A78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FED-185F-4442-9315-9D088BA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BD75-F2F8-4A4F-8BB8-5C7D80DE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0BA3-4282-45AD-8DC0-5306A82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00F7-7725-4F60-8E6F-544B38A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FF15-E004-44A3-8C7B-459445A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D5ED-9C2F-496C-9C95-AEB6C4A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728E-4491-4B21-AB64-64098852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28B4-89D1-47FB-B0A4-6D7691BF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71BE-38E5-443D-B621-7E7FF056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F145-C381-4B0C-A2D8-7F5264A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02A4-3BCB-44A8-9982-EDC8CCBE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484-56E6-4F91-9E43-613992C2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D310-016D-4F6E-8FD9-1FF84E9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5EB9-2B09-4259-AA70-0F78B67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53DD-F3D1-4112-BF3D-EEFE075D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56A7-FEFC-4BD7-A8EA-691BC40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3C3C-7DF5-4965-A666-A8BFF0D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5810-1247-4ABB-B4FD-3DC7800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2C3F-6A96-4822-9577-5A4F35D3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A997-AC6B-470C-BF57-EEE29EC1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DDA3-07AC-48A7-88EB-EE4EDF7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E3DEA-C97D-4FFC-912D-9A5FB012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E15-5AA7-49B4-ACC9-AF38343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44311-5399-4137-B363-D9765B5F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4F515-2A68-4F23-AFF4-F37C19EC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F446F-3952-4974-B48A-2AF43736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144A2-00C3-421D-9511-859B97F0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26057-EBD6-4698-98F4-44BBA4E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3EDB2-7ED6-4B8F-8FE3-8E89466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3B840-B371-4324-94AB-CC9E42D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24090-2EE7-477C-8BF6-3062BF7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28B07-E44A-441A-9AF3-2310AA2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0A86B-B8AA-4413-B28A-3AF99924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881-25B0-44F1-B7B1-FA95F37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964AA-959F-4D9C-B237-5B21F40C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F4FC-C3AB-4F01-8F85-A318A809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880D6-C898-4315-8F08-84D14B2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172EB-657D-4D62-9300-47743642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8C24-910E-411C-9EF0-AABD317A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D5632-520B-4A47-A9C9-59BE122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79C2-D67E-493E-85D4-AB6DC282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5E83-D4FD-41D3-9D97-24B3C095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1DA13-9400-4655-A881-2A094BB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56194-7ED2-42A7-8BF9-F8B2D8A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480-7922-451C-AE63-587FA0F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F6B0-6086-437B-AF66-80570B94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AC442-6974-4DF3-B2F0-8AF52F9D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84FB-FE2A-486A-8C60-21509027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1D41-A002-4E37-AE3A-E54BAD07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D580-332E-4F51-99F7-74D2133E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A9541-FFDA-40E6-9712-D508932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52E9-72E9-465E-8A94-E0C21341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39D5F-437D-4146-B9D8-9ABF7E53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10E8-8475-4852-9085-52532964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DEC28-1B8B-424D-8520-24CF69E1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2DC-2702-4C09-A6C5-3E6907F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E374-E239-4C28-95BA-4564C5F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9898-7EA7-451D-BF5D-307FFBF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CB98-66D7-4C64-BEE1-4C9A2F2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E992-7E88-455E-9741-9286169E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7037-0BBD-478F-A3C3-3B87446E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E01F-7E9F-4CF3-BAAD-AF22543A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2581D-C99C-414D-8789-B665A2FD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766D-5BFF-488C-82FC-ED3FE8D9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291D-9C3E-4956-A867-CB388BFE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E52B-D7B4-4E05-84E2-5735F523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0A4-EBE0-41DD-9CB1-AD7E9B1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6A20-2616-4FB6-83CE-74DEF206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7D67-7C0D-47D4-956A-80144FEE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DC8DA-A644-4EE8-8681-0935EA6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2C46C-909D-4D28-B6C7-257C334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CCAB8-221B-4061-91EE-60F1BDC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D142-D62C-428B-A684-4D403882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53D3A-1E2D-4C04-A728-7A9B5029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30A68-9998-41A0-9B42-EFF9CA1B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6107C-79E9-4CC2-BFB5-6C7871FB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C2CAB-428D-4E92-9DD8-B2E8EBF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E59-ED72-47C1-BCF0-47E686C087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1A0-45D4-4922-8A60-06BCFF1217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2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2272-011A-45F2-94ED-AA523C58F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6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3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F53-B41C-4F04-9BCC-4368DD2B2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12D-0239-4252-859B-BFD63C3FE5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5F89-B718-467A-A5E1-5EC68E7D6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026B-8BE2-4C71-BC57-41031B1584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6559-D078-4AE9-BA1D-523B83587D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ADD-5DDF-47BC-8AEF-686E52E4F4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44F7-E6D7-4B52-9880-630680372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E25-051F-423E-96E1-BC0689D4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3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F63C-8ADE-429E-9BA9-5A9C0CA98A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jpeg"/><Relationship Id="rId3" Type="http://schemas.openxmlformats.org/officeDocument/2006/relationships/slide" Target=""/><Relationship Id="rId4" Type="http://schemas.openxmlformats.org/officeDocument/2006/relationships/image" Target="../media/image27.jpeg"/><Relationship Id="rId5" Type="http://schemas.openxmlformats.org/officeDocument/2006/relationships/slide" Target=""/><Relationship Id="rId6" Type="http://schemas.openxmlformats.org/officeDocument/2006/relationships/image" Target="../media/image28.jpeg"/><Relationship Id="rId7" Type="http://schemas.openxmlformats.org/officeDocument/2006/relationships/hyperlink" Target="http://images.google.ru/imgres?imgurl=http://www.obuv-ag.ru/images/press/sypagi1lg.jpg&amp;imgrefurl=http://www.obuv-ag.ru/press_11.phtml&amp;usg=__HUJOgIVla5oRRGpPfLTlvLDwtfE=&amp;h=500&amp;w=500&amp;sz=23&amp;hl=ru&amp;start=11&amp;tbnid=b79KE_YZOijonM:&amp;tbnh=130&amp;tbnw=130&amp;prev=/images%3Fq%3D%25D1%2580%25D0%25B5%25D0%25B7%25D0%25B8%25D0%25BD%25D0%25BE%25D0%25B2%25D1%258B%25D0%25B5%2B%25D1%2581%25D0%25B0%25D0%25BF%25D0%25BE%25D0%25B3%25D0%25B8%26gbv%3D2%26hl%3Dru%26safe%3Dactive" TargetMode="External"/><Relationship Id="rId8" Type="http://schemas.openxmlformats.org/officeDocument/2006/relationships/image" Target="../media/image29.jpeg"/><Relationship Id="rId9" Type="http://schemas.openxmlformats.org/officeDocument/2006/relationships/slide" Target="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sch4.edu.vn.ua/uploads/posts/2008-04/1209150190_18.jpg&amp;imgrefurl=http://sch4.edu.vn.ua/mineral.html&amp;usg=__ybq0juSTUGiitPL0qFNuDGG3D0w=&amp;h=245&amp;w=315&amp;sz=19&amp;hl=ru&amp;start=6&amp;tbnid=685rc1pFpOZ_HM:&amp;tbnh=91&amp;tbnw=117&amp;prev=/images%3Fq%3D%25D0%25B3%25D0%25BB%25D0%25B0%25D1%2583%25D0%25B1%25D0%25B5%25D1%2580%25D0%25BE%25D0%25B2%25D0%25B0%2B%25D1%2581%25D0%25BE%25D0%25BB%25D1%258C%26gbv%3D2%26hl%3Dru%26safe%3Dactive%26sa%3DG" TargetMode="External"/><Relationship Id="rId2" Type="http://schemas.openxmlformats.org/officeDocument/2006/relationships/image" Target="../media/image14.jpeg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jpeg"/><Relationship Id="rId3" Type="http://schemas.openxmlformats.org/officeDocument/2006/relationships/slide" Target="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692360" y="2060640"/>
            <a:ext cx="547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а</a:t>
            </a:r>
            <a:endParaRPr b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из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47516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е кристаллическ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водит электрический 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ая тепл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створяется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ие кристаллы серы водой не смачиваются и поддерживаются на плаву мелкими пузырьками воздуха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л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5076720" y="2249640"/>
            <a:ext cx="3610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а-типичный химически активный неметалл, способный взаимодействовать с металлами, неметаллами, сложными вещест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1e          Na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+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в-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2e          S</a:t>
            </a:r>
            <a:r>
              <a:rPr b="0" lang="ru-RU" sz="26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к-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56000" y="1916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9564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692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05092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318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68360" y="907560"/>
            <a:ext cx="40384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 + S       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– 2e     Cu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+ 2e  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к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643280" y="981000"/>
            <a:ext cx="4500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+ 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S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– 4e 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*2    2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ок-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68360" y="3715920"/>
            <a:ext cx="40384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+ S       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    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e*2     2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+ 2e  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к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642920" y="3715920"/>
            <a:ext cx="40388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+ 3 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S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– 6e    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         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e*2     2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-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195640" y="119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87280" y="206064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042920" y="479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0036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84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771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11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19564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19640" y="2133720"/>
            <a:ext cx="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00720" y="1268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516720" y="22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76720" y="479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59640" y="4005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443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77080" y="602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Химические св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+ 2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      3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                  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– 4e    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в-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+6                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+ 2e     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ок-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16000" y="2492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851280" y="148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48436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84360" y="3716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ласти применения с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5157720"/>
            <a:ext cx="874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и применения серы описаны в романе А. Дюма «Граф Монте-Крис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4248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ласти применения се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248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Производ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о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ма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148428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3645000"/>
            <a:ext cx="2376720" cy="20286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80000" y="4149720"/>
            <a:ext cx="2879640" cy="23842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1557360"/>
            <a:ext cx="2376360" cy="20160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1280" y="4270320"/>
            <a:ext cx="3529080" cy="258768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11"/>
          <a:stretch/>
        </p:blipFill>
        <p:spPr>
          <a:xfrm>
            <a:off x="7537320" y="5084640"/>
            <a:ext cx="1606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2556000" y="4869000"/>
            <a:ext cx="2952720" cy="198900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ласти применения с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6429240" y="1628640"/>
            <a:ext cx="2714760" cy="23814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6084720" y="3481560"/>
            <a:ext cx="3059280" cy="296532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468360" y="1341360"/>
            <a:ext cx="4390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ра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зрывчат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ека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осметических преп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ст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«суса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олота»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n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4427640" y="3213000"/>
            <a:ext cx="2808360" cy="193068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3240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е название получила от </a:t>
            </a:r>
            <a:r>
              <a:rPr b="1" i="1" lang="ru-RU" sz="3200" spc="-1" strike="noStrike">
                <a:solidFill>
                  <a:srgbClr val="ff9900"/>
                </a:solidFill>
                <a:latin typeface="Tahoma"/>
              </a:rPr>
              <a:t>санкритского слова «сира»- светло-желтый</a:t>
            </a:r>
            <a:r>
              <a:rPr b="1" i="1" lang="ru-RU" sz="32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лась в Древнем Египте- для изготовления красок, косметических средств, а также для отбеливания тка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187280" y="765000"/>
            <a:ext cx="705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много истории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Древнем Риме- для лечения кожных заболе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Древней Греции- для дезинфекции вещей и воздуха в помещ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редние века- век алхими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ьная составная ча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философского камн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3635280" cy="31114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3240000" cy="2603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564000" y="4437000"/>
            <a:ext cx="55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тхом завете так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минается сера: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лавленной с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жигали грешников. Запах горящей серы олицетворял запах 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5183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улкан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м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ный цв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ренков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592360" cy="2147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3779640" cy="27370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324000" y="0"/>
            <a:ext cx="828036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ироде сера встречается в 3-х фор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4360" y="981000"/>
            <a:ext cx="410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родная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20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20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388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Сульфидна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397320" cy="26542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736720" cy="22068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0" y="4700520"/>
            <a:ext cx="3059280" cy="21574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3276720" y="429264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3348000" y="1773360"/>
            <a:ext cx="2808360" cy="23050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6084720" y="386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ный блес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40360" y="609300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нковая обм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6720" y="623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овар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9640" y="486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р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92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о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06064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цовый блес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78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ульфатна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.Глауберова с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ип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2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.Горькая с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7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13000"/>
            <a:ext cx="3851280" cy="29955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407664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4437000"/>
            <a:ext cx="33130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лотропия с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402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бическ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дое кристалл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о лимонно-желт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в. непол. с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476280"/>
            <a:ext cx="2879640" cy="211464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429000"/>
            <a:ext cx="2690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лотропия с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агревании до 96,5 переходит в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зматическую(моноклинну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ные темно-желтые игольчатые криста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411280" y="4489560"/>
            <a:ext cx="48247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лотропия с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Пласти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зинообразная масса темно-коричнев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332000" y="4046400"/>
            <a:ext cx="6335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2:54:50Z</dcterms:created>
  <dc:creator>Серебрякова</dc:creator>
  <dc:description/>
  <dc:language>en-US</dc:language>
  <cp:lastModifiedBy>User</cp:lastModifiedBy>
  <dcterms:modified xsi:type="dcterms:W3CDTF">2014-11-11T06:28:33Z</dcterms:modified>
  <cp:revision>18</cp:revision>
  <dc:subject/>
  <dc:title>Тренировочные задания  блок «Вещество»</dc:title>
</cp:coreProperties>
</file>