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049-EE48-46A5-AA74-D4A4111B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7CB-C826-4C3C-8568-95CCA13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D66-AC92-4126-AA6D-09773461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3CA-A3F1-4BC7-8575-BC380412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11E0-08C7-4766-A8DE-9AC96C40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6CCC-F6C9-4524-82F4-065D7A9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7AA9-9461-4F71-B562-407AD39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38E9-4CD9-49C2-991E-C17809D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CB79-A9B9-428E-A380-AD4B0BC7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C25C-DE22-4285-BB1A-768FF5F1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E02A-6BA1-49B9-A529-8E019AE2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A96-F707-4D59-9CB5-E7369E0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2363-72BB-4941-98E1-1DE49A2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C480-8586-400B-8F35-FC4402C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168E-C0C8-4D58-8C53-CB515B1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1006-527B-487F-A4E0-37E0FE62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026D-6EA7-4424-A348-4513F6F0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B7D-63DB-486C-B62D-9C4E8781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DFD-4055-4C41-A5A3-FD4BD5C1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10D-307B-468B-8AD6-54125C80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FFA-CEE4-4479-AF06-101C5D5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515-987F-4408-A3D6-C549F24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FF2-23F3-41B5-8863-7EA9A98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5AF-1EEF-415D-87D3-0DC5CA1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07B5-7F2B-4A98-A68C-9CD750EA46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9451-2E8B-4D51-9776-5A26448029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Михаил Васильевич Ломоносов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1711-176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10" descr="Image33"/>
          <p:cNvPicPr/>
          <p:nvPr/>
        </p:nvPicPr>
        <p:blipFill>
          <a:blip r:embed="rId1"/>
          <a:stretch/>
        </p:blipFill>
        <p:spPr>
          <a:xfrm>
            <a:off x="457200" y="229536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омоносов родился 8(19) ноября в деревне Денисовка (ныне село Ломоносово) в семье помо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 лет ушел учиться (с 1731 в Славяно-греко-латинской академии в Москве, с 1735 в Академическом университете в Санкт-Петербурге, в 1736-41 в Германи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14354"/>
          <p:cNvPicPr/>
          <p:nvPr/>
        </p:nvPicPr>
        <p:blipFill>
          <a:blip r:embed="rId2"/>
          <a:stretch/>
        </p:blipFill>
        <p:spPr>
          <a:xfrm>
            <a:off x="457200" y="304920"/>
            <a:ext cx="4038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748 Ломоносов основал при АН первую в России химическую лаборатор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инициативе Ломоносова основан Московский университет (17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2-1"/>
          <p:cNvPicPr/>
          <p:nvPr/>
        </p:nvPicPr>
        <p:blipFill>
          <a:blip r:embed="rId2"/>
          <a:stretch/>
        </p:blipFill>
        <p:spPr>
          <a:xfrm>
            <a:off x="152280" y="3276720"/>
            <a:ext cx="4419720" cy="3409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321731731_lomonosov"/>
          <p:cNvPicPr/>
          <p:nvPr/>
        </p:nvPicPr>
        <p:blipFill>
          <a:blip r:embed="rId3"/>
          <a:stretch/>
        </p:blipFill>
        <p:spPr>
          <a:xfrm>
            <a:off x="152280" y="152280"/>
            <a:ext cx="441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рытие Михаила Ломоносова обогатили многие отрасли 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л атомно-молекулярные представления о строении ве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л атмосферное электричество и силу тяже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крыл атмосферу на Вене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mage003"/>
          <p:cNvPicPr/>
          <p:nvPr/>
        </p:nvPicPr>
        <p:blipFill>
          <a:blip r:embed="rId2"/>
          <a:stretch/>
        </p:blipFill>
        <p:spPr>
          <a:xfrm>
            <a:off x="4648320" y="2895480"/>
            <a:ext cx="4243320" cy="378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lomonosov_book"/>
          <p:cNvPicPr/>
          <p:nvPr/>
        </p:nvPicPr>
        <p:blipFill>
          <a:blip r:embed="rId3"/>
          <a:stretch/>
        </p:blipFill>
        <p:spPr>
          <a:xfrm>
            <a:off x="4572000" y="152280"/>
            <a:ext cx="4427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. Ломоносов описал строение Земли, объяснил происхождение многих полезных ископаемых и минера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убликовал руководство по металлург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lomonosov3_big"/>
          <p:cNvPicPr/>
          <p:nvPr/>
        </p:nvPicPr>
        <p:blipFill>
          <a:blip r:embed="rId2"/>
          <a:stretch/>
        </p:blipFill>
        <p:spPr>
          <a:xfrm>
            <a:off x="4648320" y="228600"/>
            <a:ext cx="4038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упнейший русский поэт- просветитель 18 в., один из основоположников силлабо-тонического стихосло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тель русской оды философского и высокого гражданского звуч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IL3-285"/>
          <p:cNvPicPr/>
          <p:nvPr/>
        </p:nvPicPr>
        <p:blipFill>
          <a:blip r:embed="rId2"/>
          <a:stretch/>
        </p:blipFill>
        <p:spPr>
          <a:xfrm>
            <a:off x="152280" y="0"/>
            <a:ext cx="35816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df81f5470a50376bd943a2f4e18"/>
          <p:cNvPicPr/>
          <p:nvPr/>
        </p:nvPicPr>
        <p:blipFill>
          <a:blip r:embed="rId3"/>
          <a:stretch/>
        </p:blipFill>
        <p:spPr>
          <a:xfrm>
            <a:off x="152280" y="3276720"/>
            <a:ext cx="38102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одил искусство мозаики производство смальты, создал с учениками мозаичные карт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лен Академии художеств (1763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lomonos_mozay"/>
          <p:cNvPicPr/>
          <p:nvPr/>
        </p:nvPicPr>
        <p:blipFill>
          <a:blip r:embed="rId2"/>
          <a:stretch/>
        </p:blipFill>
        <p:spPr>
          <a:xfrm>
            <a:off x="152280" y="3733920"/>
            <a:ext cx="4343400" cy="2981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File_76193637Co"/>
          <p:cNvPicPr/>
          <p:nvPr/>
        </p:nvPicPr>
        <p:blipFill>
          <a:blip r:embed="rId3"/>
          <a:stretch/>
        </p:blipFill>
        <p:spPr>
          <a:xfrm>
            <a:off x="152280" y="228600"/>
            <a:ext cx="4343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хоронен в Санкт-Петербурге в Некрополе в 18 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lomonosov1000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2-01-15T19:21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