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BA3-A37C-4152-887A-7B489268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0F8-D86E-4057-80AF-AA7F532F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FBF-BD76-46A9-B014-E33C4211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1FE-3182-467D-B0DE-7E06E630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DCC8-483A-4F44-BEF7-120D9554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5275-FD13-49F5-948B-B9D977DC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5941-CF29-4F65-ADC2-E773331B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1447-F40F-4A35-8197-C30AA3E8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BD0C-8DD4-49DC-AD51-D6135D45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7FFD-B921-4BDA-85E3-F40F300E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3426-6C27-48F7-ADD7-80F1722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CA9-BE85-4394-8749-F2D71DBD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96F8-F516-49AB-85AB-39C752ED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57C6-AA0B-4DDD-82DC-86155C0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0102-B3A4-4378-9DF7-7A61C60F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C6D7-C1C0-41AA-A080-D10D6956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F629-FFBF-4082-8CC4-33213296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D4F-2D7A-4D84-AD35-1006924D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B9A-351C-483B-896A-5491FFE8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CB5-E253-4A8D-98D0-D0F610D3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87C-0056-49C9-AC6F-4ABB059E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9E9-2F75-4349-A017-2190439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174-66E6-4F5C-907D-F5A2EB97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DF1-E2C2-487A-8943-727FE7EC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E9D4-B2B3-4FB6-B3DB-696E8929F8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D530-6F09-4D1F-9A52-0846A5CC51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1341000"/>
            <a:ext cx="7846920" cy="27306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очинительные и подчинительные союз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Таблица 4" descr=""/>
          <p:cNvPicPr/>
          <p:nvPr/>
        </p:nvPicPr>
        <p:blipFill>
          <a:blip r:embed="rId1"/>
          <a:stretch/>
        </p:blipFill>
        <p:spPr>
          <a:xfrm>
            <a:off x="353880" y="1066680"/>
            <a:ext cx="836316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56800" y="152280"/>
            <a:ext cx="6699240" cy="15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Теор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Отличие сочинительных и подчинительных союз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7176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очинительные союз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язывают однородные члены предложения и равноправные по смыслу простые предложения в составе сложног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ения, связанные сочинительными союзами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зываются сложносочинен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дчинительные союз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язывают простые предложения в составе сложного: одно из предложений подчинено другому, от одного к другому можно поставить вопрос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ения, связанные подчинительными союзами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зываются сложноподчинен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15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Раскройте скобки, вставьте пропущенные буквы и знаки препинания, объясните орфограммы и пунктограммы, определите роль союзов в предложениях: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бы уд ...лить ж...рные пятна со страницы книги надо пр... сыпав загр. ..зне(н, нн)ый уч... сток молотым мелом прогладить его через белую бумагу горяч.,.м утюг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лег усм..хнулся однако чело и взор омр..чилися дум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ьте себ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00080"/>
            <a:ext cx="76960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Чтобы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удалить жирные пятна со страницы книги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надо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присыпав загрязненный участок молотым мелом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прогладить его через белую бумагу горячим утюг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Олег усмехнулся</a:t>
            </a:r>
            <a:r>
              <a:rPr b="0" i="1" lang="ru-RU" sz="36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omic Sans MS"/>
              </a:rPr>
              <a:t>однако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 чело </a:t>
            </a:r>
            <a:r>
              <a:rPr b="0" i="1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 взор омрачилися дум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одумай и ответ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чего нужны союз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чему союзы делят на сочинительные и подчинительны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вызвало трудности в изучении тем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 чём было интересно узна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Выписать из художественных произведений 5-6 предложений с сочинительными и подчинительными союзам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  Подготовиться к словарному диктан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казать основные функции союз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ширить знания учеников о простых и составных союза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казать отличия функций сочинительных и подчинительных союз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ФОЭПИЧЕСКАЯ разминка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2960" y="1856880"/>
            <a:ext cx="7696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ЗВОНИ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ВГУСТОВ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ЧЕРПА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КАТАЛО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АЛОВ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ь себ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ЗВОН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ГУСТОВ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РПА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Р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КАТАЛ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АЛОВ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КУЛИН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Р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короговорка .</a:t>
            </a:r>
            <a:br>
              <a:rPr sz="4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вторим 3 раз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кёт ткач ткани на платок Та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Пришел Прокоп- кипит укроп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ушел Прокоп- кипит укроп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и при Прокопе кипит укроп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и без Прокопа кипит укроп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395280" y="1067760"/>
            <a:ext cx="8028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Сою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ужебная часть речи, котор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зыв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как члены предложения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к и прост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ложения в составе сложн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бщее грамматическое значение союза   –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бозначение сочинительной и подчинительной связи между словами и предложениями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интаксические признаки союзов              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оюзы не входят в состав членов предло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3585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АЗРЯДЫ СОЮЗОВ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по стро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95280" y="1285920"/>
          <a:ext cx="8064360" cy="567036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9889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СТЫЕ СОЮ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3560" marR="43560">
                    <a:lnL w="38160">
                      <a:solidFill>
                        <a:srgbClr val="00b0f0"/>
                      </a:solidFill>
                    </a:lnL>
                    <a:lnR w="38160">
                      <a:solidFill>
                        <a:srgbClr val="00b0f0"/>
                      </a:solidFill>
                    </a:lnR>
                    <a:lnT w="38160">
                      <a:solidFill>
                        <a:srgbClr val="00b0f0"/>
                      </a:solidFill>
                    </a:lnT>
                    <a:lnB w="38160">
                      <a:solidFill>
                        <a:srgbClr val="00b0f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ОСТАВНЫЕ СОЮ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3560" marR="43560">
                    <a:lnL w="38160">
                      <a:solidFill>
                        <a:srgbClr val="00b0f0"/>
                      </a:solidFill>
                    </a:lnL>
                    <a:lnR w="38160">
                      <a:solidFill>
                        <a:srgbClr val="00b0f0"/>
                      </a:solidFill>
                    </a:lnR>
                    <a:lnT w="38160">
                      <a:solidFill>
                        <a:srgbClr val="00b0f0"/>
                      </a:solidFill>
                    </a:lnT>
                    <a:lnB w="38160">
                      <a:solidFill>
                        <a:srgbClr val="00b0f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9796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и,  а,  но,  да,  что,  если,  когда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3560" marR="43560">
                    <a:lnL w="38160">
                      <a:solidFill>
                        <a:srgbClr val="00b0f0"/>
                      </a:solidFill>
                    </a:lnL>
                    <a:lnR w="38160">
                      <a:solidFill>
                        <a:srgbClr val="00b0f0"/>
                      </a:solidFill>
                    </a:lnR>
                    <a:lnT w="38160">
                      <a:solidFill>
                        <a:srgbClr val="00b0f0"/>
                      </a:solidFill>
                    </a:lnT>
                    <a:lnB w="381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потому что,   так как,   оттого что,    в силу того что,  вследствие того что,   до тех пор пока,   с тех пор ка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3560" marR="43560">
                    <a:lnL w="38160">
                      <a:solidFill>
                        <a:srgbClr val="00b0f0"/>
                      </a:solidFill>
                    </a:lnL>
                    <a:lnR w="38160">
                      <a:solidFill>
                        <a:srgbClr val="00b0f0"/>
                      </a:solidFill>
                    </a:lnR>
                    <a:lnT w="38160">
                      <a:solidFill>
                        <a:srgbClr val="00b0f0"/>
                      </a:solidFill>
                    </a:lnT>
                    <a:lnB w="381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018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Не жалко сил,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если</a:t>
                      </a: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 они дают такие результа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Мал золотник,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да</a:t>
                      </a:r>
                      <a:r>
                        <a:rPr b="1" i="1" lang="ru-RU" sz="24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 доро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3560" marR="43560">
                    <a:lnL w="38160">
                      <a:solidFill>
                        <a:srgbClr val="00b0f0"/>
                      </a:solidFill>
                    </a:lnL>
                    <a:lnR w="38160">
                      <a:solidFill>
                        <a:srgbClr val="00b0f0"/>
                      </a:solidFill>
                    </a:lnR>
                    <a:lnT w="38160">
                      <a:solidFill>
                        <a:srgbClr val="00b0f0"/>
                      </a:solidFill>
                    </a:lnT>
                    <a:lnB w="381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Иван не пришел на следующий день,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так как </a:t>
                      </a: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заболе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Он поплыл один, </a:t>
                      </a: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потому что</a:t>
                      </a: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 любил оставаться один на один с природ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3560" marR="43560">
                    <a:lnL w="38160">
                      <a:solidFill>
                        <a:srgbClr val="00b0f0"/>
                      </a:solidFill>
                    </a:lnL>
                    <a:lnR w="38160">
                      <a:solidFill>
                        <a:srgbClr val="00b0f0"/>
                      </a:solidFill>
                    </a:lnR>
                    <a:lnT w="38160">
                      <a:solidFill>
                        <a:srgbClr val="00b0f0"/>
                      </a:solidFill>
                    </a:lnT>
                    <a:lnB w="381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151920"/>
            <a:ext cx="7858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Запишите предложения с указанием простых и составных союзов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ЛЕТО ПРИПАСАЕТ, А ЗИМА ПОЕДА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ОН УСЛЫШАЛ, КАК БУДТО КТО-ТО СТУКНУЛ В ОК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omic Sans MS"/>
              </a:rPr>
              <a:t>Благодаря тому что мы много тренировались, диктант был написан хорошо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Таблица 18" descr=""/>
          <p:cNvPicPr/>
          <p:nvPr/>
        </p:nvPicPr>
        <p:blipFill>
          <a:blip r:embed="rId1"/>
          <a:stretch/>
        </p:blipFill>
        <p:spPr>
          <a:xfrm>
            <a:off x="285840" y="927000"/>
            <a:ext cx="8572320" cy="44989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6"/>
          <p:cNvSpPr/>
          <p:nvPr/>
        </p:nvSpPr>
        <p:spPr>
          <a:xfrm>
            <a:off x="357120" y="2160"/>
            <a:ext cx="79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РАЗРЯДЫ СОЮЗОВ ПО ЗНАЧЕН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WordArt 12"/>
          <p:cNvSpPr txBox="1"/>
          <p:nvPr/>
        </p:nvSpPr>
        <p:spPr>
          <a:xfrm>
            <a:off x="785880" y="1071720"/>
            <a:ext cx="114300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20"/>
          <p:cNvSpPr txBox="1"/>
          <p:nvPr/>
        </p:nvSpPr>
        <p:spPr>
          <a:xfrm rot="5400000">
            <a:off x="-1980720" y="3480480"/>
            <a:ext cx="5073480" cy="39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4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ОДЧИНИТЕЛЬНЫЕ</a:t>
            </a:r>
            <a:endParaRPr b="0" lang="en-US" sz="1400" spc="1" strike="noStrike">
              <a:ln w="9360">
                <a:solidFill>
                  <a:srgbClr val="ffc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8" name="Управляющая кнопка: возврат 22">
            <a:hlinkClick r:id="rId2" action="ppaction://hlinksldjump"/>
          </p:cNvPr>
          <p:cNvSpPr/>
          <p:nvPr/>
        </p:nvSpPr>
        <p:spPr>
          <a:xfrm>
            <a:off x="8597880" y="6481800"/>
            <a:ext cx="546120" cy="376200"/>
          </a:xfrm>
          <a:custGeom>
            <a:avLst/>
            <a:gdLst>
              <a:gd name="textAreaLeft" fmla="*/ 24120 w 546120"/>
              <a:gd name="textAreaRight" fmla="*/ 522000 w 546120"/>
              <a:gd name="textAreaTop" fmla="*/ 24120 h 376200"/>
              <a:gd name="textAreaBottom" fmla="*/ 352080 h 376200"/>
            </a:gdLst>
            <a:ahLst/>
            <a:rect l="textAreaLeft" t="textAreaTop" r="textAreaRight" b="textAreaBottom"/>
            <a:pathLst>
              <a:path w="31347" h="21600">
                <a:moveTo>
                  <a:pt x="0" y="0"/>
                </a:moveTo>
                <a:lnTo>
                  <a:pt x="31347" y="0"/>
                </a:lnTo>
                <a:lnTo>
                  <a:pt x="31347" y="21600"/>
                </a:lnTo>
                <a:lnTo>
                  <a:pt x="0" y="21600"/>
                </a:lnTo>
                <a:close/>
              </a:path>
              <a:path fill="lightenLess" w="31347" h="21600">
                <a:moveTo>
                  <a:pt x="0" y="0"/>
                </a:moveTo>
                <a:lnTo>
                  <a:pt x="31347" y="0"/>
                </a:lnTo>
                <a:lnTo>
                  <a:pt x="29947" y="1400"/>
                </a:lnTo>
                <a:lnTo>
                  <a:pt x="1400" y="1400"/>
                </a:lnTo>
                <a:close/>
              </a:path>
              <a:path fill="darken" w="31347" h="21600">
                <a:moveTo>
                  <a:pt x="31347" y="0"/>
                </a:moveTo>
                <a:lnTo>
                  <a:pt x="31347" y="21600"/>
                </a:lnTo>
                <a:lnTo>
                  <a:pt x="29947" y="20200"/>
                </a:lnTo>
                <a:lnTo>
                  <a:pt x="29947" y="1400"/>
                </a:lnTo>
                <a:close/>
              </a:path>
              <a:path fill="darkenLess" w="31347" h="21600">
                <a:moveTo>
                  <a:pt x="31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47" y="20200"/>
                </a:lnTo>
                <a:close/>
              </a:path>
              <a:path fill="lighten" w="31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47" h="21600">
                <a:moveTo>
                  <a:pt x="8667" y="7493"/>
                </a:moveTo>
                <a:lnTo>
                  <a:pt x="12175" y="7493"/>
                </a:lnTo>
                <a:lnTo>
                  <a:pt x="12175" y="12828"/>
                </a:lnTo>
                <a:cubicBezTo>
                  <a:pt x="12175" y="13751"/>
                  <a:pt x="12975" y="14482"/>
                  <a:pt x="14011" y="14482"/>
                </a:cubicBezTo>
                <a:lnTo>
                  <a:pt x="15673" y="14482"/>
                </a:lnTo>
                <a:cubicBezTo>
                  <a:pt x="16709" y="14482"/>
                  <a:pt x="17510" y="13751"/>
                  <a:pt x="17510" y="12828"/>
                </a:cubicBezTo>
                <a:lnTo>
                  <a:pt x="17510" y="7493"/>
                </a:lnTo>
                <a:lnTo>
                  <a:pt x="15673" y="7493"/>
                </a:lnTo>
                <a:lnTo>
                  <a:pt x="19181" y="3985"/>
                </a:lnTo>
                <a:lnTo>
                  <a:pt x="22854" y="7493"/>
                </a:lnTo>
                <a:lnTo>
                  <a:pt x="21017" y="7493"/>
                </a:lnTo>
                <a:lnTo>
                  <a:pt x="21017" y="12828"/>
                </a:lnTo>
                <a:cubicBezTo>
                  <a:pt x="21017" y="15596"/>
                  <a:pt x="18441" y="18155"/>
                  <a:pt x="15673" y="18155"/>
                </a:cubicBezTo>
                <a:lnTo>
                  <a:pt x="14011" y="18155"/>
                </a:lnTo>
                <a:cubicBezTo>
                  <a:pt x="11243" y="18155"/>
                  <a:pt x="8667" y="15596"/>
                  <a:pt x="8667" y="12828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4:46:35Z</dcterms:created>
  <dc:creator>1</dc:creator>
  <dc:description/>
  <dc:language>en-US</dc:language>
  <cp:lastModifiedBy>Home</cp:lastModifiedBy>
  <dcterms:modified xsi:type="dcterms:W3CDTF">2015-03-21T17:17:03Z</dcterms:modified>
  <cp:revision>18</cp:revision>
  <dc:subject/>
  <dc:title>Сочинительные и подчинительные союзы</dc:title>
</cp:coreProperties>
</file>