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0518-73E5-458E-A13C-4BA298FC9D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50C4-4297-4E4C-8382-E7CE1352A2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877-4881-45DA-A8C3-E5350216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ECD-2662-49F6-B4FB-01C653A4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855-A830-46B6-B9D7-28EFA774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1C6-AC20-4060-8D10-1FD5FB7E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87B2-F972-4C53-B680-BCB1171A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38E3-2019-41B8-9EB0-B30874AA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9E15-13DD-41A3-A2F9-1A8739C3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8117-C7A8-46A1-9A3F-012A72BA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CE8B-107B-47E2-9F84-912942BB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07D9-BA80-4A8F-8682-318C2383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C4A1-321C-4970-B485-17212A9B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072-9B6D-4FC7-A0AB-383D3C4C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0770-B562-4111-BFD9-14BFBA47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0509-5761-4727-BB10-A8DDD762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3CB0-32B2-451E-801D-7545A3B0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4BEC-C4A6-4524-83F8-3A7972E6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E8DF-FEDF-4EE4-A4B5-9232DE88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F05-8DBC-4244-B8A3-6535DE94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092-DB3C-46E0-BFA2-D28882FF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435-6392-4CB5-AD3C-97F34674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A60-476F-453E-B5BA-7111C27E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2B3-1FA4-44F4-B3C0-6F235AAD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8ED-9DEF-4808-A6E3-B243A886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DC8-3EA2-43CA-893C-10E9DA0A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0576-05A8-4FA3-A2B6-36EE075F70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5083-A6DA-4463-AB3A-9EAC427C00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76480" y="2349360"/>
            <a:ext cx="680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вуки лес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медв3947.wav" descr=""/>
          <p:cNvPicPr/>
          <p:nvPr/>
        </p:nvPicPr>
        <p:blipFill>
          <a:blip r:embed="rId1"/>
          <a:stretch/>
        </p:blipFill>
        <p:spPr>
          <a:xfrm>
            <a:off x="228600" y="64008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073160" y="525780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лесу живут не только птицы, а и разные животн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ие и маленькие. Послушай, как рыч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олапый бурый ми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D:\1\ЭНЦИКЛОПЕДИИ\ФОТО\2200.jpg"/>
          <p:cNvPicPr/>
          <p:nvPr/>
        </p:nvPicPr>
        <p:blipFill>
          <a:blip r:embed="rId2"/>
          <a:stretch/>
        </p:blipFill>
        <p:spPr>
          <a:xfrm>
            <a:off x="1752480" y="304920"/>
            <a:ext cx="57150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87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375920" y="5638680"/>
            <a:ext cx="674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так воет серый волк. А еще он умеет лаять, в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родственник соба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wolf3962.wav" descr=""/>
          <p:cNvPicPr/>
          <p:nvPr/>
        </p:nvPicPr>
        <p:blipFill>
          <a:blip r:embed="rId1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wolf3963.wav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:\1\ЭНЦИКЛОПЕДИИ\ФОТО\волк.jpg"/>
          <p:cNvPicPr/>
          <p:nvPr/>
        </p:nvPicPr>
        <p:blipFill>
          <a:blip r:embed="rId3"/>
          <a:stretch/>
        </p:blipFill>
        <p:spPr>
          <a:xfrm>
            <a:off x="1143000" y="304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46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46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027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лисы3978.wav" descr=""/>
          <p:cNvPicPr/>
          <p:nvPr/>
        </p:nvPicPr>
        <p:blipFill>
          <a:blip r:embed="rId1"/>
          <a:stretch/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3431880" y="586728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так лают лис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D:\1\ЭНЦИКЛОПЕДИИ\ФОТО\ис.jpg"/>
          <p:cNvPicPr/>
          <p:nvPr/>
        </p:nvPicPr>
        <p:blipFill>
          <a:blip r:embed="rId2"/>
          <a:stretch/>
        </p:blipFill>
        <p:spPr>
          <a:xfrm>
            <a:off x="1066680" y="4572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94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лось3978.wav" descr=""/>
          <p:cNvPicPr/>
          <p:nvPr/>
        </p:nvPicPr>
        <p:blipFill>
          <a:blip r:embed="rId1"/>
          <a:stretch/>
        </p:blipFill>
        <p:spPr>
          <a:xfrm>
            <a:off x="8610480" y="2286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4651200" y="4876920"/>
            <a:ext cx="420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голос могучего ло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ворят, что лось труб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да похоже, что неумел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ант дует в труб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D:\1\ЭНЦИКЛОПЕДИИ\ФОТО\Безымянный.bmp"/>
          <p:cNvPicPr/>
          <p:nvPr/>
        </p:nvPicPr>
        <p:blipFill>
          <a:blip r:embed="rId2"/>
          <a:stretch/>
        </p:blipFill>
        <p:spPr>
          <a:xfrm>
            <a:off x="304920" y="304920"/>
            <a:ext cx="4089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7384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енот3978.wav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D:\1\ЭНЦИКЛОПЕДИИ\ФОТО\enot2.jpg"/>
          <p:cNvPicPr/>
          <p:nvPr/>
        </p:nvPicPr>
        <p:blipFill>
          <a:blip r:embed="rId2"/>
          <a:stretch/>
        </p:blipFill>
        <p:spPr>
          <a:xfrm>
            <a:off x="380880" y="380880"/>
            <a:ext cx="3278160" cy="6096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4345920" y="5562720"/>
            <a:ext cx="42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маленького пушистого ен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же свой гол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7592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1\ЭНЦИКЛОПЕДИИ\ФОТО\олень.jpg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5130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364480" y="586728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еще в лесу живет красавец-олен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1\ЭНЦИКЛОПЕДИИ\ФОТО\6_6_b.jpg"/>
          <p:cNvPicPr/>
          <p:nvPr/>
        </p:nvPicPr>
        <p:blipFill>
          <a:blip r:embed="rId1"/>
          <a:stretch/>
        </p:blipFill>
        <p:spPr>
          <a:xfrm>
            <a:off x="1763640" y="1197000"/>
            <a:ext cx="5666040" cy="4263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3583440" y="609588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ючий ежи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:\1\ЭНЦИКЛОПЕДИИ\ФОТО\елка.jpg"/>
          <p:cNvPicPr/>
          <p:nvPr/>
        </p:nvPicPr>
        <p:blipFill>
          <a:blip r:embed="rId1"/>
          <a:stretch/>
        </p:blipFill>
        <p:spPr>
          <a:xfrm>
            <a:off x="1066680" y="5335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734640" y="594360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жая белоч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:\1\ЭНЦИКЛОПЕДИИ\ФОТО\sosni.jpg"/>
          <p:cNvPicPr/>
          <p:nvPr/>
        </p:nvPicPr>
        <p:blipFill>
          <a:blip r:embed="rId1"/>
          <a:stretch/>
        </p:blipFill>
        <p:spPr>
          <a:xfrm>
            <a:off x="1244520" y="404640"/>
            <a:ext cx="6613560" cy="4961160"/>
          </a:xfrm>
          <a:prstGeom prst="rect">
            <a:avLst/>
          </a:prstGeom>
          <a:ln w="0">
            <a:noFill/>
          </a:ln>
        </p:spPr>
      </p:pic>
      <p:pic>
        <p:nvPicPr>
          <p:cNvPr id="91" name="fore3775.wav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876600" y="5791320"/>
            <a:ext cx="73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вай прогуляемся с тобой в лес. Узнаем, какие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животные здесь живут и послушаем их голос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81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kuku3791.wav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141920" y="5638680"/>
            <a:ext cx="73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-ка, прислушайся. Чей это голо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укует лес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а куку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1\ЭНЦИКЛОПЕДИИ\ФОТО\image008.jpg"/>
          <p:cNvPicPr/>
          <p:nvPr/>
        </p:nvPicPr>
        <p:blipFill>
          <a:blip r:embed="rId2"/>
          <a:stretch/>
        </p:blipFill>
        <p:spPr>
          <a:xfrm>
            <a:off x="1763640" y="1131840"/>
            <a:ext cx="566424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9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дяте3884.wav" descr=""/>
          <p:cNvPicPr/>
          <p:nvPr/>
        </p:nvPicPr>
        <p:blipFill>
          <a:blip r:embed="rId1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5334120" y="457200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что за треск стоит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ак стучит сво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епким клювом дят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достает из-под ко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екомых себе на обе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D:\1\ЭНЦИКЛОПЕДИИ\ФОТО\daitel.jpg"/>
          <p:cNvPicPr/>
          <p:nvPr/>
        </p:nvPicPr>
        <p:blipFill>
          <a:blip r:embed="rId2"/>
          <a:stretch/>
        </p:blipFill>
        <p:spPr>
          <a:xfrm>
            <a:off x="380880" y="304920"/>
            <a:ext cx="4705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94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sini3916.wav" descr=""/>
          <p:cNvPicPr/>
          <p:nvPr/>
        </p:nvPicPr>
        <p:blipFill>
          <a:blip r:embed="rId1"/>
          <a:stretch/>
        </p:blipFill>
        <p:spPr>
          <a:xfrm>
            <a:off x="228600" y="64008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069200" y="5943600"/>
            <a:ext cx="69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ен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ничка, радуется солнышку и теп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D:\ЭНЦИКЛОПЕДИИ\Новая папка\102HP720\sinica.jpg"/>
          <p:cNvPicPr/>
          <p:nvPr/>
        </p:nvPicPr>
        <p:blipFill>
          <a:blip r:embed="rId2"/>
          <a:stretch/>
        </p:blipFill>
        <p:spPr>
          <a:xfrm>
            <a:off x="1143000" y="3808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337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ло3947.wav" descr=""/>
          <p:cNvPicPr/>
          <p:nvPr/>
        </p:nvPicPr>
        <p:blipFill>
          <a:blip r:embed="rId1"/>
          <a:stretch/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5639400" y="5334120"/>
            <a:ext cx="28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поет-зал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овей, сереньк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приметная пти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D:\1\ЭНЦИКЛОПЕДИИ\ФОТО\nightingale1.jpg"/>
          <p:cNvPicPr/>
          <p:nvPr/>
        </p:nvPicPr>
        <p:blipFill>
          <a:blip r:embed="rId2"/>
          <a:stretch/>
        </p:blipFill>
        <p:spPr>
          <a:xfrm>
            <a:off x="457200" y="304920"/>
            <a:ext cx="4890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4523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:\1\ЭНЦИКЛОПЕДИИ\ФОТО\galerida_cristata_grested_lark_KJ7T5690_out_j.jpg"/>
          <p:cNvPicPr/>
          <p:nvPr/>
        </p:nvPicPr>
        <p:blipFill>
          <a:blip r:embed="rId1"/>
          <a:stretch/>
        </p:blipFill>
        <p:spPr>
          <a:xfrm>
            <a:off x="1905120" y="304920"/>
            <a:ext cx="5410080" cy="5398920"/>
          </a:xfrm>
          <a:prstGeom prst="rect">
            <a:avLst/>
          </a:prstGeom>
          <a:ln w="0">
            <a:noFill/>
          </a:ln>
        </p:spPr>
      </p:pic>
      <p:pic>
        <p:nvPicPr>
          <p:cNvPr id="106" name="жаво3947.wav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2822040" y="601992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так щебечет жаворо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69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D:\1\ЭНЦИКЛОПЕДИИ\ФОТО\Безымянный.bmp"/>
          <p:cNvPicPr/>
          <p:nvPr/>
        </p:nvPicPr>
        <p:blipFill>
          <a:blip r:embed="rId1"/>
          <a:stretch/>
        </p:blipFill>
        <p:spPr>
          <a:xfrm>
            <a:off x="914400" y="380880"/>
            <a:ext cx="7315200" cy="5114880"/>
          </a:xfrm>
          <a:prstGeom prst="rect">
            <a:avLst/>
          </a:prstGeom>
          <a:ln w="0">
            <a:noFill/>
          </a:ln>
        </p:spPr>
      </p:pic>
      <p:pic>
        <p:nvPicPr>
          <p:cNvPr id="109" name="скво3947.wav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1965240" y="575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143000" y="5638680"/>
            <a:ext cx="68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т еще один знаменитый птичий певец – скворе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ушай, какие трели он вывод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09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фили3947.wav" descr=""/>
          <p:cNvPicPr/>
          <p:nvPr/>
        </p:nvPicPr>
        <p:blipFill>
          <a:blip r:embed="rId1"/>
          <a:stretch/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1\ЭНЦИКЛОПЕДИИ\ФОТО\270px-CRW_2987.jpg"/>
          <p:cNvPicPr/>
          <p:nvPr/>
        </p:nvPicPr>
        <p:blipFill>
          <a:blip r:embed="rId2"/>
          <a:stretch/>
        </p:blipFill>
        <p:spPr>
          <a:xfrm>
            <a:off x="380880" y="304920"/>
            <a:ext cx="4062600" cy="6095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5031360" y="5486400"/>
            <a:ext cx="35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так ухает гроза мыш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сная хищница с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86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8:01:42Z</dcterms:created>
  <dc:creator>Юлия Каспарова</dc:creator>
  <dc:description/>
  <dc:language>en-US</dc:language>
  <cp:lastModifiedBy>Влад</cp:lastModifiedBy>
  <dcterms:modified xsi:type="dcterms:W3CDTF">2015-03-21T10:51:10Z</dcterms:modified>
  <cp:revision>5</cp:revision>
  <dc:subject/>
  <dc:title>Лес и его голоса</dc:title>
</cp:coreProperties>
</file>