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BA1-A97B-42BD-8190-46464569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75E-5D93-4AC8-ACA0-7A3B778B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E70-EE01-4774-A45E-5EDEE176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2E5-5B08-4F9A-9A1A-F415176A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2E9-F9AC-4C6F-AAA5-0822513B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253-896F-4195-A4FA-6949C799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CC9-EFC0-40A0-BEB5-BA76F5FB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2E7-FC89-43B3-95CA-9924D777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39F-6757-43F6-8E9F-D9E963A5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486-5613-45D5-BD9B-4419CE5C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E84-377D-4408-8F9E-0BAF5792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503-5E47-4952-9E20-78F65AE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FA4547-913C-46F8-AD71-1CA69E78D6C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827640" y="1969560"/>
            <a:ext cx="489636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49" strike="noStrike">
                <a:solidFill>
                  <a:srgbClr val="c00000"/>
                </a:solidFill>
                <a:latin typeface="Arial Black"/>
              </a:rPr>
              <a:t>Образ Оки Ивановича Городов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49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i="1" lang="ru-RU" sz="2800" spc="49" strike="noStrike">
                <a:solidFill>
                  <a:srgbClr val="c00000"/>
                </a:solidFill>
                <a:latin typeface="Arial Black"/>
              </a:rPr>
              <a:t>в изобразительном искус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Рисунок 3"/>
          <p:cNvSpPr/>
          <p:nvPr/>
        </p:nvSpPr>
        <p:spPr>
          <a:xfrm>
            <a:off x="4903560" y="387720"/>
            <a:ext cx="4061880" cy="54892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  <a:softEdge rad="63504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10001"/>
          <p:cNvPicPr/>
          <p:nvPr/>
        </p:nvPicPr>
        <p:blipFill>
          <a:blip r:embed="rId1"/>
          <a:srcRect l="6411" t="17204" r="6679" b="7504"/>
          <a:stretch/>
        </p:blipFill>
        <p:spPr>
          <a:xfrm>
            <a:off x="1098000" y="374760"/>
            <a:ext cx="7353360" cy="526788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61" name="TextBox 2"/>
          <p:cNvSpPr/>
          <p:nvPr/>
        </p:nvSpPr>
        <p:spPr>
          <a:xfrm>
            <a:off x="805320" y="5805360"/>
            <a:ext cx="793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Мерген Мошулдаев «Ока Иванович Городовиков» (фрагмент). Холст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10007"/>
          <p:cNvPicPr/>
          <p:nvPr/>
        </p:nvPicPr>
        <p:blipFill>
          <a:blip r:embed="rId1"/>
          <a:srcRect l="5955" t="53331" r="64586" b="20622"/>
          <a:stretch/>
        </p:blipFill>
        <p:spPr>
          <a:xfrm>
            <a:off x="827640" y="188640"/>
            <a:ext cx="3459960" cy="597636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63" name="TextBox 2"/>
          <p:cNvSpPr/>
          <p:nvPr/>
        </p:nvSpPr>
        <p:spPr>
          <a:xfrm>
            <a:off x="4500000" y="620640"/>
            <a:ext cx="46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Памятник О. И. Городовик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в Городовиков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10005"/>
          <p:cNvPicPr/>
          <p:nvPr/>
        </p:nvPicPr>
        <p:blipFill>
          <a:blip r:embed="rId1"/>
          <a:srcRect l="12147" t="13084" r="21164" b="18630"/>
          <a:stretch/>
        </p:blipFill>
        <p:spPr>
          <a:xfrm>
            <a:off x="797040" y="476640"/>
            <a:ext cx="4045680" cy="535536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44" name="TextBox 2"/>
          <p:cNvSpPr/>
          <p:nvPr/>
        </p:nvSpPr>
        <p:spPr>
          <a:xfrm>
            <a:off x="5004000" y="476640"/>
            <a:ext cx="413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А. М. Герас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Комкор О. И. Городовиков. 193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004000" y="1412640"/>
            <a:ext cx="396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Этот этюд был подготовлен к картине «Первая конн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10002"/>
          <p:cNvPicPr/>
          <p:nvPr/>
        </p:nvPicPr>
        <p:blipFill>
          <a:blip r:embed="rId1"/>
          <a:srcRect l="13247" t="71276" r="15765" b="8908"/>
          <a:stretch/>
        </p:blipFill>
        <p:spPr>
          <a:xfrm>
            <a:off x="885240" y="620640"/>
            <a:ext cx="8011080" cy="417600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47" name="TextBox 2"/>
          <p:cNvSpPr/>
          <p:nvPr/>
        </p:nvSpPr>
        <p:spPr>
          <a:xfrm>
            <a:off x="1951200" y="5013000"/>
            <a:ext cx="5988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Борис Данильченко.1918 год (линогравюра) 22х60. 196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Мои документы\Мои рисунки\О.И. Городовиков\О.И. Городовиков.jpg"/>
          <p:cNvPicPr/>
          <p:nvPr/>
        </p:nvPicPr>
        <p:blipFill>
          <a:blip r:embed="rId1"/>
          <a:srcRect l="6597" t="0" r="10979" b="16033"/>
          <a:stretch/>
        </p:blipFill>
        <p:spPr>
          <a:xfrm>
            <a:off x="2583720" y="260640"/>
            <a:ext cx="4392000" cy="543240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49" name="Прямоугольник 2"/>
          <p:cNvSpPr/>
          <p:nvPr/>
        </p:nvSpPr>
        <p:spPr>
          <a:xfrm>
            <a:off x="1389600" y="5807160"/>
            <a:ext cx="69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Борис Данильченко. Командарм О. И. Городовиков. 196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User\Мои документы\Мои рисунки\О.И. Городовиков\О.И. Городовиков 002.jpg"/>
          <p:cNvPicPr/>
          <p:nvPr/>
        </p:nvPicPr>
        <p:blipFill>
          <a:blip r:embed="rId1"/>
          <a:srcRect l="9919" t="11396" r="8740" b="12361"/>
          <a:stretch/>
        </p:blipFill>
        <p:spPr>
          <a:xfrm>
            <a:off x="2355480" y="260640"/>
            <a:ext cx="4680000" cy="535860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51" name="Прямоугольник 2"/>
          <p:cNvSpPr/>
          <p:nvPr/>
        </p:nvSpPr>
        <p:spPr>
          <a:xfrm>
            <a:off x="1175760" y="5791680"/>
            <a:ext cx="73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Убуш Бадмаев. Командарм О.И. Городовиков. Холст, масло. 1972 г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ser\Мои документы\Мои рисунки\О.И. Городовиков\О.И. Городовиков 001.jpg"/>
          <p:cNvPicPr/>
          <p:nvPr/>
        </p:nvPicPr>
        <p:blipFill>
          <a:blip r:embed="rId1"/>
          <a:srcRect l="17201" t="5704" r="11319" b="14562"/>
          <a:stretch/>
        </p:blipFill>
        <p:spPr>
          <a:xfrm>
            <a:off x="2771640" y="188640"/>
            <a:ext cx="4066920" cy="540036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53" name="Прямоугольник 2"/>
          <p:cNvSpPr/>
          <p:nvPr/>
        </p:nvSpPr>
        <p:spPr>
          <a:xfrm>
            <a:off x="683640" y="5661360"/>
            <a:ext cx="824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Ким Ольдаев. О. И. Городовиков – Герой Советского Сою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генерал-полковник. Холст, масло. 197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10003"/>
          <p:cNvPicPr/>
          <p:nvPr/>
        </p:nvPicPr>
        <p:blipFill>
          <a:blip r:embed="rId1"/>
          <a:srcRect l="15612" t="7475" r="14572" b="69843"/>
          <a:stretch/>
        </p:blipFill>
        <p:spPr>
          <a:xfrm>
            <a:off x="1043640" y="277560"/>
            <a:ext cx="7643520" cy="496836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55" name="TextBox 2"/>
          <p:cNvSpPr/>
          <p:nvPr/>
        </p:nvSpPr>
        <p:spPr>
          <a:xfrm>
            <a:off x="899640" y="5445360"/>
            <a:ext cx="792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Очир Кикеев. Песнь о Красных конниках. Фрагмент. 197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Роспись темп. 300х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User\Мои документы\Мои рисунки\О.И. Городовиков\О.И. Городовиков 004.jpg"/>
          <p:cNvPicPr/>
          <p:nvPr/>
        </p:nvPicPr>
        <p:blipFill>
          <a:blip r:embed="rId1"/>
          <a:srcRect l="15469" t="5683" r="16120" b="23864"/>
          <a:stretch/>
        </p:blipFill>
        <p:spPr>
          <a:xfrm>
            <a:off x="760680" y="260640"/>
            <a:ext cx="3960000" cy="570996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57" name="Прямоугольник 2"/>
          <p:cNvSpPr/>
          <p:nvPr/>
        </p:nvSpPr>
        <p:spPr>
          <a:xfrm>
            <a:off x="4932000" y="548640"/>
            <a:ext cx="388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Памятник Оке Ивановичу Городовикову - Герою Советского Союза, генерал-полковнику, видному военному и политическому деятелю, открыт в 197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Архитектор В. Нимгиров, скульпторы Н. Санджиев, Л. Роберман, М. Роберм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Памятник выполнен в бронзе. Легендарный полководец будто взлетел на горячем скакуне на курган и остановил вздыбленного коня. Вознесенный на вершину холма, он словно парит над гор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User\Мои документы\Мои рисунки\О.И. Городовиков\О.И. Городовиков 003.jpg"/>
          <p:cNvPicPr/>
          <p:nvPr/>
        </p:nvPicPr>
        <p:blipFill>
          <a:blip r:embed="rId1"/>
          <a:srcRect l="2193" t="2338" r="3600" b="3837"/>
          <a:stretch/>
        </p:blipFill>
        <p:spPr>
          <a:xfrm>
            <a:off x="1763640" y="260640"/>
            <a:ext cx="6045480" cy="5086440"/>
          </a:xfrm>
          <a:prstGeom prst="rect">
            <a:avLst/>
          </a:prstGeom>
          <a:ln cap="sq" w="88900">
            <a:solidFill>
              <a:srgbClr val="f79646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59" name="Прямоугольник 3"/>
          <p:cNvSpPr/>
          <p:nvPr/>
        </p:nvSpPr>
        <p:spPr>
          <a:xfrm>
            <a:off x="2500560" y="55173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Убуш Бадмаев. Командиры Калмыкии. Холст, масло. 1985-198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  <Words>219</Words>
  <Paragraphs>2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12:27:04Z</dcterms:created>
  <dc:creator>Пользователь</dc:creator>
  <dc:description/>
  <dc:language>en-US</dc:language>
  <cp:lastModifiedBy>Айса</cp:lastModifiedBy>
  <dcterms:modified xsi:type="dcterms:W3CDTF">2001-12-31T22:26:50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