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A90-6012-4B71-9470-C0FE5BB6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64B-0D8D-4A20-AF70-6B741E09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4E7-D2E2-40E3-93BD-D5DD3AA6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86A-8727-4E4A-8FEE-DC39BCD3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5DB-82B3-4AB4-ACB5-D424FCC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E44-DFE6-45C2-8369-E51FEA72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1D5-A0BC-4DA8-95A4-0E899674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B49-8CC3-4C49-B449-0CFC616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920-0957-499D-8FC4-8F1405B8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6F1-F738-4FD7-A1B8-9EABE42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FCE-5A1A-4572-8996-ACC03A8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4B1-4618-4577-8D62-E81022E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907-E0D2-41EE-88EC-8E7D8B109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лгоритм сложения и вычита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рок математики 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) 42+17=2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) 4,2+17=21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596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г)736-336=4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)7,36-3,36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7451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) 6,3-0,27=6,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) 6,3-0,27=6,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451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е)57-4=17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)5,7-4=1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равнить чис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,78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,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,7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.6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.15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5,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,23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,2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писать десятичную дробь в виде обыкновенной дроби или смешанного числ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6.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76,0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,00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,000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ычис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5 +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5-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00000" y="1413000"/>
          <a:ext cx="72396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239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55640" y="2276640"/>
          <a:ext cx="109080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276640"/>
                    <a:ext cx="10908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55640" y="3284640"/>
          <a:ext cx="136044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84640"/>
                    <a:ext cx="13604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26920" y="4005360"/>
          <a:ext cx="627120" cy="74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005360"/>
                    <a:ext cx="6271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89000"/>
          <a:ext cx="8229600" cy="6669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333399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7+ 2,651=3,700 +2,65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)Уравнять в этих дробях количество знаков после запятой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                3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24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2,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) записать их друг под другом так, чтобы запятая была записана под запятой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                3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              +</a:t>
                      </a:r>
                      <a:r>
                        <a:rPr b="1" lang="en-US" sz="24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2,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,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) выполнить сложение (вычитание),  не обращая внимание на запятую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) поставить в ответе запятую под запятой в данных дробях 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запятая «падает»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,7 - 2,651=3,700 - 2,651= 1,0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,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2,6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,049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асставьте запятые так ,чтобы равенства получились вер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)32+18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б)3+108=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) 42+17=2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г)736-336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) 63-027=6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е)57-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а) 32+18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) 3,2+1,8=5,0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524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)3+108=4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б)3+1,08=4,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738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7:43:15Z</dcterms:created>
  <dc:creator>User</dc:creator>
  <dc:description/>
  <dc:language>en-US</dc:language>
  <cp:lastModifiedBy>ADMIN</cp:lastModifiedBy>
  <dcterms:modified xsi:type="dcterms:W3CDTF">2015-02-04T15:47:45Z</dcterms:modified>
  <cp:revision>7</cp:revision>
  <dc:subject/>
  <dc:title>Алгоритм сложения и вычитание десятичных дробей</dc:title>
</cp:coreProperties>
</file>