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DE1C-98D8-4B1A-9A8C-6E56FB96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903E-E392-4C2C-BECA-91EC2ABF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CD87-D146-4D41-81C4-20DABEC7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30B2-DBF3-47CB-AA65-55F6F7E8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A7B0-EF26-4164-8BA3-C1AB1CBA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B82B-4622-48E1-92FC-2AAD77A2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E1BF-5955-46B4-A3AD-FB3BF86D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F068-7202-429D-8A0F-2CDEEA48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949A-F4F6-4E2B-B94A-79A5DB0D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ED40-443C-4F61-B4DA-B5A8C97E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086C-9875-4F03-ABCC-93663FC9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114-305E-403F-8ED2-523A9C96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8BAB-3DFA-4D34-A8E4-B42A3879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27C9-60B5-4529-8A7F-EC4BDB64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13BF-597A-48D5-ACE0-0EA23924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D6B9-725B-4F0D-AB9A-49B17AB2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5D2C-7EC1-4080-9620-7EB2331B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9A1-D64C-4D8B-924D-C564FDF1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FB24-5DE1-4F3E-AE07-70964D3F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6A00-72C4-4396-B7CB-AD9D8D74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019-7337-47AE-9CDC-FCC9900F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920-3B57-47C4-AD2E-E296C105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C5CA-9C3C-4B44-A8A0-36C77019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B7E-4590-42AB-945F-CEC6BBB5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30EF-CA86-46A7-A3CA-79C1E0A4A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5458-2CB7-4F14-A21C-B890A50C5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ajestic"/>
              </a:rPr>
              <a:t>Готовность к школе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808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дзаголо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одзаголовок 2"/>
          <p:cNvSpPr/>
          <p:nvPr/>
        </p:nvSpPr>
        <p:spPr>
          <a:xfrm>
            <a:off x="971640" y="1557360"/>
            <a:ext cx="7056360" cy="2736720"/>
          </a:xfrm>
          <a:prstGeom prst="rect">
            <a:avLst/>
          </a:prstGeom>
          <a:solidFill>
            <a:srgbClr val="dfd7e7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buClr>
                <a:srgbClr val="002060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buClr>
                <a:srgbClr val="002060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это не только набор определенных умений и навыков, которые должны быть сформированы у ребенка к 6-7 го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buClr>
                <a:srgbClr val="002060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Готовность к школе включает в себя несколько компон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ajestic"/>
              </a:rPr>
              <a:t>Что же должна включать подготовка ребенка к школ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1989000"/>
            <a:ext cx="83534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SzPct val="20562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е слушать и слышать учителя, выполнять его требования, действовать по образ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20562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е думать (учите  ребенка устанавливать причинно-следственные связи, решайте вместе с ним логические задачи: загадки, ребусы, кроссвор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20562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е счи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20562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е пис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20562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е общаться с сверстниками и взросл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Majestic"/>
              </a:rPr>
              <a:t>Хорошей Вам учёбы!</a:t>
            </a:r>
            <a:endParaRPr b="0" lang="en-US" sz="7400" spc="-1" strike="noStrike">
              <a:solidFill>
                <a:srgbClr val="000000"/>
              </a:solidFill>
              <a:latin typeface="Majest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сихологическая гото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Интеллектуальная, мотивацион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волевая,коммуника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Физическая готов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Здоровье, моторика рук, движения,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пециальная гото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Чтение, счет, учебные у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70c0"/>
                </a:solidFill>
                <a:latin typeface="Arial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ajestic"/>
              </a:rPr>
              <a:t>Психологическая гото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598760"/>
            <a:ext cx="6389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ый и достаточный уровень психического развития ребенка для освоения школьной учебной программы в условиях обучения в коллективе сверст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Один из важнейших  итогов психического развития в период дошкольного дет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лог быстрой и безболезненной адаптации в начале учебного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пешное усвоение школьн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00000"/>
                </a:solidFill>
                <a:latin typeface="Majestic"/>
              </a:rPr>
              <a:t>Интеллектуальная готов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одержимое 4"/>
          <p:cNvSpPr/>
          <p:nvPr/>
        </p:nvSpPr>
        <p:spPr>
          <a:xfrm>
            <a:off x="395280" y="1413000"/>
            <a:ext cx="5905440" cy="492912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Ориентировка ребенка в окружающ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Clr>
                <a:srgbClr val="00206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Запас знаний, усвоенных в сис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Clr>
                <a:srgbClr val="00206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Желание узнавать новое, любозна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Clr>
                <a:srgbClr val="00206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Развитие образных предста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Clr>
                <a:srgbClr val="00206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Развитие речи и мышления в соответствии с возрастной нор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Clr>
                <a:srgbClr val="00206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Смысловое запомин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ajestic"/>
              </a:rPr>
              <a:t>Мотивационная  гото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одержимое 2"/>
          <p:cNvSpPr/>
          <p:nvPr/>
        </p:nvSpPr>
        <p:spPr>
          <a:xfrm>
            <a:off x="500040" y="2000160"/>
            <a:ext cx="5584680" cy="423720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Наличие у ребенка познавательных интерес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Clr>
                <a:srgbClr val="000000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ит кни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Clr>
                <a:srgbClr val="000000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ит решать задачки и кроссворды и др. интеллектуальные зад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Clr>
                <a:srgbClr val="000000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ознател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Clr>
                <a:srgbClr val="000000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ет много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ajestic"/>
              </a:rPr>
              <a:t>Волевая  гото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Majestic"/>
              </a:rPr>
              <a:t>умение сдерживать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Majestic"/>
              </a:rPr>
              <a:t>и контролировать по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одержимое 2"/>
          <p:cNvSpPr/>
          <p:nvPr/>
        </p:nvSpPr>
        <p:spPr>
          <a:xfrm>
            <a:off x="468360" y="2205000"/>
            <a:ext cx="5727600" cy="3714840"/>
          </a:xfrm>
          <a:prstGeom prst="rect">
            <a:avLst/>
          </a:prstGeom>
          <a:solidFill>
            <a:srgbClr val="fbcc9a"/>
          </a:solidFill>
          <a:ln w="9360">
            <a:solidFill>
              <a:srgbClr val="fde5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ие сознательно подчинять свои действия правилу, обобщенно определяющему способ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ие ориентироваться на заданную систему треб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SzPct val="2056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ие внимательно слушать говорящего и точно выполнять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SzPct val="2056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ajestic"/>
              </a:rPr>
              <a:t>Эмоциональная  гото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одержимое 2"/>
          <p:cNvSpPr/>
          <p:nvPr/>
        </p:nvSpPr>
        <p:spPr>
          <a:xfrm>
            <a:off x="571680" y="2071800"/>
            <a:ext cx="5440320" cy="407196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 fontScale="97000"/>
          </a:bodyPr>
          <a:p>
            <a:pPr marL="256680" indent="-256680"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ность управлять своими эмоциями и пове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spcBef>
                <a:spcPts val="601"/>
              </a:spcBef>
              <a:buSzPct val="2056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ие организовывать рабочее место и поддерживать порядок в 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spcBef>
                <a:spcPts val="601"/>
              </a:spcBef>
              <a:buSzPct val="2056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емление преодолевать труд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емление к достижению результата свое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ajestic"/>
              </a:rPr>
              <a:t>Коммуникативная  гото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одержимое 2"/>
          <p:cNvSpPr/>
          <p:nvPr/>
        </p:nvSpPr>
        <p:spPr>
          <a:xfrm>
            <a:off x="611280" y="1557360"/>
            <a:ext cx="5616360" cy="511164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Это умение ребенка строить свои взаимоотношение с другими людь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рать и общаться с другими ребя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ыть включенным в детский коллектив и уметь жить по его закон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SzPct val="2056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аться со взрослыми людьми, соблюдая правила культурного обращ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SzPct val="2056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рожелательность и отсутствие агресс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ajestic"/>
              </a:rPr>
              <a:t>Физическая гото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одержимое 6"/>
          <p:cNvSpPr/>
          <p:nvPr/>
        </p:nvSpPr>
        <p:spPr>
          <a:xfrm>
            <a:off x="755640" y="1628640"/>
            <a:ext cx="5329080" cy="442944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ояние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ческое разви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SzPct val="2056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анализаторны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SzPct val="2056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мелких групп мыш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ординация движений в соответствии с возрастной нор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товность организма ребенка к  учебным нагруз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05:28:02Z</dcterms:created>
  <dc:creator>Оля</dc:creator>
  <dc:description/>
  <dc:language>en-US</dc:language>
  <cp:lastModifiedBy>Admin</cp:lastModifiedBy>
  <dcterms:modified xsi:type="dcterms:W3CDTF">2015-03-20T18:48:00Z</dcterms:modified>
  <cp:revision>19</cp:revision>
  <dc:subject/>
  <dc:title>Слайд 1</dc:title>
</cp:coreProperties>
</file>