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F03-CF41-4B67-9BB7-9CE08F6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D56-FAF5-45EA-841D-71E92AB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76E-65FE-4D01-BC80-2ED464E3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3FB-E694-4C92-8A00-4681B8B0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B15-17A2-4E86-93F4-8290F6C1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E50D-AE95-49C9-96CA-C7919879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27FE-2474-48E5-BEE1-DECFCBF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3412-41FB-43C6-A4F0-E263F82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C7A2-A696-433B-90A3-F09B57E2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D7C5-111A-4C1B-ADF1-5C891DDE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6E3D-FA4D-463A-9B7C-EB3E35F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73E-8412-4F4A-9AC4-42E46BF9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0CD8-C238-42F5-B1C8-DFFBBD8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F4E1-01E6-4898-A9E2-C40B70D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1B22-6378-465D-9D50-015F924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F859-A655-4E2A-94C4-88F6CF8A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4AA7-3B45-49EB-A2B4-D193F4A1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86C-26BC-490D-B5B7-97679FC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B55-AAC2-44C9-A14C-BD2F964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122-175C-4330-9D6D-A9D7DF1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BD7-E6E2-4F33-AE34-344F8D93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B64-E926-4C77-9AB7-DBFF797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3E2-A341-4C62-89BD-72DFF800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6EF-EEB3-4C85-8496-45B3D1A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C24-E777-416F-81E8-04EFB19039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1CBE-0551-4311-90CE-A11F6DAD41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Мой родной город</a:t>
            </a:r>
            <a:br>
              <a:rPr sz="4400"/>
            </a:b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«Бутурлиновка»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60 лет назад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ое поселение на территории Бутурлиновского района возникло около 25 лет назад. Первые поселенцы были перисиленцы с Укра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риданию слободу Бутурлиновку основал бурлак Герасим Гранников, поселившийся на берегу реки в 1740 г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ё название слобода получила по фамилии её первого владельца А. Б. Бутурл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31164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35280" y="3933720"/>
            <a:ext cx="1925640" cy="251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67280" y="836640"/>
            <a:ext cx="44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Городская библиотек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46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инотеат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81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кровская церков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2808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втобусная останов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9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524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58316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12000" y="1341360"/>
            <a:ext cx="1950840" cy="13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708360" y="4149720"/>
            <a:ext cx="1951200" cy="128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16360" y="3357720"/>
            <a:ext cx="5465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1946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Герб нашего город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213372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1514160" cy="1906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97280" y="1600200"/>
            <a:ext cx="334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лица Лени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02040" cy="254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902040" cy="2378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4869000"/>
            <a:ext cx="1950840" cy="1087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492360" y="4797360"/>
            <a:ext cx="1951200" cy="119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96000" y="4724280"/>
            <a:ext cx="19508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мья купца Нечёсов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2343240" cy="2957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592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лица 9-е Январ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30560" y="1600200"/>
            <a:ext cx="5202360" cy="3851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19508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Городской пар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5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амятник царю Александр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803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912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9:29:20Z</dcterms:created>
  <dc:creator>Admin</dc:creator>
  <dc:description/>
  <dc:language>en-US</dc:language>
  <cp:lastModifiedBy>Admin</cp:lastModifiedBy>
  <dcterms:modified xsi:type="dcterms:W3CDTF">2015-03-22T10:43:40Z</dcterms:modified>
  <cp:revision>2</cp:revision>
  <dc:subject/>
  <dc:title>Слайд 1</dc:title>
</cp:coreProperties>
</file>