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08B-8320-410C-94FF-7E37420F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3E3-0537-4A26-8374-D927C9BF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5B8-19B3-4FEC-A020-55950E08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69E-A409-4EA1-92B0-3C1E95B0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61C-EC49-42EE-A2CF-CDE9C16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183-F079-42EC-ABE4-8BA063E1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AED-B6F1-4E12-A169-B641013D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4CE-AD22-4872-AAA1-3706CD3A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B09-1ED3-46BD-9F4B-85DA093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509-1E8E-4950-B24D-AC0A46EE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56C-1AF7-4B11-8A29-3FC9385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722-BDC8-4731-BF23-ABA4A25A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C9E6-9B12-4C98-B054-740FD018E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257148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Модуль: «Основы мировых религиозных культу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extBox 3" descr=""/>
          <p:cNvPicPr/>
          <p:nvPr/>
        </p:nvPicPr>
        <p:blipFill>
          <a:blip r:embed="rId1"/>
          <a:stretch/>
        </p:blipFill>
        <p:spPr>
          <a:xfrm>
            <a:off x="3359160" y="981000"/>
            <a:ext cx="19018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ботаем с учебниками и  дополнительной литератур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SDC10306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мся и игр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SDC1032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бор за ва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IMGP3140.JPG"/>
          <p:cNvPicPr/>
          <p:nvPr/>
        </p:nvPicPr>
        <p:blipFill>
          <a:blip r:embed="rId1"/>
          <a:stretch/>
        </p:blipFill>
        <p:spPr>
          <a:xfrm>
            <a:off x="1792440" y="61272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ы мировых религиозных культ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osnovy_religii.jpg"/>
          <p:cNvPicPr/>
          <p:nvPr/>
        </p:nvPicPr>
        <p:blipFill>
          <a:blip r:embed="rId1"/>
          <a:stretch/>
        </p:blipFill>
        <p:spPr>
          <a:xfrm>
            <a:off x="714240" y="1571760"/>
            <a:ext cx="36403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Цели курса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у обучающегося знания, понимания и уважительного отношения к религии,  как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ациональной духовной традици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жащей в основе исторической и современной культуры нашей стра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кур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785880" y="1093320"/>
            <a:ext cx="7786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овать формированию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вать условия для  формирования  российской гражданской идентичности младшего школьника посредством его приобщения к отечественной культурно- религиозной  трад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одержательно раскрыть  понятие российской  культурно-религиозной   традиции в пределах отведенного учебного времени с учетом образовательных возможностей младших подрост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оздавать условия  для воспитания высоконравственного, творческого, ответственного гражданина России, укорененного в духовных и культурных традициях многонационального народа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овать развитию способностей у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6"/>
          <p:cNvGrpSpPr/>
          <p:nvPr/>
        </p:nvGrpSpPr>
        <p:grpSpPr>
          <a:xfrm>
            <a:off x="500040" y="714240"/>
            <a:ext cx="7286760" cy="4879440"/>
            <a:chOff x="500040" y="714240"/>
            <a:chExt cx="7286760" cy="4879440"/>
          </a:xfrm>
        </p:grpSpPr>
        <p:grpSp>
          <p:nvGrpSpPr>
            <p:cNvPr id="49" name="Группа 1"/>
            <p:cNvGrpSpPr/>
            <p:nvPr/>
          </p:nvGrpSpPr>
          <p:grpSpPr>
            <a:xfrm>
              <a:off x="500040" y="714240"/>
              <a:ext cx="7286760" cy="3971160"/>
              <a:chOff x="500040" y="714240"/>
              <a:chExt cx="7286760" cy="3971160"/>
            </a:xfrm>
          </p:grpSpPr>
          <p:sp>
            <p:nvSpPr>
              <p:cNvPr id="50" name="Прямоугольник 4"/>
              <p:cNvSpPr/>
              <p:nvPr/>
            </p:nvSpPr>
            <p:spPr>
              <a:xfrm>
                <a:off x="500040" y="714240"/>
                <a:ext cx="728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ольник 3"/>
              <p:cNvSpPr/>
              <p:nvPr/>
            </p:nvSpPr>
            <p:spPr>
              <a:xfrm>
                <a:off x="1197720" y="4286520"/>
                <a:ext cx="596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Box 3"/>
            <p:cNvSpPr/>
            <p:nvPr/>
          </p:nvSpPr>
          <p:spPr>
            <a:xfrm>
              <a:off x="1526040" y="52254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f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25804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宋体"/>
              </a:rPr>
              <a:t>Содержание курс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714240" y="142884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сия – наша Ро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льтура и религия. Традици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льтура и религия. Празд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зникновение рели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игии мира и их основ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щенные книги религий мира: Тора, Биб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щенные книги религий  мира: Коран, Типит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ранители предания в религиях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бро и зло. Понятия греха, раскаяния, возда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ловек в религиозных традициях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щенные сооружения: синагога, сту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щенные сооружения: мечеть, храм (церков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кусство в религиозной куль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宋体"/>
              </a:rPr>
              <a:t>Содержание курс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571680" y="1444680"/>
            <a:ext cx="8572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рия религии в России. Крещение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рия религии в России. Великие и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игиозные риту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чаи и обря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ломничества и святы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здники и календ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игия и мор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авственные заповеди в религиях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лосердие, забота о слабых, взаимо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г, свобода, ответственность, 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юбовь и уважение к Отеч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Attachment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928800" y="1500120"/>
            <a:ext cx="72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курс призван актуализировать в содержании общего образования вопрос совершенствования личности ребёнка на принципах гуманизма в тесной связи с религиозными  и общечеловеческими це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с должен сыграть важную роль, как в расширении образовательного кругозора учащегося, так и в воспитательном процессе формирования порядочного, честного, достойного гражда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уроках думаем и обсужда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SDC1030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ем в группах и индивидуаль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SDC10311.JPG"/>
          <p:cNvPicPr/>
          <p:nvPr/>
        </p:nvPicPr>
        <p:blipFill>
          <a:blip r:embed="rId1"/>
          <a:stretch/>
        </p:blipFill>
        <p:spPr>
          <a:xfrm>
            <a:off x="0" y="1571760"/>
            <a:ext cx="4214880" cy="5286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SDC10322.JPG"/>
          <p:cNvPicPr/>
          <p:nvPr/>
        </p:nvPicPr>
        <p:blipFill>
          <a:blip r:embed="rId2"/>
          <a:stretch/>
        </p:blipFill>
        <p:spPr>
          <a:xfrm>
            <a:off x="4214880" y="1571760"/>
            <a:ext cx="4929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16:24:55Z</dcterms:created>
  <dc:creator>User</dc:creator>
  <dc:description/>
  <dc:language>en-US</dc:language>
  <cp:lastModifiedBy>Admin</cp:lastModifiedBy>
  <dcterms:modified xsi:type="dcterms:W3CDTF">2015-03-22T17:05:20Z</dcterms:modified>
  <cp:revision>45</cp:revision>
  <dc:subject/>
  <dc:title>Слайд 1</dc:title>
</cp:coreProperties>
</file>