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9B30-5898-410C-B5C6-B41BD67E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22B1-7F7A-41EF-A0E8-688094B0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3B69-AB99-46F9-AB95-48FE91A04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FFFE-1698-43D5-9E1D-926DBAFDA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7268-01A2-45BF-AC4D-9CDA2C06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9A1E-C43A-42E8-B780-AA8E03C0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5284-2020-4FFC-8C1D-DCEBD9DB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5098-4BC8-4CD0-B905-AD7261EB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98FF-7457-40D9-B25C-9E265049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67C3-0B87-4264-8530-DB6D0D81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E64B-84B9-452A-9EB0-E4E6EFE9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45AF-0622-4993-8CC2-E12FA138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18BD-963A-46AA-A768-5CBA02389D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изнаки равенства треугольник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609480" y="1600200"/>
            <a:ext cx="7925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762120" y="1752480"/>
            <a:ext cx="79246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219320" y="3733920"/>
            <a:ext cx="76197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Равнобедренный треугольник 1"/>
          <p:cNvSpPr/>
          <p:nvPr/>
        </p:nvSpPr>
        <p:spPr>
          <a:xfrm>
            <a:off x="1219320" y="3657600"/>
            <a:ext cx="1981080" cy="1905120"/>
          </a:xfrm>
          <a:prstGeom prst="triangle">
            <a:avLst>
              <a:gd name="adj" fmla="val 50000"/>
            </a:avLst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Равнобедренный треугольник 2"/>
          <p:cNvSpPr/>
          <p:nvPr/>
        </p:nvSpPr>
        <p:spPr>
          <a:xfrm>
            <a:off x="5791320" y="3581280"/>
            <a:ext cx="2590560" cy="198144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3"/>
          <p:cNvSpPr/>
          <p:nvPr/>
        </p:nvSpPr>
        <p:spPr>
          <a:xfrm>
            <a:off x="1346400" y="914400"/>
            <a:ext cx="90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зминутка.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ИКС-ФРИЗ-ГРУП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73080" y="1752480"/>
            <a:ext cx="9359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тали из-за парт. Стулья задвину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кс (музыка).    Фри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прос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равных уг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авнобедренном треугольнике?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Групп.(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Микс(музыка). Фри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прос.  Сколько видов углов вы знаете?Групп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Микс(музыка). Фриз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прос.    Сколько высот у треугольника? Групп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1676160" cy="44546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 flipV="1" rot="10800000">
            <a:off x="3580920" y="129600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) Проведите два отрезка так, чтобы получились равные треуголь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200400" y="2292120"/>
            <a:ext cx="5638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)На рисунке даны две окруж­ности с общим центром О   и равные отрезк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А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ие пары точек достаточ­но соединить, чтоб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учились равные треугольники?     Начертите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2"/>
          <p:cNvSpPr/>
          <p:nvPr/>
        </p:nvSpPr>
        <p:spPr>
          <a:xfrm>
            <a:off x="3217680" y="4267080"/>
            <a:ext cx="5713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Из концов отрезк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ли луч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&l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&lt;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дите прямую так, чтобы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теже появились равные треуголь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4"/>
          <p:cNvSpPr/>
          <p:nvPr/>
        </p:nvSpPr>
        <p:spPr>
          <a:xfrm>
            <a:off x="2527920" y="38088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7292880" y="609480"/>
            <a:ext cx="1393920" cy="16970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5"/>
          <p:cNvSpPr/>
          <p:nvPr/>
        </p:nvSpPr>
        <p:spPr>
          <a:xfrm>
            <a:off x="942480" y="609480"/>
            <a:ext cx="388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Историческая спра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542880" y="2438280"/>
            <a:ext cx="8143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, кто начал получать новые геометрические факты при помощ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уждений  (доказательств), был древнегреческий математик Фалес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до н. э.)   Ему при­надлежит открытие следующих теор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Вертикальные углы рав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В равнобедренном треугольнике углы, лежащие при основании, рав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Угол, вписанный в полуокружность, пря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Теорема о равенстве двух треугольников по стороне и двум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ежащим к ней угл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3965400" y="1447920"/>
            <a:ext cx="20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лес Милет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152280" y="1268640"/>
            <a:ext cx="876312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ледней теореме Фалес нашел важное практическое приложе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гавани Милета был построен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альномер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яющий расстояние до корабля в море. Он представлял собой три вбитых колышк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, В, С (А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С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размеченную прямую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К и С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появлении корабля на прямой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К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ходили точку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ую, чтобы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, 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казывались на одной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ясно из чертежа расстояние на земл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является искомым расстоянием     до корабл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в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678204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оретический те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 вариантам ответьте «да» или «нет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Отрезки АВ, ВС, АС треугольника называются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в)углами треугольника                         2в)сторонами треуголь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Отрезок, соединяющий вершину треугольника с серединой противоположной стороны, называется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в)высотой                                            2в)медиа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Одна из сторон равнобедренного треугольника называется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в)боковой стороной                              2в)основа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равнобедренном треугольнике углы при основании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в)смежные                                           2в)рав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Треугольник называется равнобедренным, если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в)все стороны равны                            2в)две его стороны рав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пендикуляр, проведенный к вершине треугольника и прямой, содержащей противоположную сторону, называется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в)высотой                                             2в)медиа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иссектриса, проведенная к основанию треугольника, является медианой и высотой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в)в остроугольном треугольнике           2в) в равнобедренном треугольни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"/>
          <p:cNvSpPr/>
          <p:nvPr/>
        </p:nvSpPr>
        <p:spPr>
          <a:xfrm>
            <a:off x="304920" y="1688400"/>
            <a:ext cx="624816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ние на дом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Л. Атанасян     вопр. 14, 15, с. 48;           № 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гр. №125      2гр. №124   из рабочей тетра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4"/>
          <p:cNvSpPr/>
          <p:nvPr/>
        </p:nvSpPr>
        <p:spPr>
          <a:xfrm>
            <a:off x="1630440" y="1523880"/>
            <a:ext cx="6808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Спасибо за урок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533520" y="1219320"/>
            <a:ext cx="7696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онный момент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 Приветствие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Проверка домашнего зад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Устная ра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Решение задач на применение признаков равенства треуг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Физмину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Практическая ра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Историческая справ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Теоретический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 Задание на 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 Итог ур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1447920" y="685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н у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и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разовательны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умений применять признаки равенства треугольников для решения задач, распознавать равные треугольники, доказывать их равенство, делать вывод о равенстве некоторых их элем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спитательные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навыков самоконтро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звивающие: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творческих способностей, познавательной активности, интереса к предмету, пространственного воображения и логического мышления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ип урок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 комплексного применения знаний, умений и навы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5"/>
          <p:cNvSpPr/>
          <p:nvPr/>
        </p:nvSpPr>
        <p:spPr>
          <a:xfrm>
            <a:off x="2743200" y="1433520"/>
            <a:ext cx="449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8"/>
          <p:cNvSpPr/>
          <p:nvPr/>
        </p:nvSpPr>
        <p:spPr>
          <a:xfrm>
            <a:off x="380880" y="4572000"/>
            <a:ext cx="8229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4"/>
          <p:cNvSpPr/>
          <p:nvPr/>
        </p:nvSpPr>
        <p:spPr>
          <a:xfrm>
            <a:off x="1523880" y="10666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6"/>
          <p:cNvSpPr/>
          <p:nvPr/>
        </p:nvSpPr>
        <p:spPr>
          <a:xfrm>
            <a:off x="990720" y="685800"/>
            <a:ext cx="7543800" cy="57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стная рабо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Какие геометрические фигуры называются равные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Две геометрические фигуры называются равными, если их можно совместить наложе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В равных треугольниках какие элементы равн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Если два треугольника равны, то элементы (стороны и углы) одного треугольника соответственно равны элементам другого треугольни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Как звучит первый признак равенства треугольников?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.Если две стороны и угол между ними одного треугольника соответственно равны двум сторонам и углу между ними другого треугольника, то такие треугольники рав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.Что называется медианой треугольник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.Отрезок, соединяющий вершину треугольника с серединой противоположной стороны, называется медианой треугольни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1.Что называется биссектрисой треугольник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2.Отрезок биссектрисы угла треугольника, соединяющий вершину треугольника с точкой на противоположной стороны, называется биссектрисой треугольни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3.Что называется высотой треугольник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4.Перпендикуляр, проведенный из вершины треугольника к прямой, содержащей противоположную сторону, называется высотой треугольни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609480" y="304920"/>
            <a:ext cx="7620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.Какой треугольник называется равнобедренны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.Треугольник называется равнобедренным, если его две стороны равны. Равные стороны называются боковыми сторонами, а третья сторона - основанием равнобедренного треуг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.Какое свойство об углах равнобедренного треугольника вы знает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.В равнобедренном треугольнике углы при основании рав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.Какое свойство биссектрисы равнобедренного треугольника вы знает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В равнобедренном треугольнике биссектриса, проведенная к основанию, является медианой и высо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.Сформулируйте второй признак равенства треугольни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2.Если сторона и два прилежащих к ней угла одного треугольника соответственно равны стороне и двум прилежащим к ней углам другого треугольника, то такие треугольники рав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3.Назовите третий признак равенства треуг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4. Если три стороны одного треугольника соответственно равны  трем сторонам другого треугольника, то такие треугольники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57200" y="2057400"/>
          <a:ext cx="8381880" cy="4224240"/>
        </p:xfrm>
        <a:graphic>
          <a:graphicData uri="http://schemas.openxmlformats.org/drawingml/2006/table">
            <a:tbl>
              <a:tblPr/>
              <a:tblGrid>
                <a:gridCol w="627120"/>
                <a:gridCol w="3328920"/>
                <a:gridCol w="1530360"/>
                <a:gridCol w="28954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 равенства треуголь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ие (дан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азатель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две стороны и угол м/д ними одного треугольника соответственно равны двум сторонам и углу м/д ними другого треугольника, то такие треугольники рав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=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=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углу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двум сторонам и углу м/д ни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сторона и два угла, прилежащие к ней одного треугольника, соответственно равны стороне и двум углам, прилежащим к ней, другого треугольника, то такие треугольники рав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=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углу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углу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стороне и двум углам, прилежащим к н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три стороны одного треугольника соответственно равны трем сторонам другого треугольника, то такие треугольники равн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=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=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=В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трем сторона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AutoShape 112"/>
          <p:cNvSpPr/>
          <p:nvPr/>
        </p:nvSpPr>
        <p:spPr>
          <a:xfrm>
            <a:off x="1447920" y="380880"/>
            <a:ext cx="1295280" cy="11430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4"/>
          <p:cNvSpPr/>
          <p:nvPr/>
        </p:nvSpPr>
        <p:spPr>
          <a:xfrm>
            <a:off x="594720" y="4176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5"/>
          <p:cNvSpPr/>
          <p:nvPr/>
        </p:nvSpPr>
        <p:spPr>
          <a:xfrm>
            <a:off x="5638680" y="3808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з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6"/>
          <p:cNvSpPr/>
          <p:nvPr/>
        </p:nvSpPr>
        <p:spPr>
          <a:xfrm>
            <a:off x="1602000" y="228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7"/>
          <p:cNvSpPr/>
          <p:nvPr/>
        </p:nvSpPr>
        <p:spPr>
          <a:xfrm>
            <a:off x="1144800" y="1523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8"/>
          <p:cNvSpPr/>
          <p:nvPr/>
        </p:nvSpPr>
        <p:spPr>
          <a:xfrm>
            <a:off x="2592720" y="1523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19"/>
          <p:cNvSpPr/>
          <p:nvPr/>
        </p:nvSpPr>
        <p:spPr>
          <a:xfrm>
            <a:off x="3384720" y="380880"/>
            <a:ext cx="1295280" cy="11430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0"/>
          <p:cNvSpPr/>
          <p:nvPr/>
        </p:nvSpPr>
        <p:spPr>
          <a:xfrm>
            <a:off x="3582360" y="228600"/>
            <a:ext cx="4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1"/>
          <p:cNvSpPr/>
          <p:nvPr/>
        </p:nvSpPr>
        <p:spPr>
          <a:xfrm>
            <a:off x="3080880" y="1523880"/>
            <a:ext cx="4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2"/>
          <p:cNvSpPr/>
          <p:nvPr/>
        </p:nvSpPr>
        <p:spPr>
          <a:xfrm>
            <a:off x="4528800" y="152388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12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12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9" name="Равнобедренный треугольник 43"/>
          <p:cNvSpPr/>
          <p:nvPr/>
        </p:nvSpPr>
        <p:spPr>
          <a:xfrm>
            <a:off x="6477120" y="7621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Равнобедренный треугольник 44"/>
          <p:cNvSpPr/>
          <p:nvPr/>
        </p:nvSpPr>
        <p:spPr>
          <a:xfrm>
            <a:off x="5562720" y="7621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4"/>
          <p:cNvSpPr/>
          <p:nvPr/>
        </p:nvSpPr>
        <p:spPr>
          <a:xfrm>
            <a:off x="1523880" y="83808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Решение   задач  устно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2" descr="Сохранить0083"/>
          <p:cNvPicPr/>
          <p:nvPr/>
        </p:nvPicPr>
        <p:blipFill>
          <a:blip r:embed="rId1"/>
          <a:stretch/>
        </p:blipFill>
        <p:spPr>
          <a:xfrm>
            <a:off x="685800" y="1523880"/>
            <a:ext cx="3133800" cy="2048040"/>
          </a:xfrm>
          <a:prstGeom prst="rect">
            <a:avLst/>
          </a:prstGeom>
          <a:ln w="0">
            <a:noFill/>
          </a:ln>
        </p:spPr>
      </p:pic>
      <p:sp>
        <p:nvSpPr>
          <p:cNvPr id="73" name="TextBox 5"/>
          <p:cNvSpPr/>
          <p:nvPr/>
        </p:nvSpPr>
        <p:spPr>
          <a:xfrm>
            <a:off x="5195880" y="1752480"/>
            <a:ext cx="2654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Дан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∆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Е – равнобедр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&lt;  1     =   &lt;    2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Доказ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∆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CD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= ∆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DE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8" descr="Сохранить0088"/>
          <p:cNvPicPr/>
          <p:nvPr/>
        </p:nvPicPr>
        <p:blipFill>
          <a:blip r:embed="rId2">
            <a:lum contrast="8000"/>
          </a:blip>
          <a:stretch/>
        </p:blipFill>
        <p:spPr>
          <a:xfrm>
            <a:off x="685800" y="4114800"/>
            <a:ext cx="3352680" cy="203832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9"/>
          <p:cNvSpPr/>
          <p:nvPr/>
        </p:nvSpPr>
        <p:spPr>
          <a:xfrm>
            <a:off x="5105520" y="44197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∆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С – равнобедр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   =   МС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зать: ∆ АВК = ∆ МВ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67"/>
          <p:cNvGrpSpPr/>
          <p:nvPr/>
        </p:nvGrpSpPr>
        <p:grpSpPr>
          <a:xfrm>
            <a:off x="380880" y="2971800"/>
            <a:ext cx="8382240" cy="1892160"/>
            <a:chOff x="380880" y="2971800"/>
            <a:chExt cx="8382240" cy="1892160"/>
          </a:xfrm>
        </p:grpSpPr>
        <p:sp>
          <p:nvSpPr>
            <p:cNvPr id="78" name="Text Box 21"/>
            <p:cNvSpPr/>
            <p:nvPr/>
          </p:nvSpPr>
          <p:spPr>
            <a:xfrm>
              <a:off x="380880" y="2971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" name="AutoShape 22"/>
            <p:cNvCxnSpPr/>
            <p:nvPr/>
          </p:nvCxnSpPr>
          <p:spPr>
            <a:xfrm>
              <a:off x="456840" y="3047760"/>
              <a:ext cx="8078040" cy="1080"/>
            </a:xfrm>
            <a:prstGeom prst="straightConnector1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  <p:sp>
          <p:nvSpPr>
            <p:cNvPr id="80" name="AutoShape 23"/>
            <p:cNvSpPr/>
            <p:nvPr/>
          </p:nvSpPr>
          <p:spPr>
            <a:xfrm>
              <a:off x="685800" y="3200400"/>
              <a:ext cx="2209680" cy="762120"/>
            </a:xfrm>
            <a:prstGeom prst="triangle">
              <a:avLst>
                <a:gd name="adj" fmla="val 6688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25"/>
            <p:cNvSpPr/>
            <p:nvPr/>
          </p:nvSpPr>
          <p:spPr>
            <a:xfrm rot="10800000">
              <a:off x="685800" y="3962520"/>
              <a:ext cx="2209680" cy="761760"/>
            </a:xfrm>
            <a:prstGeom prst="triangle">
              <a:avLst>
                <a:gd name="adj" fmla="val 6688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7"/>
            <p:cNvSpPr/>
            <p:nvPr/>
          </p:nvSpPr>
          <p:spPr>
            <a:xfrm>
              <a:off x="457200" y="3595680"/>
              <a:ext cx="28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8"/>
            <p:cNvSpPr/>
            <p:nvPr/>
          </p:nvSpPr>
          <p:spPr>
            <a:xfrm>
              <a:off x="2819520" y="36720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29"/>
            <p:cNvSpPr/>
            <p:nvPr/>
          </p:nvSpPr>
          <p:spPr>
            <a:xfrm>
              <a:off x="2209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30"/>
            <p:cNvSpPr/>
            <p:nvPr/>
          </p:nvSpPr>
          <p:spPr>
            <a:xfrm>
              <a:off x="914400" y="44956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rc 34"/>
            <p:cNvSpPr/>
            <p:nvPr/>
          </p:nvSpPr>
          <p:spPr>
            <a:xfrm>
              <a:off x="1143000" y="3733920"/>
              <a:ext cx="7632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rc 36"/>
            <p:cNvSpPr/>
            <p:nvPr/>
          </p:nvSpPr>
          <p:spPr>
            <a:xfrm flipH="1" flipV="1">
              <a:off x="2361600" y="3962520"/>
              <a:ext cx="152280" cy="225360"/>
            </a:xfrm>
            <a:custGeom>
              <a:avLst/>
              <a:gdLst/>
              <a:ahLst/>
              <a:rect l="l" t="t" r="r" b="b"/>
              <a:pathLst>
                <a:path fill="none" w="21600" h="21310">
                  <a:moveTo>
                    <a:pt x="3526" y="-1"/>
                  </a:moveTo>
                  <a:cubicBezTo>
                    <a:pt x="13952" y="1724"/>
                    <a:pt x="21600" y="10741"/>
                    <a:pt x="21600" y="21310"/>
                  </a:cubicBezTo>
                </a:path>
                <a:path stroke="0" w="21600" h="21310">
                  <a:moveTo>
                    <a:pt x="3526" y="-1"/>
                  </a:moveTo>
                  <a:cubicBezTo>
                    <a:pt x="13952" y="1724"/>
                    <a:pt x="21600" y="10741"/>
                    <a:pt x="21600" y="21310"/>
                  </a:cubicBezTo>
                  <a:lnTo>
                    <a:pt x="0" y="21310"/>
                  </a:lnTo>
                  <a:lnTo>
                    <a:pt x="3526" y="-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rc 38"/>
            <p:cNvSpPr/>
            <p:nvPr/>
          </p:nvSpPr>
          <p:spPr>
            <a:xfrm flipV="1">
              <a:off x="838080" y="3961800"/>
              <a:ext cx="76320" cy="152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rc 39"/>
            <p:cNvSpPr/>
            <p:nvPr/>
          </p:nvSpPr>
          <p:spPr>
            <a:xfrm flipV="1">
              <a:off x="914400" y="3961800"/>
              <a:ext cx="7632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rc 40"/>
            <p:cNvSpPr/>
            <p:nvPr/>
          </p:nvSpPr>
          <p:spPr>
            <a:xfrm flipH="1">
              <a:off x="2666880" y="3809880"/>
              <a:ext cx="76320" cy="152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rc 41"/>
            <p:cNvSpPr/>
            <p:nvPr/>
          </p:nvSpPr>
          <p:spPr>
            <a:xfrm flipH="1">
              <a:off x="2590200" y="3733920"/>
              <a:ext cx="7596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42"/>
            <p:cNvSpPr/>
            <p:nvPr/>
          </p:nvSpPr>
          <p:spPr>
            <a:xfrm>
              <a:off x="4191120" y="3075120"/>
              <a:ext cx="4572000" cy="15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ано: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∆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ВС и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ВАС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бщая сторо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&lt; </a:t>
              </a: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САВ =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&lt;</a:t>
              </a: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С</a:t>
              </a:r>
              <a:r>
                <a:rPr b="0" lang="ru-RU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1</a:t>
              </a: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ВА и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&lt;</a:t>
              </a: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АВС=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&lt;</a:t>
              </a: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ВАС</a:t>
              </a:r>
              <a:r>
                <a:rPr b="0" lang="ru-RU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1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______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казать: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∆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ВС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∆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АС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6"/>
          <p:cNvGrpSpPr/>
          <p:nvPr/>
        </p:nvGrpSpPr>
        <p:grpSpPr>
          <a:xfrm>
            <a:off x="380880" y="1219320"/>
            <a:ext cx="7698960" cy="1807920"/>
            <a:chOff x="380880" y="1219320"/>
            <a:chExt cx="7698960" cy="1807920"/>
          </a:xfrm>
        </p:grpSpPr>
        <p:sp>
          <p:nvSpPr>
            <p:cNvPr id="94" name="Text Box 3"/>
            <p:cNvSpPr/>
            <p:nvPr/>
          </p:nvSpPr>
          <p:spPr>
            <a:xfrm>
              <a:off x="380880" y="1219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6"/>
            <p:cNvSpPr/>
            <p:nvPr/>
          </p:nvSpPr>
          <p:spPr>
            <a:xfrm>
              <a:off x="609480" y="2658960"/>
              <a:ext cx="28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9"/>
            <p:cNvSpPr/>
            <p:nvPr/>
          </p:nvSpPr>
          <p:spPr>
            <a:xfrm>
              <a:off x="1120680" y="2133720"/>
              <a:ext cx="1143000" cy="685800"/>
            </a:xfrm>
            <a:prstGeom prst="triangle">
              <a:avLst>
                <a:gd name="adj" fmla="val 90991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11"/>
            <p:cNvSpPr/>
            <p:nvPr/>
          </p:nvSpPr>
          <p:spPr>
            <a:xfrm rot="10800000">
              <a:off x="2034720" y="1447560"/>
              <a:ext cx="1143000" cy="685800"/>
            </a:xfrm>
            <a:prstGeom prst="triangle">
              <a:avLst>
                <a:gd name="adj" fmla="val 90991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13"/>
            <p:cNvSpPr/>
            <p:nvPr/>
          </p:nvSpPr>
          <p:spPr>
            <a:xfrm>
              <a:off x="2111400" y="2133720"/>
              <a:ext cx="76320" cy="7596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4"/>
            <p:cNvSpPr/>
            <p:nvPr/>
          </p:nvSpPr>
          <p:spPr>
            <a:xfrm>
              <a:off x="2340000" y="25909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5"/>
            <p:cNvSpPr/>
            <p:nvPr/>
          </p:nvSpPr>
          <p:spPr>
            <a:xfrm>
              <a:off x="3254400" y="12193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6"/>
            <p:cNvSpPr/>
            <p:nvPr/>
          </p:nvSpPr>
          <p:spPr>
            <a:xfrm>
              <a:off x="1654200" y="1219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7"/>
            <p:cNvSpPr/>
            <p:nvPr/>
          </p:nvSpPr>
          <p:spPr>
            <a:xfrm>
              <a:off x="4194360" y="1446120"/>
              <a:ext cx="3885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ано: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ересекает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D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 точке 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СО=О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D</a:t>
              </a: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, АО=ОВ._______________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казать: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АО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=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 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ВО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9"/>
            <p:cNvSpPr/>
            <p:nvPr/>
          </p:nvSpPr>
          <p:spPr>
            <a:xfrm>
              <a:off x="2209680" y="19810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" name="AutoShape 45"/>
            <p:cNvCxnSpPr/>
            <p:nvPr/>
          </p:nvCxnSpPr>
          <p:spPr>
            <a:xfrm flipV="1">
              <a:off x="1980720" y="1675800"/>
              <a:ext cx="229320" cy="76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05" name="AutoShape 46"/>
            <p:cNvCxnSpPr/>
            <p:nvPr/>
          </p:nvCxnSpPr>
          <p:spPr>
            <a:xfrm flipV="1">
              <a:off x="1980720" y="1752480"/>
              <a:ext cx="229320" cy="76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06" name="AutoShape 47"/>
            <p:cNvCxnSpPr/>
            <p:nvPr/>
          </p:nvCxnSpPr>
          <p:spPr>
            <a:xfrm flipH="1" flipV="1">
              <a:off x="1599480" y="2285280"/>
              <a:ext cx="15300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07" name="AutoShape 54"/>
            <p:cNvCxnSpPr/>
            <p:nvPr/>
          </p:nvCxnSpPr>
          <p:spPr>
            <a:xfrm flipV="1">
              <a:off x="2133360" y="2361600"/>
              <a:ext cx="229320" cy="76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08" name="AutoShape 55"/>
            <p:cNvCxnSpPr/>
            <p:nvPr/>
          </p:nvCxnSpPr>
          <p:spPr>
            <a:xfrm flipV="1">
              <a:off x="2133360" y="2438280"/>
              <a:ext cx="229320" cy="76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09" name="AutoShape 56"/>
            <p:cNvCxnSpPr/>
            <p:nvPr/>
          </p:nvCxnSpPr>
          <p:spPr>
            <a:xfrm flipH="1" flipV="1">
              <a:off x="2513880" y="1676160"/>
              <a:ext cx="15300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</p:grpSp>
      <p:grpSp>
        <p:nvGrpSpPr>
          <p:cNvPr id="110" name="Group 68"/>
          <p:cNvGrpSpPr/>
          <p:nvPr/>
        </p:nvGrpSpPr>
        <p:grpSpPr>
          <a:xfrm>
            <a:off x="380880" y="4800600"/>
            <a:ext cx="8153640" cy="1663560"/>
            <a:chOff x="380880" y="4800600"/>
            <a:chExt cx="8153640" cy="1663560"/>
          </a:xfrm>
        </p:grpSpPr>
        <p:cxnSp>
          <p:nvCxnSpPr>
            <p:cNvPr id="111" name="AutoShape 43"/>
            <p:cNvCxnSpPr/>
            <p:nvPr/>
          </p:nvCxnSpPr>
          <p:spPr>
            <a:xfrm>
              <a:off x="456840" y="4876560"/>
              <a:ext cx="8078040" cy="1080"/>
            </a:xfrm>
            <a:prstGeom prst="straightConnector1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  <p:sp>
          <p:nvSpPr>
            <p:cNvPr id="112" name="Text Box 44"/>
            <p:cNvSpPr/>
            <p:nvPr/>
          </p:nvSpPr>
          <p:spPr>
            <a:xfrm>
              <a:off x="380880" y="4800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57"/>
            <p:cNvSpPr/>
            <p:nvPr/>
          </p:nvSpPr>
          <p:spPr>
            <a:xfrm>
              <a:off x="685800" y="5334120"/>
              <a:ext cx="1066680" cy="761760"/>
            </a:xfrm>
            <a:prstGeom prst="triangle">
              <a:avLst>
                <a:gd name="adj" fmla="val 12796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58"/>
            <p:cNvSpPr/>
            <p:nvPr/>
          </p:nvSpPr>
          <p:spPr>
            <a:xfrm>
              <a:off x="2362320" y="5334120"/>
              <a:ext cx="1066680" cy="761760"/>
            </a:xfrm>
            <a:prstGeom prst="triangle">
              <a:avLst>
                <a:gd name="adj" fmla="val 12796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59"/>
            <p:cNvSpPr/>
            <p:nvPr/>
          </p:nvSpPr>
          <p:spPr>
            <a:xfrm>
              <a:off x="860400" y="50436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60"/>
            <p:cNvSpPr/>
            <p:nvPr/>
          </p:nvSpPr>
          <p:spPr>
            <a:xfrm>
              <a:off x="1752480" y="579132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61"/>
            <p:cNvSpPr/>
            <p:nvPr/>
          </p:nvSpPr>
          <p:spPr>
            <a:xfrm>
              <a:off x="457200" y="60199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62"/>
            <p:cNvSpPr/>
            <p:nvPr/>
          </p:nvSpPr>
          <p:spPr>
            <a:xfrm>
              <a:off x="2286000" y="6095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63"/>
            <p:cNvSpPr/>
            <p:nvPr/>
          </p:nvSpPr>
          <p:spPr>
            <a:xfrm>
              <a:off x="3505320" y="57150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64"/>
            <p:cNvSpPr/>
            <p:nvPr/>
          </p:nvSpPr>
          <p:spPr>
            <a:xfrm>
              <a:off x="2133720" y="502920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65"/>
            <p:cNvSpPr/>
            <p:nvPr/>
          </p:nvSpPr>
          <p:spPr>
            <a:xfrm>
              <a:off x="4192920" y="4875120"/>
              <a:ext cx="4025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ано: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∆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М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P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ериметр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∆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MN = 72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м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PS</a:t>
              </a: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=</a:t>
              </a: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20 </a:t>
              </a: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см.,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R = </a:t>
              </a: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25 см.__________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йти: стороны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∆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M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6" descr="Сохранить0089"/>
          <p:cNvPicPr/>
          <p:nvPr/>
        </p:nvPicPr>
        <p:blipFill>
          <a:blip r:embed="rId1"/>
          <a:stretch/>
        </p:blipFill>
        <p:spPr>
          <a:xfrm>
            <a:off x="838080" y="3809880"/>
            <a:ext cx="3610080" cy="21290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8"/>
          <p:cNvSpPr/>
          <p:nvPr/>
        </p:nvSpPr>
        <p:spPr>
          <a:xfrm>
            <a:off x="5638680" y="3733920"/>
            <a:ext cx="304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∆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С, АВ=ВС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-АВ=3с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   =   15,6см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: АС; АВ; В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9" descr="Сохранить0084"/>
          <p:cNvPicPr/>
          <p:nvPr/>
        </p:nvPicPr>
        <p:blipFill>
          <a:blip r:embed="rId2"/>
          <a:stretch/>
        </p:blipFill>
        <p:spPr>
          <a:xfrm>
            <a:off x="1219320" y="1447920"/>
            <a:ext cx="2676240" cy="17334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0"/>
          <p:cNvSpPr/>
          <p:nvPr/>
        </p:nvSpPr>
        <p:spPr>
          <a:xfrm>
            <a:off x="5257800" y="1295280"/>
            <a:ext cx="216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о: ∆ АВ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 = ВС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 = 1,6·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 = 21 м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: АС; АВ; В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1"/>
          <p:cNvSpPr/>
          <p:nvPr/>
        </p:nvSpPr>
        <p:spPr>
          <a:xfrm>
            <a:off x="1013760" y="609480"/>
            <a:ext cx="799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задач  на  применение  свойств равнобедренного треуг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льмира</cp:lastModifiedBy>
  <dcterms:modified xsi:type="dcterms:W3CDTF">2014-01-29T07:47:05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