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3131-9912-46EA-A5F9-37D753E0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AB64-8DF8-4A11-B65E-DE33094E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7976-C813-4642-B087-C85EFC56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A2AB-924F-4F6D-8AFB-C93CB438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CDBD-0334-471B-A951-22F283F2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540B-80DB-4976-AD8B-66C0B278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91D5-8DC3-4115-91A0-4B6970F1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95E6-D205-4B8F-88CB-8AB0D3A8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C314-F07E-42C7-81C8-AFC5E07F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16D3-E410-47A2-AF5A-3EDC6864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E06C-93C4-4C0E-B7AE-F6939D8B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296D-D6A2-4935-A981-EEB6091E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B7F2-A462-45AC-BF60-FFFCC4E2CA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66680" y="838080"/>
            <a:ext cx="693432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стоящ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леньк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имняя сказ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54440" y="380880"/>
            <a:ext cx="39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ластилиновое чу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4905000"/>
            <a:ext cx="387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ластилин, зубочистка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зрачная баночка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да и мелкие блёст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" y="457200"/>
            <a:ext cx="3699000" cy="5791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396216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3886200" cy="2636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4003920" cy="2579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4190760" cy="2611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48080" y="3124080"/>
            <a:ext cx="4435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Из пластилиновых капелек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ормируем цветочек – ярус веточе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Надеваем их на зубочистку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тыкаем в «заснеженный» пригорок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крашае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В баночку насыпаем блёстки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ливаем воду, закручиваем плотно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рышку. Взболтав, переворачиваем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аноч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3040" y="380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6440" y="304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3040" y="3581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62485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юбуемся снегопадом и красотой своей ёлочк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17280" y="4115160"/>
            <a:ext cx="340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рит огнями ёлочка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 нею тени синие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лючие иголочки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к будто в белом инее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на в тепле оттаяла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справила иголочки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 с песнями весёлыми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шли мы к нашей ёлоч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4114800"/>
            <a:ext cx="3733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грушки разноцветн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нас на ней развесил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мы глядим на ёлочку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нам сегодня весело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гни на ёлке яр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сюду зажигаютс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 всех домах, по всей стран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бята улыбаются.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. Некрасов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5867280" cy="3297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3920" y="5715000"/>
            <a:ext cx="863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оздавать сказку Вам помогали Ирина Адриановна и её ученики 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ka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uma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idural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715000" y="304920"/>
            <a:ext cx="3046320" cy="5257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4876920" cy="3865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5334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 Новым годом поздравляем и от всей души желаем: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усть всё будет в жизни Ва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втра лучше, чем вчер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Зимняя сказ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1219320"/>
            <a:ext cx="548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ребристые снежинки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торопливо падают с неба,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жно укутывая спящие дерев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ркие, радостные, беззаботные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упинк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имнего праздника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ужатся вокруг изумрудно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сной красавицы,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влекая в свой хоров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487692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овогодние торжества – хороший повод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арить праздник себе и свои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лыш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готовьте краски, кисточки, бумагу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ластилин и приступим к работе!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880880" y="380880"/>
            <a:ext cx="38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снеженное дере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360" y="4417560"/>
            <a:ext cx="442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ветная бумага или картон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уашь белого и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ричневого цвета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сть и баночка с водо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3951360" cy="5638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76920" y="1219320"/>
            <a:ext cx="37386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412600" y="304920"/>
            <a:ext cx="28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Ёлочка в сне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360" y="4417560"/>
            <a:ext cx="442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ветная бумага или картон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уашь белого и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елёного цвета, кисть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аночка с водо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3738600" cy="2874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4100400" cy="5715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184720" y="304920"/>
            <a:ext cx="323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дужная ёл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10440" y="4493880"/>
            <a:ext cx="296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льбомный лист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уашь, кисти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 фломаст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4068720" cy="5791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029200" y="1143000"/>
            <a:ext cx="37386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86160" y="457200"/>
            <a:ext cx="30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Ёлочка - витр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00240" y="4875120"/>
            <a:ext cx="415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льбомный лист, краски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ветные карандаши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ли фломаст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3738600" cy="2874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4098960" cy="5867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033520" y="457200"/>
            <a:ext cx="33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зорчатая ёл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53240" y="4417200"/>
            <a:ext cx="3506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ьбомный лист,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ветные карандаши,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ломастеры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елевые руч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и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аски и тонкая ки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175280" cy="5943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37386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034240" y="380880"/>
            <a:ext cx="36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очной зимний ле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640" y="4341600"/>
            <a:ext cx="423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льбомный лист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уашь, толстая кисть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ветные школьные мелк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152960" cy="5943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41148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10-01-08T09:49:12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