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jpeg" ContentType="image/jpeg"/>
  <Override PartName="/ppt/media/image10.jpeg" ContentType="image/jpeg"/>
  <Override PartName="/ppt/media/end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723-D5A5-4904-9440-E017203D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127-7AD0-41C5-8C7D-798AAE4A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9BD-5D69-4176-9AD7-8CD5D608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78C-B93E-4DDB-AEFD-FDB9BF86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3DD-D45B-442C-859E-F53EE68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CF9-5393-42F3-8EA6-2EF5934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7F3-CF0E-4EF9-A809-C65E5B52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FCD-8383-4F04-B19E-C542DB2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212-A6DB-4209-8392-F0A9390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9A0-B4DF-4EE8-A2B6-3DD3239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EFC-A6D3-4287-93FC-4E00C0D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708-98FB-46F3-B0E2-51375CB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C02-41FA-48FD-BE27-196E9ADC8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520" y="764640"/>
            <a:ext cx="841212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ou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60920" y="604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195640" y="2257560"/>
            <a:ext cx="5267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24480" y="259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nk [p</a:t>
            </a:r>
            <a:r>
              <a:rPr b="1" lang="el-G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ŋk]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rown [braun]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ичне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5857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ou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Red, white, blu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How do you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Yellow, grey, gree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Where have you be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Purple, orange, black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To London down and bac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и «цветной» кроссвор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69"/>
          <p:cNvSpPr/>
          <p:nvPr/>
        </p:nvSpPr>
        <p:spPr>
          <a:xfrm>
            <a:off x="250920" y="3114720"/>
            <a:ext cx="2519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1 – фиоле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3 – 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4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 – же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5 -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0"/>
          <p:cNvSpPr/>
          <p:nvPr/>
        </p:nvSpPr>
        <p:spPr>
          <a:xfrm>
            <a:off x="82692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8"/>
          <p:cNvSpPr/>
          <p:nvPr/>
        </p:nvSpPr>
        <p:spPr>
          <a:xfrm>
            <a:off x="7020000" y="23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чи строчки стихотвор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860920" cy="2598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Спешила я рукой умел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Платье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желтенькое</a:t>
            </a: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Цвет на солнечный похож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До чего же он хорош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504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Жил на свете челове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Был он оч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черный </a:t>
            </a: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Почему такой он бы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Да ведь в Африке он ж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211640" y="21337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5837400" y="674640"/>
            <a:ext cx="28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Ты улыбнись, дружок, скор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Хоть день сегодня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серый</a:t>
            </a: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И сразу станет весел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Пусть день сегодня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серый </a:t>
            </a: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524720" y="105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704000" y="2492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1809720" y="3602160"/>
            <a:ext cx="35542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obla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Я прижался лбом к стекл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Небо голубое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Ясно вижу из ок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Ведь на улице – вес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516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42920" y="333360"/>
            <a:ext cx="5854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Какой напиток пь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«Инвай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Наверное, он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</a:rPr>
              <a:t>бел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Бывает разного он цв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В нем ты найде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Times New Roman"/>
              </a:rPr>
              <a:t>Все краски л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276846301_100597239_1-----1276846301"/>
          <p:cNvPicPr/>
          <p:nvPr/>
        </p:nvPicPr>
        <p:blipFill>
          <a:blip r:embed="rId1"/>
          <a:stretch/>
        </p:blipFill>
        <p:spPr>
          <a:xfrm>
            <a:off x="179280" y="260280"/>
            <a:ext cx="2524320" cy="5953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156360" y="2565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214200" y="620640"/>
            <a:ext cx="8713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ed3d7"/>
                </a:solidFill>
                <a:latin typeface="Times New Roman"/>
                <a:ea typeface="Times New Roman"/>
              </a:rPr>
              <a:t>Thank you!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2" name="e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280" y="6919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ed [red] -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68360" y="539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2125-f559947f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826920" y="260280"/>
            <a:ext cx="31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White [wa</a:t>
            </a:r>
            <a:r>
              <a:rPr b="1" lang="el-GR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0" y="5373720"/>
            <a:ext cx="378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lack [blæk] -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че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llow [jel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] -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reen [gr</a:t>
            </a:r>
            <a:r>
              <a:rPr b="1" lang="el-GR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n] -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1471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ue [blu:] –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ий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ight blue [la</a:t>
            </a:r>
            <a:r>
              <a:rPr b="1" lang="el-G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 blu:]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у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ange [‘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Ɔ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</a:t>
            </a:r>
            <a:r>
              <a:rPr b="1" lang="el-GR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ʤ]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rple [‘p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pl] –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олетовый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Violet [‘va</a:t>
            </a:r>
            <a:r>
              <a:rPr b="1" lang="el-G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</a:t>
            </a:r>
            <a:r>
              <a:rPr b="1" lang="el-G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rey [gre</a:t>
            </a:r>
            <a:r>
              <a:rPr b="1" lang="el-GR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692280"/>
            <a:ext cx="57243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6:51:11Z</dcterms:created>
  <dc:creator>Admin</dc:creator>
  <dc:description/>
  <dc:language>en-US</dc:language>
  <cp:lastModifiedBy>Лена</cp:lastModifiedBy>
  <dcterms:modified xsi:type="dcterms:W3CDTF">2015-03-22T12:44:05Z</dcterms:modified>
  <cp:revision>41</cp:revision>
  <dc:subject/>
  <dc:title>Слайд 1</dc:title>
</cp:coreProperties>
</file>