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D0B-3FF6-4950-9DC6-54940DBE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C5B9-1782-46F9-805D-6079E08C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2DF3-146B-471E-AC5D-1BEAC045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6B3-A9C1-45A5-9825-11415C9D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97F0-5B4F-4858-9ABC-E67F7DA4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CE4D-01B2-4E79-B14A-96485563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A4E4-D9FD-40DC-B600-64C6B8C3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E5EF-6BDB-4958-946C-8ECBC49F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541A-3DD9-416B-8F94-CE61CD2B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16E6-164B-4E96-8D64-72BCCE0F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781E-01F7-4EB3-BFA7-A09B0F90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FF58-51B6-4B0A-8993-38FD6302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D8A6-50CB-4F27-8146-DBB007EB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9107-D4C9-4744-B38D-8C483931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7B66-1041-4010-88F8-F0F11D9D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4778-7A9A-4AC9-A712-2ADDACAE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A1BA-A699-4604-906B-6925ED14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FCB-5407-4A13-99B2-5CF9A79E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1D6-561A-401D-801B-0CFB2069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E71-8CFD-4CCD-9CF9-667FAC28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A1C1-B471-4554-9434-A28D5FF5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21EB-AB39-4720-BF76-0EF7DAEB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1F7-316C-4A85-9068-6296F82C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1347-94B3-4746-9764-94691C07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F368-55D6-4FFB-9810-CD858C5374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DF84-FC64-479B-8F4C-831CF8FE17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Языковой портфель как средство рефлексивного обучени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18920" y="4365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 опыта работы учителя английского язы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.А.Кокуриной, МБОУ «Лицей №87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950760" y="59022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ой результа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 я выучи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 я могу сделать сейчас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написать сло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рассказать о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написать письм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 выполнил свой пла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 доволен своим результат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 algn="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 мне нужно сделать, чтобы улучшить результат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результате работы по технологии 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w Cas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edback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Language Portfolio» в течение 3 лет мною отмечены следующие положительные результаты обучен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ащиеся могут самостоятельно освоить материал по указанной теме, расширив свой лексический материал, закрепить имеющиеся грамматические навык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ащиеся повысили уровень коммуникативных навыков, приобрели опыт работы в парах и группах сменного состав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ащиеся научились на элементарном уровне оценивать свои успехи и формулировать причины своих неудач в себе, а не во внешних событиях, как раньш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высили уровень выполнения самостоятельных и творческих рабо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Что такое портфель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зыковой портфель - это документ, в котором его обладатель в течение длительного времени собирает и систематизирует свои достижения, полученные квалификации в овладении иностранным языком, а  также отдельные виды выполненных им рабо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младших школьников  языковой портфель – это коллекция работ, которая отображает усилия, прогресс и достижения ученика в одной или нескольких областя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Что должно быть в портфел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держание и структура ЯП зависит от его целевой направленности. Например, ЯП как инструмен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демонстрации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ебного продукта, в который включаются образцы самых лучших работ учащегос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Administrative Language Portfolio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ЯП  как инструмен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обратной связ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 учебном процессе содержит материалы выполненных учебных заданий, которые фиксируют степень сформированности определенных умений в различных видах иноязычного речевого общения и способность учащегося реализовать эти ум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how Case, Feedback Language Portfolio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ow Case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edback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Language Portfol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творческие работы, выполненные им самим или в группе,  вместе с родителя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контрольные работы, показывающие степень личного прогресса в изучаемом предмет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грамоты, сертификаты участника, полученные в конкурсах различного уровн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рефераты, доклады;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самая легкая и самая трудная  работа для учен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отчет о любимой работе;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отчет «Мои достижения за четверть, полугодие,  год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оценка родителей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Для чего нужен портфель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зависимо от вида ЯП обязательным его составляющими являются задания различной формы, развивающие рефлексивную самооценку учащегося. Эти задания направлены на основные аспекты иноязычного общения и компоненты учебной деятельности по овладению изучаемым языком: осознание умений, критериев оценки, анализ своих проблем, постановку учебных задач, оценку своего опыта в использовании язы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аким образом, портфель учит оценивать себя  и документировать свои достижения, что является условием развития способности ученика к рефлексивной самооценке и продуктивно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18560" cy="586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 начале изучения какой-либо темы мы просматриваем содержание уроков в учебнике и составляем утвержде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 Что я буду делать? Чему я буду учиться?»  на протяжении цикла уроков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Diagram 3"/>
          <p:cNvGrpSpPr/>
          <p:nvPr/>
        </p:nvGrpSpPr>
        <p:grpSpPr>
          <a:xfrm>
            <a:off x="1360080" y="689760"/>
            <a:ext cx="6348960" cy="6109200"/>
            <a:chOff x="1360080" y="689760"/>
            <a:chExt cx="6348960" cy="6109200"/>
          </a:xfrm>
        </p:grpSpPr>
        <p:sp>
          <p:nvSpPr>
            <p:cNvPr id="164" name="_s1028"/>
            <p:cNvSpPr/>
            <p:nvPr/>
          </p:nvSpPr>
          <p:spPr>
            <a:xfrm flipH="1">
              <a:off x="2863080" y="689760"/>
              <a:ext cx="3343320" cy="3402360"/>
            </a:xfrm>
            <a:custGeom>
              <a:avLst/>
              <a:gdLst>
                <a:gd name="textAreaLeft" fmla="*/ -360 w 3343320"/>
                <a:gd name="textAreaRight" fmla="*/ 3343320 w 3343320"/>
                <a:gd name="textAreaTop" fmla="*/ 0 h 3402360"/>
                <a:gd name="textAreaBottom" fmla="*/ 3402720 h 340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_s1029"/>
            <p:cNvSpPr/>
            <p:nvPr/>
          </p:nvSpPr>
          <p:spPr>
            <a:xfrm flipH="1" rot="17280000">
              <a:off x="1774080" y="1502640"/>
              <a:ext cx="3403080" cy="3343320"/>
            </a:xfrm>
            <a:custGeom>
              <a:avLst/>
              <a:gdLst>
                <a:gd name="textAreaLeft" fmla="*/ -360 w 3403080"/>
                <a:gd name="textAreaRight" fmla="*/ 3403080 w 3403080"/>
                <a:gd name="textAreaTop" fmla="*/ 0 h 3343320"/>
                <a:gd name="textAreaBottom" fmla="*/ 334368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_s1030"/>
            <p:cNvSpPr/>
            <p:nvPr/>
          </p:nvSpPr>
          <p:spPr>
            <a:xfrm flipH="1" rot="12960000">
              <a:off x="2209680" y="2737800"/>
              <a:ext cx="3343320" cy="3403440"/>
            </a:xfrm>
            <a:custGeom>
              <a:avLst/>
              <a:gdLst>
                <a:gd name="textAreaLeft" fmla="*/ -360 w 3343320"/>
                <a:gd name="textAreaRight" fmla="*/ 3343320 w 3343320"/>
                <a:gd name="textAreaTop" fmla="*/ 0 h 3403440"/>
                <a:gd name="textAreaBottom" fmla="*/ 3403800 h 340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_s1031"/>
            <p:cNvSpPr/>
            <p:nvPr/>
          </p:nvSpPr>
          <p:spPr>
            <a:xfrm flipH="1" rot="8640000">
              <a:off x="3518280" y="2738520"/>
              <a:ext cx="3343320" cy="3402720"/>
            </a:xfrm>
            <a:custGeom>
              <a:avLst/>
              <a:gdLst>
                <a:gd name="textAreaLeft" fmla="*/ -360 w 3343320"/>
                <a:gd name="textAreaRight" fmla="*/ 3343320 w 3343320"/>
                <a:gd name="textAreaTop" fmla="*/ 0 h 3402720"/>
                <a:gd name="textAreaBottom" fmla="*/ 3403080 h 340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1032"/>
            <p:cNvSpPr/>
            <p:nvPr/>
          </p:nvSpPr>
          <p:spPr>
            <a:xfrm flipH="1" rot="4320000">
              <a:off x="3891600" y="1499040"/>
              <a:ext cx="3402360" cy="3342960"/>
            </a:xfrm>
            <a:custGeom>
              <a:avLst/>
              <a:gdLst>
                <a:gd name="textAreaLeft" fmla="*/ -360 w 3402360"/>
                <a:gd name="textAreaRight" fmla="*/ 3402360 w 3402360"/>
                <a:gd name="textAreaTop" fmla="*/ 0 h 3342960"/>
                <a:gd name="textAreaBottom" fmla="*/ 3343320 h 33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_s1033"/>
            <p:cNvSpPr/>
            <p:nvPr/>
          </p:nvSpPr>
          <p:spPr>
            <a:xfrm>
              <a:off x="5389920" y="832320"/>
              <a:ext cx="1227960" cy="12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’ll act the dialogue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’ll practise fine intonati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_s1034"/>
            <p:cNvSpPr/>
            <p:nvPr/>
          </p:nvSpPr>
          <p:spPr>
            <a:xfrm>
              <a:off x="6302520" y="3679560"/>
              <a:ext cx="1228680" cy="12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’ll learn how to us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since, fo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some, any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’ll learn how to speak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bout recent events</a:t>
              </a: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_s1035"/>
            <p:cNvSpPr/>
            <p:nvPr/>
          </p:nvSpPr>
          <p:spPr>
            <a:xfrm>
              <a:off x="3922200" y="5442840"/>
              <a:ext cx="1228680" cy="12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I’ll describe my favourite place in Per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I’ll write a letter to “In Touch Magazine”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_s1036"/>
            <p:cNvSpPr/>
            <p:nvPr/>
          </p:nvSpPr>
          <p:spPr>
            <a:xfrm>
              <a:off x="1539360" y="3685680"/>
              <a:ext cx="1227960" cy="12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_s1037"/>
            <p:cNvSpPr/>
            <p:nvPr/>
          </p:nvSpPr>
          <p:spPr>
            <a:xfrm>
              <a:off x="2445840" y="835200"/>
              <a:ext cx="1228680" cy="12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4" name="Rectangle 15"/>
          <p:cNvSpPr/>
          <p:nvPr/>
        </p:nvSpPr>
        <p:spPr>
          <a:xfrm>
            <a:off x="684360" y="2565360"/>
            <a:ext cx="31669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I’ll read about animal car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I’ll learn about organization for anima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I’ll speak about animal care in Per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’ll speak about outdoor activit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4140360" y="3213000"/>
            <a:ext cx="136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9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-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826920" y="1882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« Что я буду делать? Чему я буду учиться?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80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My results in the second ter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50560" y="2060280"/>
            <a:ext cx="856908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want to have “5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68360" y="3141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o have “5” I mu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476360" y="3789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arn forms of the verb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050920" y="4221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now translation of new words and phra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24000" y="472428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tudy hard, very properly and serious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2050920" y="580536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 must listen and read instruction careful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0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дания для  самооценки формулируются в термина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Я могу…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Мне необходимо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Мои трудности связаны с …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Что я выучил…?»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5:28:59Z</dcterms:created>
  <dc:creator>1</dc:creator>
  <dc:description/>
  <dc:language>en-US</dc:language>
  <cp:lastModifiedBy>home</cp:lastModifiedBy>
  <dcterms:modified xsi:type="dcterms:W3CDTF">2015-03-22T14:04:37Z</dcterms:modified>
  <cp:revision>16</cp:revision>
  <dc:subject/>
  <dc:title>Самооценка   « MY PHOTO ALBUM»</dc:title>
</cp:coreProperties>
</file>