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end.wav" ContentType="audio/x-wav"/>
  <Override PartName="/ppt/media/image16.gif" ContentType="image/gi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341-60B9-46C1-9988-E51CE34A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A6E-FFB1-4294-9C94-F92F1ED0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052-D92D-4F1C-BD97-2269A104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061-625A-4A3A-AFD2-E8A65711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E04-FC6F-4E4E-85B2-9816F7C7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8DE-47BF-4B27-AD4D-72C7A03B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E06-846C-4764-B09B-B0C8F461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E60-37BB-48CF-8366-E814B87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765-D951-47F7-B4BD-BAA25FB2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200-CFC7-4FDF-9A35-CA2C738A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77E-EE7B-45D4-886D-6C26D2EF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D8E-86F0-429F-BD48-A1379D0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2D5F-83E4-4E53-A53D-ED6563D0D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audio" Target="../media/end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250920" y="4581360"/>
            <a:ext cx="446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urs</a:t>
            </a:r>
            <a:endParaRPr b="0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61640" y="6040440"/>
            <a:ext cx="61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Нехорошева Н.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 ГБОУ СОШ №657 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24480" y="259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ink [p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ŋk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з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8675640" y="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:\3 КЛАСС ВСЕ К УРОКАМ\ПРЕЗЕНТАЦИИ К УРОКАМ 3 класс\106303332_large_1918486_post63301369077345.jpg"/>
          <p:cNvPicPr/>
          <p:nvPr/>
        </p:nvPicPr>
        <p:blipFill>
          <a:blip r:embed="rId2"/>
          <a:stretch/>
        </p:blipFill>
        <p:spPr>
          <a:xfrm>
            <a:off x="1476360" y="1773360"/>
            <a:ext cx="6667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75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img_items_large4ae20646da4d9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Brown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[braun] -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оричне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75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rainbow"/>
          <p:cNvPicPr/>
          <p:nvPr/>
        </p:nvPicPr>
        <p:blipFill>
          <a:blip r:embed="rId1"/>
          <a:stretch/>
        </p:blipFill>
        <p:spPr>
          <a:xfrm>
            <a:off x="3132000" y="404640"/>
            <a:ext cx="5586480" cy="5950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50920" y="549360"/>
            <a:ext cx="23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Rainbow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[</a:t>
            </a:r>
            <a:r>
              <a:rPr b="1" lang="el-G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΄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reinb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Ɔ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u] -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lou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Red, white, blu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How do you d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Yellow, grey, gree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Where have you be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urple, orange, black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To London down and bac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ставь пропущенные бук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Times New Roman"/>
              </a:rPr>
              <a:t>wh…te, b…ack, r…d, …ellow, gre…n, bl…e, or…nge, pu…ple, gr…y, pin…, bro…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e, b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ck, r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,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llow, gre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, bl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, or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ge, pu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e, gr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, pin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, bro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ветик - Семицвет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magic-17"/>
          <p:cNvPicPr/>
          <p:nvPr/>
        </p:nvPicPr>
        <p:blipFill>
          <a:blip r:embed="rId1"/>
          <a:stretch/>
        </p:blipFill>
        <p:spPr>
          <a:xfrm>
            <a:off x="468360" y="1557360"/>
            <a:ext cx="3319560" cy="4425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40328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411280" y="24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20364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164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69236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971640" y="4365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4211640" y="1125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Называй цвет каждого листочка правильно, иначе цветок быстро завя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211640" y="2276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4140360" y="285264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n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4140360" y="3500280"/>
            <a:ext cx="48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4067280" y="4076640"/>
            <a:ext cx="48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067280" y="5516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ue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067280" y="6156360"/>
            <a:ext cx="50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urp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3924360" y="4797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This is a </a:t>
            </a: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light blu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lea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84360" y="364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9280" y="765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w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v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66ff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059280" y="314172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e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ood by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72074859_58719593_8e6ab57d5f63"/>
          <p:cNvPicPr/>
          <p:nvPr/>
        </p:nvPicPr>
        <p:blipFill>
          <a:blip r:embed="rId1"/>
          <a:stretch/>
        </p:blipFill>
        <p:spPr>
          <a:xfrm>
            <a:off x="6227640" y="4076640"/>
            <a:ext cx="2570400" cy="257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72074859_58719593_8e6ab57d5f63"/>
          <p:cNvPicPr/>
          <p:nvPr/>
        </p:nvPicPr>
        <p:blipFill>
          <a:blip r:embed="rId2"/>
          <a:stretch/>
        </p:blipFill>
        <p:spPr>
          <a:xfrm>
            <a:off x="468360" y="3645000"/>
            <a:ext cx="2570040" cy="2577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end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2125-f55994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79280" y="26028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ite [wa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5373720"/>
            <a:ext cx="3780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ack [blæk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8388360" y="5445000"/>
            <a:ext cx="504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5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25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 [red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8604360" y="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:\3 КЛАСС ВСЕ К УРОКАМ\ПРЕЗЕНТАЦИИ К УРОКАМ 3 класс\i.jpg"/>
          <p:cNvPicPr/>
          <p:nvPr/>
        </p:nvPicPr>
        <p:blipFill>
          <a:blip r:embed="rId2"/>
          <a:stretch/>
        </p:blipFill>
        <p:spPr>
          <a:xfrm>
            <a:off x="1116000" y="1916280"/>
            <a:ext cx="68817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25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62139_or"/>
          <p:cNvPicPr/>
          <p:nvPr/>
        </p:nvPicPr>
        <p:blipFill>
          <a:blip r:embed="rId1"/>
          <a:stretch/>
        </p:blipFill>
        <p:spPr>
          <a:xfrm>
            <a:off x="755640" y="1557360"/>
            <a:ext cx="7812000" cy="495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ellow [‘jel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ә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] -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yellow.wav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50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289988219_grass"/>
          <p:cNvPicPr/>
          <p:nvPr/>
        </p:nvPicPr>
        <p:blipFill>
          <a:blip r:embed="rId1"/>
          <a:stretch/>
        </p:blipFill>
        <p:spPr>
          <a:xfrm>
            <a:off x="1763640" y="162864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reen [gr</a:t>
            </a:r>
            <a:r>
              <a:rPr b="1" lang="el-GR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n] -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л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317080" y="333360"/>
            <a:ext cx="61092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75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ue [blu:] –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ний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ght blue [la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blu: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у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3" name="light blue.wav" descr=""/>
          <p:cNvPicPr/>
          <p:nvPr/>
        </p:nvPicPr>
        <p:blipFill>
          <a:blip r:embed="rId2"/>
          <a:stretch/>
        </p:blipFill>
        <p:spPr>
          <a:xfrm>
            <a:off x="8388360" y="83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3 КЛАСС ВСЕ К УРОКАМ\ПРЕЗЕНТАЦИИ К УРОКАМ 3 класс\98844823_large_getImage__22_.jpg"/>
          <p:cNvPicPr/>
          <p:nvPr/>
        </p:nvPicPr>
        <p:blipFill>
          <a:blip r:embed="rId3"/>
          <a:stretch/>
        </p:blipFill>
        <p:spPr>
          <a:xfrm>
            <a:off x="5003640" y="1996920"/>
            <a:ext cx="3749760" cy="3808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3 КЛАСС ВСЕ К УРОКАМ\ПРЕЗЕНТАЦИИ К УРОКАМ 3 класс\71699643.137217874.jpeg"/>
          <p:cNvPicPr/>
          <p:nvPr/>
        </p:nvPicPr>
        <p:blipFill>
          <a:blip r:embed="rId4"/>
          <a:stretch/>
        </p:blipFill>
        <p:spPr>
          <a:xfrm>
            <a:off x="539640" y="2060640"/>
            <a:ext cx="3961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75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50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10545_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ange [‘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Ɔ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l-GR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ʤ]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оранже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867564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0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07077565_3c332faf23"/>
          <p:cNvPicPr/>
          <p:nvPr/>
        </p:nvPicPr>
        <p:blipFill>
          <a:blip r:embed="rId1"/>
          <a:stretch/>
        </p:blipFill>
        <p:spPr>
          <a:xfrm>
            <a:off x="1476360" y="1844640"/>
            <a:ext cx="6588000" cy="5013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rple [‘p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ә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pl] –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олетовый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Violet [‘va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ә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1" lang="el-GR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] -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олет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8101080" y="333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8101080" y="1052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00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00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gray_wolf"/>
          <p:cNvPicPr/>
          <p:nvPr/>
        </p:nvPicPr>
        <p:blipFill>
          <a:blip r:embed="rId1"/>
          <a:stretch/>
        </p:blipFill>
        <p:spPr>
          <a:xfrm>
            <a:off x="539640" y="0"/>
            <a:ext cx="45770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92360" y="5490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rey [gre</a:t>
            </a:r>
            <a:r>
              <a:rPr b="1" lang="el-GR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ι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 -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867564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00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6:51:11Z</dcterms:created>
  <dc:creator>Admin</dc:creator>
  <dc:description/>
  <dc:language>en-US</dc:language>
  <cp:lastModifiedBy>Наталия</cp:lastModifiedBy>
  <dcterms:modified xsi:type="dcterms:W3CDTF">2015-03-23T17:42:17Z</dcterms:modified>
  <cp:revision>38</cp:revision>
  <dc:subject/>
  <dc:title>Слайд 1</dc:title>
</cp:coreProperties>
</file>