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end.wav" ContentType="audio/x-wav"/>
  <Override PartName="/ppt/media/image16.gif" ContentType="image/gi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84B-E21F-4293-9C06-F19057EB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120-A0FC-427D-97D9-4D507900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EA2-CF33-480E-BEFB-819B7B7D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B43-2BD7-4CBF-90A0-F4A39470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0DC-84A8-4C3E-93DA-B9F8210A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320-CBC3-40E7-8520-FE2ED419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554-7BA8-4B26-91CF-F6001D19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F94-B31C-4540-8B1C-5A7B74C0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2BC-44D9-4A2A-A18A-F3D30F64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867-3B98-4500-9717-BF9FE1D0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517-8467-491D-B7D2-EF14A675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BC3-6213-40B7-96A4-0CF0633D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2DEE-A5A4-42AC-80AB-C1CA434B4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audio" Target="../media/end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250920" y="4581360"/>
            <a:ext cx="4464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urs</a:t>
            </a:r>
            <a:endParaRPr b="0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61640" y="6040440"/>
            <a:ext cx="61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Нехорошева Н.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 ГБОУ СОШ №657 г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24480" y="2599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ink [p</a:t>
            </a:r>
            <a:r>
              <a:rPr b="1" lang="el-GR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ŋk] -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з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8675640" y="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F:\3 КЛАСС ВСЕ К УРОКАМ\ПРЕЗЕНТАЦИИ К УРОКАМ 3 класс\106303332_large_1918486_post63301369077345.jpg"/>
          <p:cNvPicPr/>
          <p:nvPr/>
        </p:nvPicPr>
        <p:blipFill>
          <a:blip r:embed="rId2"/>
          <a:stretch/>
        </p:blipFill>
        <p:spPr>
          <a:xfrm>
            <a:off x="1476360" y="1773360"/>
            <a:ext cx="6667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75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img_items_large4ae20646da4d9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Brown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[braun] -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коричне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75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rainbow"/>
          <p:cNvPicPr/>
          <p:nvPr/>
        </p:nvPicPr>
        <p:blipFill>
          <a:blip r:embed="rId1"/>
          <a:stretch/>
        </p:blipFill>
        <p:spPr>
          <a:xfrm>
            <a:off x="3132000" y="404640"/>
            <a:ext cx="5586480" cy="5950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50920" y="549360"/>
            <a:ext cx="23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Rainbow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[</a:t>
            </a:r>
            <a:r>
              <a:rPr b="1" lang="el-G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΄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reinb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Ɔ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u] -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рад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lou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Red, white, blu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How do you d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Yellow, grey, gree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Where have you bee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urple, orange, black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To London down and bac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Times New Roman"/>
              </a:rPr>
              <a:t>wh…te, b…ack, r…d, …ellow, gre…n, bl…e, or…nge, pu…ple, gr…y, pin…, bro…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e, b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ck, r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, 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llow, gre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, bl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, or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ge, pu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e, gr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, pin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bro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ветик - Семицвет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magic-17"/>
          <p:cNvPicPr/>
          <p:nvPr/>
        </p:nvPicPr>
        <p:blipFill>
          <a:blip r:embed="rId1"/>
          <a:stretch/>
        </p:blipFill>
        <p:spPr>
          <a:xfrm>
            <a:off x="468360" y="1557360"/>
            <a:ext cx="3319560" cy="4425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140328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411280" y="242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203640" y="35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71640" y="450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692360" y="47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971640" y="4365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4211640" y="1125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Называй цвет каждого листочка правильно, иначе цветок быстро завя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4211640" y="2276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4140360" y="285264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n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4140360" y="3500280"/>
            <a:ext cx="48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4067280" y="4076640"/>
            <a:ext cx="48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4067280" y="5516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ue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4067280" y="6156360"/>
            <a:ext cx="50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urp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3924360" y="4797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 </a:t>
            </a: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light blue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84360" y="364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9280" y="765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w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v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059280" y="314172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ee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ood by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72074859_58719593_8e6ab57d5f63"/>
          <p:cNvPicPr/>
          <p:nvPr/>
        </p:nvPicPr>
        <p:blipFill>
          <a:blip r:embed="rId1"/>
          <a:stretch/>
        </p:blipFill>
        <p:spPr>
          <a:xfrm>
            <a:off x="6227640" y="4076640"/>
            <a:ext cx="2570400" cy="2578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72074859_58719593_8e6ab57d5f63"/>
          <p:cNvPicPr/>
          <p:nvPr/>
        </p:nvPicPr>
        <p:blipFill>
          <a:blip r:embed="rId2"/>
          <a:stretch/>
        </p:blipFill>
        <p:spPr>
          <a:xfrm>
            <a:off x="468360" y="3645000"/>
            <a:ext cx="2570040" cy="2577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end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2125-f55994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179280" y="26028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ite [wa</a:t>
            </a:r>
            <a:r>
              <a:rPr b="1" lang="el-GR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] -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0" y="5373720"/>
            <a:ext cx="3780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lack [blæk] -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8388360" y="5445000"/>
            <a:ext cx="5047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25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25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 [red] -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8604360" y="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F:\3 КЛАСС ВСЕ К УРОКАМ\ПРЕЗЕНТАЦИИ К УРОКАМ 3 класс\i.jpg"/>
          <p:cNvPicPr/>
          <p:nvPr/>
        </p:nvPicPr>
        <p:blipFill>
          <a:blip r:embed="rId2"/>
          <a:stretch/>
        </p:blipFill>
        <p:spPr>
          <a:xfrm>
            <a:off x="1116000" y="1916280"/>
            <a:ext cx="68817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25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62139_or"/>
          <p:cNvPicPr/>
          <p:nvPr/>
        </p:nvPicPr>
        <p:blipFill>
          <a:blip r:embed="rId1"/>
          <a:stretch/>
        </p:blipFill>
        <p:spPr>
          <a:xfrm>
            <a:off x="755640" y="1557360"/>
            <a:ext cx="7812000" cy="4959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ellow [‘jel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ә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] -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ел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yellow.wav" descr=""/>
          <p:cNvPicPr/>
          <p:nvPr/>
        </p:nvPicPr>
        <p:blipFill>
          <a:blip r:embed="rId2"/>
          <a:stretch/>
        </p:blipFill>
        <p:spPr>
          <a:xfrm>
            <a:off x="8459640" y="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50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289988219_grass"/>
          <p:cNvPicPr/>
          <p:nvPr/>
        </p:nvPicPr>
        <p:blipFill>
          <a:blip r:embed="rId1"/>
          <a:stretch/>
        </p:blipFill>
        <p:spPr>
          <a:xfrm>
            <a:off x="1763640" y="162864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reen [gr</a:t>
            </a:r>
            <a:r>
              <a:rPr b="1" lang="el-GR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n] -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л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8317080" y="333360"/>
            <a:ext cx="61092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75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lue [blu:] –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ний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ght blue [la</a:t>
            </a:r>
            <a:r>
              <a:rPr b="1" lang="el-GR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blu:] -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лу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3" name="light blue.wav" descr=""/>
          <p:cNvPicPr/>
          <p:nvPr/>
        </p:nvPicPr>
        <p:blipFill>
          <a:blip r:embed="rId2"/>
          <a:stretch/>
        </p:blipFill>
        <p:spPr>
          <a:xfrm>
            <a:off x="8388360" y="836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3 КЛАСС ВСЕ К УРОКАМ\ПРЕЗЕНТАЦИИ К УРОКАМ 3 класс\98844823_large_getImage__22_.jpg"/>
          <p:cNvPicPr/>
          <p:nvPr/>
        </p:nvPicPr>
        <p:blipFill>
          <a:blip r:embed="rId3"/>
          <a:stretch/>
        </p:blipFill>
        <p:spPr>
          <a:xfrm>
            <a:off x="5003640" y="1996920"/>
            <a:ext cx="3749760" cy="3808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3 КЛАСС ВСЕ К УРОКАМ\ПРЕЗЕНТАЦИИ К УРОКАМ 3 класс\71699643.137217874.jpeg"/>
          <p:cNvPicPr/>
          <p:nvPr/>
        </p:nvPicPr>
        <p:blipFill>
          <a:blip r:embed="rId4"/>
          <a:stretch/>
        </p:blipFill>
        <p:spPr>
          <a:xfrm>
            <a:off x="539640" y="2060640"/>
            <a:ext cx="3961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75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50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10545_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ange [‘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Ɔ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1" lang="el-GR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ʤ]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оранже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8675640" y="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0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07077565_3c332faf23"/>
          <p:cNvPicPr/>
          <p:nvPr/>
        </p:nvPicPr>
        <p:blipFill>
          <a:blip r:embed="rId1"/>
          <a:stretch/>
        </p:blipFill>
        <p:spPr>
          <a:xfrm>
            <a:off x="1476360" y="1844640"/>
            <a:ext cx="6588000" cy="5013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urple [‘p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ә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pl] –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олетовый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Violet [‘va</a:t>
            </a:r>
            <a:r>
              <a:rPr b="1" lang="el-GR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ә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r>
              <a:rPr b="1" lang="el-GR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] -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олет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8101080" y="333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8101080" y="105264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00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00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gray_wolf"/>
          <p:cNvPicPr/>
          <p:nvPr/>
        </p:nvPicPr>
        <p:blipFill>
          <a:blip r:embed="rId1"/>
          <a:stretch/>
        </p:blipFill>
        <p:spPr>
          <a:xfrm>
            <a:off x="539640" y="0"/>
            <a:ext cx="45770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92360" y="5490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rey [gre</a:t>
            </a:r>
            <a:r>
              <a:rPr b="1" lang="el-GR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 -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8675640" y="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00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6:51:11Z</dcterms:created>
  <dc:creator>Admin</dc:creator>
  <dc:description/>
  <dc:language>en-US</dc:language>
  <cp:lastModifiedBy>Наталия</cp:lastModifiedBy>
  <dcterms:modified xsi:type="dcterms:W3CDTF">2015-03-23T17:42:17Z</dcterms:modified>
  <cp:revision>38</cp:revision>
  <dc:subject/>
  <dc:title>Слайд 1</dc:title>
</cp:coreProperties>
</file>