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7DEA-6DD6-4639-954E-506B2FA61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31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0271-3ED4-4A93-A050-E42E2BAA15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B9B-F59D-4F6D-9FA3-6BF83758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273-8907-47E9-8A8F-AC80B864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99B-51BA-4583-B292-67D2817B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EBB-D6A9-41BB-8F60-31AAD65D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8AC-4755-45FB-9880-42971DD5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E44-9222-4AFB-9945-07B50A50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F47-5BFA-4B52-91F5-BA58FF92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432-3625-409C-9D5E-47D0DEFA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B77-0A11-4E0A-A27A-BCB614BC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C84-B475-44FD-AEEF-E9F398B7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146-6C43-44C5-910A-3422AB13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A00-9037-484E-A75B-1A01A1A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ED4-FA29-467C-8EBA-773C3A2BE2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0" y="558720"/>
            <a:ext cx="9144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1" lang="ru-RU" sz="30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</a:t>
            </a:r>
            <a:r>
              <a:rPr b="1" lang="ru-RU" sz="300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К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468360" y="189000"/>
            <a:ext cx="831672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Широкое привлечение обучающихся, родителей и работников общеобразовательного учреждения к регулярным занятиям физической культурой и спор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кругленный прямоугольник 6"/>
          <p:cNvSpPr/>
          <p:nvPr/>
        </p:nvSpPr>
        <p:spPr>
          <a:xfrm>
            <a:off x="250920" y="981000"/>
            <a:ext cx="2881080" cy="719280"/>
          </a:xfrm>
          <a:prstGeom prst="roundRect">
            <a:avLst>
              <a:gd name="adj" fmla="val 16667"/>
            </a:avLst>
          </a:prstGeom>
          <a:solidFill>
            <a:srgbClr val="f1f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Формирования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6156360" y="98100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Организации активного отдых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10"/>
          <p:cNvSpPr/>
          <p:nvPr/>
        </p:nvSpPr>
        <p:spPr>
          <a:xfrm>
            <a:off x="3348000" y="98100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Повышение уровня физ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кругленный прямоугольник 11"/>
          <p:cNvSpPr/>
          <p:nvPr/>
        </p:nvSpPr>
        <p:spPr>
          <a:xfrm>
            <a:off x="250920" y="6093000"/>
            <a:ext cx="8713800" cy="576000"/>
          </a:xfrm>
          <a:prstGeom prst="roundRect">
            <a:avLst>
              <a:gd name="adj" fmla="val 16667"/>
            </a:avLst>
          </a:prstGeom>
          <a:solidFill>
            <a:srgbClr val="f1f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Развитие в общеобразовательном учреждении традиционных и наиболее популярных в регионе видов спо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12"/>
          <p:cNvSpPr/>
          <p:nvPr/>
        </p:nvSpPr>
        <p:spPr>
          <a:xfrm>
            <a:off x="250920" y="4508640"/>
            <a:ext cx="3168720" cy="11523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  <a:ea typeface="Times New Roman"/>
              </a:rPr>
              <a:t>Организация занятий в спортивных секциях и группах           оздоровительной направлен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15"/>
          <p:cNvSpPr/>
          <p:nvPr/>
        </p:nvSpPr>
        <p:spPr>
          <a:xfrm>
            <a:off x="3352680" y="4191120"/>
            <a:ext cx="2874960" cy="125388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Проведение массовых физкультурно-оздоровительных и спортивных мероприят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Скругленный прямоугольник 16"/>
          <p:cNvSpPr/>
          <p:nvPr/>
        </p:nvSpPr>
        <p:spPr>
          <a:xfrm>
            <a:off x="6372360" y="4508640"/>
            <a:ext cx="2520720" cy="12967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Создание условий для развития всех видов и форм двигательной деятельности с учетом интересов обучающих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6"/>
          <p:cNvSpPr/>
          <p:nvPr/>
        </p:nvSpPr>
        <p:spPr>
          <a:xfrm>
            <a:off x="6019920" y="47242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8077320" y="47242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2"/>
          <p:cNvSpPr/>
          <p:nvPr/>
        </p:nvSpPr>
        <p:spPr>
          <a:xfrm>
            <a:off x="5867280" y="46483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5943600" y="541008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2"/>
          <p:cNvSpPr/>
          <p:nvPr/>
        </p:nvSpPr>
        <p:spPr>
          <a:xfrm>
            <a:off x="7162920" y="45720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2"/>
          <p:cNvSpPr/>
          <p:nvPr/>
        </p:nvSpPr>
        <p:spPr>
          <a:xfrm>
            <a:off x="7315200" y="533412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447920" y="2743200"/>
            <a:ext cx="243828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ет клуб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Актив клуб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1447920" y="228600"/>
            <a:ext cx="61722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3048120" y="533520"/>
            <a:ext cx="3200400" cy="4572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59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ФСК «Адреналин»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638680" y="2895480"/>
            <a:ext cx="26672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нистрация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00200" y="4267080"/>
            <a:ext cx="6248520" cy="1981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едсед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председ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дколлегия, фотокорреспонден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ый за ведение спортивной интернет – страницы на школьном сай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ственный за работу с физоргами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Прямая со стрелкой 58"/>
          <p:cNvCxnSpPr/>
          <p:nvPr/>
        </p:nvCxnSpPr>
        <p:spPr>
          <a:xfrm>
            <a:off x="4647960" y="3123720"/>
            <a:ext cx="99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59"/>
          <p:cNvCxnSpPr/>
          <p:nvPr/>
        </p:nvCxnSpPr>
        <p:spPr>
          <a:xfrm flipH="1">
            <a:off x="2437560" y="3580920"/>
            <a:ext cx="25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59"/>
          <p:cNvCxnSpPr/>
          <p:nvPr/>
        </p:nvCxnSpPr>
        <p:spPr>
          <a:xfrm flipH="1" flipV="1">
            <a:off x="4037760" y="312336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Rectangle 7"/>
          <p:cNvSpPr/>
          <p:nvPr/>
        </p:nvSpPr>
        <p:spPr>
          <a:xfrm>
            <a:off x="3733920" y="1600200"/>
            <a:ext cx="289548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ы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4:20:30Z</dcterms:created>
  <dc:creator>Юдина Татьяна Анатол</dc:creator>
  <dc:description/>
  <dc:language>en-US</dc:language>
  <cp:lastModifiedBy>User</cp:lastModifiedBy>
  <dcterms:modified xsi:type="dcterms:W3CDTF">2015-03-24T11:30:19Z</dcterms:modified>
  <cp:revision>186</cp:revision>
  <dc:subject/>
  <dc:title>Презентация PowerPoint</dc:title>
</cp:coreProperties>
</file>