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D4C6-396E-4014-AEF2-3611B21DE7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3784-5617-47D1-B26D-3233C4E55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0AC-A0A7-4547-A3F7-1A0C3308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477-C2A1-4A24-AD40-F05541F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8EE-5930-49CB-A051-6119E4B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8BD-DE0A-4EC4-9C7C-C1ECA64B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585-8F1F-4081-A757-069BB0D7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9E1-B88C-426A-AD8F-E1B8326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322-73DB-4577-A6C6-67A6FC6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1ED-9DC9-46BF-B79D-17E62EF1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934-85AD-42D7-86F8-78E65BDC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0B7-F1FB-4518-8097-C569B74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B38-B6C5-4D5D-9A40-CDAE000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3A1-112A-4082-AD6F-E6A7411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3F5-C7D3-4E8E-BABE-66D2BE67F8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55872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30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</a:t>
            </a:r>
            <a:r>
              <a:rPr b="1" lang="ru-RU" sz="300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К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468360" y="189000"/>
            <a:ext cx="8316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Широкое привлечение обучающихся, родителей и работников общеобразовательного учреждения к регулярным занятиям физической культурой и спор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6"/>
          <p:cNvSpPr/>
          <p:nvPr/>
        </p:nvSpPr>
        <p:spPr>
          <a:xfrm>
            <a:off x="250920" y="981000"/>
            <a:ext cx="2881080" cy="71928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Формирования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156360" y="98100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Организации активного отдых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3348000" y="98100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овышение уровня физ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1"/>
          <p:cNvSpPr/>
          <p:nvPr/>
        </p:nvSpPr>
        <p:spPr>
          <a:xfrm>
            <a:off x="250920" y="6093000"/>
            <a:ext cx="8713800" cy="57600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Развитие в общеобразовательном учреждении традиционных и наиболее популярных в регионе видов спо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2"/>
          <p:cNvSpPr/>
          <p:nvPr/>
        </p:nvSpPr>
        <p:spPr>
          <a:xfrm>
            <a:off x="250920" y="450864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Times New Roman"/>
              </a:rPr>
              <a:t>Организация занятий в спортивных секциях и группах           оздоровительной направлен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3352680" y="4191120"/>
            <a:ext cx="2874960" cy="125388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роведение массовых физкультурно-оздоровительных и спортивных мероприят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6372360" y="4508640"/>
            <a:ext cx="2520720" cy="12967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Создание условий для развития всех видов и форм двигательной деятельности с учетом интересов обучаю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6"/>
          <p:cNvSpPr/>
          <p:nvPr/>
        </p:nvSpPr>
        <p:spPr>
          <a:xfrm>
            <a:off x="60199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80773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2"/>
          <p:cNvSpPr/>
          <p:nvPr/>
        </p:nvSpPr>
        <p:spPr>
          <a:xfrm>
            <a:off x="5867280" y="4648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5943600" y="54100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2"/>
          <p:cNvSpPr/>
          <p:nvPr/>
        </p:nvSpPr>
        <p:spPr>
          <a:xfrm>
            <a:off x="7162920" y="4572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2"/>
          <p:cNvSpPr/>
          <p:nvPr/>
        </p:nvSpPr>
        <p:spPr>
          <a:xfrm>
            <a:off x="7315200" y="53341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447920" y="2743200"/>
            <a:ext cx="24382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 клуб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Актив клуб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447920" y="228600"/>
            <a:ext cx="61722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048120" y="533520"/>
            <a:ext cx="3200400" cy="4572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59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СК «Адреналин»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638680" y="2895480"/>
            <a:ext cx="26672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нистрация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00200" y="4267080"/>
            <a:ext cx="6248520" cy="1981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едсед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дколлегия, фотокорреспонден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ведение спортивной интернет – страницы на школьном сай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работу с физоргами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Прямая со стрелкой 58"/>
          <p:cNvCxnSpPr/>
          <p:nvPr/>
        </p:nvCxnSpPr>
        <p:spPr>
          <a:xfrm>
            <a:off x="4647960" y="3123720"/>
            <a:ext cx="99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59"/>
          <p:cNvCxnSpPr/>
          <p:nvPr/>
        </p:nvCxnSpPr>
        <p:spPr>
          <a:xfrm flipH="1">
            <a:off x="2437560" y="3580920"/>
            <a:ext cx="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59"/>
          <p:cNvCxnSpPr/>
          <p:nvPr/>
        </p:nvCxnSpPr>
        <p:spPr>
          <a:xfrm flipH="1" flipV="1">
            <a:off x="4037760" y="312336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Rectangle 7"/>
          <p:cNvSpPr/>
          <p:nvPr/>
        </p:nvSpPr>
        <p:spPr>
          <a:xfrm>
            <a:off x="3733920" y="1600200"/>
            <a:ext cx="28954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4:20:30Z</dcterms:created>
  <dc:creator>Юдина Татьяна Анатол</dc:creator>
  <dc:description/>
  <dc:language>en-US</dc:language>
  <cp:lastModifiedBy>User</cp:lastModifiedBy>
  <dcterms:modified xsi:type="dcterms:W3CDTF">2015-03-24T11:30:19Z</dcterms:modified>
  <cp:revision>186</cp:revision>
  <dc:subject/>
  <dc:title>Презентация PowerPoint</dc:title>
</cp:coreProperties>
</file>