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1730-7104-41DE-B552-58C8AD43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42A-39FB-47A7-9283-C75F557C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DAD1-BD81-4250-BB5A-A945F8C2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B9D-D722-4794-9795-B281C42D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A8E5-7968-4376-8B86-C279EAD7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0E3A-8BA4-44B8-BEE1-1615052C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B4CB-C244-476A-ADD9-2E8A554E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D7FB-0474-41A4-B623-0D630E07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1B63-0105-4643-9DF2-CF63BDDA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503A-9EED-4B7E-9854-ED4DC290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D1FA-B6EB-4099-ADC1-17919352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6EF0-B64B-4775-B432-0F7AD880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BC04-3250-486C-85C2-23EC5356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5521-1CE5-42FE-BF9D-3699CC00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8C51-56C4-46C7-B953-199961AB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F435-A4AA-4A29-A035-68CF2643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9402-701E-460F-ACB0-C6F2106C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CFFA-365C-4979-8CB6-7263ECB1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10D-B008-48B5-AA1D-B7E009CD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E0A6-7B15-4EBF-AF76-14DA8BA0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8C1-9688-4F78-A719-5F778499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AAF-E76E-48FF-9A12-25A98120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D1FA-B38A-41AC-AF73-A20F3690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3894-4ACF-4E89-99B4-EAAAE8DD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F39A-71CA-421D-851D-222A63ED9A9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4101-F323-4B38-BC4B-6F938E1BB836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imes New Roman"/>
              </a:rPr>
              <a:t>Программа элективного курса по обществознанию </a:t>
            </a:r>
            <a:br>
              <a:rPr sz="4800"/>
            </a:br>
            <a:r>
              <a:rPr b="0" lang="en-US" sz="4800" spc="-1" strike="noStrike">
                <a:solidFill>
                  <a:srgbClr val="420000"/>
                </a:solidFill>
                <a:latin typeface="Times New Roman"/>
              </a:rPr>
              <a:t>«Права человека»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валификационной категор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.А.Романова  МБОУ СОШ №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«Ум- хорошо, а два- лучше».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83618"/>
                </a:solidFill>
                <a:latin typeface="Times New Roman"/>
              </a:rPr>
              <a:t>           </a:t>
            </a:r>
            <a:r>
              <a:rPr b="1" i="1" lang="en-US" sz="4400" spc="-1" strike="noStrike">
                <a:solidFill>
                  <a:srgbClr val="e83618"/>
                </a:solidFill>
                <a:latin typeface="Times New Roman"/>
              </a:rPr>
              <a:t>Каковы принципы       избирательного права в        Росси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i?id=131734729&amp;tov=6"/>
          <p:cNvPicPr/>
          <p:nvPr/>
        </p:nvPicPr>
        <p:blipFill>
          <a:blip r:embed="rId1"/>
          <a:stretch/>
        </p:blipFill>
        <p:spPr>
          <a:xfrm>
            <a:off x="4211640" y="3789360"/>
            <a:ext cx="3130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3618"/>
                </a:solidFill>
                <a:latin typeface="Times New Roman"/>
              </a:rPr>
              <a:t>Принципы избирательного права  Росси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СЕОБЩЕ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РАВ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РЯМОЕ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ТАЙНОЕ ГОЛОС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«Хоть сто химиков соберите, а одного Менделеева не получите»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83618"/>
                </a:solidFill>
                <a:latin typeface="Times New Roman"/>
              </a:rPr>
              <a:t>         </a:t>
            </a:r>
            <a:r>
              <a:rPr b="1" i="1" lang="en-US" sz="4000" spc="-1" strike="noStrike">
                <a:solidFill>
                  <a:srgbClr val="e83618"/>
                </a:solidFill>
                <a:latin typeface="Times New Roman"/>
              </a:rPr>
              <a:t>Существуют л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83618"/>
                </a:solidFill>
                <a:latin typeface="Times New Roman"/>
              </a:rPr>
              <a:t>ограничения избирательного         прав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i?id=52945438&amp;tov=8"/>
          <p:cNvPicPr/>
          <p:nvPr/>
        </p:nvPicPr>
        <p:blipFill>
          <a:blip r:embed="rId1"/>
          <a:stretch/>
        </p:blipFill>
        <p:spPr>
          <a:xfrm>
            <a:off x="3419640" y="4292640"/>
            <a:ext cx="460836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3618"/>
                </a:solidFill>
                <a:latin typeface="Times New Roman"/>
              </a:rPr>
              <a:t>ОГРАНИЧЕНИЯ</a:t>
            </a:r>
            <a:br>
              <a:rPr sz="4000"/>
            </a:br>
            <a:r>
              <a:rPr b="1" lang="en-US" sz="4000" spc="-1" strike="noStrike">
                <a:solidFill>
                  <a:srgbClr val="e83618"/>
                </a:solidFill>
                <a:latin typeface="Times New Roman"/>
              </a:rPr>
              <a:t>ИЗБИРАТЕЛЬНОГО ПРАВ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дееспособност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одержание в местах лиш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вободы  по приговору суд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Государственную ду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жно быть избранны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 21 год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«Демократия- это процедура»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83618"/>
                </a:solidFill>
                <a:latin typeface="Times New Roman"/>
              </a:rPr>
              <a:t>           </a:t>
            </a:r>
            <a:r>
              <a:rPr b="1" i="1" lang="en-US" sz="4000" spc="-1" strike="noStrike">
                <a:solidFill>
                  <a:srgbClr val="e83618"/>
                </a:solidFill>
                <a:latin typeface="Times New Roman"/>
              </a:rPr>
              <a:t>Н</a:t>
            </a:r>
            <a:r>
              <a:rPr b="1" i="1" lang="en-US" sz="4400" spc="-1" strike="noStrike">
                <a:solidFill>
                  <a:srgbClr val="e83618"/>
                </a:solidFill>
                <a:latin typeface="Times New Roman"/>
              </a:rPr>
              <a:t>азовите виды избирательных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83618"/>
                </a:solidFill>
                <a:latin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83618"/>
                </a:solidFill>
                <a:latin typeface="Times New Roman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i?id=88941148&amp;tov=3"/>
          <p:cNvPicPr/>
          <p:nvPr/>
        </p:nvPicPr>
        <p:blipFill>
          <a:blip r:embed="rId1"/>
          <a:stretch/>
        </p:blipFill>
        <p:spPr>
          <a:xfrm>
            <a:off x="2700360" y="3645000"/>
            <a:ext cx="339732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3618"/>
                </a:solidFill>
                <a:latin typeface="Times New Roman"/>
              </a:rPr>
              <a:t>Виды избирательных систем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. ПРОПОРЦИОНАЛЬНА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голосование по партийным списк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. МАЖОРИТАРНА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голосование за кандидата по одномандатному округ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3. СМЕШАН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e83618"/>
                </a:solidFill>
                <a:latin typeface="Times New Roman"/>
              </a:rPr>
              <a:t>Давайте вспомним этапы избирательного                   процесс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83618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8361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i?id=33366945&amp;tov=7"/>
          <p:cNvPicPr/>
          <p:nvPr/>
        </p:nvPicPr>
        <p:blipFill>
          <a:blip r:embed="rId1"/>
          <a:stretch/>
        </p:blipFill>
        <p:spPr>
          <a:xfrm>
            <a:off x="250920" y="2637000"/>
            <a:ext cx="2630520" cy="1973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i?id=19848789&amp;tov=0"/>
          <p:cNvPicPr/>
          <p:nvPr/>
        </p:nvPicPr>
        <p:blipFill>
          <a:blip r:embed="rId2"/>
          <a:stretch/>
        </p:blipFill>
        <p:spPr>
          <a:xfrm>
            <a:off x="395280" y="4902120"/>
            <a:ext cx="2619360" cy="1955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i?id=57218557&amp;tov=6"/>
          <p:cNvPicPr/>
          <p:nvPr/>
        </p:nvPicPr>
        <p:blipFill>
          <a:blip r:embed="rId3"/>
          <a:stretch/>
        </p:blipFill>
        <p:spPr>
          <a:xfrm>
            <a:off x="3492360" y="2924280"/>
            <a:ext cx="2187720" cy="1969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i?id=223118313&amp;tov=3"/>
          <p:cNvPicPr/>
          <p:nvPr/>
        </p:nvPicPr>
        <p:blipFill>
          <a:blip r:embed="rId4"/>
          <a:stretch/>
        </p:blipFill>
        <p:spPr>
          <a:xfrm>
            <a:off x="6227640" y="2708280"/>
            <a:ext cx="2448000" cy="1982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i?id=107339940&amp;tov=7"/>
          <p:cNvPicPr/>
          <p:nvPr/>
        </p:nvPicPr>
        <p:blipFill>
          <a:blip r:embed="rId5"/>
          <a:stretch/>
        </p:blipFill>
        <p:spPr>
          <a:xfrm>
            <a:off x="6012000" y="4875120"/>
            <a:ext cx="26492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77151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83618"/>
                </a:solidFill>
                <a:latin typeface="Times New Roman"/>
              </a:rPr>
              <a:t>ЭТАПЫ</a:t>
            </a:r>
            <a:br>
              <a:rPr sz="4000"/>
            </a:br>
            <a:r>
              <a:rPr b="1" lang="en-US" sz="4000" spc="-1" strike="noStrike">
                <a:solidFill>
                  <a:srgbClr val="e83618"/>
                </a:solidFill>
                <a:latin typeface="Times New Roman"/>
              </a:rPr>
              <a:t>ИЗБИРАТЕЛЬНОГО</a:t>
            </a:r>
            <a:br>
              <a:rPr sz="4000"/>
            </a:br>
            <a:r>
              <a:rPr b="1" lang="en-US" sz="4000" spc="-1" strike="noStrike">
                <a:solidFill>
                  <a:srgbClr val="e83618"/>
                </a:solidFill>
                <a:latin typeface="Times New Roman"/>
              </a:rPr>
              <a:t>ПРОЦЕССА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дия назначения выбор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дия составления списков избирател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дия образования избирательных округов и избирательных участк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дия формирования избирательных комисси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дия выдвижения, сбора подписей и регистрации кандидат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бор подпис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ация кандида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дия предвыборной агитац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дия голосования, подсчета голосов избирателей, установления результатов выборов и их опубликова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При разработке элективных курсов для учащихся  9-х классов мне удалось:</a:t>
            </a:r>
            <a:br>
              <a:rPr sz="2800"/>
            </a:b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выявить ребят, которые действительно интересуются  не только учебным предметом, но и правовыми нормами, существующими в современном российском обществ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подобрать и систематизировать источники информации по данной тем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учить и побуждать самих учащихся к оценке того, что они узнали, чему научились, о чём хотели бы узнать, чему хотели бы научитьс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возможность реализовать свои творческие способности, поскольку именно педагогическое творчество необходимо в полной мере для проектирования курса, для конструирования  и проведения каждого занятия этого курс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обосновывать оценочные критерии выполненных зад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Перспективы развития курса: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имать активное участие в конкурсах, олимпиадах, Интернет-конкурс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ствовать формированию у учащихся собственной гражданской пози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вать способности в изучение данного предме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нный элективный курс предполагает рассмотрение сложных для понимания учеников аспектов современного обществознания, в результате чего будет происходить систематизация имеющихся у учащихся обществоведческих знаний, формироваться собственная позиция по изученным темам, вырабатываться алгоритм решения соответствующих тестовых заданий. Элективный курс способствует качественной подготовке учащихся 9 классов к правильному решению экзаменационных тестов в формате ГИ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Результативность курс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личество учащихся курса: 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личество учащихся сдающих экзамен: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тоги экзамена 28.05.20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давали 17 учащих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5»-1, «4»-9, «3»-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чество знаний: 58,8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1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20000"/>
                </a:solidFill>
                <a:uFillTx/>
                <a:latin typeface="Times New Roman"/>
              </a:rPr>
              <a:t>Цель курс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ксимально способствовать развитию правовой культуры учащихся общеобразовательных школ, через усвоение ими основных правовых ценност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20000"/>
                </a:solidFill>
                <a:uFillTx/>
                <a:latin typeface="Times New Roman"/>
              </a:rPr>
              <a:t>Задачи курс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особствовать профессиональному самоопределению учащихся, формированию личности, адаптированной к сознательному выбору будущей специаль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особствовать усвоению совокупности конкретных правил поведения в семье, в доме, школе, на улице, учреждениях культуры и т. д. ориентиру на уважение прав и свобод других гражда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накомство с содержанием законодательных актов (или фрагментов из ни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воить учащимися навыков и умений в области защиты своих пра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Формы занятия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седа, круглый стол, дискуссия, деловая игра, практикум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0256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e83618"/>
                </a:solidFill>
                <a:latin typeface="Times New Roman"/>
              </a:rPr>
              <a:t>Деловая игра «Выборы»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0" y="2923920"/>
            <a:ext cx="3672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лификационной категории Романова О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БОУ СОШ № 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i?id=68758881&amp;tov=6"/>
          <p:cNvPicPr/>
          <p:nvPr/>
        </p:nvPicPr>
        <p:blipFill>
          <a:blip r:embed="rId1"/>
          <a:stretch/>
        </p:blipFill>
        <p:spPr>
          <a:xfrm>
            <a:off x="468360" y="3716280"/>
            <a:ext cx="27748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83618"/>
                </a:solidFill>
                <a:latin typeface="Times New Roman"/>
              </a:rPr>
              <a:t>ЦЕЛИ 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овательны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изучить основы избирательной системы Российской Федерации, сформировать представление о выборах как демократическом способе формирования государственных органов и органов местного самоуправления, дать представление о порядке формирования Государственной Ду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вивающ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сформировать умения выражать и отстаивать свою точку зрения на политические вопросы, защищать свои творческие проекты, формировать демократическую политическую культур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спитательны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возбудить интерес к политической жизни страны, воспитывать толерантность к иным взглядам и позици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«На златом крыльце сидели: царь, царевич, король, королевич, сапожник, портной. </a:t>
            </a:r>
            <a:br>
              <a:rPr sz="2400"/>
            </a:b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Кто ты будешь такой?»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83618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83618"/>
                </a:solidFill>
                <a:latin typeface="Times New Roman"/>
              </a:rPr>
              <a:t>                 </a:t>
            </a:r>
            <a:r>
              <a:rPr b="1" i="1" lang="ru-RU" sz="4400" spc="-1" strike="noStrike">
                <a:solidFill>
                  <a:srgbClr val="e83618"/>
                </a:solidFill>
                <a:latin typeface="Times New Roman"/>
              </a:rPr>
              <a:t>Какие виды избирательного права вы знаете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i?id=28335112&amp;tov=0"/>
          <p:cNvPicPr/>
          <p:nvPr/>
        </p:nvPicPr>
        <p:blipFill>
          <a:blip r:embed="rId1"/>
          <a:stretch/>
        </p:blipFill>
        <p:spPr>
          <a:xfrm>
            <a:off x="4932360" y="4365720"/>
            <a:ext cx="20001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3618"/>
                </a:solidFill>
                <a:latin typeface="Times New Roman"/>
              </a:rPr>
              <a:t>Избирательное право граждан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. АКТИВ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о избирать в органы гос. власти и выборные органы местного самоу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. ПАССИВ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о быть избранным в органы гос. власти и выборные органы местного самоу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3:29:14Z</dcterms:created>
  <dc:creator>дом</dc:creator>
  <dc:description/>
  <dc:language>en-US</dc:language>
  <cp:lastModifiedBy>Оксана</cp:lastModifiedBy>
  <dcterms:modified xsi:type="dcterms:W3CDTF">2015-03-26T12:32:39Z</dcterms:modified>
  <cp:revision>15</cp:revision>
  <dc:subject/>
  <dc:title>Урок- деловая игра «Выборы в Государственную Думу Российской Федерации» </dc:title>
</cp:coreProperties>
</file>