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196-279F-45BD-95D7-DD494338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494-45CB-4827-8BE6-8C4D6F3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2D6-3E18-4CF6-86C2-72058AF2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86E-7CE6-4873-ADD4-6CB3720C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1F37-A5C4-4982-AA00-F576A52F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427A-0D39-4CA1-BFF4-6670B0D2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E389-7E20-4E20-A292-59C6C080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10C5-6314-4D13-AB82-FD4DEB4B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D202-73B6-412F-AB2C-4DDC9F60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FDD5-8731-492C-90C3-B2C68D79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B96E-52B2-4045-A1B4-5D03509C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547-723C-422B-9148-B76E3CA9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AE9E-D675-40EE-A1CC-8075EA3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CB4-C9DF-4963-A17B-27AFF9E8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3613-5C90-4A4D-A2C9-E3B76AFF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AC14-77DB-4AD7-B7BB-FECD1DDF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F4B3-6533-433F-88D6-50302EA4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582-D646-4A1E-888D-0AA2B40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6C4-D405-4EA2-9687-3BF99B79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752-0501-41BE-938C-AA85E810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687-1B36-4FA3-BD6B-A7CBC6D9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44C-0D9C-470B-80CB-D141814D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266-EE2B-4EF0-81B8-64A168B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E3B-C59C-4BC8-9932-6B39C5AA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62FF-4B51-4057-9EE4-56D450E71F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4756-4CD4-4C83-A74D-FE06DEFBAFB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Программа элективного курса по обществознанию </a:t>
            </a:r>
            <a:br>
              <a:rPr sz="4800"/>
            </a:b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«Права человека»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.А.Романова  МБОУ СОШ №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Ум- хорошо, а два- лучше».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83618"/>
                </a:solidFill>
                <a:latin typeface="Times New Roman"/>
              </a:rPr>
              <a:t>           </a:t>
            </a:r>
            <a:r>
              <a:rPr b="1" i="1" lang="en-US" sz="4400" spc="-1" strike="noStrike">
                <a:solidFill>
                  <a:srgbClr val="e83618"/>
                </a:solidFill>
                <a:latin typeface="Times New Roman"/>
              </a:rPr>
              <a:t>Каковы принципы       избирательного права в        Росси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i?id=131734729&amp;tov=6"/>
          <p:cNvPicPr/>
          <p:nvPr/>
        </p:nvPicPr>
        <p:blipFill>
          <a:blip r:embed="rId1"/>
          <a:stretch/>
        </p:blipFill>
        <p:spPr>
          <a:xfrm>
            <a:off x="4211640" y="3789360"/>
            <a:ext cx="3130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Принципы избирательного права  Росси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СЕОБЩ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АВ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ЯМОЕ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АЙНОЕ ГОЛОС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«Хоть сто химиков соберите, а одного Менделеева не получите»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         </a:t>
            </a: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Существуют л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ограничения избирательного         прав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i?id=52945438&amp;tov=8"/>
          <p:cNvPicPr/>
          <p:nvPr/>
        </p:nvPicPr>
        <p:blipFill>
          <a:blip r:embed="rId1"/>
          <a:stretch/>
        </p:blipFill>
        <p:spPr>
          <a:xfrm>
            <a:off x="3419640" y="4292640"/>
            <a:ext cx="460836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ОГРАНИЧЕНИЯ</a:t>
            </a:r>
            <a:br>
              <a:rPr sz="4000"/>
            </a:b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ИЗБИРАТЕЛЬНОГО ПРАВ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дееспособнос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держание в местах ли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вободы  по приговору суд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Государственную ду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жно быть избранн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21 год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«Демократия- это процедура»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           </a:t>
            </a: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Н</a:t>
            </a:r>
            <a:r>
              <a:rPr b="1" i="1" lang="en-US" sz="4400" spc="-1" strike="noStrike">
                <a:solidFill>
                  <a:srgbClr val="e83618"/>
                </a:solidFill>
                <a:latin typeface="Times New Roman"/>
              </a:rPr>
              <a:t>азовите виды избирательн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83618"/>
                </a:solidFill>
                <a:latin typeface="Times New Roman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i?id=88941148&amp;tov=3"/>
          <p:cNvPicPr/>
          <p:nvPr/>
        </p:nvPicPr>
        <p:blipFill>
          <a:blip r:embed="rId1"/>
          <a:stretch/>
        </p:blipFill>
        <p:spPr>
          <a:xfrm>
            <a:off x="2700360" y="3645000"/>
            <a:ext cx="33973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3618"/>
                </a:solidFill>
                <a:latin typeface="Times New Roman"/>
              </a:rPr>
              <a:t>Виды избирательных систем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. ПРОПОРЦИОНАЛЬНА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олосование по партийным списк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. МАЖОРИТАРНА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олосование за кандидата по одномандатному округ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. СМЕША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Давайте вспомним этапы избирательного                   процесс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i?id=33366945&amp;tov=7"/>
          <p:cNvPicPr/>
          <p:nvPr/>
        </p:nvPicPr>
        <p:blipFill>
          <a:blip r:embed="rId1"/>
          <a:stretch/>
        </p:blipFill>
        <p:spPr>
          <a:xfrm>
            <a:off x="250920" y="2637000"/>
            <a:ext cx="2630520" cy="197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i?id=19848789&amp;tov=0"/>
          <p:cNvPicPr/>
          <p:nvPr/>
        </p:nvPicPr>
        <p:blipFill>
          <a:blip r:embed="rId2"/>
          <a:stretch/>
        </p:blipFill>
        <p:spPr>
          <a:xfrm>
            <a:off x="395280" y="4902120"/>
            <a:ext cx="2619360" cy="1955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?id=57218557&amp;tov=6"/>
          <p:cNvPicPr/>
          <p:nvPr/>
        </p:nvPicPr>
        <p:blipFill>
          <a:blip r:embed="rId3"/>
          <a:stretch/>
        </p:blipFill>
        <p:spPr>
          <a:xfrm>
            <a:off x="3492360" y="2924280"/>
            <a:ext cx="2187720" cy="1969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i?id=223118313&amp;tov=3"/>
          <p:cNvPicPr/>
          <p:nvPr/>
        </p:nvPicPr>
        <p:blipFill>
          <a:blip r:embed="rId4"/>
          <a:stretch/>
        </p:blipFill>
        <p:spPr>
          <a:xfrm>
            <a:off x="6227640" y="2708280"/>
            <a:ext cx="2448000" cy="1982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i?id=107339940&amp;tov=7"/>
          <p:cNvPicPr/>
          <p:nvPr/>
        </p:nvPicPr>
        <p:blipFill>
          <a:blip r:embed="rId5"/>
          <a:stretch/>
        </p:blipFill>
        <p:spPr>
          <a:xfrm>
            <a:off x="6012000" y="4875120"/>
            <a:ext cx="26492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77151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ЭТАПЫ</a:t>
            </a:r>
            <a:br>
              <a:rPr sz="4000"/>
            </a:b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ИЗБИРАТЕЛЬНОГО</a:t>
            </a:r>
            <a:br>
              <a:rPr sz="4000"/>
            </a:b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ПРОЦЕССА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назначения выбор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составления списков избирател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образования избирательных округов и избирательных участк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формирования избирательных комисс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выдвижения, сбора подписей и регистрации кандида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бор подпис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ация кандид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предвыборной агита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дия голосования, подсчета голосов избирателей, установления результатов выборов и их опублико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и разработке элективных курсов для учащихся  9-х классов мне удалось: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выявить ребят, которые действительно интересуются  не только учебным предметом, но и правовыми нормами, существующими в современном российском обще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подобрать и систематизировать источники информации по данной тем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учить и побуждать самих учащихся к оценке того, что они узнали, чему научились, о чём хотели бы узнать, чему хотели бы научитьс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озможность реализовать свои творческие способности, поскольку именно педагогическое творчество необходимо в полной мере для проектирования курса, для конструирования  и проведения каждого занятия этого кур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обосновывать оценочные критерии выполненных зад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ерспективы развития курса: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имать активное участие в конкурсах, олимпиадах, Интернет-конкурс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ствовать формированию у учащихся собственной гражданской пози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способности в изучение данного предм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нный элективный курс предполагает рассмотрение сложных для понимания учеников аспектов современного обществознания, в результате чего будет происходить систематизация имеющихся у учащихся обществоведческих знаний, формироваться собственная позиция по изученным темам, вырабатываться алгоритм решения соответствующих тестовых заданий. Элективный курс способствует качественной подготовке учащихся 9 классов к правильному решению экзаменационных тестов в формате ГИ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Результативность курс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чество учащихся курса: 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чество учащихся сдающих экзамен: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тоги экзамена 28.05.20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давали 17 уча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5»-1, «4»-9, «3»-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чество знаний: 58,8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20000"/>
                </a:solidFill>
                <a:uFillTx/>
                <a:latin typeface="Times New Roman"/>
              </a:rPr>
              <a:t>Цель курс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ксимально способствовать развитию правовой культуры учащихся общеобразовательных школ, через усвоение ими основных правовых ценност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20000"/>
                </a:solidFill>
                <a:uFillTx/>
                <a:latin typeface="Times New Roman"/>
              </a:rPr>
              <a:t>Задачи курс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ствовать профессиональному самоопределению учащихся, формированию личности, адаптированной к сознательному выбору будущей специа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ствовать усвоению совокупности конкретных правил поведения в семье, в доме, школе, на улице, учреждениях культуры и т. д. ориентиру на уважение прав и свобод других гражда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накомство с содержанием законодательных актов (или фрагментов из ни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воить учащимися навыков и умений в области защиты своих пра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Формы занятия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седа, круглый стол, дискуссия, деловая игра, практику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e83618"/>
                </a:solidFill>
                <a:latin typeface="Times New Roman"/>
              </a:rPr>
              <a:t>Деловая игра «Выборы»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0" y="2923920"/>
            <a:ext cx="3672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лификационной категории Романова О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СОШ №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?id=68758881&amp;tov=6"/>
          <p:cNvPicPr/>
          <p:nvPr/>
        </p:nvPicPr>
        <p:blipFill>
          <a:blip r:embed="rId1"/>
          <a:stretch/>
        </p:blipFill>
        <p:spPr>
          <a:xfrm>
            <a:off x="468360" y="3716280"/>
            <a:ext cx="27748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83618"/>
                </a:solidFill>
                <a:latin typeface="Times New Roman"/>
              </a:rPr>
              <a:t>ЦЕЛИ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изучить основы избирательной системы Российской Федерации, сформировать представление о выборах как демократическом способе формирования государственных органов и органов местного самоуправления, дать представление о порядке формирования Государственной 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сформировать умения выражать и отстаивать свою точку зрения на политические вопросы, защищать свои творческие проекты, формировать демократическую политическую культу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тельн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возбудить интерес к политической жизни страны, воспитывать толерантность к иным взглядам и позиц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«На златом крыльце сидели: царь, царевич, король, королевич, сапожник, портной. </a:t>
            </a:r>
            <a:br>
              <a:rPr sz="2400"/>
            </a:b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Кто ты будешь такой?»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                 </a:t>
            </a:r>
            <a:r>
              <a:rPr b="1" i="1" lang="ru-RU" sz="4400" spc="-1" strike="noStrike">
                <a:solidFill>
                  <a:srgbClr val="e83618"/>
                </a:solidFill>
                <a:latin typeface="Times New Roman"/>
              </a:rPr>
              <a:t>Какие виды избирательного права вы знаете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i?id=28335112&amp;tov=0"/>
          <p:cNvPicPr/>
          <p:nvPr/>
        </p:nvPicPr>
        <p:blipFill>
          <a:blip r:embed="rId1"/>
          <a:stretch/>
        </p:blipFill>
        <p:spPr>
          <a:xfrm>
            <a:off x="4932360" y="4365720"/>
            <a:ext cx="2000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3618"/>
                </a:solidFill>
                <a:latin typeface="Times New Roman"/>
              </a:rPr>
              <a:t>Избирательное право граждан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 АКТИВ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 избирать в органы гос. власти и выборные органы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ПАССИВ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 быть избранным в органы гос. власти и выборные органы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3:29:14Z</dcterms:created>
  <dc:creator>дом</dc:creator>
  <dc:description/>
  <dc:language>en-US</dc:language>
  <cp:lastModifiedBy>Оксана</cp:lastModifiedBy>
  <dcterms:modified xsi:type="dcterms:W3CDTF">2015-03-26T12:32:39Z</dcterms:modified>
  <cp:revision>15</cp:revision>
  <dc:subject/>
  <dc:title>Урок- деловая игра «Выборы в Государственную Думу Российской Федерации» </dc:title>
</cp:coreProperties>
</file>