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6C5-479C-49B7-A3AB-FDF19DB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21E-481E-49BD-BE07-EAA9EF89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F91-58D6-4551-AB59-6EF03414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59E-2AE4-44CF-B5EA-2C1A1C2B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FD8-12FB-442C-BBA5-BECE2891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7D9-6561-4482-ACFF-332070A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9DD-7E5E-456D-9579-A496BD43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D58-54C3-4C21-AEDD-69831DF1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C85-9A25-40D6-AC05-B952B800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9FF-2BAE-49AC-B77D-C085053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910-7BCD-4C7F-9126-5B57B95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735-5ACD-4770-AEB8-BE02594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5E8A-6A75-4C14-901E-7BF189B87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929360" cy="928440"/>
          </a:xfrm>
          <a:prstGeom prst="rect">
            <a:avLst/>
          </a:prstGeom>
          <a:solidFill>
            <a:srgbClr val="eeece1"/>
          </a:solidFill>
          <a:ln w="316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История одной фотограф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14760" y="5357880"/>
            <a:ext cx="6215040" cy="13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бучающиеся МАОУ СОШ №2 г.Балак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овместно с учителем Ненаховой Н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 рамках Самого Доброго Детского Фестива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C:\Users\Наташа\Desktop\Хоменко ВОВ\фото 2.jpg"/>
          <p:cNvPicPr/>
          <p:nvPr/>
        </p:nvPicPr>
        <p:blipFill>
          <a:blip r:embed="rId1"/>
          <a:stretch/>
        </p:blipFill>
        <p:spPr>
          <a:xfrm>
            <a:off x="3357720" y="1285920"/>
            <a:ext cx="3143160" cy="40752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Лидия Ив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5857560"/>
            <a:ext cx="3929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годы войны, 194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28840" y="5857560"/>
            <a:ext cx="242892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ай 198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4" descr="C:\Users\Наташа\Desktop\Хоменко ВОВ\фото 1.jpg"/>
          <p:cNvPicPr/>
          <p:nvPr/>
        </p:nvPicPr>
        <p:blipFill>
          <a:blip r:embed="rId2"/>
          <a:stretch/>
        </p:blipFill>
        <p:spPr>
          <a:xfrm>
            <a:off x="785880" y="1643040"/>
            <a:ext cx="2928960" cy="4067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9" name="Рисунок 15" descr="C:\Users\Наташа\Desktop\Хоменко ВОВ\фото 3.jpg"/>
          <p:cNvPicPr/>
          <p:nvPr/>
        </p:nvPicPr>
        <p:blipFill>
          <a:blip r:embed="rId3"/>
          <a:stretch/>
        </p:blipFill>
        <p:spPr>
          <a:xfrm>
            <a:off x="5500800" y="1500120"/>
            <a:ext cx="3143160" cy="4214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Лидия Ив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5643720"/>
            <a:ext cx="3214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6 января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(90 л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14960" y="5643360"/>
            <a:ext cx="32860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рдена и мед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8" descr="C:\Users\Наташа\Desktop\Хоменко ВОВ\фото\IMG_6930.JPG"/>
          <p:cNvPicPr/>
          <p:nvPr/>
        </p:nvPicPr>
        <p:blipFill>
          <a:blip r:embed="rId2"/>
          <a:stretch/>
        </p:blipFill>
        <p:spPr>
          <a:xfrm>
            <a:off x="357120" y="2000160"/>
            <a:ext cx="3714840" cy="31100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55" name="Рисунок 9" descr="C:\Users\Наташа\Desktop\Хоменко ВОВ\фото\IMG_6932.JPG"/>
          <p:cNvPicPr/>
          <p:nvPr/>
        </p:nvPicPr>
        <p:blipFill>
          <a:blip r:embed="rId3"/>
          <a:stretch/>
        </p:blipFill>
        <p:spPr>
          <a:xfrm>
            <a:off x="4714920" y="2071800"/>
            <a:ext cx="4071960" cy="30002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Лидия Ив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5000760"/>
            <a:ext cx="39290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е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За освобождение Белград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86200" y="5643360"/>
            <a:ext cx="4214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е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За боевые заслуг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0" descr="C:\Users\Наташа\Desktop\Хоменко ВОВ\Удостоверение.jpg"/>
          <p:cNvPicPr/>
          <p:nvPr/>
        </p:nvPicPr>
        <p:blipFill>
          <a:blip r:embed="rId2"/>
          <a:stretch/>
        </p:blipFill>
        <p:spPr>
          <a:xfrm>
            <a:off x="357120" y="1857240"/>
            <a:ext cx="4214880" cy="3071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61" name="Рисунок 11" descr="F:\Сочинение о предках ВОВ\Хоменко ВОВ\Коршунова.jpg"/>
          <p:cNvPicPr/>
          <p:nvPr/>
        </p:nvPicPr>
        <p:blipFill>
          <a:blip r:embed="rId3"/>
          <a:stretch/>
        </p:blipFill>
        <p:spPr>
          <a:xfrm>
            <a:off x="5286240" y="1643040"/>
            <a:ext cx="3286440" cy="394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Борис Афанас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5928840"/>
            <a:ext cx="39290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годы войны, 194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43720" y="5929200"/>
            <a:ext cx="2714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ай 198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8" descr="C:\Users\Наташа\Desktop\Хоменко ВОВ\фото 2.jpg"/>
          <p:cNvPicPr/>
          <p:nvPr/>
        </p:nvPicPr>
        <p:blipFill>
          <a:blip r:embed="rId2"/>
          <a:stretch/>
        </p:blipFill>
        <p:spPr>
          <a:xfrm>
            <a:off x="642960" y="1714680"/>
            <a:ext cx="3000240" cy="39290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67" name="Рисунок 9" descr="C:\Users\Наташа\Desktop\Хоменко ВОВ\фото 4.jpg"/>
          <p:cNvPicPr/>
          <p:nvPr/>
        </p:nvPicPr>
        <p:blipFill>
          <a:blip r:embed="rId3"/>
          <a:stretch/>
        </p:blipFill>
        <p:spPr>
          <a:xfrm>
            <a:off x="5429160" y="1714680"/>
            <a:ext cx="3143520" cy="39290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Борис Афанас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5428800"/>
            <a:ext cx="36432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рдена и мед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5928840"/>
            <a:ext cx="47862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рден «Славы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степен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C:\Users\Наташа\Desktop\Хоменко ВОВ\фото\IMG_6931.JPG"/>
          <p:cNvPicPr/>
          <p:nvPr/>
        </p:nvPicPr>
        <p:blipFill>
          <a:blip r:embed="rId2"/>
          <a:stretch/>
        </p:blipFill>
        <p:spPr>
          <a:xfrm>
            <a:off x="285840" y="2143080"/>
            <a:ext cx="4214880" cy="300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3" name="Рисунок 11" descr="F:\Сочинение о предках ВОВ\Хоменко ВОВ\Хоменко Б.А.jpg"/>
          <p:cNvPicPr/>
          <p:nvPr/>
        </p:nvPicPr>
        <p:blipFill>
          <a:blip r:embed="rId3"/>
          <a:stretch/>
        </p:blipFill>
        <p:spPr>
          <a:xfrm>
            <a:off x="5072040" y="1571760"/>
            <a:ext cx="3344760" cy="42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ршунов Павел Ива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542880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огибший б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идии Ивано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360" y="5640120"/>
            <a:ext cx="41749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Извещение о смерти Коршунова П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8" descr="C:\Users\Наташа\Desktop\Хоменко ВОВ\фото\IMG_6934.JPG"/>
          <p:cNvPicPr/>
          <p:nvPr/>
        </p:nvPicPr>
        <p:blipFill>
          <a:blip r:embed="rId2"/>
          <a:stretch/>
        </p:blipFill>
        <p:spPr>
          <a:xfrm>
            <a:off x="262080" y="1776240"/>
            <a:ext cx="3214440" cy="3643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79" name="Рисунок 9" descr="F:\Сочинение о предках ВОВ\Хоменко ВОВ\фото\IMG_6936.JPG"/>
          <p:cNvPicPr/>
          <p:nvPr/>
        </p:nvPicPr>
        <p:blipFill>
          <a:blip r:embed="rId3"/>
          <a:stretch/>
        </p:blipFill>
        <p:spPr>
          <a:xfrm>
            <a:off x="3714840" y="1571760"/>
            <a:ext cx="5219640" cy="3914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Прямоугольник 1"/>
          <p:cNvGrpSpPr/>
          <p:nvPr/>
        </p:nvGrpSpPr>
        <p:grpSpPr>
          <a:xfrm>
            <a:off x="1000080" y="4767120"/>
            <a:ext cx="7186680" cy="2090520"/>
            <a:chOff x="1000080" y="4767120"/>
            <a:chExt cx="7186680" cy="2090520"/>
          </a:xfrm>
        </p:grpSpPr>
        <p:pic>
          <p:nvPicPr>
            <p:cNvPr id="81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000080" y="4767120"/>
              <a:ext cx="718668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3"/>
            <p:cNvSpPr/>
            <p:nvPr/>
          </p:nvSpPr>
          <p:spPr>
            <a:xfrm>
              <a:off x="1060560" y="4849560"/>
              <a:ext cx="7083360" cy="1922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Calibri"/>
                </a:rPr>
                <a:t>     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Подвиг этот, будет в памяти жить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И в наших сердцах гореть!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Тех, кто с врагом был готов разделить,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Поровну только смерт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                     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Ким  Добки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Рисунок 4" descr="F:\Сочинение о предках ВОВ\Хоменко ВОВ\фото\IMG_0355.JPG"/>
          <p:cNvPicPr/>
          <p:nvPr/>
        </p:nvPicPr>
        <p:blipFill>
          <a:blip r:embed="rId2"/>
          <a:stretch/>
        </p:blipFill>
        <p:spPr>
          <a:xfrm>
            <a:off x="3143160" y="1071720"/>
            <a:ext cx="2928960" cy="36432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5543640" cy="6541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зультат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85920" y="5571720"/>
            <a:ext cx="65721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униципальный конкурс в рам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амого доброго детского фестив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7" descr="C:\Users\Наташа\Desktop\Дипломы\СДДФ 2015.jpg"/>
          <p:cNvPicPr/>
          <p:nvPr/>
        </p:nvPicPr>
        <p:blipFill>
          <a:blip r:embed="rId2"/>
          <a:stretch/>
        </p:blipFill>
        <p:spPr>
          <a:xfrm>
            <a:off x="1714680" y="1571760"/>
            <a:ext cx="5756040" cy="3873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Наташа</cp:lastModifiedBy>
  <dcterms:modified xsi:type="dcterms:W3CDTF">2015-03-27T11:56:42Z</dcterms:modified>
  <cp:revision>43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