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png" ContentType="image/png"/>
  <Override PartName="/ppt/media/image5.jpeg" ContentType="image/jpeg"/>
  <Override PartName="/ppt/media/image8.jpeg" ContentType="image/jpeg"/>
  <Override PartName="/ppt/media/image10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E5FE7-7F1B-4B1D-B7FF-12AF9601C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42B7D-49AC-438F-AC7E-1C7778B55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E0A05-4977-4949-B562-85FEFF792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41C14-E21A-4821-9B1F-BCED9D818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561D0-F41E-4D08-9F02-C345C9945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53DD1-8278-43E7-90AF-F6165BAFC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005EB-76D9-4A0E-B14C-05168F39D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2AD4A-1DEE-41D8-9245-E32AAEB4E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FA810-87AE-41B6-9E9D-D2980C6A9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150A0-85E3-4096-AC3F-51D9A6213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0C0C9-B829-4646-B558-444784370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55EBA-40D3-46A7-879B-ECDC75B9D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5C721-BE58-4054-A2BF-25322981FCE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28800" y="285480"/>
            <a:ext cx="7929360" cy="928440"/>
          </a:xfrm>
          <a:prstGeom prst="rect">
            <a:avLst/>
          </a:prstGeom>
          <a:solidFill>
            <a:srgbClr val="eeece1"/>
          </a:solidFill>
          <a:ln w="3168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Calibri"/>
              </a:rPr>
              <a:t>История одной фотографии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714760" y="5357880"/>
            <a:ext cx="6215040" cy="13572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Calibri"/>
              </a:rPr>
              <a:t>Обучающиеся МАОУ СОШ №2 г.Балаков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Calibri"/>
              </a:rPr>
              <a:t>совместно с учителем Ненаховой Н.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Calibri"/>
              </a:rPr>
              <a:t>в рамках Самого Доброго Детского Фестивал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Рисунок 5" descr="C:\Users\Наташа\Desktop\Хоменко ВОВ\фото 2.jpg"/>
          <p:cNvPicPr/>
          <p:nvPr/>
        </p:nvPicPr>
        <p:blipFill>
          <a:blip r:embed="rId1"/>
          <a:stretch/>
        </p:blipFill>
        <p:spPr>
          <a:xfrm>
            <a:off x="3357720" y="1285920"/>
            <a:ext cx="3143160" cy="4075200"/>
          </a:xfrm>
          <a:prstGeom prst="rect">
            <a:avLst/>
          </a:prstGeom>
          <a:ln w="3168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Группа 8" descr=""/>
          <p:cNvPicPr/>
          <p:nvPr/>
        </p:nvPicPr>
        <p:blipFill>
          <a:blip r:embed="rId1"/>
          <a:stretch/>
        </p:blipFill>
        <p:spPr>
          <a:xfrm>
            <a:off x="262080" y="122400"/>
            <a:ext cx="8619840" cy="154116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25560">
            <a:solidFill>
              <a:srgbClr val="ff66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Calibri"/>
              </a:rPr>
              <a:t>Хоменко Лидия Ивановн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357120" y="5857560"/>
            <a:ext cx="3929040" cy="62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Calibri"/>
              </a:rPr>
              <a:t>В годы войны, 1944 г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5928840" y="5857560"/>
            <a:ext cx="2428920" cy="62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Calibri"/>
              </a:rPr>
              <a:t>Май 1985 г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Рисунок 14" descr="C:\Users\Наташа\Desktop\Хоменко ВОВ\фото 1.jpg"/>
          <p:cNvPicPr/>
          <p:nvPr/>
        </p:nvPicPr>
        <p:blipFill>
          <a:blip r:embed="rId2"/>
          <a:stretch/>
        </p:blipFill>
        <p:spPr>
          <a:xfrm>
            <a:off x="785880" y="1643040"/>
            <a:ext cx="2928960" cy="4067280"/>
          </a:xfrm>
          <a:prstGeom prst="rect">
            <a:avLst/>
          </a:prstGeom>
          <a:ln w="12600">
            <a:solidFill>
              <a:srgbClr val="ff0000"/>
            </a:solidFill>
            <a:miter/>
          </a:ln>
        </p:spPr>
      </p:pic>
      <p:pic>
        <p:nvPicPr>
          <p:cNvPr id="49" name="Рисунок 15" descr="C:\Users\Наташа\Desktop\Хоменко ВОВ\фото 3.jpg"/>
          <p:cNvPicPr/>
          <p:nvPr/>
        </p:nvPicPr>
        <p:blipFill>
          <a:blip r:embed="rId3"/>
          <a:stretch/>
        </p:blipFill>
        <p:spPr>
          <a:xfrm>
            <a:off x="5500800" y="1500120"/>
            <a:ext cx="3143160" cy="4214880"/>
          </a:xfrm>
          <a:prstGeom prst="rect">
            <a:avLst/>
          </a:prstGeom>
          <a:ln w="1260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Группа 8" descr=""/>
          <p:cNvPicPr/>
          <p:nvPr/>
        </p:nvPicPr>
        <p:blipFill>
          <a:blip r:embed="rId1"/>
          <a:stretch/>
        </p:blipFill>
        <p:spPr>
          <a:xfrm>
            <a:off x="262080" y="122400"/>
            <a:ext cx="8619840" cy="15411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25560">
            <a:solidFill>
              <a:srgbClr val="ff66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Calibri"/>
              </a:rPr>
              <a:t>Хоменко Лидия Ивановн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500040" y="5643720"/>
            <a:ext cx="3214800" cy="10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Calibri"/>
              </a:rPr>
              <a:t>16 января 2015 г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Calibri"/>
              </a:rPr>
              <a:t>(90 лет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5214960" y="5643360"/>
            <a:ext cx="3286080" cy="62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Calibri"/>
              </a:rPr>
              <a:t>Ордена и медал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Рисунок 8" descr="C:\Users\Наташа\Desktop\Хоменко ВОВ\фото\IMG_6930.JPG"/>
          <p:cNvPicPr/>
          <p:nvPr/>
        </p:nvPicPr>
        <p:blipFill>
          <a:blip r:embed="rId2"/>
          <a:stretch/>
        </p:blipFill>
        <p:spPr>
          <a:xfrm>
            <a:off x="357120" y="2000160"/>
            <a:ext cx="3714840" cy="3110040"/>
          </a:xfrm>
          <a:prstGeom prst="rect">
            <a:avLst/>
          </a:prstGeom>
          <a:ln w="12600">
            <a:solidFill>
              <a:srgbClr val="ff0000"/>
            </a:solidFill>
            <a:miter/>
          </a:ln>
        </p:spPr>
      </p:pic>
      <p:pic>
        <p:nvPicPr>
          <p:cNvPr id="55" name="Рисунок 9" descr="C:\Users\Наташа\Desktop\Хоменко ВОВ\фото\IMG_6932.JPG"/>
          <p:cNvPicPr/>
          <p:nvPr/>
        </p:nvPicPr>
        <p:blipFill>
          <a:blip r:embed="rId3"/>
          <a:stretch/>
        </p:blipFill>
        <p:spPr>
          <a:xfrm>
            <a:off x="4714920" y="2071800"/>
            <a:ext cx="4071960" cy="3000240"/>
          </a:xfrm>
          <a:prstGeom prst="rect">
            <a:avLst/>
          </a:prstGeom>
          <a:ln w="1260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Группа 8" descr=""/>
          <p:cNvPicPr/>
          <p:nvPr/>
        </p:nvPicPr>
        <p:blipFill>
          <a:blip r:embed="rId1"/>
          <a:stretch/>
        </p:blipFill>
        <p:spPr>
          <a:xfrm>
            <a:off x="262080" y="122400"/>
            <a:ext cx="8619840" cy="154116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25560">
            <a:solidFill>
              <a:srgbClr val="ff66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Calibri"/>
              </a:rPr>
              <a:t>Хоменко Лидия Ивановн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840" y="5000760"/>
            <a:ext cx="3929040" cy="171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ffff00"/>
                </a:solidFill>
                <a:latin typeface="Calibri"/>
              </a:rPr>
              <a:t>Медал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ffff00"/>
                </a:solidFill>
                <a:latin typeface="Calibri"/>
              </a:rPr>
              <a:t>«За освобождение Белграда»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786200" y="5643360"/>
            <a:ext cx="4214880" cy="121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Calibri"/>
              </a:rPr>
              <a:t>Медал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Calibri"/>
              </a:rPr>
              <a:t>«За боевые заслуги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Рисунок 10" descr="C:\Users\Наташа\Desktop\Хоменко ВОВ\Удостоверение.jpg"/>
          <p:cNvPicPr/>
          <p:nvPr/>
        </p:nvPicPr>
        <p:blipFill>
          <a:blip r:embed="rId2"/>
          <a:stretch/>
        </p:blipFill>
        <p:spPr>
          <a:xfrm>
            <a:off x="357120" y="1857240"/>
            <a:ext cx="4214880" cy="3071880"/>
          </a:xfrm>
          <a:prstGeom prst="rect">
            <a:avLst/>
          </a:prstGeom>
          <a:ln w="12600">
            <a:solidFill>
              <a:srgbClr val="ff0000"/>
            </a:solidFill>
            <a:miter/>
          </a:ln>
        </p:spPr>
      </p:pic>
      <p:pic>
        <p:nvPicPr>
          <p:cNvPr id="61" name="Рисунок 11" descr="F:\Сочинение о предках ВОВ\Хоменко ВОВ\Коршунова.jpg"/>
          <p:cNvPicPr/>
          <p:nvPr/>
        </p:nvPicPr>
        <p:blipFill>
          <a:blip r:embed="rId3"/>
          <a:stretch/>
        </p:blipFill>
        <p:spPr>
          <a:xfrm>
            <a:off x="5286240" y="1643040"/>
            <a:ext cx="3286440" cy="39402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Группа 8" descr=""/>
          <p:cNvPicPr/>
          <p:nvPr/>
        </p:nvPicPr>
        <p:blipFill>
          <a:blip r:embed="rId1"/>
          <a:stretch/>
        </p:blipFill>
        <p:spPr>
          <a:xfrm>
            <a:off x="262080" y="122400"/>
            <a:ext cx="8619840" cy="154116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25560">
            <a:solidFill>
              <a:srgbClr val="ff66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Calibri"/>
              </a:rPr>
              <a:t>Хоменко Борис Афанасьевич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214200" y="5928840"/>
            <a:ext cx="3929040" cy="7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Calibri"/>
              </a:rPr>
              <a:t>В годы войны, 1944 г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5643720" y="5929200"/>
            <a:ext cx="2714400" cy="6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Calibri"/>
              </a:rPr>
              <a:t>Май 1985 г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Рисунок 8" descr="C:\Users\Наташа\Desktop\Хоменко ВОВ\фото 2.jpg"/>
          <p:cNvPicPr/>
          <p:nvPr/>
        </p:nvPicPr>
        <p:blipFill>
          <a:blip r:embed="rId2"/>
          <a:stretch/>
        </p:blipFill>
        <p:spPr>
          <a:xfrm>
            <a:off x="642960" y="1714680"/>
            <a:ext cx="3000240" cy="3929040"/>
          </a:xfrm>
          <a:prstGeom prst="rect">
            <a:avLst/>
          </a:prstGeom>
          <a:ln w="12600">
            <a:solidFill>
              <a:srgbClr val="ff0000"/>
            </a:solidFill>
            <a:miter/>
          </a:ln>
        </p:spPr>
      </p:pic>
      <p:pic>
        <p:nvPicPr>
          <p:cNvPr id="67" name="Рисунок 9" descr="C:\Users\Наташа\Desktop\Хоменко ВОВ\фото 4.jpg"/>
          <p:cNvPicPr/>
          <p:nvPr/>
        </p:nvPicPr>
        <p:blipFill>
          <a:blip r:embed="rId3"/>
          <a:stretch/>
        </p:blipFill>
        <p:spPr>
          <a:xfrm>
            <a:off x="5429160" y="1714680"/>
            <a:ext cx="3143520" cy="3929040"/>
          </a:xfrm>
          <a:prstGeom prst="rect">
            <a:avLst/>
          </a:prstGeom>
          <a:ln w="1260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Группа 8" descr=""/>
          <p:cNvPicPr/>
          <p:nvPr/>
        </p:nvPicPr>
        <p:blipFill>
          <a:blip r:embed="rId1"/>
          <a:stretch/>
        </p:blipFill>
        <p:spPr>
          <a:xfrm>
            <a:off x="262080" y="122400"/>
            <a:ext cx="8619840" cy="154116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25560">
            <a:solidFill>
              <a:srgbClr val="ff66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Calibri"/>
              </a:rPr>
              <a:t>Хоменко Борис Афанасьевич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28760" y="5428800"/>
            <a:ext cx="3643200" cy="7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Calibri"/>
              </a:rPr>
              <a:t>Ордена и медал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357440" y="5928840"/>
            <a:ext cx="4786200" cy="7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Calibri"/>
              </a:rPr>
              <a:t>Орден «Славы </a:t>
            </a: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III</a:t>
            </a:r>
            <a:r>
              <a:rPr b="0" lang="ru-RU" sz="3200" spc="-1" strike="noStrike">
                <a:solidFill>
                  <a:srgbClr val="ffff00"/>
                </a:solidFill>
                <a:latin typeface="Calibri"/>
              </a:rPr>
              <a:t> степени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Рисунок 10" descr="C:\Users\Наташа\Desktop\Хоменко ВОВ\фото\IMG_6931.JPG"/>
          <p:cNvPicPr/>
          <p:nvPr/>
        </p:nvPicPr>
        <p:blipFill>
          <a:blip r:embed="rId2"/>
          <a:stretch/>
        </p:blipFill>
        <p:spPr>
          <a:xfrm>
            <a:off x="285840" y="2143080"/>
            <a:ext cx="4214880" cy="30006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73" name="Рисунок 11" descr="F:\Сочинение о предках ВОВ\Хоменко ВОВ\Хоменко Б.А.jpg"/>
          <p:cNvPicPr/>
          <p:nvPr/>
        </p:nvPicPr>
        <p:blipFill>
          <a:blip r:embed="rId3"/>
          <a:stretch/>
        </p:blipFill>
        <p:spPr>
          <a:xfrm>
            <a:off x="5072040" y="1571760"/>
            <a:ext cx="3344760" cy="428616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Группа 8" descr=""/>
          <p:cNvPicPr/>
          <p:nvPr/>
        </p:nvPicPr>
        <p:blipFill>
          <a:blip r:embed="rId1"/>
          <a:stretch/>
        </p:blipFill>
        <p:spPr>
          <a:xfrm>
            <a:off x="262080" y="122400"/>
            <a:ext cx="8619840" cy="154116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25560">
            <a:solidFill>
              <a:srgbClr val="ff66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Calibri"/>
              </a:rPr>
              <a:t>Коршунов Павел Иванович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28760" y="5428800"/>
            <a:ext cx="3643200" cy="107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Calibri"/>
              </a:rPr>
              <a:t>Погибший бра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Calibri"/>
              </a:rPr>
              <a:t>Лидии Ивановн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284360" y="5640120"/>
            <a:ext cx="4174920" cy="10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Calibri"/>
              </a:rPr>
              <a:t>Извещение о смерти Коршунова П.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Рисунок 8" descr="C:\Users\Наташа\Desktop\Хоменко ВОВ\фото\IMG_6934.JPG"/>
          <p:cNvPicPr/>
          <p:nvPr/>
        </p:nvPicPr>
        <p:blipFill>
          <a:blip r:embed="rId2"/>
          <a:stretch/>
        </p:blipFill>
        <p:spPr>
          <a:xfrm>
            <a:off x="262080" y="1776240"/>
            <a:ext cx="3214440" cy="3643560"/>
          </a:xfrm>
          <a:prstGeom prst="rect">
            <a:avLst/>
          </a:prstGeom>
          <a:ln w="12600">
            <a:solidFill>
              <a:srgbClr val="ff0000"/>
            </a:solidFill>
            <a:miter/>
          </a:ln>
        </p:spPr>
      </p:pic>
      <p:pic>
        <p:nvPicPr>
          <p:cNvPr id="79" name="Рисунок 9" descr="F:\Сочинение о предках ВОВ\Хоменко ВОВ\фото\IMG_6936.JPG"/>
          <p:cNvPicPr/>
          <p:nvPr/>
        </p:nvPicPr>
        <p:blipFill>
          <a:blip r:embed="rId3"/>
          <a:stretch/>
        </p:blipFill>
        <p:spPr>
          <a:xfrm>
            <a:off x="3714840" y="1571760"/>
            <a:ext cx="5219640" cy="391464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Прямоугольник 1"/>
          <p:cNvGrpSpPr/>
          <p:nvPr/>
        </p:nvGrpSpPr>
        <p:grpSpPr>
          <a:xfrm>
            <a:off x="1000080" y="4767120"/>
            <a:ext cx="7186680" cy="2090520"/>
            <a:chOff x="1000080" y="4767120"/>
            <a:chExt cx="7186680" cy="2090520"/>
          </a:xfrm>
        </p:grpSpPr>
        <p:pic>
          <p:nvPicPr>
            <p:cNvPr id="81" name="Прямоугольник 1" descr=""/>
            <p:cNvPicPr/>
            <p:nvPr/>
          </p:nvPicPr>
          <p:blipFill>
            <a:blip r:embed="rId1"/>
            <a:stretch/>
          </p:blipFill>
          <p:spPr>
            <a:xfrm>
              <a:off x="1000080" y="4767120"/>
              <a:ext cx="7186680" cy="209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Text Box 3"/>
            <p:cNvSpPr/>
            <p:nvPr/>
          </p:nvSpPr>
          <p:spPr>
            <a:xfrm>
              <a:off x="1060560" y="4849560"/>
              <a:ext cx="7083360" cy="1922760"/>
            </a:xfrm>
            <a:prstGeom prst="rect">
              <a:avLst/>
            </a:prstGeom>
            <a:noFill/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00"/>
                  </a:solidFill>
                  <a:latin typeface="Calibri"/>
                </a:rPr>
                <a:t>     </a:t>
              </a:r>
              <a:r>
                <a:rPr b="1" i="1" lang="ru-RU" sz="2400" spc="-1" strike="noStrike">
                  <a:solidFill>
                    <a:srgbClr val="002060"/>
                  </a:solidFill>
                  <a:latin typeface="Calibri"/>
                </a:rPr>
                <a:t>Подвиг этот, будет в памяти жить </a:t>
              </a:r>
              <a:br>
                <a:rPr sz="2400"/>
              </a:br>
              <a:r>
                <a:rPr b="1" i="1" lang="ru-RU" sz="2400" spc="-1" strike="noStrike">
                  <a:solidFill>
                    <a:srgbClr val="002060"/>
                  </a:solidFill>
                  <a:latin typeface="Calibri"/>
                </a:rPr>
                <a:t>     И в наших сердцах гореть! </a:t>
              </a:r>
              <a:br>
                <a:rPr sz="2400"/>
              </a:br>
              <a:r>
                <a:rPr b="1" i="1" lang="ru-RU" sz="2400" spc="-1" strike="noStrike">
                  <a:solidFill>
                    <a:srgbClr val="002060"/>
                  </a:solidFill>
                  <a:latin typeface="Calibri"/>
                </a:rPr>
                <a:t>     Тех, кто с врагом был готов разделить, </a:t>
              </a:r>
              <a:br>
                <a:rPr sz="2400"/>
              </a:br>
              <a:r>
                <a:rPr b="1" i="1" lang="ru-RU" sz="2400" spc="-1" strike="noStrike">
                  <a:solidFill>
                    <a:srgbClr val="002060"/>
                  </a:solidFill>
                  <a:latin typeface="Calibri"/>
                </a:rPr>
                <a:t>     Поровну только смерть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2060"/>
                  </a:solidFill>
                  <a:latin typeface="Calibri"/>
                </a:rPr>
                <a:t>                            </a:t>
              </a:r>
              <a:r>
                <a:rPr b="1" i="1" lang="ru-RU" sz="2400" spc="-1" strike="noStrike">
                  <a:solidFill>
                    <a:srgbClr val="002060"/>
                  </a:solidFill>
                  <a:latin typeface="Calibri"/>
                </a:rPr>
                <a:t>	</a:t>
              </a:r>
              <a:r>
                <a:rPr b="1" i="1" lang="ru-RU" sz="2400" spc="-1" strike="noStrike">
                  <a:solidFill>
                    <a:srgbClr val="002060"/>
                  </a:solidFill>
                  <a:latin typeface="Calibri"/>
                </a:rPr>
                <a:t>	</a:t>
              </a:r>
              <a:r>
                <a:rPr b="1" i="1" lang="ru-RU" sz="2400" spc="-1" strike="noStrike">
                  <a:solidFill>
                    <a:srgbClr val="002060"/>
                  </a:solidFill>
                  <a:latin typeface="Calibri"/>
                </a:rPr>
                <a:t>	</a:t>
              </a:r>
              <a:r>
                <a:rPr b="1" i="1" lang="ru-RU" sz="2400" spc="-1" strike="noStrike">
                  <a:solidFill>
                    <a:srgbClr val="002060"/>
                  </a:solidFill>
                  <a:latin typeface="Calibri"/>
                </a:rPr>
                <a:t>Ким  Добкин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3" name="Рисунок 4" descr="F:\Сочинение о предках ВОВ\Хоменко ВОВ\фото\IMG_0355.JPG"/>
          <p:cNvPicPr/>
          <p:nvPr/>
        </p:nvPicPr>
        <p:blipFill>
          <a:blip r:embed="rId2"/>
          <a:stretch/>
        </p:blipFill>
        <p:spPr>
          <a:xfrm>
            <a:off x="3143160" y="1071720"/>
            <a:ext cx="2928960" cy="3643200"/>
          </a:xfrm>
          <a:prstGeom prst="rect">
            <a:avLst/>
          </a:prstGeom>
          <a:ln w="31680">
            <a:solidFill>
              <a:srgbClr val="ff0000"/>
            </a:solidFill>
            <a:miter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856880" y="285480"/>
            <a:ext cx="5543640" cy="654120"/>
          </a:xfrm>
          <a:prstGeom prst="rect">
            <a:avLst/>
          </a:prstGeom>
          <a:noFill/>
          <a:ln w="25560">
            <a:solidFill>
              <a:srgbClr val="ff66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Calibri"/>
              </a:rPr>
              <a:t>Спасибо за внима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Группа 8" descr=""/>
          <p:cNvPicPr/>
          <p:nvPr/>
        </p:nvPicPr>
        <p:blipFill>
          <a:blip r:embed="rId1"/>
          <a:stretch/>
        </p:blipFill>
        <p:spPr>
          <a:xfrm>
            <a:off x="262080" y="122400"/>
            <a:ext cx="8619840" cy="154116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25560">
            <a:solidFill>
              <a:srgbClr val="ff66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Calibri"/>
              </a:rPr>
              <a:t>Результат работ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285920" y="5571720"/>
            <a:ext cx="6572160" cy="107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Calibri"/>
              </a:rPr>
              <a:t>Муниципальный конкурс в рамка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Calibri"/>
              </a:rPr>
              <a:t>Самого доброго детского фестивал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Рисунок 7" descr="C:\Users\Наташа\Desktop\Дипломы\СДДФ 2015.jpg"/>
          <p:cNvPicPr/>
          <p:nvPr/>
        </p:nvPicPr>
        <p:blipFill>
          <a:blip r:embed="rId2"/>
          <a:stretch/>
        </p:blipFill>
        <p:spPr>
          <a:xfrm>
            <a:off x="1714680" y="1571760"/>
            <a:ext cx="5756040" cy="3873240"/>
          </a:xfrm>
          <a:prstGeom prst="rect">
            <a:avLst/>
          </a:prstGeom>
          <a:ln w="2844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3T16:58:09Z</dcterms:created>
  <dc:creator>Admin</dc:creator>
  <dc:description/>
  <dc:language>en-US</dc:language>
  <cp:lastModifiedBy>Наташа</cp:lastModifiedBy>
  <dcterms:modified xsi:type="dcterms:W3CDTF">2015-03-27T11:56:42Z</dcterms:modified>
  <cp:revision>43</cp:revision>
  <dc:subject/>
  <dc:title>9 МА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300095381049</vt:lpwstr>
  </property>
</Properties>
</file>