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D4856-0B87-495B-B267-A943478B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3E45A-3DCC-42C8-B409-4B3AF76A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F4413-94EA-420B-9F52-6C7555AB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791BA-8DFA-4791-8D80-8227BF2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A939B-31BD-4DAF-BFE3-EEC3FC9C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86BBA-8060-4963-9596-A5D21DDD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4D73C-539A-46C6-95D6-7DD64603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9577D-9009-4D14-ACD4-EA4A5257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10CE7-78C2-429E-A64E-8FC6AAA8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491FE-B61D-4FB2-814A-C80D10CA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C4C51-A2C2-4FCA-87F8-0BF6EB61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07285-D1BC-424F-A6FF-84825725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C8959-0489-488C-A44A-7010B431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54B58-355F-45B6-8E8F-FD05ACA7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74D85-D281-4D37-B233-68E21B13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258BE-C3A2-4C11-81DE-EE4F182F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24E38-D610-4C7E-A0C8-B4E623D4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E742A-F4D0-4894-9BDB-CCEAB9BE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3DF60-F876-44D3-AE1D-1C51680F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E9C74-62FA-436D-9D5B-445E30E3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0E34F-0054-4CA0-B470-F9F7AE8B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E00FF-ECBA-4407-864B-991FAFF5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17E92-BAE8-48B6-A554-5FA90685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A67A6-EC3D-4E08-9EC1-DA72F1FB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4181C-5DEC-43FA-B381-1D0DE23D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7CF6D-15A1-43EA-A632-78E364D7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49865-258D-411A-B2E3-79679502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ECD1C-9C74-4261-987E-ACB66325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F6FC0-F859-4AF4-9A20-29393D63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046D9-0758-43DE-8B8D-EB00FEF0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4CB-E421-45AD-8981-ACDEB292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8849C-77C1-4DB9-ABB1-D38F6DFE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03B41-5479-454F-AB9B-D48C2620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D2432-4650-4C56-91C5-20A4EAFB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90CFD-1C70-48CA-A95A-57522E31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4C5AC-8B50-4BB6-A291-16EFBEAC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872E5-4B83-497D-B55D-B3906D6A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F808E-6AA4-4E3A-8C94-CF954662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E6C76-44C1-41C6-AC1A-766AE0DF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84DD8-9ADE-4B28-BC7B-F7FB7E50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85054-8534-4CD5-A981-6E00ED76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CBA-B96D-495F-8ED5-307AD4DF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91953-3CDC-413C-B15B-E0F694B3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52150-6E29-42D7-942E-BBC6942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67758-863A-45E0-8876-81B76A6B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8A047-71D7-4DF3-8205-4F1B9396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CC74B-C80F-4A1A-A797-0ED1A8CB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7E5-D24F-4B17-A455-6625B99E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B9F-BEEF-4DE7-B2BB-CDFC9919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118-F1B2-4306-AF7D-0E0DD2BD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3C2-EEA4-4DEE-BCC9-A99FC61D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E73-3F8A-4E2D-B00F-1ED2272F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93F-93BE-4F16-B61B-8897F5CF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03F-86B7-441C-9E14-3026B2C7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257-4CA2-49F9-A0CF-C56CFDC4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FB4-5890-45D2-A881-426EBA52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E1F-AE82-48A2-92AF-67B9B7DC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81AD-0B4B-4C45-BEC0-47C20779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F6F2-3E32-4E37-B063-EDF79395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5D9D-18BC-4A03-BC4C-308203B4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EF5F-9D3B-4218-BA63-B1838F70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BB29-5D4E-4159-BEC1-7DB57828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117A-CEAA-4943-9121-3AB4FFE3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551-199F-42EB-8E2A-B15DD73A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F95C-470B-42D0-B416-F12CF7D8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18F7-6D9A-4B04-89C0-87942489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2A25-4455-4807-B21E-BAE1ED35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4F49-2A30-4E26-BA0F-95AF89B7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8BB1-A137-49DF-80BB-5B009AAB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97D4-4BD0-4E33-AAB6-C7B9D650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A967-5E23-4C8B-BBE1-D9AA2AFF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EE45-2DE9-4526-B49C-F6BDCC40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CFD98-8A4A-47A4-848D-72F920BD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C97F-5B18-4F83-8C9D-E9AF383A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CEAE-79DD-4F7C-8BD1-AA99493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9E92-1971-4B12-B987-F08251AA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16CC-3F15-492E-92FB-624EE44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27CFB-56FE-4E39-B4E5-30E77160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892F-D488-4191-9E7B-6BB6BAB8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484D-E6B5-45A5-934F-7C9FFE9A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AD2A-FD51-4EE1-8DD8-13DBA126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D8A6-5074-4902-BA9D-E9E3ADEA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BDC43-4808-4B94-B966-878014ED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3F272-0850-4F7B-8CF7-D6CCBBA4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68ED6-8659-4D3B-8AEC-FF60EAAF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9F70-298B-4528-B9C3-77163FB7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D4F3-FCE8-4673-993B-DBA44E50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7FC8-6CAB-445B-A48D-EFEB6C03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A211-1A39-4AD4-9A1E-DA3B3E2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1956-8E5C-462D-BC79-05644474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F6E8-BB3E-4262-9F27-82034EA8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0AC6B-5C47-4087-80E8-DAE4A40B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58AD8-D5B8-4AFE-AEC8-35122F61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FC26-8AE0-4A76-A2B8-D1DCE6E8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442BF-CD3F-47C5-B453-90B451E7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BBB0F-A7C3-47A4-8235-C5577DD1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8CFA2-460B-4203-96E9-3CB58601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29B5D-E19A-45B2-9CD3-B7DF6257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FF54F-A973-433E-912F-C200EF1B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87BB7-37F5-4BF4-9A6D-D9BB4EBC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CAF04-4275-4852-8FEB-9ED44EEF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0CF4-4BF0-41AC-BD9E-0319425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8EEC1-EA1D-4641-B830-DF161929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D5C4-93B4-457E-AF8A-B60E9219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D20AB-7D7F-4BEF-A8F7-AD2A0044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2F9E2-5DFD-49E5-938E-028E31AB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043FC-ED7F-4A51-964D-F1C98542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8DF1D-93CF-4B18-834E-96F624EF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488AD-2433-4D4D-8A58-66774C36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1E8B-CF09-4D5B-9A74-82F1C898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D22DC-F4F5-4028-85DB-56A535A1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EE18B-5404-4F31-BD55-6F52A91A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40F3F-BE27-47D0-AE7D-0902300D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2B2A6-83C9-405F-97A5-B532C82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9230C-E19A-4118-9619-E58920B4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07C64-B60F-419A-B269-149F9846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7F35E-CE8E-4F9B-92A9-5B7F5031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BCB80-0CB9-43AF-AC76-C211D651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31594-5D9F-45C9-9CC0-E5980BA3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466D0-5A67-4E6B-818C-3C9A22A1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420E4-A1C6-43FB-BDA4-5F88F73D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633C3-4422-440F-A147-EED327D1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82F42-EBD3-4FC5-95FA-8C021A3B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0523-5ED0-4633-8B72-6FFC8353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C9792-3D31-4F9B-AE7A-E6152714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A118A-38F6-4A71-8216-B84B36F3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782FB-3308-4315-98B0-8730D463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DF14B-22D6-40B6-871D-5A29FA5B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0C5E5-7F0D-4273-A1E5-71BE10C9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FBE19-6E09-4F89-B03A-691DDA07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A3058-6718-4626-BE51-BEFE9294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D3299-374E-4019-8A40-61ECA9F3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3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14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416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9D07-E6A1-4063-AE1D-3BB64F7E80C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6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462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9E9B-7A2D-40C3-AA02-33CF1742F1B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506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508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A416-4920-4445-9621-CB2E754BFE7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44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46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7FA5-650C-4EB7-A50E-13F0BC0C7BC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9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92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444E-D9CB-4DC0-8754-AE135A99254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38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140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FC4A-E522-4A6F-A52E-A0C20D46C73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84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186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EBF0-6B91-4F9B-AA0A-6C93149C296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230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232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2A68-26A1-482A-B677-E0683832FE9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276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278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BF44-A249-4C81-82A9-9CB21F95DDF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322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324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7085-4564-4812-B423-C49BE40F85C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2" descr="Рисунок2.pn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368" name="Прямоугольник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984807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Прямоугольник 15"/>
          <p:cNvGrpSpPr/>
          <p:nvPr/>
        </p:nvGrpSpPr>
        <p:grpSpPr>
          <a:xfrm>
            <a:off x="-1279440" y="55440"/>
            <a:ext cx="11702880" cy="7772400"/>
            <a:chOff x="-1279440" y="55440"/>
            <a:chExt cx="11702880" cy="7772400"/>
          </a:xfrm>
        </p:grpSpPr>
        <p:pic>
          <p:nvPicPr>
            <p:cNvPr id="370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-1279440" y="55440"/>
              <a:ext cx="11702880" cy="77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0" y="1285920"/>
              <a:ext cx="91440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Прямоугольник 9"/>
          <p:cNvSpPr/>
          <p:nvPr/>
        </p:nvSpPr>
        <p:spPr>
          <a:xfrm>
            <a:off x="-2160" y="6642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http://s3.pic4you.ru/allimage/y2013/10-24/12216/3925123.png"/>
          <p:cNvPicPr/>
          <p:nvPr/>
        </p:nvPicPr>
        <p:blipFill>
          <a:blip r:embed="rId4"/>
          <a:stretch/>
        </p:blipFill>
        <p:spPr>
          <a:xfrm>
            <a:off x="6643800" y="4871880"/>
            <a:ext cx="2333520" cy="1986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9E9B-C006-42EA-A47F-0FAACFFBB2C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2"/>
          <p:cNvSpPr/>
          <p:nvPr/>
        </p:nvSpPr>
        <p:spPr>
          <a:xfrm>
            <a:off x="285840" y="2357280"/>
            <a:ext cx="85723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53964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Информационные модели. Компьютерное информационное  моделирование. Структура данных: деревья, сети, графы, табл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2843280" y="551664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11 г. Пав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ец Еле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331640" y="4149360"/>
            <a:ext cx="649116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" descr="Пример 1: D = x x2 - 3x + 2 = 0 - Учебник для студентов и ас…"/>
          <p:cNvPicPr/>
          <p:nvPr/>
        </p:nvPicPr>
        <p:blipFill>
          <a:blip r:embed="rId1"/>
          <a:stretch/>
        </p:blipFill>
        <p:spPr>
          <a:xfrm>
            <a:off x="1116000" y="260280"/>
            <a:ext cx="640872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1125360"/>
            <a:ext cx="4546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ети характерна возможность множества различных путей перемещений по ребрам между несколькими парами верш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етей также характерно наличие замкнутых путей, которые называются цикл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2" descr="Математическое и программное обеспечение распределенных информационных систем реального времени управления транспортными потокам"/>
          <p:cNvPicPr/>
          <p:nvPr/>
        </p:nvPicPr>
        <p:blipFill>
          <a:blip r:embed="rId1"/>
          <a:stretch/>
        </p:blipFill>
        <p:spPr>
          <a:xfrm>
            <a:off x="4932360" y="1413000"/>
            <a:ext cx="3975120" cy="383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ерархические структуры (деревь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роении информационных моделей многих систем приходится иметь дело с иерархической структурой. Такие графы называются деревьями. Основным свойством дерева является то, что между любыми двумя его вершинами существует единственный путь, то есть нет цик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Форум &quot;Всё о Паскале&quot; Русская версия Invision Power Board"/>
          <p:cNvPicPr/>
          <p:nvPr/>
        </p:nvPicPr>
        <p:blipFill>
          <a:blip r:embed="rId1"/>
          <a:stretch/>
        </p:blipFill>
        <p:spPr>
          <a:xfrm>
            <a:off x="179280" y="38160"/>
            <a:ext cx="3384720" cy="2819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7. НЕЛИНЕЙНЫЕ СТРУКТУРЫ ДАННЫХ - 2. виды информационных техн…"/>
          <p:cNvPicPr/>
          <p:nvPr/>
        </p:nvPicPr>
        <p:blipFill>
          <a:blip r:embed="rId2"/>
          <a:stretch/>
        </p:blipFill>
        <p:spPr>
          <a:xfrm>
            <a:off x="4284720" y="189000"/>
            <a:ext cx="4174920" cy="3138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Деревья неориентированное дерево - Документ"/>
          <p:cNvPicPr/>
          <p:nvPr/>
        </p:nvPicPr>
        <p:blipFill>
          <a:blip r:embed="rId3"/>
          <a:stretch/>
        </p:blipFill>
        <p:spPr>
          <a:xfrm>
            <a:off x="1187280" y="3429000"/>
            <a:ext cx="5600880" cy="22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формации в табличной форме широко используется во многих сферах деятельности человека. Таблицы образованы пересечением строк и столбцов. Элемент пересечения называется ячей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несколько основных  типов таблиц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Таблицы свойства &quot;объект- свойство&quot; - 11682/8"/>
          <p:cNvPicPr/>
          <p:nvPr/>
        </p:nvPicPr>
        <p:blipFill>
          <a:blip r:embed="rId1"/>
          <a:stretch/>
        </p:blipFill>
        <p:spPr>
          <a:xfrm>
            <a:off x="250920" y="1844640"/>
            <a:ext cx="7127640" cy="46800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 типа «Объект-свойст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9528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строка относится к конкретному объекту и отражает какие-либо его свойства и характерис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Таблицы типа &quot;объект- объект&quot;( дороги) - 11682/9"/>
          <p:cNvPicPr/>
          <p:nvPr/>
        </p:nvPicPr>
        <p:blipFill>
          <a:blip r:embed="rId1"/>
          <a:stretch/>
        </p:blipFill>
        <p:spPr>
          <a:xfrm>
            <a:off x="0" y="2133720"/>
            <a:ext cx="7380360" cy="433692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 типа «Объект-объек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таблицы отражают взаимосвязь между различными объек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оичные матр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2" descr="Модели Типы информационных моделей. Графы. Таблицы. Типы информационных моделей объектов и процессов"/>
          <p:cNvPicPr/>
          <p:nvPr/>
        </p:nvPicPr>
        <p:blipFill>
          <a:blip r:embed="rId1"/>
          <a:stretch/>
        </p:blipFill>
        <p:spPr>
          <a:xfrm>
            <a:off x="611280" y="1268280"/>
            <a:ext cx="7092720" cy="387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работа на тему: «Информационное моделирование в физике, химии, математике, биологи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мет выбирается по желанию, но кроме информати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1"/>
          <p:cNvSpPr/>
          <p:nvPr/>
        </p:nvSpPr>
        <p:spPr>
          <a:xfrm>
            <a:off x="611280" y="1125360"/>
            <a:ext cx="79214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нятий информационного моделирования и  компьютерных информационных моделей,  умений и навыков по созданию компьютерных информационных моделей с применением основных структур данных: деревьев, сетей, графов, таблиц в среде текстового редакто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Office Wor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250920" y="54900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формировать понятие информационного моделирования и компьютерных информационных моделей, сферы их приме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й и навыков информационного моделирования с применением основных структур данных: деревьев, сетей, графов, таблиц в среде текстового редак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Office Wo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формационной культуры в сфере информационного моделирования как области информатики, широко применяемой во всех сферах жизне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1566720" y="4946760"/>
            <a:ext cx="60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719360" y="5099040"/>
            <a:ext cx="608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ое информационное моделиров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ект-заменитель, который в определенных условиях  может заменять объект-оригинал. Модель воспроизводит интересующие нас свойства и характеристики оригин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нформационной модели отражаются знания человека об объекте моделирова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модель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писание в той или иной форме объекта моделир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9528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м моделированием занимается любая наука, поскольку задача науки состоит в получении знаний, а наши знания о действительности всегда носят приближенный характер, т.е. модельны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занимается общими методами и средствами создания и использования информационных мод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240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инструментом современной информатики является компьютер. Поэтому информационное моделирование в информатике – это компьютерное моделирование, применяемое к объектам различных предметных област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ой особенностью компьютерных информационных моделей является возможность их использования в режиме реального времени, т.е. с соблюдением временных ограничений на получение результа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модел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зработки компьютерной информационной мод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моделирования (реальная систе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ый анал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ая информационная мод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в компьютерную фор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информационная мод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ы данных: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ревья, графы, сети, таблиц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, используемые в любой информационной модели, всегда определенным образом упорядочены, структурированы, т.е. представляют собой систему со всеми характерными признаками – элементным составом, структурой, назначением. Такие структурированные системы часто называют структурами данн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наиболее распространенных из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ображает элементный состав системы и структуру связей между элемен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ными частями графа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ы и реб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бываю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ыми (несимметричные связи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иентированными (симметричные связи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5:51:35Z</dcterms:created>
  <dc:creator>User</dc:creator>
  <dc:description/>
  <dc:language>en-US</dc:language>
  <cp:lastModifiedBy>Елена</cp:lastModifiedBy>
  <dcterms:modified xsi:type="dcterms:W3CDTF">2015-01-21T06:27:20Z</dcterms:modified>
  <cp:revision>29</cp:revision>
  <dc:subject/>
  <dc:title>Слайд 1</dc:title>
</cp:coreProperties>
</file>