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EE164-FEE1-4A47-95A4-319241E3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49AB9-D624-43A5-8C74-BB528F40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A34D0-7022-4C65-B282-D6AD60CC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7B7E0-F3B6-4195-92FD-719B833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2C75A-531E-419A-A1E3-02F52AAB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1E94-A3EF-4848-A3B1-A4AFE47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BB60D-73ED-4620-8F05-48DF270B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B7FC4-282F-445C-9E5C-EB6091E4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C1492-740B-4DC0-BE5E-A4732A96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D4BAF-C6B8-461E-A543-F0CB86BA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DE9B2-3A69-4DA3-B354-1036856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36AE-2A91-4FEA-99EB-5AFBC79E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0D885-D955-4CBE-B947-A5F3DD3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4B64B-FFF5-4C87-95BF-E433D26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6CE72-BC39-425B-9320-F1CFD86F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A93F2-A3D1-47D0-A9F2-E9A562D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7A389-DD71-417F-908E-ADF26F6C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8C787-DACB-4822-B6D5-1FFCD9B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DA45B-AC75-4496-8A5D-AECC0922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E16D-F346-4154-A327-25E23C12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91A7A-E12E-42A0-B03E-180CEC23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D2586-F70C-444B-B52B-5D5C9867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1311F-AD0C-4069-A651-9DCFA5C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94D56-6F7E-4D4E-AEDB-50ED50A4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95607-4764-4CB5-A03D-B81779D8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2C3B9-B3D1-4783-BD83-DA8B4B8E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E75ED-DB85-41FD-8D58-574F9E9A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D11F5-9B01-445F-B5E3-DDAAB0F8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2027E-BFEB-43D2-8ADD-D892747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99EB0-24CF-4981-9CAD-98C3485E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0E6-301F-4629-8428-9C8059A5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A9A95-7E3A-4769-B7D7-1F63519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C0111-FFAB-49E7-A21D-C32B0843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FB3EB-071A-4BCF-8364-D118A1FF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A240C-57DF-4F36-A48B-173EED9A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037FB-162F-44AC-8027-33C7C49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95B30-96FA-47C4-BE67-1B34779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938A-5B7C-460E-BD22-65696B58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09DAC-CAD0-4480-91BF-729331BD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4F347-896C-4E2A-B101-0D6143A3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BBE76-C2EC-4546-94EF-8AFB078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5FB-2067-47E2-A06C-A5F008F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F45F0-17BF-42AD-BEA2-3FD14BA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F98FE-EB4E-4B3F-B1A0-D2BFB736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B3690-588C-4203-8CAC-7F79E991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A4599-8700-4240-81D8-30C44EF2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A119-CCFE-467D-9369-54116CF6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8B4-75FE-4E54-8D0E-E1EF7360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52A-FB40-41C0-AB46-E4888E17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BCF-910F-4468-A873-5571034C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A99-43A3-44F6-99D0-457BE9E9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F97-ACFE-4AB9-AE66-965C0AF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796-82DB-4408-86A7-B4E5591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BD1-E211-4FB5-B218-70484B3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B9A-45EA-445F-B25C-E7801D61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11A-14A5-44F6-9579-F763E630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C9E-1EFD-4201-92BE-3361579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8CCD-F49B-4028-AD24-081D8D7A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EE87-3054-4D08-AB94-A863A32A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64A-B2A9-4860-81D9-C9B8DCF7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4FF3-5948-4B76-B0AC-C2F2691F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B38A-6A92-4832-9071-769E07A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70FD-EA46-4953-A752-5BEFBB5D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9A3C-0DCD-4C60-AE5D-283E33C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80FD-72E3-4C74-A665-93613E6C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ACF3-DB9C-409A-A92C-FF885CD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7577-05F1-4F1C-B930-6799C37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8BAF-0394-47C6-9A78-FFE06AAB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D074-573B-49C0-8B90-E7354177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6BC3-C92B-4B4A-AE8E-BC72C646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6717-3BF4-4091-A314-A729333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2C84-E3C7-462B-919C-AAA5C1C5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446A-6ADD-4E2D-B4C1-81156AD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D729-F832-4649-82D0-F1B80EEF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2EBA-7822-4620-9CA6-FE9975F9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A7A9-D8F4-4205-957F-7DBC6FD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F3CF-E6D6-44DC-8200-6C2DB14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8C5F-7B8F-46BB-8B87-32E2E9B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E774-E080-4BEC-80C2-0895E570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61A9-99E9-4DA6-BE2A-AE35DBBC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EB29-22EA-45CC-A2B7-4F96FA72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4735-DFF7-4EED-BA9A-0B3F59CE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E574-6F06-4856-9E13-6C8DBE26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8668-D7A1-4AF2-AB42-42DDD73A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F2DA-55C0-41CF-A42F-789B2053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A987-47A3-4697-AFA1-B8F6EE49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55BC-754C-45FD-84E1-5726F876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889BB-8001-4DC5-90A3-EC6E4185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DB9D-4D07-464E-9476-E17D483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6FE9-F892-421E-AF65-5252E325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6354-6456-4F21-92B6-D7BD30D8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7BE3F-7A43-451D-AD11-DC6F6E78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C0E5-A9B9-40C5-9968-01E930A0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2B30-69D0-429A-A54C-543AA055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1853-00F4-4C19-B88C-A400C99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9BE6A-A109-4D44-8669-B9CCCE45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7738-E036-4C0A-926F-AC90B6A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C52FB-DB8D-45F4-8B21-DD75C94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A9BE5-F4CD-4275-AC3C-A9CDB0B8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6A0C-0C80-4865-B414-FB3D44A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C5F5C-58AB-4228-8A42-BF090342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420A-5F63-41B6-B7F2-755B91F3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B682A-8F4D-4B50-A223-5E7BC0F4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F083-B050-4C7D-A584-E6D3D857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F810-DF0B-4EC5-A3AA-F2BC0606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9720-D959-4BD7-B237-56CEB267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7B1E6-0928-4EF6-8CE2-DC818A86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B829-ACFE-419D-812F-C9BBB64C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8D42-0D5E-4F97-BBBB-37E6AF2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8516C-1060-4641-A6F2-D23BB199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3F6D8-78FB-4ECA-A0E8-2A93075D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27AA1-81E1-43B5-81AC-6EF0935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2662A-071A-4872-B4C0-1B71D10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3D4D5-8D45-4A92-803F-A03899CD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32D3-025A-4197-9A25-F9D08A0F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1E78-F649-4415-A1EF-7BC3B88E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4DDB-7BF7-4C2E-A5A5-80657ED9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4D9CA-56AF-4F07-8E22-B44C9C7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7766-1788-4243-AF51-D017EA61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C5C1-0E6E-41F4-94F4-336948F0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84B8-AD27-43D4-8360-BF12D89E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9E77D-ED9C-4188-94AE-A476DD76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B378D-AF72-411A-B6B9-30AC2BC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8767-6D29-4B4F-9206-29808A3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EED0-401E-45C7-94AC-B07CCAF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BB948-F775-45D8-8689-9326E61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20C8-8FAF-44D2-9BAA-79EE6A9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8C35-80B9-4119-A80F-1C02524A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F7BF2-FE3C-4C23-9CBA-0D4ECA7E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81EE0-7E18-42E6-B757-8CF3AA94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4B43A-DCCF-4427-A14D-334DC91B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C2E91-CC03-4958-9D3E-46ED167F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1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1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C9D3-E304-4EDC-A536-9E38CD3737A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6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6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95FE-4559-4535-85BB-116E4BF1A9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06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508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B164-B872-407E-95E2-BC9C18A73AD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8778-E5AF-42BF-B9CC-C7F8F212AC1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9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9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1EAD-C14A-4FA6-ABE5-943818089D9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3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140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827E-AD12-4B4D-9E47-2A2AD13F07D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8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18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1251-6A22-44B2-8D11-4D62880C94A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3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23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F302-DBDC-4FB7-857D-7DFAAD0E13F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76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278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BD8-6909-407A-9DBC-3BDA54CCADF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22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24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8370-08F4-4ED2-8D46-BDC52F1D5E0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6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70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9321-9B7D-4EDA-890A-14F38C47EB2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2"/>
          <p:cNvSpPr/>
          <p:nvPr/>
        </p:nvSpPr>
        <p:spPr>
          <a:xfrm>
            <a:off x="285840" y="2357280"/>
            <a:ext cx="85723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53964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нформационные модели. Компьютерное информационное  моделирование. Структура данных: деревья, сети, графы, табл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2843280" y="5516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11 г. Пав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ец Еле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331640" y="4149360"/>
            <a:ext cx="64911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Пример 1: D = x x2 - 3x + 2 = 0 - Учебник для студентов и ас…"/>
          <p:cNvPicPr/>
          <p:nvPr/>
        </p:nvPicPr>
        <p:blipFill>
          <a:blip r:embed="rId1"/>
          <a:stretch/>
        </p:blipFill>
        <p:spPr>
          <a:xfrm>
            <a:off x="1116000" y="260280"/>
            <a:ext cx="6408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1125360"/>
            <a:ext cx="4546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ти характерна возможность множества различных путей перемещений по ребрам между несколькими парами верш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тей также характерно наличие замкнутых путей, которые называются цикл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Математическое и программное обеспечение распределенных информационных систем реального времени управления транспортными потокам"/>
          <p:cNvPicPr/>
          <p:nvPr/>
        </p:nvPicPr>
        <p:blipFill>
          <a:blip r:embed="rId1"/>
          <a:stretch/>
        </p:blipFill>
        <p:spPr>
          <a:xfrm>
            <a:off x="4932360" y="1413000"/>
            <a:ext cx="3975120" cy="38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ерархические структуры (деревь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роении информационных моделей многих систем приходится иметь дело с иерархической структурой. Такие графы называются деревьями. Основным свойством дерева является то, что между любыми двумя его вершинами существует единственный путь, то есть нет цик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Форум &quot;Всё о Паскале&quot; Русская версия Invision Power Board"/>
          <p:cNvPicPr/>
          <p:nvPr/>
        </p:nvPicPr>
        <p:blipFill>
          <a:blip r:embed="rId1"/>
          <a:stretch/>
        </p:blipFill>
        <p:spPr>
          <a:xfrm>
            <a:off x="179280" y="38160"/>
            <a:ext cx="3384720" cy="2819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7. НЕЛИНЕЙНЫЕ СТРУКТУРЫ ДАННЫХ - 2. виды информационных техн…"/>
          <p:cNvPicPr/>
          <p:nvPr/>
        </p:nvPicPr>
        <p:blipFill>
          <a:blip r:embed="rId2"/>
          <a:stretch/>
        </p:blipFill>
        <p:spPr>
          <a:xfrm>
            <a:off x="4284720" y="189000"/>
            <a:ext cx="4174920" cy="3138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Деревья неориентированное дерево - Документ"/>
          <p:cNvPicPr/>
          <p:nvPr/>
        </p:nvPicPr>
        <p:blipFill>
          <a:blip r:embed="rId3"/>
          <a:stretch/>
        </p:blipFill>
        <p:spPr>
          <a:xfrm>
            <a:off x="1187280" y="3429000"/>
            <a:ext cx="5600880" cy="22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формации в табличной форме широко используется во многих сферах деятельности человека. Таблицы образованы пересечением строк и столбцов. Элемент пересечения называется ячей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основных  типов таблиц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Таблицы свойства &quot;объект- свойство&quot; - 11682/8"/>
          <p:cNvPicPr/>
          <p:nvPr/>
        </p:nvPicPr>
        <p:blipFill>
          <a:blip r:embed="rId1"/>
          <a:stretch/>
        </p:blipFill>
        <p:spPr>
          <a:xfrm>
            <a:off x="250920" y="1844640"/>
            <a:ext cx="7127640" cy="46800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 типа «Объект-свой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строка относится к конкретному объекту и отражает какие-либо его свойства и характерис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Таблицы типа &quot;объект- объект&quot;( дороги) - 11682/9"/>
          <p:cNvPicPr/>
          <p:nvPr/>
        </p:nvPicPr>
        <p:blipFill>
          <a:blip r:embed="rId1"/>
          <a:stretch/>
        </p:blipFill>
        <p:spPr>
          <a:xfrm>
            <a:off x="0" y="2133720"/>
            <a:ext cx="7380360" cy="43369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 типа «Объект-объек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таблицы отражают взаимосвязь между различными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оичные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Модели Типы информационных моделей. Графы. Таблицы. Типы информационных моделей объектов и процессов"/>
          <p:cNvPicPr/>
          <p:nvPr/>
        </p:nvPicPr>
        <p:blipFill>
          <a:blip r:embed="rId1"/>
          <a:stretch/>
        </p:blipFill>
        <p:spPr>
          <a:xfrm>
            <a:off x="611280" y="1268280"/>
            <a:ext cx="7092720" cy="387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 на тему: «Информационное моделирование в физике, химии, математике, биолог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 выбирается по желанию, но кроме информати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611280" y="1125360"/>
            <a:ext cx="7921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нятий информационного моделирования и  компьютерных информационных моделей,  умений и навыков по созданию компьютерных информационных моделей с применением основных структур данных: деревьев, сетей, графов, таблиц в среде текстового редакто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Office Wor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250920" y="54900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онятие информационного моделирования и компьютерных информационных моделей, сферы их приме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й и навыков информационного моделирования с применением основных структур данных: деревьев, сетей, графов, таблиц в среде текстового ред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Office 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формационной культуры в сфере информационного моделирования как области информатики, широко применяемой во всех сферах жизне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1566720" y="4946760"/>
            <a:ext cx="60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719360" y="5099040"/>
            <a:ext cx="60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ое информационное моделиров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ект-заменитель, который в определенных условиях  может заменять объект-оригинал. Модель воспроизводит интересующие нас свойства и характеристики оригин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й модели отражаются знания человека об объекте моделирова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модель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исание в той или иной форме объекта моделир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9528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м моделированием занимается любая наука, поскольку задача науки состоит в получении знаний, а наши знания о действительности всегда носят приближенный характер, т.е. модель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занимается общими методами и средствами создания и использования информационных мод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240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инструментом современной информатики является компьютер. Поэтому информационное моделирование в информатике – это компьютерное моделирование, применяемое к объектам различных предметных област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особенностью компьютерных информационных моделей является возможность их использования в режиме реального времени, т.е. с соблюдением временных ограничений на получение результа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модел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зработки компьютерной информационной мод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моделирования (реальная систе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й 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информацио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в компьютерную фор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информацио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ы данных: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евья, графы, сети, табл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, используемые в любой информационной модели, всегда определенным образом упорядочены, структурированы, т.е. представляют собой систему со всеми характерными признаками – элементным составом, структурой, назначением. Такие структурированные системы часто называют структурами данн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наиболее распространенных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ображает элементный состав системы и структуру связей между элемен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ми частями графа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ы и реб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бываю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ыми (несимметричные связи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иентированными (симметричные связ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5:51:35Z</dcterms:created>
  <dc:creator>User</dc:creator>
  <dc:description/>
  <dc:language>en-US</dc:language>
  <cp:lastModifiedBy>Елена</cp:lastModifiedBy>
  <dcterms:modified xsi:type="dcterms:W3CDTF">2015-01-21T06:27:20Z</dcterms:modified>
  <cp:revision>29</cp:revision>
  <dc:subject/>
  <dc:title>Слайд 1</dc:title>
</cp:coreProperties>
</file>