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342BA-239E-4465-A002-BDC32433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7A10E-08DE-48F8-B104-89031DFB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541C1-DDB3-4FC6-8F93-3DABE723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F8F2B-818C-4268-B75E-CD54DE2D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CD06F-AB0D-4A70-87A2-94C8C8C0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385C6-0FDE-491F-B25C-1A33BDB9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B1200-603B-467D-8695-C39C3798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36B5C-CEF0-4BF2-84F1-9B5D3D41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DB4E6-591A-46BF-8B15-B256BC14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FB51C-FD82-4FAB-A95C-9A4C6C5A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0F48B-6102-49C5-A5BE-2EF0B2BD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76483-3B45-463B-9337-36EB8AAB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A1AB4-BF9D-446C-BE6A-EB336461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5435E-6D2C-4784-A584-E43BAF98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0D9F4-867B-445A-8062-CFB1C1F4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E4074-C639-422D-82A4-4441C03D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FE232-6AB1-460B-B7F2-3625A5DA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BBBF9-6994-4CF5-8AAF-0767BB1B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5D27F-0431-475F-8C6E-1D48857A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F26D2-A5F2-4E95-8877-38521A3B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288AC-C45A-43B1-B9B1-50A0D980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D497A-7F42-4AEB-B901-9CE90313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2729E-7E66-44B7-B76E-BA45D192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7E9CE-4FA7-4147-ABC8-1FB88E36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F1578-0E9F-48BF-8707-55FB0A3F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61BFE-FEC1-4568-9075-1F595BB6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AE485-B5E5-49B8-9AD3-2B159A08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CB401-15DF-45B4-B526-13F5A29E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AFCF3-2076-48A7-86D6-93273530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DDA71-509A-42ED-A6E4-E5CF9AF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913-5162-475F-BBA6-B416794B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0E8E7-1A9B-4410-AF7A-4A1AC3DA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D36CC-5B26-4C10-B405-115DAAA6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DFFFB-38CA-4C4A-8EC1-BDA2FB19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76009-B99A-433B-A218-0CAE1FD4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28150-72CC-4A93-B821-7552509C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58CAB-A2BD-4FA0-A8EC-E50E9FBD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51EC7-92CE-45CC-82F2-AC59FB75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98FF0-AF7F-42AE-A5B4-8281902F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053E8-44C0-4AC9-927E-F15989FA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5E285-943D-4FAF-B8A4-BF87CDD8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4E1-8E8B-41B2-9851-9DFAE1E8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B73A1-3F9A-426B-8618-1EC2BCC3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9C30D-5378-4898-8244-DCAC5BA7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4C906-F916-4817-8B37-0C78E0E1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00F3F-0781-45CF-8740-EE6DA3B8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C1004-BA37-4292-B8C7-53E327EE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4BD-15FA-4BAD-9FDD-BD210F27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B92-31AA-4C22-BC54-E6758E43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A1B-8E3E-4D54-B305-B3D9BEA5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69D-1189-4B68-8441-3745D351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472-A586-437D-B6C3-F2475E26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746-B99F-40E4-B5E4-605911E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B15-E794-49A2-9EED-CA1873A3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85E-F12D-4173-9CC9-E889705E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AF2-50C9-4C5A-B2BE-48109344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47A-B907-4CCC-AF00-5A7778FF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570E-E4F5-449C-B207-9710BA48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68D2-BFB5-4BC0-B1E5-FDB2E305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78BB-A448-4AA7-8E07-D055D209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82CC-364F-48E7-9C67-55593C5B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6AA4-EA34-4A41-B11D-CA8461FC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B2FF-5A27-47BD-98B6-E7EA8DBA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A79C-34BF-4AF3-AF9B-70ED837E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8726-C7FE-4488-BA0D-9D4360A1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25F9-A72C-43A9-9E4A-1C56ED5B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CA9F-803E-4A8D-9411-067387E1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9148-F8A6-40B6-8DB9-05E52036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1DE0-2512-4D3A-8DDA-47A7B063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075F-2AEA-42E1-94DF-719A85B6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6724F-5330-411A-AB7F-B2375799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D6B1D-3D88-4FB1-AEA4-54CC8D0C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9F942-1764-4DD1-8D0C-F1E05D5B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49382-0D61-4F69-92A9-0F415D6C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1A973-8BFA-4558-AD47-9A545563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714BF-46F8-487F-8A7F-B45C55F2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F9D3-2640-4FA9-A901-7D5ADFF1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722C6-369D-4233-9CA3-791DFB6D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3827F-BD18-453B-A44A-5656AFDC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5409-04F1-43F2-9798-561148D5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862A5-85EC-4B44-9AC9-D314F2A6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FD45-61D5-46D8-A614-1A803236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639A6-0907-4628-844A-E4DA7F99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53341-1741-4A5F-873F-4C199A31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1FB01-17C5-4EC1-BBD8-792DE061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5C3AC-5E45-468F-9BE6-5FAF366E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6E141-A6EB-495E-B2F6-BC0AA718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DFAA6-6C98-4BE6-9216-B5C44E7E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D0FDB-E461-43FD-8461-BDF5A7BF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98A27-70ED-4BDD-9379-8EC73B0B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74EB0-5A57-4FA3-AB68-9744BB63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3B4A2-120F-4ECA-9B9E-10BA9E1C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BE4A-4DE3-464B-A0F8-7DA41AA0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43EEF-EB2C-4D82-AAFE-86205BD9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5E67F-778C-42F8-9791-EC54EA1C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30FCB-BCC1-49AA-8E31-C8A4888C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1CFE0-7E07-4C82-918E-739DE22D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1913A-0CE3-4BAD-A960-2A26488B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9953-0AF0-4A4C-B101-66EF0E50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EE41D-CDE2-44AD-B61D-CC38467D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0B541-C3F5-4688-98FC-3CC68727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205FC-2652-401B-B92B-935D0549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A953A-201D-4B7E-8EC8-277D9CBD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7DC56-387D-40ED-996F-0461E8FB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0AE4F-5C1E-4161-BE38-47FEBFFD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98B40-D319-42FC-981F-E86DF039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320B8-B0FE-4ACC-A601-87419739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61CA8-02F3-4EEC-B511-C73201B2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58453-D34D-4021-AC22-97EC64CE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98663-0F82-4CB9-A1CB-C6104708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0E31C-F03F-4019-A16D-B2907941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E2DF0-61D0-4AB2-AAC6-9E7BBE24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C2B89-CAD5-4C44-A265-8DE97085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D4BB0-64CC-4CD3-81FB-44EB405F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3CDB0-A7E6-4539-8004-75E047C7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13F38-B0B0-405B-8B70-ED49A576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59D89-B81C-48EA-A678-CE463561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0E459-F577-4B7F-8FB9-661A8AC0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3E3E1-4BF9-44A1-A83A-FEC41E3C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9CC9B-9B49-4824-847D-DA56BC45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0A788-2EAA-47C3-82B8-29EE9891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3EF85-8D57-43ED-9533-77B7D72C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BBDEB-1CA6-4B3D-ABF8-BB15FD7E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810AB-81F3-420A-8A5C-4FF4766D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ABDD2-9882-4168-8DA1-F99A88BC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6A8CF-9231-4DB8-B6BF-619756F3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79B34-65F0-4546-8A1B-10F5AF95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425D2-5357-44CB-8A9E-91521627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143FF-8C27-4794-9033-DE047E4F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09BEA-69F6-4A5C-A862-797F91F4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F3141-A8C6-4E5E-A0CC-76A07EF5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86289-B908-4F99-912F-92AD2EF4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3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14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416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187C-C222-4521-A6E5-B2817DA224B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6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462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A95E-3ACD-4FB1-85C7-5833A822431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506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508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5E97-142C-47EF-B601-303458B5C8C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4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46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4ACB-C606-4787-9D50-6AA3522FC08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9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92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C91C-9E4D-4416-B03E-364D0B2FE6F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38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140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9222-6D44-460B-9DCF-0997FE0188C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84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186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2383-7A7D-4D3F-BDC0-3ADCB209E8A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23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232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A327-175D-4304-A626-0EDF6C8D73C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276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278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0430-6D12-44B9-874B-17F17EB8C78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322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324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0C01-3637-4C39-9B0E-05CE6A2F780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368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370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2536-D328-4D08-B1F4-43E52CD77E9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рямоугольник 2"/>
          <p:cNvSpPr/>
          <p:nvPr/>
        </p:nvSpPr>
        <p:spPr>
          <a:xfrm>
            <a:off x="285840" y="2357280"/>
            <a:ext cx="85723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53964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Информационные модели. Компьютерное информационное  моделирование. Структура данных: деревья, сети, графы, табл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2843280" y="551664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11 г. Пав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ец Еле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331640" y="4149360"/>
            <a:ext cx="649116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2" descr="Пример 1: D = x x2 - 3x + 2 = 0 - Учебник для студентов и ас…"/>
          <p:cNvPicPr/>
          <p:nvPr/>
        </p:nvPicPr>
        <p:blipFill>
          <a:blip r:embed="rId1"/>
          <a:stretch/>
        </p:blipFill>
        <p:spPr>
          <a:xfrm>
            <a:off x="1116000" y="260280"/>
            <a:ext cx="6408720" cy="343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1125360"/>
            <a:ext cx="4546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ети характерна возможность множества различных путей перемещений по ребрам между несколькими парами верш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етей также характерно наличие замкнутых путей, которые называются цикл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2" descr="Математическое и программное обеспечение распределенных информационных систем реального времени управления транспортными потокам"/>
          <p:cNvPicPr/>
          <p:nvPr/>
        </p:nvPicPr>
        <p:blipFill>
          <a:blip r:embed="rId1"/>
          <a:stretch/>
        </p:blipFill>
        <p:spPr>
          <a:xfrm>
            <a:off x="4932360" y="1413000"/>
            <a:ext cx="3975120" cy="383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ерархические структуры (деревь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роении информационных моделей многих систем приходится иметь дело с иерархической структурой. Такие графы называются деревьями. Основным свойством дерева является то, что между любыми двумя его вершинами существует единственный путь, то есть нет цик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Форум &quot;Всё о Паскале&quot; Русская версия Invision Power Board"/>
          <p:cNvPicPr/>
          <p:nvPr/>
        </p:nvPicPr>
        <p:blipFill>
          <a:blip r:embed="rId1"/>
          <a:stretch/>
        </p:blipFill>
        <p:spPr>
          <a:xfrm>
            <a:off x="179280" y="38160"/>
            <a:ext cx="3384720" cy="2819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7. НЕЛИНЕЙНЫЕ СТРУКТУРЫ ДАННЫХ - 2. виды информационных техн…"/>
          <p:cNvPicPr/>
          <p:nvPr/>
        </p:nvPicPr>
        <p:blipFill>
          <a:blip r:embed="rId2"/>
          <a:stretch/>
        </p:blipFill>
        <p:spPr>
          <a:xfrm>
            <a:off x="4284720" y="189000"/>
            <a:ext cx="4174920" cy="31384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Деревья неориентированное дерево - Документ"/>
          <p:cNvPicPr/>
          <p:nvPr/>
        </p:nvPicPr>
        <p:blipFill>
          <a:blip r:embed="rId3"/>
          <a:stretch/>
        </p:blipFill>
        <p:spPr>
          <a:xfrm>
            <a:off x="1187280" y="3429000"/>
            <a:ext cx="5600880" cy="22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информации в табличной форме широко используется во многих сферах деятельности человека. Таблицы образованы пересечением строк и столбцов. Элемент пересечения называется ячей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несколько основных  типов таблиц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Таблицы свойства &quot;объект- свойство&quot; - 11682/8"/>
          <p:cNvPicPr/>
          <p:nvPr/>
        </p:nvPicPr>
        <p:blipFill>
          <a:blip r:embed="rId1"/>
          <a:stretch/>
        </p:blipFill>
        <p:spPr>
          <a:xfrm>
            <a:off x="250920" y="1844640"/>
            <a:ext cx="7127640" cy="46800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 типа «Объект-свойст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9528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строка относится к конкретному объекту и отражает какие-либо его свойства и характерис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Таблицы типа &quot;объект- объект&quot;( дороги) - 11682/9"/>
          <p:cNvPicPr/>
          <p:nvPr/>
        </p:nvPicPr>
        <p:blipFill>
          <a:blip r:embed="rId1"/>
          <a:stretch/>
        </p:blipFill>
        <p:spPr>
          <a:xfrm>
            <a:off x="0" y="2133720"/>
            <a:ext cx="7380360" cy="433692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 типа «Объект-объек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таблицы отражают взаимосвязь между различными объек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оичные матр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2" descr="Модели Типы информационных моделей. Графы. Таблицы. Типы информационных моделей объектов и процессов"/>
          <p:cNvPicPr/>
          <p:nvPr/>
        </p:nvPicPr>
        <p:blipFill>
          <a:blip r:embed="rId1"/>
          <a:stretch/>
        </p:blipFill>
        <p:spPr>
          <a:xfrm>
            <a:off x="611280" y="1268280"/>
            <a:ext cx="7092720" cy="387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работа на тему: «Информационное моделирование в физике, химии, математике, биологи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мет выбирается по желанию, но кроме информати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1"/>
          <p:cNvSpPr/>
          <p:nvPr/>
        </p:nvSpPr>
        <p:spPr>
          <a:xfrm>
            <a:off x="611280" y="1125360"/>
            <a:ext cx="79214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нятий информационного моделирования и  компьютерных информационных моделей,  умений и навыков по созданию компьютерных информационных моделей с применением основных структур данных: деревьев, сетей, графов, таблиц в среде текстового редактор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Office Wor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250920" y="54900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понятие информационного моделирования и компьютерных информационных моделей, сферы их примен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й и навыков информационного моделирования с применением основных структур данных: деревьев, сетей, графов, таблиц в среде текстового редакто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Office Wo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формационной культуры в сфере информационного моделирования как области информатики, широко применяемой во всех сферах жизне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1566720" y="4946760"/>
            <a:ext cx="608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4"/>
          <p:cNvSpPr/>
          <p:nvPr/>
        </p:nvSpPr>
        <p:spPr>
          <a:xfrm>
            <a:off x="1719360" y="5099040"/>
            <a:ext cx="608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ное информационное моделиров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ъект-заменитель, который в определенных условиях  может заменять объект-оригинал. Модель воспроизводит интересующие нас свойства и характеристики оригин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формационной модели отражаются знания человека об объекте моделирования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модель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писание в той или иной форме объекта моделир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9528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м моделированием занимается любая наука, поскольку задача науки состоит в получении знаний, а наши знания о действительности всегда носят приближенный характер, т.е. модельны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занимается общими методами и средствами создания и использования информационных мод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240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инструментом современной информатики является компьютер. Поэтому информационное моделирование в информатике – это компьютерное моделирование, применяемое к объектам различных предметных област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ой особенностью компьютерных информационных моделей является возможность их использования в режиме реального времени, т.е. с соблюдением временных ограничений на получение результа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модел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зработки компьютерной информационной моде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моделирования (реальная систе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ый анал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ая информационная мод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в компьютерную фор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информационная мод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ы данных: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ревья, графы, сети, таблиц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, используемые в любой информационной модели, всегда определенным образом упорядочены, структурированы, т.е. представляют собой систему со всеми характерными признаками – элементным составом, структурой, назначением. Такие структурированные системы часто называют структурами данны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наиболее распространенных из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ображает элементный состав системы и структуру связей между элемен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ными частями графа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ы и реб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бываю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ыми (несимметричные связи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иентированными (симметричные связи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5:51:35Z</dcterms:created>
  <dc:creator>User</dc:creator>
  <dc:description/>
  <dc:language>en-US</dc:language>
  <cp:lastModifiedBy>Елена</cp:lastModifiedBy>
  <dcterms:modified xsi:type="dcterms:W3CDTF">2015-01-21T06:27:20Z</dcterms:modified>
  <cp:revision>29</cp:revision>
  <dc:subject/>
  <dc:title>Слайд 1</dc:title>
</cp:coreProperties>
</file>